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23735-1495-496F-AFF2-B1FEAB163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56B3B-5004-4C0D-9862-1523CB953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07730-4FAB-4D96-9B9A-366CDCEDE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12063-7A54-4316-9F02-0DAE35E7E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FD3B0-FBEB-415E-887A-0478399DE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3A075-8393-415D-A530-66C271B1C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919B6-0E58-4673-885C-154991997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EBCB4-CF48-4264-AE46-2B7029E87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1CAD3-3985-4190-8A3D-362CCF9B8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FA66E-DF32-4D11-9E05-BD5C4FE64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4B27F-2491-420C-92FD-D5399EA49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53297-0492-4DE3-A7F3-4D651DBE7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A6652-885A-48A4-B460-8E3AFD2FCA2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image" Target="../media/image13.jpeg"/><Relationship Id="rId5" Type="http://schemas.openxmlformats.org/officeDocument/2006/relationships/image" Target="../media/image13.jpeg"/><Relationship Id="rId6" Type="http://schemas.openxmlformats.org/officeDocument/2006/relationships/image" Target="../media/image13.jpeg"/><Relationship Id="rId7" Type="http://schemas.openxmlformats.org/officeDocument/2006/relationships/image" Target="../media/image13.jpeg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11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91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alibri"/>
              </a:rPr>
              <a:t>Тема: ГРИБЫ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42960" y="1844640"/>
            <a:ext cx="8501040" cy="465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90000"/>
              </a:lnSpc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000000"/>
                </a:solidFill>
                <a:latin typeface="Calibri"/>
              </a:rPr>
              <a:t>Бышкина С.В.,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90000"/>
              </a:lnSpc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000000"/>
                </a:solidFill>
                <a:latin typeface="Calibri"/>
              </a:rPr>
              <a:t>Учитель-логопед 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000000"/>
                </a:solidFill>
                <a:latin typeface="Calibri"/>
              </a:rPr>
              <a:t>Екатеринбург 2014 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C:\Users\юрий\Desktop\ДЕТСКИЕ ПРЕЗЕНТАЦИИ\ГРИБЫ\грибы.jpg"/>
          <p:cNvPicPr/>
          <p:nvPr/>
        </p:nvPicPr>
        <p:blipFill>
          <a:blip r:embed="rId1"/>
          <a:stretch/>
        </p:blipFill>
        <p:spPr>
          <a:xfrm>
            <a:off x="357120" y="1928880"/>
            <a:ext cx="4622760" cy="32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8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В шляпе розовой, мохнатой,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Но не выглядит растяпой.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Будто плюшевое ушко,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Для соления ..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" descr="C:\Users\юрий\Desktop\ДЕТСКИЕ ПРЕЗЕНТАЦИИ\ГРИБЫ\волнушка.jpg"/>
          <p:cNvPicPr/>
          <p:nvPr/>
        </p:nvPicPr>
        <p:blipFill>
          <a:blip r:embed="rId1"/>
          <a:stretch/>
        </p:blipFill>
        <p:spPr>
          <a:xfrm>
            <a:off x="1547640" y="2349360"/>
            <a:ext cx="5977080" cy="45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8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Он в лесу стоял,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Никто его не брал,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В красной шапке модной,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Никуда не годный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C:\Users\юрий\Desktop\ДЕТСКИЕ ПРЕЗЕНТАЦИИ\ГРИБЫ\мухомор2.jpg"/>
          <p:cNvPicPr/>
          <p:nvPr/>
        </p:nvPicPr>
        <p:blipFill>
          <a:blip r:embed="rId1"/>
          <a:stretch/>
        </p:blipFill>
        <p:spPr>
          <a:xfrm>
            <a:off x="1403280" y="233208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Посмотрите-ка, ребята: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Тут лисички, там – опята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Ну, а это на полянке ядовитые ..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2" descr="C:\Users\юрий\Desktop\ДЕТСКИЕ ПРЕЗЕНТАЦИИ\ГРИБЫ\поганки.jpg"/>
          <p:cNvPicPr/>
          <p:nvPr/>
        </p:nvPicPr>
        <p:blipFill>
          <a:blip r:embed="rId1"/>
          <a:stretch/>
        </p:blipFill>
        <p:spPr>
          <a:xfrm>
            <a:off x="2987640" y="2428920"/>
            <a:ext cx="5905440" cy="44290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" descr="C:\Users\юрий\Desktop\ДЕТСКИЕ ПРЕЗЕНТАЦИИ\ГРИБЫ\поганка2.jpg"/>
          <p:cNvPicPr/>
          <p:nvPr/>
        </p:nvPicPr>
        <p:blipFill>
          <a:blip r:embed="rId2"/>
          <a:stretch/>
        </p:blipFill>
        <p:spPr>
          <a:xfrm>
            <a:off x="250920" y="2095560"/>
            <a:ext cx="317160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57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В лесу много …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2" descr="C:\Users\юрий\Desktop\ДЕТСКИЕ ПРЕЗЕНТАЦИИ\ГРИБЫ\мухомор2.jpg"/>
          <p:cNvPicPr/>
          <p:nvPr/>
        </p:nvPicPr>
        <p:blipFill>
          <a:blip r:embed="rId1"/>
          <a:stretch/>
        </p:blipFill>
        <p:spPr>
          <a:xfrm>
            <a:off x="0" y="1143000"/>
            <a:ext cx="2571840" cy="19288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" descr="C:\Users\юрий\Desktop\ДЕТСКИЕ ПРЕЗЕНТАЦИИ\ГРИБЫ\мухомор2.jpg"/>
          <p:cNvPicPr/>
          <p:nvPr/>
        </p:nvPicPr>
        <p:blipFill>
          <a:blip r:embed="rId2"/>
          <a:stretch/>
        </p:blipFill>
        <p:spPr>
          <a:xfrm>
            <a:off x="2571840" y="1143000"/>
            <a:ext cx="2571840" cy="19288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" descr="C:\Users\юрий\Desktop\ДЕТСКИЕ ПРЕЗЕНТАЦИИ\ГРИБЫ\мухомор2.jpg"/>
          <p:cNvPicPr/>
          <p:nvPr/>
        </p:nvPicPr>
        <p:blipFill>
          <a:blip r:embed="rId3"/>
          <a:stretch/>
        </p:blipFill>
        <p:spPr>
          <a:xfrm>
            <a:off x="5143680" y="1143000"/>
            <a:ext cx="2571480" cy="19288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" descr="C:\Users\юрий\Desktop\ДЕТСКИЕ ПРЕЗЕНТАЦИИ\ГРИБЫ\поганка2.jpg"/>
          <p:cNvPicPr/>
          <p:nvPr/>
        </p:nvPicPr>
        <p:blipFill>
          <a:blip r:embed="rId4"/>
          <a:stretch/>
        </p:blipFill>
        <p:spPr>
          <a:xfrm>
            <a:off x="0" y="3373560"/>
            <a:ext cx="2320920" cy="34844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" descr="C:\Users\юрий\Desktop\ДЕТСКИЕ ПРЕЗЕНТАЦИИ\ГРИБЫ\поганка2.jpg"/>
          <p:cNvPicPr/>
          <p:nvPr/>
        </p:nvPicPr>
        <p:blipFill>
          <a:blip r:embed="rId5"/>
          <a:stretch/>
        </p:blipFill>
        <p:spPr>
          <a:xfrm>
            <a:off x="2286000" y="3373560"/>
            <a:ext cx="2320920" cy="34844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" descr="C:\Users\юрий\Desktop\ДЕТСКИЕ ПРЕЗЕНТАЦИИ\ГРИБЫ\поганка2.jpg"/>
          <p:cNvPicPr/>
          <p:nvPr/>
        </p:nvPicPr>
        <p:blipFill>
          <a:blip r:embed="rId6"/>
          <a:stretch/>
        </p:blipFill>
        <p:spPr>
          <a:xfrm>
            <a:off x="4572000" y="3373560"/>
            <a:ext cx="2320920" cy="34844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C:\Users\юрий\Desktop\ДЕТСКИЕ ПРЕЗЕНТАЦИИ\ГРИБЫ\поганка2.jpg"/>
          <p:cNvPicPr/>
          <p:nvPr/>
        </p:nvPicPr>
        <p:blipFill>
          <a:blip r:embed="rId7"/>
          <a:stretch/>
        </p:blipFill>
        <p:spPr>
          <a:xfrm>
            <a:off x="6823080" y="3373560"/>
            <a:ext cx="2320920" cy="34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В лесу много …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2" descr="C:\Users\юрий\Desktop\ДЕТСКИЕ ПРЕЗЕНТАЦИИ\ГРИБЫ\волнушка.jpg"/>
          <p:cNvPicPr/>
          <p:nvPr/>
        </p:nvPicPr>
        <p:blipFill>
          <a:blip r:embed="rId1"/>
          <a:stretch/>
        </p:blipFill>
        <p:spPr>
          <a:xfrm>
            <a:off x="0" y="1143000"/>
            <a:ext cx="3409920" cy="25718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" descr="C:\Users\юрий\Desktop\ДЕТСКИЕ ПРЕЗЕНТАЦИИ\ГРИБЫ\волнушка.jpg"/>
          <p:cNvPicPr/>
          <p:nvPr/>
        </p:nvPicPr>
        <p:blipFill>
          <a:blip r:embed="rId2"/>
          <a:stretch/>
        </p:blipFill>
        <p:spPr>
          <a:xfrm>
            <a:off x="3429000" y="1143000"/>
            <a:ext cx="3409920" cy="25718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" descr="C:\Users\юрий\Desktop\ДЕТСКИЕ ПРЕЗЕНТАЦИИ\ГРИБЫ\лисички2.jpg"/>
          <p:cNvPicPr/>
          <p:nvPr/>
        </p:nvPicPr>
        <p:blipFill>
          <a:blip r:embed="rId3"/>
          <a:stretch/>
        </p:blipFill>
        <p:spPr>
          <a:xfrm>
            <a:off x="5405400" y="4167360"/>
            <a:ext cx="3738600" cy="26906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" descr="C:\Users\юрий\Desktop\ДЕТСКИЕ ПРЕЗЕНТАЦИИ\ГРИБЫ\лисички2.jpg"/>
          <p:cNvPicPr/>
          <p:nvPr/>
        </p:nvPicPr>
        <p:blipFill>
          <a:blip r:embed="rId4"/>
          <a:stretch/>
        </p:blipFill>
        <p:spPr>
          <a:xfrm>
            <a:off x="1714680" y="4167360"/>
            <a:ext cx="3738240" cy="26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В лесу много …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Содержимое 4" descr="подберезовик2.jpeg"/>
          <p:cNvPicPr/>
          <p:nvPr/>
        </p:nvPicPr>
        <p:blipFill>
          <a:blip r:embed="rId1"/>
          <a:stretch/>
        </p:blipFill>
        <p:spPr>
          <a:xfrm>
            <a:off x="0" y="1143000"/>
            <a:ext cx="2714760" cy="2454120"/>
          </a:xfrm>
          <a:prstGeom prst="rect">
            <a:avLst/>
          </a:prstGeom>
          <a:ln w="0">
            <a:noFill/>
          </a:ln>
        </p:spPr>
      </p:pic>
      <p:pic>
        <p:nvPicPr>
          <p:cNvPr id="83" name="Содержимое 4" descr="подберезовик2.jpeg"/>
          <p:cNvPicPr/>
          <p:nvPr/>
        </p:nvPicPr>
        <p:blipFill>
          <a:blip r:embed="rId2"/>
          <a:stretch/>
        </p:blipFill>
        <p:spPr>
          <a:xfrm>
            <a:off x="5357880" y="1143000"/>
            <a:ext cx="2714400" cy="2454120"/>
          </a:xfrm>
          <a:prstGeom prst="rect">
            <a:avLst/>
          </a:prstGeom>
          <a:ln w="0">
            <a:noFill/>
          </a:ln>
        </p:spPr>
      </p:pic>
      <p:pic>
        <p:nvPicPr>
          <p:cNvPr id="84" name="Содержимое 4" descr="подберезовик2.jpeg"/>
          <p:cNvPicPr/>
          <p:nvPr/>
        </p:nvPicPr>
        <p:blipFill>
          <a:blip r:embed="rId3"/>
          <a:stretch/>
        </p:blipFill>
        <p:spPr>
          <a:xfrm>
            <a:off x="2643120" y="1143000"/>
            <a:ext cx="2714760" cy="24541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" descr="C:\Users\юрий\Desktop\ДЕТСКИЕ ПРЕЗЕНТАЦИИ\ГРИБЫ\подосиновик.jpg"/>
          <p:cNvPicPr/>
          <p:nvPr/>
        </p:nvPicPr>
        <p:blipFill>
          <a:blip r:embed="rId4"/>
          <a:stretch/>
        </p:blipFill>
        <p:spPr>
          <a:xfrm>
            <a:off x="6845400" y="4071960"/>
            <a:ext cx="2298600" cy="27860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C:\Users\юрий\Desktop\ДЕТСКИЕ ПРЕЗЕНТАЦИИ\ГРИБЫ\подосиновик.jpg"/>
          <p:cNvPicPr/>
          <p:nvPr/>
        </p:nvPicPr>
        <p:blipFill>
          <a:blip r:embed="rId5"/>
          <a:stretch/>
        </p:blipFill>
        <p:spPr>
          <a:xfrm>
            <a:off x="2214720" y="4071960"/>
            <a:ext cx="2298600" cy="27860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C:\Users\юрий\Desktop\ДЕТСКИЕ ПРЕЗЕНТАЦИИ\ГРИБЫ\подосиновик.jpg"/>
          <p:cNvPicPr/>
          <p:nvPr/>
        </p:nvPicPr>
        <p:blipFill>
          <a:blip r:embed="rId6"/>
          <a:stretch/>
        </p:blipFill>
        <p:spPr>
          <a:xfrm>
            <a:off x="4500720" y="4071960"/>
            <a:ext cx="22986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Сосчитай до 5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285840" y="1071360"/>
            <a:ext cx="8572320" cy="128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7200" spc="-1" strike="noStrike">
                <a:solidFill>
                  <a:srgbClr val="c00000"/>
                </a:solidFill>
                <a:latin typeface="Calibri"/>
              </a:rPr>
              <a:t>1     2     3     4     5   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Содержимое 4" descr="подберезовик2.jpeg"/>
          <p:cNvPicPr/>
          <p:nvPr/>
        </p:nvPicPr>
        <p:blipFill>
          <a:blip r:embed="rId1"/>
          <a:stretch/>
        </p:blipFill>
        <p:spPr>
          <a:xfrm>
            <a:off x="0" y="2571840"/>
            <a:ext cx="2714760" cy="24541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" descr="C:\Users\юрий\Desktop\ДЕТСКИЕ ПРЕЗЕНТАЦИИ\ГРИБЫ\подосиновик.jpg"/>
          <p:cNvPicPr/>
          <p:nvPr/>
        </p:nvPicPr>
        <p:blipFill>
          <a:blip r:embed="rId2"/>
          <a:stretch/>
        </p:blipFill>
        <p:spPr>
          <a:xfrm>
            <a:off x="1928880" y="3741840"/>
            <a:ext cx="2571840" cy="3116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" descr="C:\Users\юрий\Desktop\ДЕТСКИЕ ПРЕЗЕНТАЦИИ\ГРИБЫ\мухомор2.jpg"/>
          <p:cNvPicPr/>
          <p:nvPr/>
        </p:nvPicPr>
        <p:blipFill>
          <a:blip r:embed="rId3"/>
          <a:stretch/>
        </p:blipFill>
        <p:spPr>
          <a:xfrm>
            <a:off x="4071960" y="2286000"/>
            <a:ext cx="3333600" cy="25002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3" descr="C:\Users\юрий\Desktop\ДЕТСКИЕ ПРЕЗЕНТАЦИИ\ГРИБЫ\поганка2.jpg"/>
          <p:cNvPicPr/>
          <p:nvPr/>
        </p:nvPicPr>
        <p:blipFill>
          <a:blip r:embed="rId4"/>
          <a:stretch/>
        </p:blipFill>
        <p:spPr>
          <a:xfrm>
            <a:off x="6643800" y="3103560"/>
            <a:ext cx="2500200" cy="375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Сбор грибов.mpg" descr=""/>
          <p:cNvPicPr/>
          <p:nvPr/>
        </p:nvPicPr>
        <p:blipFill>
          <a:blip r:embed="rId1"/>
          <a:stretch/>
        </p:blipFill>
        <p:spPr>
          <a:xfrm>
            <a:off x="1500120" y="100008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95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95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00040" y="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Источники: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0" y="999720"/>
            <a:ext cx="868680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Занятия по развитию речи в ДОУ / Л.Н. Зырянова, Т.В. Лужбина. – Ростов н/Д: Феникс, 2012. – 271 с. (Библиотека логопеда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нтернет-ресурсы сайта Социальная сеть работников образования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s.portal.ru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Задачи: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0" y="1071360"/>
            <a:ext cx="914400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акрепить представление о грибах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акрепить обобщающее понятие «грибы»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чить образовывать сущ. множ. числа род.пад.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чить согласовывать сущ. с числительными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Этот гриб живет под елью,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Под ее огромной тенью.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Мудрый бородач-старик,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Житель бора - ..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3" descr="C:\Users\юрий\Desktop\ДЕТСКИЕ ПРЕЗЕНТАЦИИ\ГРИБЫ\боровик2.jpg"/>
          <p:cNvPicPr/>
          <p:nvPr/>
        </p:nvPicPr>
        <p:blipFill>
          <a:blip r:embed="rId1"/>
          <a:stretch/>
        </p:blipFill>
        <p:spPr>
          <a:xfrm>
            <a:off x="1547640" y="2332080"/>
            <a:ext cx="60343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70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Не спорю - не белый,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Я, братцы, попроще.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Расту я обычно в берёзовой роще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Содержимое 4" descr="подберезовик2.jpeg"/>
          <p:cNvPicPr/>
          <p:nvPr/>
        </p:nvPicPr>
        <p:blipFill>
          <a:blip r:embed="rId1"/>
          <a:stretch/>
        </p:blipFill>
        <p:spPr>
          <a:xfrm>
            <a:off x="1835280" y="1844640"/>
            <a:ext cx="5545080" cy="50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8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Я в красной шапочке расту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Среди корней осиновых.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Меня увидишь за версту -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Зовусь я - ..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2" descr="C:\Users\юрий\Desktop\ДЕТСКИЕ ПРЕЗЕНТАЦИИ\ГРИБЫ\подосиновик.jpg"/>
          <p:cNvPicPr/>
          <p:nvPr/>
        </p:nvPicPr>
        <p:blipFill>
          <a:blip r:embed="rId1"/>
          <a:stretch/>
        </p:blipFill>
        <p:spPr>
          <a:xfrm>
            <a:off x="3635280" y="1700280"/>
            <a:ext cx="4256280" cy="51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22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Вдоль лесных дорожек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Много белых ножек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В шляпках разноцветных,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Издали приметных.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Собирай, не мешкай! Это ..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C:\Users\юрий\Desktop\ДЕТСКИЕ ПРЕЗЕНТАЦИИ\ГРИБЫ\сыроежка.jpg"/>
          <p:cNvPicPr/>
          <p:nvPr/>
        </p:nvPicPr>
        <p:blipFill>
          <a:blip r:embed="rId1"/>
          <a:stretch/>
        </p:blipFill>
        <p:spPr>
          <a:xfrm>
            <a:off x="4643280" y="2997360"/>
            <a:ext cx="4500720" cy="38606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" descr="C:\Users\юрий\Desktop\ДЕТСКИЕ ПРЕЗЕНТАЦИИ\ГРИБЫ\сыроежки2.jpg"/>
          <p:cNvPicPr/>
          <p:nvPr/>
        </p:nvPicPr>
        <p:blipFill>
          <a:blip r:embed="rId2"/>
          <a:stretch/>
        </p:blipFill>
        <p:spPr>
          <a:xfrm>
            <a:off x="0" y="2997360"/>
            <a:ext cx="5364000" cy="38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Под листами на поляне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В прятки девочки играли. Притаились три сестрички,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Светло-желтые ..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C:\Users\юрий\Desktop\ДЕТСКИЕ ПРЕЗЕНТАЦИИ\ГРИБЫ\лисички2.jpg"/>
          <p:cNvPicPr/>
          <p:nvPr/>
        </p:nvPicPr>
        <p:blipFill>
          <a:blip r:embed="rId1"/>
          <a:stretch/>
        </p:blipFill>
        <p:spPr>
          <a:xfrm>
            <a:off x="1332000" y="2349360"/>
            <a:ext cx="6264360" cy="45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Пни все лесные с макушек до пят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Осенью поздней в гроздьях …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C:\Users\юрий\Desktop\ДЕТСКИЕ ПРЕЗЕНТАЦИИ\ГРИБЫ\опята.jpg"/>
          <p:cNvPicPr/>
          <p:nvPr/>
        </p:nvPicPr>
        <p:blipFill>
          <a:blip r:embed="rId1"/>
          <a:stretch/>
        </p:blipFill>
        <p:spPr>
          <a:xfrm>
            <a:off x="1332000" y="1600200"/>
            <a:ext cx="6624720" cy="50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64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Шоколадно-бурый гриб,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К скользкой шляпке лист прилип. Воротник ажурный тонок –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Гриб такой зовут ..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2" descr="C:\Users\юрий\Desktop\ДЕТСКИЕ ПРЕЗЕНТАЦИИ\ГРИБЫ\маслята.jpg"/>
          <p:cNvPicPr/>
          <p:nvPr/>
        </p:nvPicPr>
        <p:blipFill>
          <a:blip r:embed="rId1"/>
          <a:stretch/>
        </p:blipFill>
        <p:spPr>
          <a:xfrm>
            <a:off x="1476360" y="2332080"/>
            <a:ext cx="6033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0T15:49:47Z</dcterms:created>
  <dc:creator>юрий</dc:creator>
  <dc:description/>
  <dc:language>en-US</dc:language>
  <cp:lastModifiedBy>1</cp:lastModifiedBy>
  <dcterms:modified xsi:type="dcterms:W3CDTF">2014-11-10T09:05:45Z</dcterms:modified>
  <cp:revision>15</cp:revision>
  <dc:subject/>
  <dc:title>ПРЕЗЕНТАЦИЯ ПО ТЕМЕ «ГРИБЫ»</dc:title>
</cp:coreProperties>
</file>