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0D1-E6F4-42CF-A040-B9E1173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562-5515-451C-B2BE-C9AC55D1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A67-1740-4268-ADFB-3325B87B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296-963F-4CA4-8448-F28718F6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075-46DD-41D7-B39E-FA7D1FE0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38-82B9-41B0-951B-EF6095C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9D7-055A-4AFF-8AC8-E59B483C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601-7C1D-4101-B2F0-67B783B8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085-6BE6-4ECA-888B-BD31629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B78-4481-4026-A558-E0D20A6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DB1-E091-4E18-9E6C-D3A2A5F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477-60E8-4056-A3FE-30481BAC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614D-67F6-4722-9077-7A241EB4D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ма: ГРИБ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1844640"/>
            <a:ext cx="850104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Бышкина С.В.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Екатеринбург 2014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ГРИБЫ\грибы.jpg"/>
          <p:cNvPicPr/>
          <p:nvPr/>
        </p:nvPicPr>
        <p:blipFill>
          <a:blip r:embed="rId1"/>
          <a:stretch/>
        </p:blipFill>
        <p:spPr>
          <a:xfrm>
            <a:off x="357120" y="1928880"/>
            <a:ext cx="4622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шляпе розовой, мохнатой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 не выглядит растяпой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дто плюшевое ушко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соления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юрий\Desktop\ДЕТСКИЕ ПРЕЗЕНТАЦИИ\ГРИБЫ\волнушка.jpg"/>
          <p:cNvPicPr/>
          <p:nvPr/>
        </p:nvPicPr>
        <p:blipFill>
          <a:blip r:embed="rId1"/>
          <a:stretch/>
        </p:blipFill>
        <p:spPr>
          <a:xfrm>
            <a:off x="1547640" y="2349360"/>
            <a:ext cx="597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 в лесу стоя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то его не бра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расной шапке модно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уда не год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юрий\Desktop\ДЕТСКИЕ ПРЕЗЕНТАЦИИ\ГРИБЫ\мухомор2.jpg"/>
          <p:cNvPicPr/>
          <p:nvPr/>
        </p:nvPicPr>
        <p:blipFill>
          <a:blip r:embed="rId1"/>
          <a:stretch/>
        </p:blipFill>
        <p:spPr>
          <a:xfrm>
            <a:off x="1403280" y="23320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мотрите-ка, ребята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ут лисички, там – опят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у, а это на полянке ядовитые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юрий\Desktop\ДЕТСКИЕ ПРЕЗЕНТАЦИИ\ГРИБЫ\поганки.jpg"/>
          <p:cNvPicPr/>
          <p:nvPr/>
        </p:nvPicPr>
        <p:blipFill>
          <a:blip r:embed="rId1"/>
          <a:stretch/>
        </p:blipFill>
        <p:spPr>
          <a:xfrm>
            <a:off x="298764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юрий\Desktop\ДЕТСКИЕ ПРЕЗЕНТАЦИИ\ГРИБЫ\поганка2.jpg"/>
          <p:cNvPicPr/>
          <p:nvPr/>
        </p:nvPicPr>
        <p:blipFill>
          <a:blip r:embed="rId2"/>
          <a:stretch/>
        </p:blipFill>
        <p:spPr>
          <a:xfrm>
            <a:off x="250920" y="209556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ГРИБЫ\мухомор2.jpg"/>
          <p:cNvPicPr/>
          <p:nvPr/>
        </p:nvPicPr>
        <p:blipFill>
          <a:blip r:embed="rId1"/>
          <a:stretch/>
        </p:blipFill>
        <p:spPr>
          <a:xfrm>
            <a:off x="0" y="1143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юрий\Desktop\ДЕТСКИЕ ПРЕЗЕНТАЦИИ\ГРИБЫ\мухомор2.jpg"/>
          <p:cNvPicPr/>
          <p:nvPr/>
        </p:nvPicPr>
        <p:blipFill>
          <a:blip r:embed="rId2"/>
          <a:stretch/>
        </p:blipFill>
        <p:spPr>
          <a:xfrm>
            <a:off x="2571840" y="1143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юрий\Desktop\ДЕТСКИЕ ПРЕЗЕНТАЦИИ\ГРИБЫ\мухомор2.jpg"/>
          <p:cNvPicPr/>
          <p:nvPr/>
        </p:nvPicPr>
        <p:blipFill>
          <a:blip r:embed="rId3"/>
          <a:stretch/>
        </p:blipFill>
        <p:spPr>
          <a:xfrm>
            <a:off x="5143680" y="11430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юрий\Desktop\ДЕТСКИЕ ПРЕЗЕНТАЦИИ\ГРИБЫ\поганка2.jpg"/>
          <p:cNvPicPr/>
          <p:nvPr/>
        </p:nvPicPr>
        <p:blipFill>
          <a:blip r:embed="rId4"/>
          <a:stretch/>
        </p:blipFill>
        <p:spPr>
          <a:xfrm>
            <a:off x="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юрий\Desktop\ДЕТСКИЕ ПРЕЗЕНТАЦИИ\ГРИБЫ\поганка2.jpg"/>
          <p:cNvPicPr/>
          <p:nvPr/>
        </p:nvPicPr>
        <p:blipFill>
          <a:blip r:embed="rId5"/>
          <a:stretch/>
        </p:blipFill>
        <p:spPr>
          <a:xfrm>
            <a:off x="228600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юрий\Desktop\ДЕТСКИЕ ПРЕЗЕНТАЦИИ\ГРИБЫ\поганка2.jpg"/>
          <p:cNvPicPr/>
          <p:nvPr/>
        </p:nvPicPr>
        <p:blipFill>
          <a:blip r:embed="rId6"/>
          <a:stretch/>
        </p:blipFill>
        <p:spPr>
          <a:xfrm>
            <a:off x="4572000" y="3373560"/>
            <a:ext cx="2320920" cy="34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юрий\Desktop\ДЕТСКИЕ ПРЕЗЕНТАЦИИ\ГРИБЫ\поганка2.jpg"/>
          <p:cNvPicPr/>
          <p:nvPr/>
        </p:nvPicPr>
        <p:blipFill>
          <a:blip r:embed="rId7"/>
          <a:stretch/>
        </p:blipFill>
        <p:spPr>
          <a:xfrm>
            <a:off x="6823080" y="3373560"/>
            <a:ext cx="2320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ГРИБЫ\волнушка.jpg"/>
          <p:cNvPicPr/>
          <p:nvPr/>
        </p:nvPicPr>
        <p:blipFill>
          <a:blip r:embed="rId1"/>
          <a:stretch/>
        </p:blipFill>
        <p:spPr>
          <a:xfrm>
            <a:off x="0" y="114300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юрий\Desktop\ДЕТСКИЕ ПРЕЗЕНТАЦИИ\ГРИБЫ\волнушка.jpg"/>
          <p:cNvPicPr/>
          <p:nvPr/>
        </p:nvPicPr>
        <p:blipFill>
          <a:blip r:embed="rId2"/>
          <a:stretch/>
        </p:blipFill>
        <p:spPr>
          <a:xfrm>
            <a:off x="3429000" y="1143000"/>
            <a:ext cx="3409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юрий\Desktop\ДЕТСКИЕ ПРЕЗЕНТАЦИИ\ГРИБЫ\лисички2.jpg"/>
          <p:cNvPicPr/>
          <p:nvPr/>
        </p:nvPicPr>
        <p:blipFill>
          <a:blip r:embed="rId3"/>
          <a:stretch/>
        </p:blipFill>
        <p:spPr>
          <a:xfrm>
            <a:off x="5405400" y="4167360"/>
            <a:ext cx="3738600" cy="269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юрий\Desktop\ДЕТСКИЕ ПРЕЗЕНТАЦИИ\ГРИБЫ\лисички2.jpg"/>
          <p:cNvPicPr/>
          <p:nvPr/>
        </p:nvPicPr>
        <p:blipFill>
          <a:blip r:embed="rId4"/>
          <a:stretch/>
        </p:blipFill>
        <p:spPr>
          <a:xfrm>
            <a:off x="1714680" y="4167360"/>
            <a:ext cx="37382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есу много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подберезовик2.jpeg"/>
          <p:cNvPicPr/>
          <p:nvPr/>
        </p:nvPicPr>
        <p:blipFill>
          <a:blip r:embed="rId2"/>
          <a:stretch/>
        </p:blipFill>
        <p:spPr>
          <a:xfrm>
            <a:off x="5357880" y="1143000"/>
            <a:ext cx="2714400" cy="245412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4" descr="подберезовик2.jpeg"/>
          <p:cNvPicPr/>
          <p:nvPr/>
        </p:nvPicPr>
        <p:blipFill>
          <a:blip r:embed="rId3"/>
          <a:stretch/>
        </p:blipFill>
        <p:spPr>
          <a:xfrm>
            <a:off x="2643120" y="114300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юрий\Desktop\ДЕТСКИЕ ПРЕЗЕНТАЦИИ\ГРИБЫ\подосиновик.jpg"/>
          <p:cNvPicPr/>
          <p:nvPr/>
        </p:nvPicPr>
        <p:blipFill>
          <a:blip r:embed="rId4"/>
          <a:stretch/>
        </p:blipFill>
        <p:spPr>
          <a:xfrm>
            <a:off x="6845400" y="4071960"/>
            <a:ext cx="2298600" cy="27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юрий\Desktop\ДЕТСКИЕ ПРЕЗЕНТАЦИИ\ГРИБЫ\подосиновик.jpg"/>
          <p:cNvPicPr/>
          <p:nvPr/>
        </p:nvPicPr>
        <p:blipFill>
          <a:blip r:embed="rId5"/>
          <a:stretch/>
        </p:blipFill>
        <p:spPr>
          <a:xfrm>
            <a:off x="2214720" y="4071960"/>
            <a:ext cx="22986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юрий\Desktop\ДЕТСКИЕ ПРЕЗЕНТАЦИИ\ГРИБЫ\подосиновик.jpg"/>
          <p:cNvPicPr/>
          <p:nvPr/>
        </p:nvPicPr>
        <p:blipFill>
          <a:blip r:embed="rId6"/>
          <a:stretch/>
        </p:blipFill>
        <p:spPr>
          <a:xfrm>
            <a:off x="4500720" y="4071960"/>
            <a:ext cx="2298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считай до 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071360"/>
            <a:ext cx="857232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     2     3     4     5 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0" y="2571840"/>
            <a:ext cx="2714760" cy="24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юрий\Desktop\ДЕТСКИЕ ПРЕЗЕНТАЦИИ\ГРИБЫ\подосиновик.jpg"/>
          <p:cNvPicPr/>
          <p:nvPr/>
        </p:nvPicPr>
        <p:blipFill>
          <a:blip r:embed="rId2"/>
          <a:stretch/>
        </p:blipFill>
        <p:spPr>
          <a:xfrm>
            <a:off x="1928880" y="3741840"/>
            <a:ext cx="2571840" cy="311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юрий\Desktop\ДЕТСКИЕ ПРЕЗЕНТАЦИИ\ГРИБЫ\мухомор2.jpg"/>
          <p:cNvPicPr/>
          <p:nvPr/>
        </p:nvPicPr>
        <p:blipFill>
          <a:blip r:embed="rId3"/>
          <a:stretch/>
        </p:blipFill>
        <p:spPr>
          <a:xfrm>
            <a:off x="4071960" y="228600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юрий\Desktop\ДЕТСКИЕ ПРЕЗЕНТАЦИИ\ГРИБЫ\поганка2.jpg"/>
          <p:cNvPicPr/>
          <p:nvPr/>
        </p:nvPicPr>
        <p:blipFill>
          <a:blip r:embed="rId4"/>
          <a:stretch/>
        </p:blipFill>
        <p:spPr>
          <a:xfrm>
            <a:off x="6643800" y="3103560"/>
            <a:ext cx="25002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бор грибов.mpg" descr=""/>
          <p:cNvPicPr/>
          <p:nvPr/>
        </p:nvPicPr>
        <p:blipFill>
          <a:blip r:embed="rId1"/>
          <a:stretch/>
        </p:blipFill>
        <p:spPr>
          <a:xfrm>
            <a:off x="1500120" y="1000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99720"/>
            <a:ext cx="86868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нятия по развитию речи в ДОУ / Л.Н. Зырянова, Т.В. Лужбина. – Ростов н/Д: Феникс, 2012. – 271 с. (Библиотека логопе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-ресурсы сайта Социальная сеть работников образова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.portal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едставление о гриб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е понятие «гриб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сущ. множ. числа род.пад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гласовывать сущ. с числительн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от гриб живет под елью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 ее огромной тенью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удрый бородач-старик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тель бора -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юрий\Desktop\ДЕТСКИЕ ПРЕЗЕНТАЦИИ\ГРИБЫ\боровик2.jpg"/>
          <p:cNvPicPr/>
          <p:nvPr/>
        </p:nvPicPr>
        <p:blipFill>
          <a:blip r:embed="rId1"/>
          <a:stretch/>
        </p:blipFill>
        <p:spPr>
          <a:xfrm>
            <a:off x="1547640" y="23320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спорю - не белый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, братцы, попроще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ту я обычно в берёзовой рощ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подберезовик2.jpeg"/>
          <p:cNvPicPr/>
          <p:nvPr/>
        </p:nvPicPr>
        <p:blipFill>
          <a:blip r:embed="rId1"/>
          <a:stretch/>
        </p:blipFill>
        <p:spPr>
          <a:xfrm>
            <a:off x="1835280" y="1844640"/>
            <a:ext cx="554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 в красной шапочке раст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и корней осиновых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ня увидишь за версту 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вусь я -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ГРИБЫ\подосиновик.jpg"/>
          <p:cNvPicPr/>
          <p:nvPr/>
        </p:nvPicPr>
        <p:blipFill>
          <a:blip r:embed="rId1"/>
          <a:stretch/>
        </p:blipFill>
        <p:spPr>
          <a:xfrm>
            <a:off x="3635280" y="1700280"/>
            <a:ext cx="4256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доль лесных дороже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ного белых ноже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шляпках разноцветных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дали приметных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бирай, не мешкай! Это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ГРИБЫ\сыроежка.jpg"/>
          <p:cNvPicPr/>
          <p:nvPr/>
        </p:nvPicPr>
        <p:blipFill>
          <a:blip r:embed="rId1"/>
          <a:stretch/>
        </p:blipFill>
        <p:spPr>
          <a:xfrm>
            <a:off x="4643280" y="299736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юрий\Desktop\ДЕТСКИЕ ПРЕЗЕНТАЦИИ\ГРИБЫ\сыроежки2.jpg"/>
          <p:cNvPicPr/>
          <p:nvPr/>
        </p:nvPicPr>
        <p:blipFill>
          <a:blip r:embed="rId2"/>
          <a:stretch/>
        </p:blipFill>
        <p:spPr>
          <a:xfrm>
            <a:off x="0" y="2997360"/>
            <a:ext cx="536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 листами на полян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прятки девочки играли. Притаились три сестричк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тло-желтые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юрий\Desktop\ДЕТСКИЕ ПРЕЗЕНТАЦИИ\ГРИБЫ\лисички2.jpg"/>
          <p:cNvPicPr/>
          <p:nvPr/>
        </p:nvPicPr>
        <p:blipFill>
          <a:blip r:embed="rId1"/>
          <a:stretch/>
        </p:blipFill>
        <p:spPr>
          <a:xfrm>
            <a:off x="1332000" y="2349360"/>
            <a:ext cx="62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ни все лесные с макушек до пя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енью поздней в гроздьях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юрий\Desktop\ДЕТСКИЕ ПРЕЗЕНТАЦИИ\ГРИБЫ\опята.jpg"/>
          <p:cNvPicPr/>
          <p:nvPr/>
        </p:nvPicPr>
        <p:blipFill>
          <a:blip r:embed="rId1"/>
          <a:stretch/>
        </p:blipFill>
        <p:spPr>
          <a:xfrm>
            <a:off x="1332000" y="1600200"/>
            <a:ext cx="6624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околадно-бурый гриб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 скользкой шляпке лист прилип. Воротник ажурный тонок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иб такой зовут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юрий\Desktop\ДЕТСКИЕ ПРЕЗЕНТАЦИИ\ГРИБЫ\маслята.jpg"/>
          <p:cNvPicPr/>
          <p:nvPr/>
        </p:nvPicPr>
        <p:blipFill>
          <a:blip r:embed="rId1"/>
          <a:stretch/>
        </p:blipFill>
        <p:spPr>
          <a:xfrm>
            <a:off x="147636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5:49:47Z</dcterms:created>
  <dc:creator>юрий</dc:creator>
  <dc:description/>
  <dc:language>en-US</dc:language>
  <cp:lastModifiedBy>1</cp:lastModifiedBy>
  <dcterms:modified xsi:type="dcterms:W3CDTF">2014-11-10T09:05:45Z</dcterms:modified>
  <cp:revision>15</cp:revision>
  <dc:subject/>
  <dc:title>ПРЕЗЕНТАЦИЯ ПО ТЕМЕ «ГРИБЫ»</dc:title>
</cp:coreProperties>
</file>