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584-F69D-4054-B2D7-5513C816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7D7-354A-4E59-A1AF-17964169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118-EEED-4C9B-8282-67D29D5B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62B-F3C0-4E33-BA10-47674D3D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237-AF4F-489D-AB72-35CF163D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E8DC-A9C5-4C48-99B7-4606507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27B-2F00-4132-A59E-93548C3C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462B-16C9-4E0B-84B5-DCB5431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DCD-C1EC-4FFC-A9DB-FF4D687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E02-9C19-443E-996E-3796FF3D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E7C0-8F62-40CA-8B11-EDEDFF9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F6B-C947-44DC-ABDD-DBEC2B5A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6F63-9AD8-468F-864C-5ACEE13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48D0-B26A-48E9-876F-AE929C51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6C8-BBE0-413C-918B-28D205B3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42EF-567B-46F0-9B8C-C7CE120C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E4C2-69B9-4EDC-84A8-DB44C035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48211-1F6F-4EB3-AEFE-B6D7FBAA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33426-96B3-4858-9381-5BA0AC93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3D66A-B048-477E-812A-496BA21E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C4ACD-A040-45B8-BB56-B047C2A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F8B71-6E98-4EAC-B391-382F627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9BD-53D5-44F8-8816-94378BF0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20251-4844-4ABC-BBD2-8E51CAB8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425B9-1198-43E0-B265-F85EDDF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A0524-D2F7-451C-9220-BB46D52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FCBD8-0596-4BE0-B931-CFD7AA32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B662F-E97E-443C-A5AE-09F2160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490FD-2410-4DB5-A8A6-2D1574A8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A56C7-C334-42C9-9851-9B84942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A692-6ABA-468E-A250-B88710D8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4107-E9B7-4B4C-99C8-BF626F23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49F1-5360-4CE7-9FCD-3B8406C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B26-E2AB-4104-8A89-94D00E01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6172-964D-4825-9176-E099D37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69E5-99CF-4029-AE07-0F1A55E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6C33-A4E8-4E0B-B7F8-382229C0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633FD-0047-4EC1-A0E9-2E71944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51F7-5676-41F8-AEDD-47056FB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A5DE-94B8-4148-8C24-9DEA97A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95B3-BC05-4B12-A677-81644348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B5C0-B3E3-45A8-A83B-5B82DB77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0B1C-86AA-4256-A9A7-5D9898AF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746AF-AA19-430A-A3DF-FAE4B33E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01A-5BBC-41FE-BCAF-F8E23B45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D4CAC-1307-475E-BF52-3ACAB61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ABD9D-FD2B-4DED-85FF-D07BA90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36455-114A-4823-BE6C-5966F84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842E8-FE47-4D4B-A68A-5E31C5A1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3B878-AF6D-4166-BAAB-7B415E8B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4DB1C-B05A-4A99-AA83-A73CEB7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F6A82-E1E2-4FB1-9854-7C5BB02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0A199-CA01-43D6-8F95-E168B09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A4047-1A88-4882-B30C-B4DF1B3B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F5FE8-95E4-489F-9E15-FEC6E04A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F63-E417-442E-8218-448B8B22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5BA52-7243-4DA2-8815-BFC3BAD9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9D4F9-B092-40FA-92BB-0597BC4E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B74CF-8ECD-445F-A0F0-F132E9CD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F4554-0838-4AB7-9490-4856C20F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1C951-069C-42FF-BE2D-DB9EC2D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7C881-3D4A-45D2-8A96-F2BACFB5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D0344-E999-480B-95B6-57EE1389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67015-3E4F-472B-A30C-02FBF59A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778AF-1FBF-4457-B47D-E276027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A053B-28AB-4018-A6C6-B8BFF47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A3D-CD31-48C5-A6DA-E3BE773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AB8AB-86ED-4BBD-9010-060B293D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913BB-8509-4F0C-8C5C-1232BBA8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23180-8225-4725-B78D-E6ED1D37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11C42-1BB5-4288-B097-480D31E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28858-351D-4B4E-A8EC-348032A3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E873B-2805-43F4-A399-56F44486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D1ACC-962E-4274-BF34-936EBD78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5D481-D47B-437F-847F-B83323C3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6D7D2-EBC4-4EDA-83D9-A610D115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2F520-6EA1-4780-8E14-2E985C4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327-CE89-4BAA-B8F8-DAEFE33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E9558-916E-4AA6-A012-53E6C47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A79DC-0C44-453E-B906-75BD472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FD5DF-1909-4ABE-BC88-60BC942E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EC8F2-F2DD-4EFD-814A-2973AA2D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FBC9F-24D5-4EBE-A8F7-4B06F6FD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1E4-9045-4D69-9860-0CB17F5E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393-4514-44ED-8F9B-147CDD1AF37D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3F20-DE2F-4A89-9C3D-0F1FE45EE6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d4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e3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e3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2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d4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2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d4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d4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909-7D20-40E1-9EC8-C3D9DAD3F851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2A3-8EB6-437D-BF32-227503AE9A7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9AF-828D-4C07-B11D-65A5E90C2372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1C2-0ACE-4DA9-980E-98A49030E52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d4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e3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e3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2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d4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2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d4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d4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BFB-8334-4906-9722-A49CCD331825}" type="datetime"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63E-3225-4B24-852F-8DC920700F4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E63-E9FB-49D9-8F13-FA6B0BE762DD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5677-7B7E-4C54-906E-2A81222A74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766-217C-41DB-AB10-A03CB3823E80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2A5B-4445-4516-9B5D-3398F17571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8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d4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d4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a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87b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7f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af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9ab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d4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fc3d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87b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7ba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610D-22EF-4C32-ABA7-8D06CC431482}" type="datetime"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C8E1-9071-49A1-AB2F-4DE2F6ECB5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e7f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e7f1"/>
              </a:solidFill>
              <a:latin typeface="Century Schoolbook"/>
            </a:endParaRPr>
          </a:p>
        </p:txBody>
      </p:sp>
      <p:pic>
        <p:nvPicPr>
          <p:cNvPr id="353" name="Picture 2" descr="http://1stajyr.ru/wp-content/uploads/2012/11/lepim_iz_solenogo_testa_novogodnie_igryshki-7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4" descr=""/>
          <p:cNvPicPr/>
          <p:nvPr/>
        </p:nvPicPr>
        <p:blipFill>
          <a:blip r:embed="rId2"/>
          <a:stretch/>
        </p:blipFill>
        <p:spPr>
          <a:xfrm>
            <a:off x="480960" y="1865160"/>
            <a:ext cx="8083440" cy="2481480"/>
          </a:xfrm>
          <a:prstGeom prst="rect">
            <a:avLst/>
          </a:prstGeom>
          <a:ln w="0">
            <a:noFill/>
          </a:ln>
        </p:spPr>
      </p:pic>
      <p:sp>
        <p:nvSpPr>
          <p:cNvPr id="355" name="Нижний колонтитул 7"/>
          <p:cNvSpPr/>
          <p:nvPr/>
        </p:nvSpPr>
        <p:spPr>
          <a:xfrm>
            <a:off x="2627280" y="6093000"/>
            <a:ext cx="3657600" cy="384120"/>
          </a:xfrm>
          <a:prstGeom prst="rect">
            <a:avLst/>
          </a:prstGeom>
          <a:solidFill>
            <a:srgbClr val="ffb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5"/>
                </a:solidFill>
                <a:latin typeface="Century Schoolbook"/>
              </a:rPr>
              <a:t>г.Абакан МБОУ "Лицей" 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5"/>
                </a:solidFill>
                <a:latin typeface="Century Schoolbook"/>
              </a:rPr>
              <a:t>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img1.liveinternet.ru/images/attach/c/5/87/270/87270815_71734962.jpg"/>
          <p:cNvPicPr/>
          <p:nvPr/>
        </p:nvPicPr>
        <p:blipFill>
          <a:blip r:embed="rId1"/>
          <a:stretch/>
        </p:blipFill>
        <p:spPr>
          <a:xfrm>
            <a:off x="900000" y="0"/>
            <a:ext cx="6264360" cy="6951600"/>
          </a:xfrm>
          <a:prstGeom prst="rect">
            <a:avLst/>
          </a:prstGeom>
          <a:ln w="0">
            <a:noFill/>
          </a:ln>
        </p:spPr>
      </p:pic>
      <p:sp>
        <p:nvSpPr>
          <p:cNvPr id="389" name="Нижний колонтитул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92" name="Picture 2" descr="http://adalin.mospsy.ru/img6/st01.jpg"/>
          <p:cNvPicPr/>
          <p:nvPr/>
        </p:nvPicPr>
        <p:blipFill>
          <a:blip r:embed="rId1"/>
          <a:stretch/>
        </p:blipFill>
        <p:spPr>
          <a:xfrm>
            <a:off x="900000" y="765000"/>
            <a:ext cx="7128000" cy="4757760"/>
          </a:xfrm>
          <a:prstGeom prst="rect">
            <a:avLst/>
          </a:prstGeom>
          <a:ln w="0">
            <a:noFill/>
          </a:ln>
        </p:spPr>
      </p:pic>
      <p:sp>
        <p:nvSpPr>
          <p:cNvPr id="39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96" name="Picture 2" descr="http://adalin.mospsy.ru/img6/st07.jpg"/>
          <p:cNvPicPr/>
          <p:nvPr/>
        </p:nvPicPr>
        <p:blipFill>
          <a:blip r:embed="rId1"/>
          <a:stretch/>
        </p:blipFill>
        <p:spPr>
          <a:xfrm>
            <a:off x="539640" y="1484280"/>
            <a:ext cx="8136000" cy="3967200"/>
          </a:xfrm>
          <a:prstGeom prst="rect">
            <a:avLst/>
          </a:prstGeom>
          <a:ln w="0">
            <a:noFill/>
          </a:ln>
        </p:spPr>
      </p:pic>
      <p:sp>
        <p:nvSpPr>
          <p:cNvPr id="39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00" name="Picture 2" descr="http://img1.liveinternet.ru/images/attach/c/7/94/282/94282831_st88.jpg"/>
          <p:cNvPicPr/>
          <p:nvPr/>
        </p:nvPicPr>
        <p:blipFill>
          <a:blip r:embed="rId1"/>
          <a:stretch/>
        </p:blipFill>
        <p:spPr>
          <a:xfrm>
            <a:off x="826920" y="549360"/>
            <a:ext cx="6769440" cy="5921280"/>
          </a:xfrm>
          <a:prstGeom prst="rect">
            <a:avLst/>
          </a:prstGeom>
          <a:ln w="0">
            <a:noFill/>
          </a:ln>
        </p:spPr>
      </p:pic>
      <p:sp>
        <p:nvSpPr>
          <p:cNvPr id="40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04" name="Picture 2" descr="http://remontyes.ru/uploads/posts/2012-12/thumbs/1355157770_novogodnie-podelki19.jpg"/>
          <p:cNvPicPr/>
          <p:nvPr/>
        </p:nvPicPr>
        <p:blipFill>
          <a:blip r:embed="rId1"/>
          <a:stretch/>
        </p:blipFill>
        <p:spPr>
          <a:xfrm>
            <a:off x="1258920" y="1628640"/>
            <a:ext cx="5905440" cy="3873600"/>
          </a:xfrm>
          <a:prstGeom prst="rect">
            <a:avLst/>
          </a:prstGeom>
          <a:ln w="0">
            <a:noFill/>
          </a:ln>
        </p:spPr>
      </p:pic>
      <p:sp>
        <p:nvSpPr>
          <p:cNvPr id="405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08" name="Picture 2" descr="http://www.atel-e.ru/files/articles/articles_useful_44/NewYear%2019.jpg"/>
          <p:cNvPicPr/>
          <p:nvPr/>
        </p:nvPicPr>
        <p:blipFill>
          <a:blip r:embed="rId1"/>
          <a:stretch/>
        </p:blipFill>
        <p:spPr>
          <a:xfrm>
            <a:off x="226692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12" name="Picture 2" descr="http://bibigosha.ru/cfs-filesystemfile.ashx/__key/CommunityServer.Blogs.Components.WeblogFiles/library/_4804300431043B043E043D044B04_4.JPG"/>
          <p:cNvPicPr/>
          <p:nvPr/>
        </p:nvPicPr>
        <p:blipFill>
          <a:blip r:embed="rId1"/>
          <a:stretch/>
        </p:blipFill>
        <p:spPr>
          <a:xfrm>
            <a:off x="324000" y="404640"/>
            <a:ext cx="7883280" cy="5919840"/>
          </a:xfrm>
          <a:prstGeom prst="rect">
            <a:avLst/>
          </a:prstGeom>
          <a:ln w="0">
            <a:noFill/>
          </a:ln>
        </p:spPr>
      </p:pic>
      <p:sp>
        <p:nvSpPr>
          <p:cNvPr id="41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16" name="Picture 2" descr="http://img1.liveinternet.ru/images/attach/c/3/75/477/75477275_263163_6545800x600.jpg"/>
          <p:cNvPicPr/>
          <p:nvPr/>
        </p:nvPicPr>
        <p:blipFill>
          <a:blip r:embed="rId1"/>
          <a:stretch/>
        </p:blipFill>
        <p:spPr>
          <a:xfrm>
            <a:off x="684360" y="404640"/>
            <a:ext cx="7738920" cy="5805720"/>
          </a:xfrm>
          <a:prstGeom prst="rect">
            <a:avLst/>
          </a:prstGeom>
          <a:ln w="0">
            <a:noFill/>
          </a:ln>
        </p:spPr>
      </p:pic>
      <p:sp>
        <p:nvSpPr>
          <p:cNvPr id="41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20" name="Picture 2" descr="http://cs3.livemaster.ru/zhurnalfoto/4/a/e/121202191941.jpg"/>
          <p:cNvPicPr/>
          <p:nvPr/>
        </p:nvPicPr>
        <p:blipFill>
          <a:blip r:embed="rId1"/>
          <a:stretch/>
        </p:blipFill>
        <p:spPr>
          <a:xfrm>
            <a:off x="1827360" y="0"/>
            <a:ext cx="4778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424" name="Picture 2" descr="http://1stajyr.ru/wp-content/uploads/2012/11/lepim_iz_solenogo_testa_novogodnie_igryshki-6.jpg"/>
          <p:cNvPicPr/>
          <p:nvPr/>
        </p:nvPicPr>
        <p:blipFill>
          <a:blip r:embed="rId1"/>
          <a:stretch/>
        </p:blipFill>
        <p:spPr>
          <a:xfrm>
            <a:off x="1332000" y="54000"/>
            <a:ext cx="5400720" cy="6804000"/>
          </a:xfrm>
          <a:prstGeom prst="rect">
            <a:avLst/>
          </a:prstGeom>
          <a:ln w="0">
            <a:noFill/>
          </a:ln>
        </p:spPr>
      </p:pic>
      <p:sp>
        <p:nvSpPr>
          <p:cNvPr id="425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pic>
        <p:nvPicPr>
          <p:cNvPr id="357" name="Содержимое 4" descr="i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ttp://1stajyr.ru/wp-content/uploads/2011/12/51de58ca2e60t-e1325042967243.jpg"/>
          <p:cNvPicPr/>
          <p:nvPr/>
        </p:nvPicPr>
        <p:blipFill>
          <a:blip r:embed="rId2"/>
          <a:stretch/>
        </p:blipFill>
        <p:spPr>
          <a:xfrm>
            <a:off x="611280" y="692280"/>
            <a:ext cx="7856280" cy="518472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6"/>
          <p:cNvSpPr/>
          <p:nvPr/>
        </p:nvSpPr>
        <p:spPr>
          <a:xfrm>
            <a:off x="2916360" y="630864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62" name="Picture 2" descr="http://1stajyr.ru/wp-content/uploads/2012/11/lepim_iz_solenogo_testa_novogodnie_igryshki-9.jpg"/>
          <p:cNvPicPr/>
          <p:nvPr/>
        </p:nvPicPr>
        <p:blipFill>
          <a:blip r:embed="rId1"/>
          <a:stretch/>
        </p:blipFill>
        <p:spPr>
          <a:xfrm>
            <a:off x="125424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66" name="Picture 2" descr="http://ph.files.7ja.ru/7ya-photo/2008/12/22/1229946804649.jpg"/>
          <p:cNvPicPr/>
          <p:nvPr/>
        </p:nvPicPr>
        <p:blipFill>
          <a:blip r:embed="rId1"/>
          <a:stretch/>
        </p:blipFill>
        <p:spPr>
          <a:xfrm>
            <a:off x="395280" y="476280"/>
            <a:ext cx="7835760" cy="5877000"/>
          </a:xfrm>
          <a:prstGeom prst="rect">
            <a:avLst/>
          </a:prstGeom>
          <a:ln w="0">
            <a:noFill/>
          </a:ln>
        </p:spPr>
      </p:pic>
      <p:sp>
        <p:nvSpPr>
          <p:cNvPr id="36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70" name="Picture 2" descr="http://img1.liveinternet.ru/images/attach/c/4/80/31/80031993_50218908_1.jpg"/>
          <p:cNvPicPr/>
          <p:nvPr/>
        </p:nvPicPr>
        <p:blipFill>
          <a:blip r:embed="rId1"/>
          <a:stretch/>
        </p:blipFill>
        <p:spPr>
          <a:xfrm>
            <a:off x="539640" y="333360"/>
            <a:ext cx="7932960" cy="594828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74" name="Picture 2" descr="http://www.youcandoit.com.ua/wp-content/uploads/2010/12/Salt_4.jpg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5088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78" name="Picture 2" descr="http://1stajyr.ru/wp-content/uploads/2012/11/lepim_iz_solenogo_testa_novogodnie_igryshki-6.jpg"/>
          <p:cNvPicPr/>
          <p:nvPr/>
        </p:nvPicPr>
        <p:blipFill>
          <a:blip r:embed="rId1"/>
          <a:stretch/>
        </p:blipFill>
        <p:spPr>
          <a:xfrm>
            <a:off x="1332000" y="54000"/>
            <a:ext cx="5400720" cy="6804000"/>
          </a:xfrm>
          <a:prstGeom prst="rect">
            <a:avLst/>
          </a:prstGeom>
          <a:ln w="0">
            <a:noFill/>
          </a:ln>
        </p:spPr>
      </p:pic>
      <p:sp>
        <p:nvSpPr>
          <p:cNvPr id="379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82" name="Picture 2" descr="Поделки.  Елочные игрушки из солёного теста."/>
          <p:cNvPicPr/>
          <p:nvPr/>
        </p:nvPicPr>
        <p:blipFill>
          <a:blip r:embed="rId1"/>
          <a:stretch/>
        </p:blipFill>
        <p:spPr>
          <a:xfrm>
            <a:off x="755640" y="0"/>
            <a:ext cx="75502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e7f1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afd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87ba"/>
              </a:solidFill>
              <a:latin typeface="Century Schoolbook"/>
            </a:endParaRPr>
          </a:p>
        </p:txBody>
      </p:sp>
      <p:pic>
        <p:nvPicPr>
          <p:cNvPr id="386" name="Picture 2" descr="Игрушки на ёлку из солёного теста) ."/>
          <p:cNvPicPr/>
          <p:nvPr/>
        </p:nvPicPr>
        <p:blipFill>
          <a:blip r:embed="rId1"/>
          <a:stretch/>
        </p:blipFill>
        <p:spPr>
          <a:xfrm>
            <a:off x="539640" y="404640"/>
            <a:ext cx="7810560" cy="5715000"/>
          </a:xfrm>
          <a:prstGeom prst="rect">
            <a:avLst/>
          </a:prstGeom>
          <a:ln w="0">
            <a:noFill/>
          </a:ln>
        </p:spPr>
      </p:pic>
      <p:sp>
        <p:nvSpPr>
          <p:cNvPr id="387" name="Нижний колонтитул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e7f1"/>
                </a:solidFill>
                <a:latin typeface="Century Schoolbook"/>
              </a:rPr>
              <a:t>г.Абакан МБОУ "Лицей" Учитель начальных классов Борисюк Е.С.</a:t>
            </a:r>
            <a:endParaRPr b="0" lang="en-US" sz="1200" spc="-1" strike="noStrike">
              <a:solidFill>
                <a:srgbClr val="ff87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3:48:49Z</dcterms:created>
  <dc:creator>Денис</dc:creator>
  <dc:description/>
  <dc:language>en-US</dc:language>
  <cp:lastModifiedBy>Денис</cp:lastModifiedBy>
  <dcterms:modified xsi:type="dcterms:W3CDTF">2015-02-03T18:41:50Z</dcterms:modified>
  <cp:revision>5</cp:revision>
  <dc:subject/>
  <dc:title>Слайд 1</dc:title>
</cp:coreProperties>
</file>