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F7E-B3BB-41C9-B0BC-8D7D8153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6A3-E442-45DD-BAA1-91C4E4F1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C2A-DBC9-4A2A-A1F1-673ECD4D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A19-FC03-4873-914E-4F720389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153C-B91F-4F40-A7A4-D19A0D1D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1371-C3A7-4F33-9ABB-D5D409D1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8DA3-EFEF-46E4-BBDB-1CEB8A63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D104-CE85-4CF8-B00F-66654327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36C9-C1A9-40E5-8356-6BBE17A4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311F-99D1-4FCD-B352-41095910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1E14-657D-4993-841A-5D6CFB05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587-24B9-4021-96C1-F1D4D200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E90E-B405-4133-A0D9-4A08B248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5D49-B0B2-4B16-B704-11777197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D796-3A23-4276-88A3-85AA9562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10C3-A8C4-4F8E-BCE6-54BA27DB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B402-DB5B-4318-9056-3526AC06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D2596-1F5B-41EA-980B-891BE227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3D054-9B12-4C3D-A980-EF5FF31B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A84D4-A1ED-4E30-B9AD-825721E3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89A6A-A96F-4F5F-AC53-DE9D0BD2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2B410-BD55-4010-9072-91A8656F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E06-FFA4-4DC0-8CAA-3E2D6175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B4976-5525-465F-ABB8-8E73B8F2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0AF68-0B3A-4058-814F-84A2E03E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9F27A-3AFD-4EB7-8565-D45944B3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426D0-1FE8-49B4-98F6-4CFDC041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426FC-820E-4C23-A097-438E2497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5EC9D-8D68-438B-BF12-963889DF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345E0-8FF0-434D-AA03-C321BD4F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48CD6-4CAD-497C-B20B-395DEBB3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40EB9-7298-481C-BA0C-1184524A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55B38-4CBD-4A1E-B57D-3E56D1EA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FDD-21C4-4F62-B8A8-1F177891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46F42-5EAF-4B62-93A8-C9C31BEC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C5F93-E066-4D18-B728-5BA1DA79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B42A7-C8BB-463D-A108-9CA270C0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57498-67A7-4B1F-8B69-778B6604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04849-1B5F-4CB3-9996-C0148FEE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9918D-DB63-46A4-B0A0-15A808BB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31B00-B039-4558-82A8-E032E68C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EC250-2D34-4974-996A-7B44A4A6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21C6F-B846-41CD-AE15-7229C890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397942-2C81-4A2B-8C07-382AF970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5C6-201A-43C8-9F34-33689238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3EB1A-C219-4576-90F1-6EC97E9D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692FC-EC8B-4EC2-8F2A-8A4789E1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9AEC72-7686-4B80-BB41-0C17B27B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4C00DE-8168-43C2-A42A-4B74EA10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4037AD-633B-4204-935E-37F944D6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7569A7-6737-4A42-B540-C6E88D01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380AB2-F959-4845-A121-E580FFAE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C5C79-4ACC-449A-BFC7-DC9CCA72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FAD47-3A3B-49C3-ACA7-85884F7E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E5669-7323-4D58-8B33-2C0EE44A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C26-B649-4268-87BB-AEC35A53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811D4A-675A-447E-85CA-BD78BB18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CD4823-CF9D-473B-B4DC-4B405D6E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290D9B-887D-419E-951A-4281ACD6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F97795-A35A-4E57-838B-EA4CDCF3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83D9D5-93DD-4DFB-8E45-77896AAB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5E496-E65B-4A1D-AD40-A62994C9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AF1FE4-ED90-45DF-A634-5F7604B8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08B98B-F018-47E8-B2B4-33733761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148998-1BDF-4627-B118-D8443DA6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FD4D8-BDE2-47B9-952F-0C733044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D4A-DDCC-4F1C-80A5-7024A001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9673BD-F952-44E2-B88A-3D38F17F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D9E8CE-7C49-43A8-A1F8-F6716AC0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BA624-0CCC-4F20-BED8-5D2542CD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5F83FC-87A8-4358-81A6-09448864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A1F463-7F0B-4E48-9CCD-FAC1A1AB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F2B709-7F8E-48F3-82E3-18B40681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8EE71D-5484-4510-B12F-6459D7BE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2BDE40-B9B2-409E-A7F0-27E7BB3F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05F9BE-A7AA-41F6-9342-A30BD27A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88D989-D88B-4274-B7B2-0DFC05BB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DA3B-963B-4AF7-A4A2-DE3E1F28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BE7D4B-5196-4B61-A101-30AB7343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84171D-9DE3-43C4-AEB5-EDC8096F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9F8D73-4369-42AF-A17F-8C580B74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C50B5-B76C-4803-84CF-CEC4BAC9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4DE977-DC9F-4C9E-BEB7-68570BB9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D13-7DCB-4D7A-8FD2-A8A6FCC4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d4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7f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af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9ab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d4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fc3d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1AC2-5289-4C14-A641-17939421B7F0}" type="datetime"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d4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8D5E-A4E0-4886-A438-0D093D82281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d4e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e3e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e3e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f2f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d4e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f2f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d4e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d4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7f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af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9ab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d4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fc3d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3678-904A-4539-8BB0-3578354774E8}" type="datetime"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9901-DBD1-4C87-9A5A-86C2207BF1A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d4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d4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7f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af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9ab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d4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fc3d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3ED5-6473-46AF-8BAA-C07C43841E56}" type="datetime"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A1D5-43FA-405A-9701-E0836C6B96C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d4e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e3e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e3e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f2f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d4e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f2f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d4e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d4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af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9ab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d4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fc3d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9B7D-D428-4C93-8517-9C92B9F25A3B}" type="datetime"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460C-124D-4508-A58D-32AD88BA696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d4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d4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7f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af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9ab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d4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fc3d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2454-CCED-499E-B6D0-7ACF7E6F5556}" type="datetime"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7C0C-106E-4FA4-8A72-B4873B2AE7B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d4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d4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7f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af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9ab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d4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fc3d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DCD4-BA8A-4218-8173-08AC10D94D7B}" type="datetime"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6B86-9E97-4E50-921C-388CF647A93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ff8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d4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7f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af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9ab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d4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fc3d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FED1-B663-45C2-98D2-6C6E25B5F1AD}" type="datetime"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F73F-162C-4D2F-9055-3A34B40CC0A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fe7f1"/>
              </a:solidFill>
              <a:latin typeface="Century Schoolbook"/>
            </a:endParaRPr>
          </a:p>
        </p:txBody>
      </p:sp>
      <p:pic>
        <p:nvPicPr>
          <p:cNvPr id="353" name="Picture 2" descr="http://1stajyr.ru/wp-content/uploads/2012/11/lepim_iz_solenogo_testa_novogodnie_igryshki-7.jpg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оугольник 4" descr=""/>
          <p:cNvPicPr/>
          <p:nvPr/>
        </p:nvPicPr>
        <p:blipFill>
          <a:blip r:embed="rId2"/>
          <a:stretch/>
        </p:blipFill>
        <p:spPr>
          <a:xfrm>
            <a:off x="480960" y="1865160"/>
            <a:ext cx="8083440" cy="2481480"/>
          </a:xfrm>
          <a:prstGeom prst="rect">
            <a:avLst/>
          </a:prstGeom>
          <a:ln w="0">
            <a:noFill/>
          </a:ln>
        </p:spPr>
      </p:pic>
      <p:sp>
        <p:nvSpPr>
          <p:cNvPr id="355" name="Нижний колонтитул 7"/>
          <p:cNvSpPr/>
          <p:nvPr/>
        </p:nvSpPr>
        <p:spPr>
          <a:xfrm>
            <a:off x="2627280" y="6093000"/>
            <a:ext cx="3657600" cy="384120"/>
          </a:xfrm>
          <a:prstGeom prst="rect">
            <a:avLst/>
          </a:prstGeom>
          <a:solidFill>
            <a:srgbClr val="ffb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51515"/>
                </a:solidFill>
                <a:latin typeface="Century Schoolbook"/>
              </a:rPr>
              <a:t>г.Абакан МБОУ "Лицей" 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51515"/>
                </a:solidFill>
                <a:latin typeface="Century Schoolbook"/>
              </a:rPr>
              <a:t>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ttp://img1.liveinternet.ru/images/attach/c/5/87/270/87270815_71734962.jpg"/>
          <p:cNvPicPr/>
          <p:nvPr/>
        </p:nvPicPr>
        <p:blipFill>
          <a:blip r:embed="rId1"/>
          <a:stretch/>
        </p:blipFill>
        <p:spPr>
          <a:xfrm>
            <a:off x="900000" y="0"/>
            <a:ext cx="6264360" cy="6951600"/>
          </a:xfrm>
          <a:prstGeom prst="rect">
            <a:avLst/>
          </a:prstGeom>
          <a:ln w="0">
            <a:noFill/>
          </a:ln>
        </p:spPr>
      </p:pic>
      <p:sp>
        <p:nvSpPr>
          <p:cNvPr id="389" name="Нижний колонтитул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392" name="Picture 2" descr="http://adalin.mospsy.ru/img6/st01.jpg"/>
          <p:cNvPicPr/>
          <p:nvPr/>
        </p:nvPicPr>
        <p:blipFill>
          <a:blip r:embed="rId1"/>
          <a:stretch/>
        </p:blipFill>
        <p:spPr>
          <a:xfrm>
            <a:off x="900000" y="765000"/>
            <a:ext cx="7128000" cy="4757760"/>
          </a:xfrm>
          <a:prstGeom prst="rect">
            <a:avLst/>
          </a:prstGeom>
          <a:ln w="0">
            <a:noFill/>
          </a:ln>
        </p:spPr>
      </p:pic>
      <p:sp>
        <p:nvSpPr>
          <p:cNvPr id="393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396" name="Picture 2" descr="http://adalin.mospsy.ru/img6/st07.jpg"/>
          <p:cNvPicPr/>
          <p:nvPr/>
        </p:nvPicPr>
        <p:blipFill>
          <a:blip r:embed="rId1"/>
          <a:stretch/>
        </p:blipFill>
        <p:spPr>
          <a:xfrm>
            <a:off x="539640" y="1484280"/>
            <a:ext cx="8136000" cy="3967200"/>
          </a:xfrm>
          <a:prstGeom prst="rect">
            <a:avLst/>
          </a:prstGeom>
          <a:ln w="0">
            <a:noFill/>
          </a:ln>
        </p:spPr>
      </p:pic>
      <p:sp>
        <p:nvSpPr>
          <p:cNvPr id="397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400" name="Picture 2" descr="http://img1.liveinternet.ru/images/attach/c/7/94/282/94282831_st88.jpg"/>
          <p:cNvPicPr/>
          <p:nvPr/>
        </p:nvPicPr>
        <p:blipFill>
          <a:blip r:embed="rId1"/>
          <a:stretch/>
        </p:blipFill>
        <p:spPr>
          <a:xfrm>
            <a:off x="826920" y="549360"/>
            <a:ext cx="6769440" cy="5921280"/>
          </a:xfrm>
          <a:prstGeom prst="rect">
            <a:avLst/>
          </a:prstGeom>
          <a:ln w="0">
            <a:noFill/>
          </a:ln>
        </p:spPr>
      </p:pic>
      <p:sp>
        <p:nvSpPr>
          <p:cNvPr id="401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404" name="Picture 2" descr="http://remontyes.ru/uploads/posts/2012-12/thumbs/1355157770_novogodnie-podelki19.jpg"/>
          <p:cNvPicPr/>
          <p:nvPr/>
        </p:nvPicPr>
        <p:blipFill>
          <a:blip r:embed="rId1"/>
          <a:stretch/>
        </p:blipFill>
        <p:spPr>
          <a:xfrm>
            <a:off x="1258920" y="1628640"/>
            <a:ext cx="5905440" cy="3873600"/>
          </a:xfrm>
          <a:prstGeom prst="rect">
            <a:avLst/>
          </a:prstGeom>
          <a:ln w="0">
            <a:noFill/>
          </a:ln>
        </p:spPr>
      </p:pic>
      <p:sp>
        <p:nvSpPr>
          <p:cNvPr id="405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408" name="Picture 2" descr="http://www.atel-e.ru/files/articles/articles_useful_44/NewYear%2019.jpg"/>
          <p:cNvPicPr/>
          <p:nvPr/>
        </p:nvPicPr>
        <p:blipFill>
          <a:blip r:embed="rId1"/>
          <a:stretch/>
        </p:blipFill>
        <p:spPr>
          <a:xfrm>
            <a:off x="226692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412" name="Picture 2" descr="http://bibigosha.ru/cfs-filesystemfile.ashx/__key/CommunityServer.Blogs.Components.WeblogFiles/library/_4804300431043B043E043D044B04_4.JPG"/>
          <p:cNvPicPr/>
          <p:nvPr/>
        </p:nvPicPr>
        <p:blipFill>
          <a:blip r:embed="rId1"/>
          <a:stretch/>
        </p:blipFill>
        <p:spPr>
          <a:xfrm>
            <a:off x="324000" y="404640"/>
            <a:ext cx="7883280" cy="5919840"/>
          </a:xfrm>
          <a:prstGeom prst="rect">
            <a:avLst/>
          </a:prstGeom>
          <a:ln w="0">
            <a:noFill/>
          </a:ln>
        </p:spPr>
      </p:pic>
      <p:sp>
        <p:nvSpPr>
          <p:cNvPr id="413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416" name="Picture 2" descr="http://img1.liveinternet.ru/images/attach/c/3/75/477/75477275_263163_6545800x600.jpg"/>
          <p:cNvPicPr/>
          <p:nvPr/>
        </p:nvPicPr>
        <p:blipFill>
          <a:blip r:embed="rId1"/>
          <a:stretch/>
        </p:blipFill>
        <p:spPr>
          <a:xfrm>
            <a:off x="684360" y="404640"/>
            <a:ext cx="7738920" cy="5805720"/>
          </a:xfrm>
          <a:prstGeom prst="rect">
            <a:avLst/>
          </a:prstGeom>
          <a:ln w="0">
            <a:noFill/>
          </a:ln>
        </p:spPr>
      </p:pic>
      <p:sp>
        <p:nvSpPr>
          <p:cNvPr id="417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420" name="Picture 2" descr="http://cs3.livemaster.ru/zhurnalfoto/4/a/e/121202191941.jpg"/>
          <p:cNvPicPr/>
          <p:nvPr/>
        </p:nvPicPr>
        <p:blipFill>
          <a:blip r:embed="rId1"/>
          <a:stretch/>
        </p:blipFill>
        <p:spPr>
          <a:xfrm>
            <a:off x="1827360" y="0"/>
            <a:ext cx="4778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424" name="Picture 2" descr="http://1stajyr.ru/wp-content/uploads/2012/11/lepim_iz_solenogo_testa_novogodnie_igryshki-6.jpg"/>
          <p:cNvPicPr/>
          <p:nvPr/>
        </p:nvPicPr>
        <p:blipFill>
          <a:blip r:embed="rId1"/>
          <a:stretch/>
        </p:blipFill>
        <p:spPr>
          <a:xfrm>
            <a:off x="1332000" y="54000"/>
            <a:ext cx="5400720" cy="6804000"/>
          </a:xfrm>
          <a:prstGeom prst="rect">
            <a:avLst/>
          </a:prstGeom>
          <a:ln w="0">
            <a:noFill/>
          </a:ln>
        </p:spPr>
      </p:pic>
      <p:sp>
        <p:nvSpPr>
          <p:cNvPr id="425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pic>
        <p:nvPicPr>
          <p:cNvPr id="357" name="Содержимое 4" descr="i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http://1stajyr.ru/wp-content/uploads/2011/12/51de58ca2e60t-e1325042967243.jpg"/>
          <p:cNvPicPr/>
          <p:nvPr/>
        </p:nvPicPr>
        <p:blipFill>
          <a:blip r:embed="rId2"/>
          <a:stretch/>
        </p:blipFill>
        <p:spPr>
          <a:xfrm>
            <a:off x="611280" y="692280"/>
            <a:ext cx="7856280" cy="518472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6"/>
          <p:cNvSpPr/>
          <p:nvPr/>
        </p:nvSpPr>
        <p:spPr>
          <a:xfrm>
            <a:off x="2916360" y="6308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362" name="Picture 2" descr="http://1stajyr.ru/wp-content/uploads/2012/11/lepim_iz_solenogo_testa_novogodnie_igryshki-9.jpg"/>
          <p:cNvPicPr/>
          <p:nvPr/>
        </p:nvPicPr>
        <p:blipFill>
          <a:blip r:embed="rId1"/>
          <a:stretch/>
        </p:blipFill>
        <p:spPr>
          <a:xfrm>
            <a:off x="1254240" y="0"/>
            <a:ext cx="547848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366" name="Picture 2" descr="http://ph.files.7ja.ru/7ya-photo/2008/12/22/1229946804649.jpg"/>
          <p:cNvPicPr/>
          <p:nvPr/>
        </p:nvPicPr>
        <p:blipFill>
          <a:blip r:embed="rId1"/>
          <a:stretch/>
        </p:blipFill>
        <p:spPr>
          <a:xfrm>
            <a:off x="395280" y="476280"/>
            <a:ext cx="7835760" cy="5877000"/>
          </a:xfrm>
          <a:prstGeom prst="rect">
            <a:avLst/>
          </a:prstGeom>
          <a:ln w="0">
            <a:noFill/>
          </a:ln>
        </p:spPr>
      </p:pic>
      <p:sp>
        <p:nvSpPr>
          <p:cNvPr id="367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370" name="Picture 2" descr="http://img1.liveinternet.ru/images/attach/c/4/80/31/80031993_50218908_1.jpg"/>
          <p:cNvPicPr/>
          <p:nvPr/>
        </p:nvPicPr>
        <p:blipFill>
          <a:blip r:embed="rId1"/>
          <a:stretch/>
        </p:blipFill>
        <p:spPr>
          <a:xfrm>
            <a:off x="539640" y="333360"/>
            <a:ext cx="7932960" cy="5948280"/>
          </a:xfrm>
          <a:prstGeom prst="rect">
            <a:avLst/>
          </a:prstGeom>
          <a:ln w="0">
            <a:noFill/>
          </a:ln>
        </p:spPr>
      </p:pic>
      <p:sp>
        <p:nvSpPr>
          <p:cNvPr id="371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374" name="Picture 2" descr="http://www.youcandoit.com.ua/wp-content/uploads/2010/12/Salt_4.jpg"/>
          <p:cNvPicPr/>
          <p:nvPr/>
        </p:nvPicPr>
        <p:blipFill>
          <a:blip r:embed="rId1"/>
          <a:stretch/>
        </p:blipFill>
        <p:spPr>
          <a:xfrm>
            <a:off x="539640" y="0"/>
            <a:ext cx="8136000" cy="6508800"/>
          </a:xfrm>
          <a:prstGeom prst="rect">
            <a:avLst/>
          </a:prstGeom>
          <a:ln w="0">
            <a:noFill/>
          </a:ln>
        </p:spPr>
      </p:pic>
      <p:sp>
        <p:nvSpPr>
          <p:cNvPr id="375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378" name="Picture 2" descr="http://1stajyr.ru/wp-content/uploads/2012/11/lepim_iz_solenogo_testa_novogodnie_igryshki-6.jpg"/>
          <p:cNvPicPr/>
          <p:nvPr/>
        </p:nvPicPr>
        <p:blipFill>
          <a:blip r:embed="rId1"/>
          <a:stretch/>
        </p:blipFill>
        <p:spPr>
          <a:xfrm>
            <a:off x="1332000" y="54000"/>
            <a:ext cx="5400720" cy="6804000"/>
          </a:xfrm>
          <a:prstGeom prst="rect">
            <a:avLst/>
          </a:prstGeom>
          <a:ln w="0">
            <a:noFill/>
          </a:ln>
        </p:spPr>
      </p:pic>
      <p:sp>
        <p:nvSpPr>
          <p:cNvPr id="379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382" name="Picture 2" descr="Поделки.  Елочные игрушки из солёного теста."/>
          <p:cNvPicPr/>
          <p:nvPr/>
        </p:nvPicPr>
        <p:blipFill>
          <a:blip r:embed="rId1"/>
          <a:stretch/>
        </p:blipFill>
        <p:spPr>
          <a:xfrm>
            <a:off x="755640" y="0"/>
            <a:ext cx="755028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386" name="Picture 2" descr="Игрушки на ёлку из солёного теста) ."/>
          <p:cNvPicPr/>
          <p:nvPr/>
        </p:nvPicPr>
        <p:blipFill>
          <a:blip r:embed="rId1"/>
          <a:stretch/>
        </p:blipFill>
        <p:spPr>
          <a:xfrm>
            <a:off x="539640" y="404640"/>
            <a:ext cx="7810560" cy="5715000"/>
          </a:xfrm>
          <a:prstGeom prst="rect">
            <a:avLst/>
          </a:prstGeom>
          <a:ln w="0">
            <a:noFill/>
          </a:ln>
        </p:spPr>
      </p:pic>
      <p:sp>
        <p:nvSpPr>
          <p:cNvPr id="387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03:48:49Z</dcterms:created>
  <dc:creator>Денис</dc:creator>
  <dc:description/>
  <dc:language>en-US</dc:language>
  <cp:lastModifiedBy>Денис</cp:lastModifiedBy>
  <dcterms:modified xsi:type="dcterms:W3CDTF">2015-02-03T18:41:50Z</dcterms:modified>
  <cp:revision>5</cp:revision>
  <dc:subject/>
  <dc:title>Слайд 1</dc:title>
</cp:coreProperties>
</file>