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77C-172A-4BDF-981E-0A4E6C1A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939-1FAE-44FB-9C40-D2B462FE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B16-F7D3-4277-807F-88E70E21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228-42F6-4B48-AA9B-77A4A83A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C8210-D537-45BD-9DE2-8EDFB82F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3B481-9A12-43DE-B482-1AD1538A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1F830-0B0D-4081-9EA5-45752CD7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99E82-37B6-4E20-B161-112F3EC4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E6A37-53D8-48DD-B652-9886247F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EE2C6-855F-4AD3-ABC8-5B5058B4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08668-F7E6-416C-BB78-EEDDC083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E91-96C3-46B9-B088-5EBED2D0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65274-0F7C-437C-8462-A1A5621B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72A2E-A56E-4CA5-8744-1DD9EEA7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3DF76-9890-498A-94A0-58C5BCFB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936AF-B639-46FF-B457-2D2C541D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693BE-E2EB-492C-A1FD-778B71F3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5FA4C-BA48-4A66-9AD7-A9A44984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9D6CC-23A5-461A-98E8-0FA9908F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ED4E0-08E0-466D-B7B7-5B808773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BAE52-3FAF-4FDE-90A3-359CB304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A05C0-1F7C-4584-B845-11FC8DC9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075-5FE6-4C67-BEAE-787EF00B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B614-AD4F-499E-A521-696748ED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1B9CD-37DE-4C4D-82E1-842AD87D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1A9CF-C4F7-499E-B735-25446D6A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2D329-7653-4D6F-81A4-7310BE0F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26DC3-471C-41C1-B2C6-6C51BD04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F952-0AD2-4ABE-9CD9-30D21552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0BCD7-6EDB-427B-9C57-1ED31C77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0F8312-2785-4C91-8411-F14C55C6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72A7E3-4330-4234-BC59-AB50F12E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24EA70-F04E-40E5-87DA-D059455D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4278-8C17-44CD-B671-2BA17819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5E0C4D-83BA-4972-97EE-058235E1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DFCD33-46AC-41E1-9C06-D6F8D1CD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EE5058-77AF-4422-A119-3046136C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3C2A36-857C-43B1-9277-1547F4DB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95F99-639A-4656-86D3-CDD0E7F2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2A8A98-8663-4FB3-8BE7-CFB82A57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9AC2E3-CA76-48F2-B6FE-4148D916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8FC6FD-71AB-4C62-98F5-770BD17B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1DBA5-0CF4-400B-BE8F-5B770876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283-D502-4840-BCFD-43A457C9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A4C-E682-4D42-BFF5-31BBBDA7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A35-E6E6-4186-9345-5A4B01F4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4A3-0307-4CFF-8143-2F3B6BBE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71C-51A4-48C6-9EA0-7FF46CFB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AEE0-4953-413E-91F1-7052207DBF0B}" type="slidenum">
              <a:rPr b="0" lang="en-US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6F16-BDB2-44BB-96D3-CFA561ED6E12}" type="slidenum">
              <a:rPr b="0" lang="en-US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D658-6063-41BF-B31E-F2A2216F0EFE}" type="slidenum">
              <a:rPr b="0" lang="en-US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BC3F-2546-4A3A-A0EE-DC9CD7598D72}" type="slidenum">
              <a:rPr b="0" lang="en-US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444d26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682560" y="1139760"/>
            <a:ext cx="7785000" cy="2371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Admin\Рабочий стол\Совет старшеклассников\Салют победы\Салют\са48.jpg"/>
          <p:cNvPicPr/>
          <p:nvPr/>
        </p:nvPicPr>
        <p:blipFill>
          <a:blip r:embed="rId2"/>
          <a:stretch/>
        </p:blipFill>
        <p:spPr>
          <a:xfrm>
            <a:off x="457200" y="3657600"/>
            <a:ext cx="8458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1. The Great Patriotic War began in 1941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2.Soviet  soldiers fought for their native country.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3. Mikhail Bukhtuev defended our land.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4. My grandfather was the Soviet Her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30592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c00000"/>
              </a:solidFill>
              <a:latin typeface="Constantia"/>
            </a:endParaRPr>
          </a:p>
        </p:txBody>
      </p:sp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360360" y="1292400"/>
            <a:ext cx="83329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353880" y="633240"/>
            <a:ext cx="8051760" cy="2652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179280" y="37162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In</a:t>
            </a:r>
            <a:r>
              <a:rPr b="0" lang="ru-RU" sz="4000" spc="-1" strike="noStrike">
                <a:solidFill>
                  <a:srgbClr val="0070c0"/>
                </a:solidFill>
                <a:latin typeface="Constantia"/>
              </a:rPr>
              <a:t> this 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war</a:t>
            </a:r>
            <a:r>
              <a:rPr b="0" lang="ru-RU" sz="4000" spc="-1" strike="noStrike">
                <a:solidFill>
                  <a:srgbClr val="0070c0"/>
                </a:solidFill>
                <a:latin typeface="Constantia"/>
              </a:rPr>
              <a:t> 6.8 million Soviet soldiers were killed and 4.4 million died in captivity. The Soviet Union lost 26.6 million men and women in total</a:t>
            </a:r>
            <a:r>
              <a:rPr b="0" lang="en-US" sz="4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Documents and Settings\Admin\Рабочий стол\Совет старшеклассников\Салют победы\ал\Рисунок11.jpg"/>
          <p:cNvPicPr/>
          <p:nvPr/>
        </p:nvPicPr>
        <p:blipFill>
          <a:blip r:embed="rId1"/>
          <a:stretch/>
        </p:blipFill>
        <p:spPr>
          <a:xfrm>
            <a:off x="1514520" y="1447920"/>
            <a:ext cx="6114960" cy="4647960"/>
          </a:xfrm>
          <a:prstGeom prst="rect">
            <a:avLst/>
          </a:prstGeom>
          <a:ln w="0">
            <a:noFill/>
          </a:ln>
        </p:spPr>
      </p:pic>
      <p:pic>
        <p:nvPicPr>
          <p:cNvPr id="179" name="Заголовок 1" descr=""/>
          <p:cNvPicPr/>
          <p:nvPr/>
        </p:nvPicPr>
        <p:blipFill>
          <a:blip r:embed="rId2"/>
          <a:stretch/>
        </p:blipFill>
        <p:spPr>
          <a:xfrm>
            <a:off x="438120" y="146160"/>
            <a:ext cx="826776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28760" y="221472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 Hero of the Soviet Union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-208080" y="-6480"/>
            <a:ext cx="9553680" cy="1158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Documents and Settings\Admin\Рабочий стол\Совет старшеклассников\Салют победы\Салют\са.jpg"/>
          <p:cNvPicPr/>
          <p:nvPr/>
        </p:nvPicPr>
        <p:blipFill>
          <a:blip r:embed="rId2"/>
          <a:stretch/>
        </p:blipFill>
        <p:spPr>
          <a:xfrm>
            <a:off x="2214720" y="1071720"/>
            <a:ext cx="42861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2" descr=""/>
          <p:cNvPicPr/>
          <p:nvPr/>
        </p:nvPicPr>
        <p:blipFill>
          <a:blip r:embed="rId1"/>
          <a:stretch/>
        </p:blipFill>
        <p:spPr>
          <a:xfrm>
            <a:off x="450720" y="590400"/>
            <a:ext cx="8444160" cy="513396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4"/>
          <p:cNvSpPr/>
          <p:nvPr/>
        </p:nvSpPr>
        <p:spPr>
          <a:xfrm>
            <a:off x="304920" y="5867280"/>
            <a:ext cx="914400" cy="6858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613"/>
                </a:solidFill>
                <a:latin typeface="Constantia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1752480" y="5867280"/>
            <a:ext cx="1067040" cy="6858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613"/>
                </a:solidFill>
                <a:latin typeface="Constantia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6"/>
          <p:cNvSpPr/>
          <p:nvPr/>
        </p:nvSpPr>
        <p:spPr>
          <a:xfrm>
            <a:off x="3124080" y="5791320"/>
            <a:ext cx="1676520" cy="7617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613"/>
                </a:solidFill>
                <a:latin typeface="Constantia"/>
              </a:rPr>
              <a:t>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8"/>
          <p:cNvSpPr/>
          <p:nvPr/>
        </p:nvSpPr>
        <p:spPr>
          <a:xfrm>
            <a:off x="6400800" y="5867280"/>
            <a:ext cx="1219320" cy="6098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613"/>
                </a:solidFill>
                <a:latin typeface="Constantia"/>
              </a:rPr>
              <a:t>Sov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>
            <a:off x="5105520" y="5867280"/>
            <a:ext cx="914400" cy="6098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613"/>
                </a:solidFill>
                <a:latin typeface="Constantia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7924680" y="5867280"/>
            <a:ext cx="990720" cy="6858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613"/>
                </a:solidFill>
                <a:latin typeface="Constantia"/>
              </a:rPr>
              <a:t>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2948E-006 L 0.45834 -0.66035 E">
                                      <p:cBhvr>
                                        <p:cTn id="31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62428E-007 L -0.08334 -0.48832 E">
                                      <p:cBhvr>
                                        <p:cTn id="35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32948E-006 L 0.3 -0.42728 E">
                                      <p:cBhvr>
                                        <p:cTn id="39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2428E-007 L -0.20833 -0.18867 E">
                                      <p:cBhvr>
                                        <p:cTn id="43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4d26"/>
                </a:solidFill>
                <a:latin typeface="Constantia"/>
              </a:rPr>
              <a:t>1.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Mikhail Bukhtuev  was born 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. Kyzy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4d26"/>
                </a:solidFill>
                <a:latin typeface="Constantia"/>
              </a:rPr>
              <a:t>               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b. Todzh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2. How old was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Mikhail Bukhtuev when his father die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. 1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b. 1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3. How many brothers and sisters had Mikhail Bukhtuev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.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b. 9   </a:t>
            </a:r>
            <a:r>
              <a:rPr b="0" lang="en-US" sz="2200" spc="-1" strike="noStrike">
                <a:solidFill>
                  <a:srgbClr val="444d26"/>
                </a:solidFill>
                <a:latin typeface="Constantia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Заголовок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3217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396720" y="146160"/>
            <a:ext cx="8345520" cy="1231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Documents and Settings\Admin\Рабочий стол\Совет старшеклассников\Салют победы\ал\55555555.jpg"/>
          <p:cNvPicPr/>
          <p:nvPr/>
        </p:nvPicPr>
        <p:blipFill>
          <a:blip r:embed="rId2"/>
          <a:srcRect l="7158" t="3333" r="7158" b="20000"/>
          <a:stretch/>
        </p:blipFill>
        <p:spPr>
          <a:xfrm>
            <a:off x="1752480" y="1676520"/>
            <a:ext cx="5334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ои Документы</cp:lastModifiedBy>
  <dcterms:modified xsi:type="dcterms:W3CDTF">2012-02-29T17:29:02Z</dcterms:modified>
  <cp:revision>12</cp:revision>
  <dc:subject/>
  <dc:title>Слайд 1</dc:title>
</cp:coreProperties>
</file>