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659-1BD1-4319-9D21-2FCCCF7A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751-81CF-4C9D-9117-12262BDD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394-0AD5-4CA5-96C3-9F3FB189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8AB-DC4F-43F1-8064-A5F4B910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A9926-B339-43EB-A18E-15361A2C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9122E-8CE0-4892-88EF-B2E214E9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AFA98-052F-4A8C-AE2D-9D49DA20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B1D7-403F-4B6D-B5EA-6E62B68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0268A-2BBC-441E-9118-7461A9B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54D2-2D07-4736-A759-366D1B64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0492-F692-4068-AD74-478D0E0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F31-594D-4E79-9ACC-2DCD2D0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FA6D3-2EE9-40F6-A7C2-FAAA69F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E57E-BA08-45C9-81FF-4ED86A6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1362-4B56-4D0C-9B84-DB597479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F694-1536-4086-BBFB-8F0AE592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24FC-645D-4D15-9A06-1DDFF600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46B3-7245-4B53-B6F8-6BDF109B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92FC-E7FF-4705-8BB7-B72FFF7B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4882-E420-4DA4-B22D-DCF66BF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BA1C-8BD9-48FA-8869-2A8CD81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E071-E474-49B2-A73C-7130CDB5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2F9-A8AF-49CB-BA29-ACC79889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081E-4007-4C00-B968-64BD379D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592A-31AC-438E-9124-E6E935A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09AF-DBA0-42C2-966F-7AA55F7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46FC-73FC-4D25-B8BC-D58F20D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8FC0-1995-4B84-95C0-2643864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7FCB-3215-47CF-9A3B-43763DC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3643-F396-4FDD-89BD-6FCC384D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1C230-E21F-4004-9466-1D6F763A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B2659-5B77-4041-BEF2-4C96ADB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C01E6-28B1-4725-ADD6-6D8FC86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4B1-DCF3-4917-8EBD-258D904A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BAC0A-38FD-43BC-BA3C-631D4F6B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9EC96-0A62-487C-8DAC-338F7A13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F6ADB-C5C7-4F54-AF87-BB2F294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62215-16F1-4F73-A7E5-AF53063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F38C8-DC0E-4F68-BF0E-6FDB2854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41449-A6BA-4624-9909-C937FAD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1BAAA-B0B3-4EF8-A7D0-09B64FA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55A79-06A1-4D77-A17A-8227286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7E023-168C-4EAA-97C6-84523DA5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B4B-8B8D-4AE7-B3F1-08A4954F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FD8-D3C0-4E2B-9BE9-38FC7A80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DCE-B34E-499D-9E1E-CD25BC9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5DC-78CD-47F9-814A-3396543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878-A424-42B5-8961-CEFD12E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E0B-FEE6-41F4-A16A-EFDE33615EE5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711-4673-4542-A6F9-974257E6D459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6FBC-A0DE-4EF3-9F29-283D097B5335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C6E-7368-4B8E-BB78-0BDE33701B89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682560" y="1139760"/>
            <a:ext cx="7785000" cy="2371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Admin\Рабочий стол\Совет старшеклассников\Салют победы\Салют\са48.jpg"/>
          <p:cNvPicPr/>
          <p:nvPr/>
        </p:nvPicPr>
        <p:blipFill>
          <a:blip r:embed="rId2"/>
          <a:stretch/>
        </p:blipFill>
        <p:spPr>
          <a:xfrm>
            <a:off x="457200" y="3657600"/>
            <a:ext cx="8458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1. The Great Patriotic War began in 1941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2.Soviet  soldiers fought for their native country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3. Mikhail Bukhtuev defended our land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4. My grandfather was the Soviet Her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3059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c00000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60360" y="1292400"/>
            <a:ext cx="8332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353880" y="633240"/>
            <a:ext cx="8051760" cy="2652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179280" y="37162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In</a:t>
            </a: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 this 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war</a:t>
            </a: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 6.8 million Soviet soldiers were killed and 4.4 million died in captivity. The Soviet Union lost 26.6 million men and women in total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Совет старшеклассников\Салют победы\ал\Рисунок11.jpg"/>
          <p:cNvPicPr/>
          <p:nvPr/>
        </p:nvPicPr>
        <p:blipFill>
          <a:blip r:embed="rId1"/>
          <a:stretch/>
        </p:blipFill>
        <p:spPr>
          <a:xfrm>
            <a:off x="1514520" y="1447920"/>
            <a:ext cx="6114960" cy="464796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438120" y="146160"/>
            <a:ext cx="8267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2214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Hero of the Soviet Un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-208080" y="-6480"/>
            <a:ext cx="9553680" cy="115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Admin\Рабочий стол\Совет старшеклассников\Салют победы\Салют\са.jpg"/>
          <p:cNvPicPr/>
          <p:nvPr/>
        </p:nvPicPr>
        <p:blipFill>
          <a:blip r:embed="rId2"/>
          <a:stretch/>
        </p:blipFill>
        <p:spPr>
          <a:xfrm>
            <a:off x="2214720" y="1071720"/>
            <a:ext cx="42861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44416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4"/>
          <p:cNvSpPr/>
          <p:nvPr/>
        </p:nvSpPr>
        <p:spPr>
          <a:xfrm>
            <a:off x="304920" y="5867280"/>
            <a:ext cx="91440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1752480" y="5867280"/>
            <a:ext cx="106704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3124080" y="5791320"/>
            <a:ext cx="1676520" cy="7617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6400800" y="5867280"/>
            <a:ext cx="1219320" cy="609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Sov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5105520" y="5867280"/>
            <a:ext cx="914400" cy="609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7924680" y="5867280"/>
            <a:ext cx="99072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2948E-006 L 0.45834 -0.66035 E">
                                      <p:cBhvr>
                                        <p:cTn id="3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L -0.08334 -0.48832 E">
                                      <p:cBhvr>
                                        <p:cTn id="3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32948E-006 L 0.3 -0.42728 E">
                                      <p:cBhvr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-0.20833 -0.18867 E">
                                      <p:cBhvr>
                                        <p:cTn id="4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ikhail Bukhtuev  was born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Kyzy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. Todzh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2. How old wa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ikhail Bukhtuev when his father di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. 1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3. How many brothers and sisters had Mikhail Bukhtuev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. 9   </a:t>
            </a: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321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396720" y="146160"/>
            <a:ext cx="834552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Admin\Рабочий стол\Совет старшеклассников\Салют победы\ал\55555555.jpg"/>
          <p:cNvPicPr/>
          <p:nvPr/>
        </p:nvPicPr>
        <p:blipFill>
          <a:blip r:embed="rId2"/>
          <a:srcRect l="7158" t="3333" r="7158" b="20000"/>
          <a:stretch/>
        </p:blipFill>
        <p:spPr>
          <a:xfrm>
            <a:off x="1752480" y="1676520"/>
            <a:ext cx="5334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и Документы</cp:lastModifiedBy>
  <dcterms:modified xsi:type="dcterms:W3CDTF">2012-02-29T17:29:02Z</dcterms:modified>
  <cp:revision>12</cp:revision>
  <dc:subject/>
  <dc:title>Слайд 1</dc:title>
</cp:coreProperties>
</file>