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3010-94FD-467C-9F91-FC7190572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54CE-4030-4C84-B95F-B824B170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92E9-5041-4016-8994-20ED85A8F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D37B-D46E-4375-B40A-557066221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A031-7A05-4868-A89B-A4D7693FC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4C31-06C2-4E35-BD4C-9EBDAA18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D88A-0E17-4529-AF32-3BB7DC22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A3D4-0676-4319-99C7-47B77509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967C-7276-4588-834D-17D23C89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B209-448D-4554-AE1C-4AC58C69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CE32-4D53-47F7-82FB-944C3221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E4E7-F40E-43F1-9B87-98ECAF91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6D91-D8A2-4291-A6EA-66E47095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E7288-8207-43B7-9549-A1BD4716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26B6-EF82-4CFA-BF71-ECBCF576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AA6A-1C2D-4F7D-AD57-93EEB15B3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FBA7-42A4-482F-AE8F-D72B13F16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6609-AAB9-4EB9-AE52-48E60F93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8057-16DA-40E7-A923-1AF2CA1A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DD21-D377-46C4-8EA5-12B69C56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61A8-6E64-4E46-8A33-FB38B102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231C-836F-4B8E-9505-1AF15BD3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06C9-6012-4782-9393-82A7C245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8A65-8FCF-4694-81B0-419269BE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4569-DD38-4136-AAAE-4187032881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4AD0-FBFB-4977-8B2E-8247F55809C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5130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Узники Освенцима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Узники Освенцим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5" descr="290129353"/>
          <p:cNvPicPr/>
          <p:nvPr/>
        </p:nvPicPr>
        <p:blipFill>
          <a:blip r:embed="rId1"/>
          <a:stretch/>
        </p:blipFill>
        <p:spPr>
          <a:xfrm>
            <a:off x="324000" y="1523880"/>
            <a:ext cx="849600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Узники Освенцим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6" descr="71"/>
          <p:cNvPicPr/>
          <p:nvPr/>
        </p:nvPicPr>
        <p:blipFill>
          <a:blip r:embed="rId1"/>
          <a:stretch/>
        </p:blipFill>
        <p:spPr>
          <a:xfrm>
            <a:off x="468360" y="1515960"/>
            <a:ext cx="8136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1969 год. Освенцим. Блок смерти. В глубине двора - стена расстрелов. (Автор фото Б. Смирнов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5" descr="5137"/>
          <p:cNvPicPr/>
          <p:nvPr/>
        </p:nvPicPr>
        <p:blipFill>
          <a:blip r:embed="rId1"/>
          <a:stretch/>
        </p:blipFill>
        <p:spPr>
          <a:xfrm>
            <a:off x="539640" y="1384200"/>
            <a:ext cx="7993080" cy="53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1945 год. Освобожднение узников из немецко-фашистского концлагеря Освенцим. (Автор фото неизвестен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7" name="Picture 5" descr="5136"/>
          <p:cNvPicPr/>
          <p:nvPr/>
        </p:nvPicPr>
        <p:blipFill>
          <a:blip r:embed="rId1"/>
          <a:stretch/>
        </p:blipFill>
        <p:spPr>
          <a:xfrm>
            <a:off x="1042920" y="1565280"/>
            <a:ext cx="720108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Братское захоронение на месте немецкого концлагеря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9" name="Picture 5" descr="img50"/>
          <p:cNvPicPr/>
          <p:nvPr/>
        </p:nvPicPr>
        <p:blipFill>
          <a:blip r:embed="rId1"/>
          <a:stretch/>
        </p:blipFill>
        <p:spPr>
          <a:xfrm>
            <a:off x="395280" y="1600200"/>
            <a:ext cx="828036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Хатынь" Каждый четвертый житель Беларуси погиб в годы второй ..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Picture 7" descr="0069d7d7-26ac-d7d2-c79a-7d175169af83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Хатынь" Каждый четвертый житель Беларуси погиб в годы второй ..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3" name="Picture 3" descr="bereza-8"/>
          <p:cNvPicPr/>
          <p:nvPr/>
        </p:nvPicPr>
        <p:blipFill>
          <a:blip r:embed="rId1"/>
          <a:stretch/>
        </p:blipFill>
        <p:spPr>
          <a:xfrm>
            <a:off x="1512720" y="1655640"/>
            <a:ext cx="604872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eec94"/>
                </a:solidFill>
                <a:latin typeface="Times New Roman"/>
              </a:rPr>
              <a:t>Памятник на месте расстрела жителей Киева и военнопленных концлагеря в Бабьем Яру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Picture 6" descr="0_5300_fc51a147_L"/>
          <p:cNvPicPr/>
          <p:nvPr/>
        </p:nvPicPr>
        <p:blipFill>
          <a:blip r:embed="rId1"/>
          <a:stretch/>
        </p:blipFill>
        <p:spPr>
          <a:xfrm>
            <a:off x="611280" y="1677960"/>
            <a:ext cx="80643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147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свенцим - немецко-фашистский концлагерь 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 апреле 1940 года рейхсфюрер СС Генрих Гиммлер издал приказ об организации лагеря Освенцим (Аушвиц) на территории Польши в 55 километрах западнее Крако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ервоначально лагерь имел относительно небольшие масштабы - в нем содержалось около 10000 узников. Вскоре в связи с близостью к железнодорожному узлу лагерь превратился в гигантский комплекс, вмещающий в себя около 40 различных объектов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се лагеря были обвиты густой сетью колючей проволоки, находящейся под высоким напряжением, и обведены глубокими рвами, где всегда стояла во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ощность четырех крематориев с газовыми камерами позволяла в течение пяти часов уничтожить в них до 12 тысяч челове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7 января 1945 г. Освенцим освободили войска I-го Украинского фронта. Было спасено 2819 узников, оставшихся в живых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 Освенциме погибли по меньшей мере 1 млн. 100 тыс. евреев из 27 стран, около 75 тыс. поляков, 21 тыс. цыган, 15 тыс. советских военнопленных и 15 тыс. представителей других национальност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8469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ec94"/>
                </a:solidFill>
                <a:latin typeface="Times New Roman"/>
              </a:rPr>
              <a:t>1945 год. Январь. Освенцим - немецко-фашистский концлагерь (Польша). (Автор фото В. Юдин)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5130.JP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4" descr="5130"/>
          <p:cNvPicPr/>
          <p:nvPr/>
        </p:nvPicPr>
        <p:blipFill>
          <a:blip r:embed="rId2"/>
          <a:stretch/>
        </p:blipFill>
        <p:spPr>
          <a:xfrm>
            <a:off x="611280" y="1511280"/>
            <a:ext cx="792144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1945 год. Январь. Освенцим. Бронеколпаки с пулеметными гнездами против умирающих узников. (Автор фото В. Юдин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4" descr="5132"/>
          <p:cNvPicPr/>
          <p:nvPr/>
        </p:nvPicPr>
        <p:blipFill>
          <a:blip r:embed="rId1"/>
          <a:stretch/>
        </p:blipFill>
        <p:spPr>
          <a:xfrm>
            <a:off x="250920" y="1628640"/>
            <a:ext cx="85690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1945 год. Польша. Освенцимский концлагерь. Дверь в газовую камеру. (Автор фото В. Юдин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Picture 4" descr="5133"/>
          <p:cNvPicPr/>
          <p:nvPr/>
        </p:nvPicPr>
        <p:blipFill>
          <a:blip r:embed="rId1"/>
          <a:stretch/>
        </p:blipFill>
        <p:spPr>
          <a:xfrm>
            <a:off x="2627280" y="1557360"/>
            <a:ext cx="42498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945 год. Польша. Концлагерь Освенцим. Дети, заключенные лагеря, ждут своего освобождения. (Автор фото Б. Фишман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Picture 5" descr="5134"/>
          <p:cNvPicPr/>
          <p:nvPr/>
        </p:nvPicPr>
        <p:blipFill>
          <a:blip r:embed="rId1"/>
          <a:stretch/>
        </p:blipFill>
        <p:spPr>
          <a:xfrm>
            <a:off x="755640" y="1674720"/>
            <a:ext cx="763272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1945 год. Освенцим. Волосы женщин, соженных в крематории, в аккуратных тюках, с указанием номера и веса, отправлялись в Германию. (Автор фото В. Юдин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5" name="Picture 5" descr="5135"/>
          <p:cNvPicPr/>
          <p:nvPr/>
        </p:nvPicPr>
        <p:blipFill>
          <a:blip r:embed="rId1"/>
          <a:stretch/>
        </p:blipFill>
        <p:spPr>
          <a:xfrm>
            <a:off x="611280" y="1660680"/>
            <a:ext cx="784836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Узники Освенцим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4" descr="43514_1"/>
          <p:cNvPicPr/>
          <p:nvPr/>
        </p:nvPicPr>
        <p:blipFill>
          <a:blip r:embed="rId1"/>
          <a:stretch/>
        </p:blipFill>
        <p:spPr>
          <a:xfrm>
            <a:off x="324000" y="1549440"/>
            <a:ext cx="882000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20:13:02Z</dcterms:created>
  <dc:creator>данил4</dc:creator>
  <dc:description/>
  <dc:language>en-US</dc:language>
  <cp:lastModifiedBy>work pc</cp:lastModifiedBy>
  <dcterms:modified xsi:type="dcterms:W3CDTF">2015-02-03T06:27:49Z</dcterms:modified>
  <cp:revision>8</cp:revision>
  <dc:subject/>
  <dc:title>Слайд 1</dc:title>
</cp:coreProperties>
</file>