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75FA4-918D-44A8-8D93-71BCF0BB3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75F3C-129C-40C9-B315-719CD18C7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A0E4F-2953-4E27-8FBD-FE3278113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AE719-376D-4148-A455-DA422E729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BEA1B-8370-42CD-9C1F-9C369D1A5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24B62-9216-4877-975B-19F565B10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DAA4F-028E-482A-897B-DD013F158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BDBB9-D6BC-42A1-820D-DE26F32CA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6FA81-1C98-484D-AA93-A43A69C75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0759C-0DE4-4C8C-B23E-C1A8EED6D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8D507-59EA-4526-8889-EF29A448C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8F080-5818-44A7-BF26-B8B510AA2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CC617-7412-439E-A6D6-B47893C1B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CD622-82BC-4804-90BA-2FF88FC8D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E52C0-E629-4EC5-BA3A-18DD64E87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1A183-C231-404D-A350-BD68F7376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96AF1-A3B6-4A54-ADAC-768236959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7A732-E5C9-4705-9B3C-5ED344660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A9CA8-DD42-4B5A-9D4D-4A0DCFA08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CC39D-44EB-4886-A472-B62856ADE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FD935-B063-46EE-9275-E7D4FBDFE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29247-433C-4857-BDB6-DD11EA622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2F129-3D7B-48FE-8F13-16708E290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6E975-EF82-4845-A669-34C161882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FB092-0C2E-4E24-8159-74A1C5C3B16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F87D6-96BD-4451-92F2-3DE6FF0A3DA6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5130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Times New Roman"/>
              </a:rPr>
              <a:t>Узники Освенцима.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eec94"/>
                </a:solidFill>
                <a:latin typeface="Times New Roman"/>
              </a:rPr>
              <a:t>Узники Освенцима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1" name="Picture 5" descr="290129353"/>
          <p:cNvPicPr/>
          <p:nvPr/>
        </p:nvPicPr>
        <p:blipFill>
          <a:blip r:embed="rId1"/>
          <a:stretch/>
        </p:blipFill>
        <p:spPr>
          <a:xfrm>
            <a:off x="324000" y="1523880"/>
            <a:ext cx="8496000" cy="509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eec94"/>
                </a:solidFill>
                <a:latin typeface="Times New Roman"/>
              </a:rPr>
              <a:t>Узники Освенцима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3" name="Picture 6" descr="71"/>
          <p:cNvPicPr/>
          <p:nvPr/>
        </p:nvPicPr>
        <p:blipFill>
          <a:blip r:embed="rId1"/>
          <a:stretch/>
        </p:blipFill>
        <p:spPr>
          <a:xfrm>
            <a:off x="468360" y="1515960"/>
            <a:ext cx="813600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eec94"/>
                </a:solidFill>
                <a:latin typeface="Times New Roman"/>
              </a:rPr>
              <a:t>1969 год. Освенцим. Блок смерти. В глубине двора - стена расстрелов. (Автор фото Б. Смирнов)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5" name="Picture 5" descr="5137"/>
          <p:cNvPicPr/>
          <p:nvPr/>
        </p:nvPicPr>
        <p:blipFill>
          <a:blip r:embed="rId1"/>
          <a:stretch/>
        </p:blipFill>
        <p:spPr>
          <a:xfrm>
            <a:off x="539640" y="1384200"/>
            <a:ext cx="7993080" cy="539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eec94"/>
                </a:solidFill>
                <a:latin typeface="Times New Roman"/>
              </a:rPr>
              <a:t>1945 год. Освобожднение узников из немецко-фашистского концлагеря Освенцим. (Автор фото неизвестен)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7" name="Picture 5" descr="5136"/>
          <p:cNvPicPr/>
          <p:nvPr/>
        </p:nvPicPr>
        <p:blipFill>
          <a:blip r:embed="rId1"/>
          <a:stretch/>
        </p:blipFill>
        <p:spPr>
          <a:xfrm>
            <a:off x="1042920" y="1565280"/>
            <a:ext cx="7201080" cy="52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eec94"/>
                </a:solidFill>
                <a:latin typeface="Times New Roman"/>
              </a:rPr>
              <a:t>Братское захоронение на месте немецкого концлагеря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9" name="Picture 5" descr="img50"/>
          <p:cNvPicPr/>
          <p:nvPr/>
        </p:nvPicPr>
        <p:blipFill>
          <a:blip r:embed="rId1"/>
          <a:stretch/>
        </p:blipFill>
        <p:spPr>
          <a:xfrm>
            <a:off x="395280" y="1600200"/>
            <a:ext cx="8280360" cy="50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eec94"/>
                </a:solidFill>
                <a:latin typeface="Times New Roman"/>
              </a:rPr>
              <a:t>Хатынь" Каждый четвертый житель Беларуси погиб в годы второй ...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51" name="Picture 7" descr="0069d7d7-26ac-d7d2-c79a-7d175169af83"/>
          <p:cNvPicPr/>
          <p:nvPr/>
        </p:nvPicPr>
        <p:blipFill>
          <a:blip r:embed="rId1"/>
          <a:stretch/>
        </p:blipFill>
        <p:spPr>
          <a:xfrm>
            <a:off x="0" y="1628640"/>
            <a:ext cx="9144000" cy="521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eec94"/>
                </a:solidFill>
                <a:latin typeface="Times New Roman"/>
              </a:rPr>
              <a:t>Хатынь" Каждый четвертый житель Беларуси погиб в годы второй ...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53" name="Picture 3" descr="bereza-8"/>
          <p:cNvPicPr/>
          <p:nvPr/>
        </p:nvPicPr>
        <p:blipFill>
          <a:blip r:embed="rId1"/>
          <a:stretch/>
        </p:blipFill>
        <p:spPr>
          <a:xfrm>
            <a:off x="1512720" y="1655640"/>
            <a:ext cx="6048720" cy="447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eec94"/>
                </a:solidFill>
                <a:latin typeface="Times New Roman"/>
              </a:rPr>
              <a:t>Памятник на месте расстрела жителей Киева и военнопленных концлагеря в Бабьем Яру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55" name="Picture 6" descr="0_5300_fc51a147_L"/>
          <p:cNvPicPr/>
          <p:nvPr/>
        </p:nvPicPr>
        <p:blipFill>
          <a:blip r:embed="rId1"/>
          <a:stretch/>
        </p:blipFill>
        <p:spPr>
          <a:xfrm>
            <a:off x="611280" y="1677960"/>
            <a:ext cx="8064360" cy="484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9280" y="404640"/>
            <a:ext cx="814716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Освенцим - немецко-фашистский концлагерь </a:t>
            </a:r>
            <a:br>
              <a:rPr sz="4000"/>
            </a:b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0" y="1700280"/>
            <a:ext cx="88200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В апреле 1940 года рейхсфюрер СС Генрих Гиммлер издал приказ об организации лагеря Освенцим (Аушвиц) на территории Польши в 55 километрах западнее Краков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Первоначально лагерь имел относительно небольшие масштабы - в нем содержалось около 10000 узников. Вскоре в связи с близостью к железнодорожному узлу лагерь превратился в гигантский комплекс, вмещающий в себя около 40 различных объектов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0" y="404640"/>
            <a:ext cx="9144000" cy="645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Все лагеря были обвиты густой сетью колючей проволоки, находящейся под высоким напряжением, и обведены глубокими рвами, где всегда стояла вод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Мощность четырех крематориев с газовыми камерами позволяла в течение пяти часов уничтожить в них до 12 тысяч человек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27 января 1945 г. Освенцим освободили войска I-го Украинского фронта. Было спасено 2819 узников, оставшихся в живых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В Освенциме погибли по меньшей мере 1 млн. 100 тыс. евреев из 27 стран, около 75 тыс. поляков, 21 тыс. цыган, 15 тыс. советских военнопленных и 15 тыс. представителей других национальностей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10920" y="333360"/>
            <a:ext cx="784692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eec94"/>
                </a:solidFill>
                <a:latin typeface="Times New Roman"/>
              </a:rPr>
              <a:t>1945 год. Январь. Освенцим - немецко-фашистский концлагерь (Польша). (Автор фото В. Юдин)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cc"/>
                </a:solidFill>
                <a:uFillTx/>
                <a:latin typeface="Times New Roman"/>
                <a:hlinkClick r:id="rId1"/>
              </a:rPr>
              <a:t>5130.JP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6" name="Picture 4" descr="5130"/>
          <p:cNvPicPr/>
          <p:nvPr/>
        </p:nvPicPr>
        <p:blipFill>
          <a:blip r:embed="rId2"/>
          <a:stretch/>
        </p:blipFill>
        <p:spPr>
          <a:xfrm>
            <a:off x="611280" y="1511280"/>
            <a:ext cx="7921440" cy="53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eec94"/>
                </a:solidFill>
                <a:latin typeface="Times New Roman"/>
              </a:rPr>
              <a:t>1945 год. Январь. Освенцим. Бронеколпаки с пулеметными гнездами против умирающих узников. (Автор фото В. Юдин)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9" name="Picture 4" descr="5132"/>
          <p:cNvPicPr/>
          <p:nvPr/>
        </p:nvPicPr>
        <p:blipFill>
          <a:blip r:embed="rId1"/>
          <a:stretch/>
        </p:blipFill>
        <p:spPr>
          <a:xfrm>
            <a:off x="250920" y="1628640"/>
            <a:ext cx="856908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eec94"/>
                </a:solidFill>
                <a:latin typeface="Times New Roman"/>
              </a:rPr>
              <a:t>1945 год. Польша. Освенцимский концлагерь. Дверь в газовую камеру. (Автор фото В. Юдин)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1" name="Picture 4" descr="5133"/>
          <p:cNvPicPr/>
          <p:nvPr/>
        </p:nvPicPr>
        <p:blipFill>
          <a:blip r:embed="rId1"/>
          <a:stretch/>
        </p:blipFill>
        <p:spPr>
          <a:xfrm>
            <a:off x="2627280" y="1557360"/>
            <a:ext cx="4249800" cy="53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eec94"/>
                </a:solidFill>
                <a:latin typeface="Times New Roman"/>
              </a:rPr>
              <a:t>945 год. Польша. Концлагерь Освенцим. Дети, заключенные лагеря, ждут своего освобождения. (Автор фото Б. Фишман)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3" name="Picture 5" descr="5134"/>
          <p:cNvPicPr/>
          <p:nvPr/>
        </p:nvPicPr>
        <p:blipFill>
          <a:blip r:embed="rId1"/>
          <a:stretch/>
        </p:blipFill>
        <p:spPr>
          <a:xfrm>
            <a:off x="755640" y="1674720"/>
            <a:ext cx="7632720" cy="51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eec94"/>
                </a:solidFill>
                <a:latin typeface="Times New Roman"/>
              </a:rPr>
              <a:t>1945 год. Освенцим. Волосы женщин, соженных в крематории, в аккуратных тюках, с указанием номера и веса, отправлялись в Германию. (Автор фото В. Юдин)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5" name="Picture 5" descr="5135"/>
          <p:cNvPicPr/>
          <p:nvPr/>
        </p:nvPicPr>
        <p:blipFill>
          <a:blip r:embed="rId1"/>
          <a:stretch/>
        </p:blipFill>
        <p:spPr>
          <a:xfrm>
            <a:off x="611280" y="1660680"/>
            <a:ext cx="784836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eec94"/>
                </a:solidFill>
                <a:latin typeface="Times New Roman"/>
              </a:rPr>
              <a:t>Узники Освенцима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8" name="Picture 4" descr="43514_1"/>
          <p:cNvPicPr/>
          <p:nvPr/>
        </p:nvPicPr>
        <p:blipFill>
          <a:blip r:embed="rId1"/>
          <a:stretch/>
        </p:blipFill>
        <p:spPr>
          <a:xfrm>
            <a:off x="324000" y="1549440"/>
            <a:ext cx="8820000" cy="50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5T20:13:02Z</dcterms:created>
  <dc:creator>данил4</dc:creator>
  <dc:description/>
  <dc:language>en-US</dc:language>
  <cp:lastModifiedBy>work pc</cp:lastModifiedBy>
  <dcterms:modified xsi:type="dcterms:W3CDTF">2015-02-03T06:27:49Z</dcterms:modified>
  <cp:revision>8</cp:revision>
  <dc:subject/>
  <dc:title>Слайд 1</dc:title>
</cp:coreProperties>
</file>