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0A0E-C859-41FC-80AF-7BE2D614C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46BC-6555-445F-BCC2-4BB9C4A55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5EE5-1C84-4530-AD00-2208B5AB6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06B8-CEBE-4970-BA70-F62A592DC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5372-7263-4DCB-8E65-D9616D7B2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6219-EEE3-4753-A528-9BAE3999FA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4747-F9FF-44B9-900A-8D5AD99454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C7A6-A8A2-4706-8AF4-19E3D81976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7F6B-9C80-4132-96E1-F1A3715928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C759-B93D-4871-B7B8-1BD3E2A737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9F9E-07D7-4980-967F-41E36DA2CC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46B5-1ABB-4E93-8BFF-ED9090E9E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3735-788B-49D6-967B-31B9B417BB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731A-C6E6-4776-96E3-280464CAF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91BF-068E-45A8-BD4D-84FA82F016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16C0-3D63-4613-B78E-294B1D60C2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DF9F-F314-4C70-8A5D-A22CE2137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4035-0721-4782-BD1C-99704D4A8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339C-E9B7-4720-9407-6194F36A6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A674-7F20-41A1-B7A4-00DB39A7E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8539-6A45-44FE-A95E-266A29562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6386-9FE6-4C2E-862D-ABBA11792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57FF-69DA-439F-AEED-A4AD0B132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EAEE-611F-4EBC-91C3-DCD99D60A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10abc0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7920" cy="27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1320" cy="1174680"/>
            </a:xfrm>
            <a:custGeom>
              <a:avLst/>
              <a:gdLst>
                <a:gd name="textAreaLeft" fmla="*/ 0 w 481320"/>
                <a:gd name="textAreaRight" fmla="*/ 481680 w 4813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6800" cy="12160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4880" cy="9874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987480"/>
                <a:gd name="textAreaBottom" fmla="*/ 987840 h 98748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6600" cy="968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968400"/>
                <a:gd name="textAreaBottom" fmla="*/ 968400 h 96840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3520" cy="608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1720" cy="4748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4760" cy="4464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09600" cy="3700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0240" cy="398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3600" cy="208080"/>
            </a:xfrm>
            <a:custGeom>
              <a:avLst/>
              <a:gdLst>
                <a:gd name="textAreaLeft" fmla="*/ 0 w 363600"/>
                <a:gd name="textAreaRight" fmla="*/ 363600 w 3636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39680" cy="160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39920" cy="15112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170DA8-E415-4125-AEB0-2EF4E21D2AE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10abc0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7920" cy="27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1320" cy="1174680"/>
            </a:xfrm>
            <a:custGeom>
              <a:avLst/>
              <a:gdLst>
                <a:gd name="textAreaLeft" fmla="*/ 0 w 481320"/>
                <a:gd name="textAreaRight" fmla="*/ 481680 w 4813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6800" cy="12160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4880" cy="9874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987480"/>
                <a:gd name="textAreaBottom" fmla="*/ 987840 h 98748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6600" cy="968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968400"/>
                <a:gd name="textAreaBottom" fmla="*/ 968400 h 96840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3520" cy="608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1720" cy="4748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4760" cy="4464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09600" cy="3700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0240" cy="398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3600" cy="208080"/>
            </a:xfrm>
            <a:custGeom>
              <a:avLst/>
              <a:gdLst>
                <a:gd name="textAreaLeft" fmla="*/ 0 w 363600"/>
                <a:gd name="textAreaRight" fmla="*/ 363600 w 3636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39680" cy="160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39920" cy="15112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F600A-293D-49C5-BE39-2B26D9DF4AFB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ff0066"/>
                </a:solidFill>
                <a:latin typeface="Arial"/>
              </a:rPr>
              <a:t>Литосфера</a:t>
            </a:r>
            <a:endParaRPr b="0" lang="en-US" sz="5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708280"/>
            <a:ext cx="7758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рок по географии для </a:t>
            </a: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 класс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(Составитель: учитель географии ГБОУ СОШ №5 Василеостровского райо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Алеева Мария Сергеев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ЗЕМЛЕТРЯСЕН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Смещение одних участков земной коры относительно других в горизонтальном и в вертикальном направлениях на большой глубине в литосфере называется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ЗЕМЛЕТРЯСЕНИЕ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Место на глубине, где образуется разрыв и смещение пород, называется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ОЧАГОМ</a:t>
            </a: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 ЗЕМЛЕТРЯСЕНИЯ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Место на земной поверхности, находящееся над очагом, называется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ЭПИЦЕНТРОМ</a:t>
            </a: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 ЗЕМЛЕТРЯС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Самые сильные разрушения происходят в эпицентре, где подземные толчки направлены снизу ввер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Ученые-сейсмологи составили шкалу для измерения силы землетрясения в баллах от 1 до 12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Следствием землетрясений в океанах являются ЦУН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3095640" cy="2441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92720" y="3965400"/>
            <a:ext cx="3166920" cy="2365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type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0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cc00"/>
                </a:solidFill>
                <a:latin typeface="Arial"/>
              </a:rPr>
              <a:t>ВУЛКАНИЗ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197000"/>
            <a:ext cx="4321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ВУЛКАН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(от лат. «vulcanus» — огонь, пламя), геологическое образование, возникающее над каналами и трещинами в земной коре, по которым на земную поверхность извергаются лава, пепел, горячие газы, пары воды и обломки горных пород. Различают действующие, уснувшие и потухшие вулканы, а по форме центральные, извергающиеся из центрального канала и трещинные, жерла которых имеют вид зияющих трещин или ряда небольших конусов. Основные части вулкана - это магматический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очаг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(в земной коре или верхней мантии);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жерло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— выводной канал, по которому магма поднимается к поверхности;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конус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— возвышенность на поверхности Земли из продуктов выброса вулкана;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кратер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— углубление на поверхности конуса вулкана. Современные вулканы расположены вдоль крупных разломов и тектонически подвижных областей (главным образом на островах и берегах Тихого и Атлантического ок.). Активные действующие вулканы: Ключевская Сопка и Авачинская Сопка (Камчатка, Российская Федерация), Везувий (Италия), Исалько (Сальвадор), Мауна–Лоа (Гавайские о–ва) и др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3280" y="1692360"/>
            <a:ext cx="4500720" cy="41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0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9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Verdana"/>
              </a:rPr>
              <a:t>Вулкана Этна, о.Сицил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27280" y="2808360"/>
            <a:ext cx="5543640" cy="404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324" dur="indefinite" restart="never" fill="hold">
          <p:childTnLst>
            <p:seq>
              <p:cTn id="325" dur="indefinite" nodeType="mainSeq">
                <p:childTnLst>
                  <p:par>
                    <p:cTn id="326" dur="indefinite" fill="hold">
                      <p:stCondLst>
                        <p:cond delay="0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495680" cy="381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1844640"/>
            <a:ext cx="4316400" cy="38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type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dur="indefinite" fill="hold">
                      <p:stCondLst>
                        <p:cond delay="0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1557360"/>
            <a:ext cx="346716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9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Verdana"/>
              </a:rPr>
              <a:t>Вулкан на Гавайских остров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17640" y="2376360"/>
            <a:ext cx="6066000" cy="456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348" dur="indefinite" restart="never" fill="hold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0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ГОРЯЧИЕ ИСТОЧНИКИ И ГЕЙЗЕ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600200"/>
            <a:ext cx="45007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Verdana"/>
              </a:rPr>
              <a:t>В районах, где есть вулканы, подземные воды имеют высокую температуру и содержат в растворенном виде разнообразные соли, газы, т.е. являются минеральными. На поверхность эти воды вытекают, образуя источники, ручьи, реки. Иногда они вырываются горячим фонтаном, поднимаясь на высоту в несколько десятков метров. Такие фонтанирующие источники называются </a:t>
            </a:r>
            <a:r>
              <a:rPr b="1" lang="ru-RU" sz="1600" spc="-1" strike="noStrike">
                <a:solidFill>
                  <a:srgbClr val="ecae00"/>
                </a:solidFill>
                <a:latin typeface="Verdana"/>
              </a:rPr>
              <a:t>ГЕЙЗЕРАМИ</a:t>
            </a:r>
            <a:r>
              <a:rPr b="1" lang="ru-RU" sz="16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ecae00"/>
                </a:solidFill>
                <a:latin typeface="Verdana"/>
              </a:rPr>
              <a:t>Горячие подземные воды</a:t>
            </a:r>
            <a:r>
              <a:rPr b="1" lang="ru-RU" sz="1600" spc="-1" strike="noStrike">
                <a:solidFill>
                  <a:srgbClr val="006600"/>
                </a:solidFill>
                <a:latin typeface="Verdana"/>
              </a:rPr>
              <a:t> люди используют для обогревания помещений, теплиц (Камчатка, о.Исландия). Минеральные источники – в лечебных целя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3280" y="1839960"/>
            <a:ext cx="4259520" cy="359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dur="indefinite" fill="hold">
                      <p:stCondLst>
                        <p:cond delay="0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68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68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dur="indefinite" fill="hold">
                      <p:stCondLst>
                        <p:cond delay="indefinite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СНОВНЫЕ ФОРМЫ РЕЛЬЕФА ПОВЕРХНОСТИ ЗЕМЛ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600200"/>
            <a:ext cx="8785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Рельеф материковой и океанической земной коры очень разнообразен. Но и на суше и на дне Океана выделяются две основные формы: горы и обширные равнинные пространства. Разнообразие рельефа объясняется подвижностью земной коры; взаимодействие внутренних процессов земли, которые создают неровности поверхности земли, с внешними, которые направлены на ее выравнивание (выветривание, ледники, ветер, текучие вод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0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ГОРА-это выпуклая форма поверхности с хорошо выраженной вершиной, подошвой, склонами. Высота гор над окружающей местностью больше 200 метров. Чаще горы образуют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ГОРНЫЕ ХРЕБ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о абсолютной высоте различают: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 низкие горы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(до 1000 м); 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средневысотные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(от 1000 до 2000 м); 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высокие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(более 2000 м). Высочайшие горы Земли –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Гималаи,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и среди них – самая высокая вершина – г.Эверест (8848 м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В горных странах происходит наиболее сильное взаимодействие внутренних и внешних процессов. Чем быстрее горы поднимаются, тем быстрее они разрушаются. Человек изменяет горы, когда добывает полезные ископаемые, проводит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дороги, прокладывает туннел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4000" y="333360"/>
            <a:ext cx="439236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ры суши</a:t>
            </a:r>
            <a:endParaRPr b="1" i="1" lang="en-US" sz="1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03640" y="673200"/>
            <a:ext cx="3961080" cy="2971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03640" y="3886200"/>
            <a:ext cx="3961080" cy="297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type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dur="indefinite" fill="hold">
                      <p:stCondLst>
                        <p:cond delay="indefinite"/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45720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00720" y="1197000"/>
            <a:ext cx="46432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Большую часть поверхности суши занимают равнины. Если на равнине нет возвышенностей или понижений, то ее называют </a:t>
            </a:r>
            <a:r>
              <a:rPr b="0" i="1" lang="ru-RU" sz="1400" spc="-1" strike="noStrike" u="sng">
                <a:solidFill>
                  <a:srgbClr val="ffff00"/>
                </a:solidFill>
                <a:uFillTx/>
                <a:latin typeface="Verdana"/>
              </a:rPr>
              <a:t>плоской</a:t>
            </a:r>
            <a:r>
              <a:rPr b="0" i="1" lang="ru-RU" sz="1400" spc="-1" strike="noStrike">
                <a:solidFill>
                  <a:srgbClr val="006600"/>
                </a:solidFill>
                <a:latin typeface="Verdana"/>
              </a:rPr>
              <a:t>.</a:t>
            </a: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 Но чаще встречаются </a:t>
            </a:r>
            <a:r>
              <a:rPr b="0" i="1" lang="ru-RU" sz="1400" spc="-1" strike="noStrike" u="sng">
                <a:solidFill>
                  <a:srgbClr val="ffff00"/>
                </a:solidFill>
                <a:uFillTx/>
                <a:latin typeface="Verdana"/>
              </a:rPr>
              <a:t>холмистые</a:t>
            </a:r>
            <a:r>
              <a:rPr b="0" lang="ru-RU" sz="14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равнины. Их рельеф более разнообразен: холмы, овраги, понижения с озерами, широкие речные долин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По абсолютной высоте различают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три основных типа равнин:</a:t>
            </a: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 низменности (до 200 м); возвышенности (от 200 до 500 м); плоскогорья (более 500 м). Низменности и возвышенности обычно покрыты толщей осадочных пород. Равнины обычно соответствуют наиболее устойчивым частям материковой коры. Внутренние процессы проявляются здесь в виде медленных вертикальных колебаний. Разнообразие или однообразие рельефа равнин связано с действием внешних си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Равнины наиболее удобны для хозяйственной деятельности человек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0" y="404640"/>
            <a:ext cx="4176720" cy="66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внины  суши</a:t>
            </a:r>
            <a:endParaRPr b="1" i="1" lang="en-US" sz="1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95280" y="362592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5" name="typ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dur="indefinite" fill="hold">
                      <p:stCondLst>
                        <p:cond delay="indefinite"/>
                      </p:stCondLst>
                      <p:childTnLst>
                        <p:par>
                          <p:cTn id="4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cae00"/>
                </a:solidFill>
                <a:latin typeface="Arial"/>
              </a:rPr>
              <a:t>Горы и равнины океа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637000"/>
            <a:ext cx="85075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Рельеф ложа океана включает много вулканов, как действующих, так и потухших с выровненными волнами вершинами; отдельные горные хребт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Важнейшим открытием являются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срединно - океанические хребты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посередине каждого океана – это валообразные поднятия океанической земной коры, образующие единую цепь протяженностью более 70 тыс. км. Там, где вершины срединно – океанических хребтов выходят на поверхность, образуются острова (о. Исландия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Большую часть дна Океана занимают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котловины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, рельеф которых равнинный. Здесь есть участки плоские и всхолмленные. В отдельных частях котловин возвышаются конусы вулканов. Дно глубоководных равнин покрыто осадочными породами толщей до нескольких километров. Один из типов равнин Океана –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материковые отмели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– это части материка, находящиеся ниже уровня Океана до глубины 200 м. Материковые отмели покрыты преимущественно обломочными породами, принесенными реками с суш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Самые большие изменения рельефа океанических равнин связаны с землетрясениями, извержениями вулканов, разломами земной коры. Создаваемые ими неровности преобразуются внешними процессами. Осадочные породы, оседая на дно, выравнивают его. В окраинных частях океанов обнаружены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желоба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, их глубина достигает более 10 км (Марианский желоб – 11022 м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24720" cy="194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dur="indefinite" fill="hold">
                      <p:stCondLst>
                        <p:cond delay="0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dur="indefinite" fill="hold">
                      <p:stCondLst>
                        <p:cond delay="indefinite"/>
                      </p:stCondLst>
                      <p:childTnLst>
                        <p:par>
                          <p:cTn id="4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Verdana"/>
              </a:rPr>
              <a:t>Рассказать о строении Земли, литосферы и земной кор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Verdana"/>
              </a:rPr>
              <a:t>Показать движения земной коры и дать представление о породах ее слагающих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Verdana"/>
              </a:rPr>
              <a:t>Выявить разнообразие форм рельефа поверхности Зем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Строение Зем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Строение литосферы и явления в ней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Что такое литосфера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Породы, слагающие земную кор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Движения земной кор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2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а) Землетряс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2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б) Вулканиз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2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в) Горячие источники и гейзе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Основные формы рельефа поверхности Земл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Горы и равнины суш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Горы и равнины океан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Строение Зем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В настоящее время ученые предполагают, что в центре Земли находится ядро, его радиус около 3500 км. Ядро окружено мантией, ее толщина примерно 2900 км. Над мантией расположена земная кора, толщина ее колеблется от 5 до 80 км. Земная кора – самая твердая оболочка. Вещество мантии находится в особом пластическом состоянии, это вещество под давлением может медленно течь. Наиболее тяжелые и плотные вещества находятся в ядре; температура там около 3500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38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0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Что такое литосфера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48320" y="1600200"/>
            <a:ext cx="40384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Земная кора состоит из трех слоев: осадочного, гранитного, базальтового. Каждый слой земной коры по–своему примечателен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Осадочные породы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 образовались путем отложения вещества на суше или осаждения его в водной среде. Они лежат пластами, сменяющими друг друга. За осадочными породами располагается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слой гранита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. Гранит образовался в результате извержения и застывания магмы в толще земной коры в условиях высоких температур и давления. Это </a:t>
            </a:r>
            <a:r>
              <a:rPr b="0" i="1" lang="ru-RU" sz="1400" spc="-1" strike="noStrike" u="sng">
                <a:solidFill>
                  <a:srgbClr val="800000"/>
                </a:solidFill>
                <a:uFillTx/>
                <a:latin typeface="Verdana"/>
              </a:rPr>
              <a:t>магматическая порода. 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Следующий за гранитом слой земной коры —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базальтовый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. Базальт также имеет магматическое происхождение. Он тяжелее гранита и содержит больше железа, магния и кальция. Земная кора не везде имеет одинаковую толщину. </a:t>
            </a:r>
            <a:r>
              <a:rPr b="0" i="1" lang="ru-RU" sz="1400" spc="-1" strike="noStrike" u="sng">
                <a:solidFill>
                  <a:srgbClr val="800000"/>
                </a:solidFill>
                <a:uFillTx/>
                <a:latin typeface="Verdana"/>
              </a:rPr>
              <a:t>Толщина земной коры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 меньше под океанами, чем под материками. Самая большая толщина земной коры наблюдается под горными масси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2" name="type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0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900ff"/>
                </a:solidFill>
                <a:latin typeface="Arial"/>
              </a:rPr>
              <a:t>Породы слагающие земную кор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Земная кора сложена самыми разнообразными минералами и горными.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 этих пластах можно встретить залежи полезных ископаемых — каменного угля, нефти, каменной соли. Все эти полезные ископаемые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органического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оисхождения. Гранит образовался в результате извержения и застывания магмы в толще земной коры в условиях высоких температур и давления. Это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агматическая порода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. Базальт тяжелее гранита и содержит больше железа, магния и кальц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00000" y="4178160"/>
            <a:ext cx="3024360" cy="220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type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0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Породы слагающие земную кор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128412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42920" y="41720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07040" y="1295280"/>
            <a:ext cx="3325680" cy="249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292720" y="42260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5" name="type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0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Движения земной кор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1557360"/>
            <a:ext cx="36781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86400"/>
                </a:solidFill>
                <a:latin typeface="Verdana"/>
              </a:rPr>
              <a:t>Ученые считают, что земная кора разделена глубинными разломами на блоки или плиты, разной величины. Эти плиты перемещаются по разжиженному слою мантии относительно друг друга. Есть плиты, которые заключают в себе только земную кору материков (Евразийская плита). Но большинство плит заключает в себе как земную кору материков, так и земную кору ложа океанов. В местах, где сходятся плиты, происходит их столкновение, одна плита надвигается на другую, при этом образуются горные пояса, глубоководные желоба, островные дуги. Яркие примеры таких образований — Японские и Курильские острова. Движение плит ученые связывают с движением вещества в мантии. Какие же силы передвигают литосферные плиты? Это внутренние силы Земли, возникающие в результате распада радиоактивных элементов, входящих в состав ядра Земл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75308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0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89000"/>
            <a:ext cx="878544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2490c"/>
                </a:solidFill>
                <a:latin typeface="Verdana"/>
              </a:rPr>
              <a:t>Границы литосферных плит находятся как в местах их разрыва, так и в местах столкновения - это подвижные участки земной коры, к которым приурочено большинство действующих вулканов и где часты землетрясения. Эти участки образуют </a:t>
            </a: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сейсмические пояса Земли</a:t>
            </a:r>
            <a:r>
              <a:rPr b="0" lang="ru-RU" sz="2400" spc="-1" strike="noStrike">
                <a:solidFill>
                  <a:srgbClr val="d2490c"/>
                </a:solidFill>
                <a:latin typeface="Verdana"/>
              </a:rPr>
              <a:t>. К сейсмическим поясам Земли относятся районы Тихоокеанского побережья, Средиземноморья, побережья Атлантического океана. </a:t>
            </a:r>
            <a:r>
              <a:rPr b="0" lang="ru-RU" sz="2400" spc="-1" strike="noStrike" u="sng">
                <a:solidFill>
                  <a:srgbClr val="d2490c"/>
                </a:solidFill>
                <a:uFillTx/>
                <a:latin typeface="Verdana"/>
              </a:rPr>
              <a:t>Самым крупным сейсмическим поясом Земли</a:t>
            </a:r>
            <a:r>
              <a:rPr b="0" lang="ru-RU" sz="2400" spc="-1" strike="noStrike">
                <a:solidFill>
                  <a:srgbClr val="d2490c"/>
                </a:solidFill>
                <a:latin typeface="Verdana"/>
              </a:rPr>
              <a:t> является Тихоокеанский вулканический пояс, или, как его часто называют, Тихоокеанское «огненное кольцо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2490c"/>
                </a:solidFill>
                <a:latin typeface="Verdana"/>
              </a:rPr>
              <a:t>Чем больше мы удаляемся от границ подвижных участков к центру плиты, тем более устойчивыми становятся участки земной коры. Москва, например, находится в центре Евразийской плиты, и ее, территория считается вполне сейсмически устойчив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4:09:06Z</dcterms:created>
  <dc:creator>Customer</dc:creator>
  <dc:description/>
  <dc:language>en-US</dc:language>
  <cp:lastModifiedBy>Коля</cp:lastModifiedBy>
  <dcterms:modified xsi:type="dcterms:W3CDTF">2013-06-04T10:16:30Z</dcterms:modified>
  <cp:revision>24</cp:revision>
  <dc:subject/>
  <dc:title>Литосфера</dc:title>
</cp:coreProperties>
</file>