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0DC2-E0A1-4908-BC6E-98E1FCF91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7467-B544-43E2-8B12-C6CAE548D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099F-99B3-44FA-A6AB-D32A8EFD8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96C5-43D2-443A-889F-28828E716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1389-8EE1-473B-AB97-578A82111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06A2-2BBF-4360-8B93-1A2D3F2C39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2F55-DEF1-45B8-8CC6-A5DBBC176B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922F-9D25-4EED-BC56-EEFC3FB225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8495-5F98-4889-B112-DA2B44060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AEC6-50E4-4960-B667-5172C03117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5F6C-4192-46F0-95AF-9E801412B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A8DA-4114-4A6C-8105-9273F738C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32AA-3D70-4758-A6D7-77425699E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5559-5082-40C0-B77F-04687956AD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74DB-4EC6-4341-85A7-4108C99EFD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2302-9F81-4E5C-800B-68636B55A8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F613-7257-41DA-A57F-5D0A09B75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DFF2-3F3E-4D0D-ADC7-516FD170A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C9D9-41AF-429C-ADE7-8DA81AC04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2756-D34C-4EE6-8DD9-62E8B1BA9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545F-C4A2-4934-9FA1-8B267D5D0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A916-835A-46F7-AE8F-603721BBB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3600-7801-4E18-9ABC-B685CBFA0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89D7-5CBD-4241-B923-D2933986A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0abc0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>
                <a:gd name="textAreaLeft" fmla="*/ 0 w 481320"/>
                <a:gd name="textAreaRight" fmla="*/ 481680 w 4813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968400"/>
                <a:gd name="textAreaBottom" fmla="*/ 968400 h 96840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>
                <a:gd name="textAreaLeft" fmla="*/ 0 w 363600"/>
                <a:gd name="textAreaRight" fmla="*/ 363600 w 363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A1346-2610-476F-8D79-6C5C3E62BA4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0abc0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7280" cy="27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7920" cy="27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1320" cy="1174680"/>
            </a:xfrm>
            <a:custGeom>
              <a:avLst/>
              <a:gdLst>
                <a:gd name="textAreaLeft" fmla="*/ 0 w 481320"/>
                <a:gd name="textAreaRight" fmla="*/ 481680 w 4813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6800" cy="12160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4880" cy="9874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987480"/>
                <a:gd name="textAreaBottom" fmla="*/ 987840 h 98748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6600" cy="968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968400"/>
                <a:gd name="textAreaBottom" fmla="*/ 968400 h 96840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3520" cy="6080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1720" cy="474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4760" cy="4464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09600" cy="3700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0240" cy="398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3600" cy="208080"/>
            </a:xfrm>
            <a:custGeom>
              <a:avLst/>
              <a:gdLst>
                <a:gd name="textAreaLeft" fmla="*/ 0 w 363600"/>
                <a:gd name="textAreaRight" fmla="*/ 363600 w 3636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39680" cy="160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39920" cy="151128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2FEFD-8EE7-4FA2-96B5-CABDDE2047C9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700" spc="-1" strike="noStrike">
                <a:solidFill>
                  <a:srgbClr val="ff0066"/>
                </a:solidFill>
                <a:latin typeface="Arial"/>
              </a:rPr>
              <a:t>Литосфера</a:t>
            </a:r>
            <a:endParaRPr b="0" lang="en-US" sz="5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708280"/>
            <a:ext cx="775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рок по географии для </a:t>
            </a: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 класс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(Составитель: учитель географии ГБОУ СОШ №5 Василеостровского райо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Алеева Мария Сергеев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ЗЕМЛЕТРЯСЕ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Смещение одних участков земной коры относительно других в горизонтальном и в вертикальном направлениях на большой глубине в литосфере назыв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ЗЕМЛЕТРЯСЕНИЕ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Место на глубине, где образуется разрыв и смещение пород, назыв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ОЧАГОМ</a:t>
            </a: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 ЗЕМЛЕТРЯСЕНИЯ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Место на земной поверхности, находящееся над очагом, назыв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ЭПИЦЕНТРОМ</a:t>
            </a: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 ЗЕМЛЕТРЯС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Самые сильные разрушения происходят в эпицентре, где подземные толчки направлены снизу ввер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Ученые-сейсмологи составили шкалу для измерения силы землетрясения в баллах от 1 до 12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Verdana"/>
              </a:rPr>
              <a:t>Следствием землетрясений в океанах являются ЦУН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095640" cy="2441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92720" y="3965400"/>
            <a:ext cx="3166920" cy="2365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0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cc00"/>
                </a:solidFill>
                <a:latin typeface="Arial"/>
              </a:rPr>
              <a:t>ВУЛКАНИЗ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197000"/>
            <a:ext cx="432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ВУЛКАН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(от лат. «vulcanus» — огонь, пламя), геологическое образование, возникающее над каналами и трещинами в земной коре, по которым на земную поверхность извергаются лава, пепел, горячие газы, пары воды и обломки горных пород. Различают действующие, уснувшие и потухшие вулканы, а по форме центральные, извергающиеся из центрального канала и трещинные, жерла которых имеют вид зияющих трещин или ряда небольших конусов. Основные части вулкана - это магматический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очаг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(в земной коре или верхней мантии);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жерло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— выводной канал, по которому магма поднимается к поверхности;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конус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— возвышенность на поверхности Земли из продуктов выброса вулкана;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кратер</a:t>
            </a:r>
            <a:r>
              <a:rPr b="0" lang="ru-RU" sz="1400" spc="-1" strike="noStrike">
                <a:solidFill>
                  <a:srgbClr val="6600cc"/>
                </a:solidFill>
                <a:latin typeface="Verdana"/>
              </a:rPr>
              <a:t> — углубление на поверхности конуса вулкана. Современные вулканы расположены вдоль крупных разломов и тектонически подвижных областей (главным образом на островах и берегах Тихого и Атлантического ок.). Активные действующие вулканы: Ключевская Сопка и Авачинская Сопка (Камчатка, Российская Федерация), Везувий (Италия), Исалько (Сальвадор), Мауна–Лоа (Гавайские о–ва) и др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3280" y="1692360"/>
            <a:ext cx="4500720" cy="41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0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Verdana"/>
              </a:rPr>
              <a:t>Вулкана Этна, о.Сицил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27280" y="2808360"/>
            <a:ext cx="5543640" cy="404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24" dur="indefinite" restart="never" fill="hold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0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95680" cy="381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1844640"/>
            <a:ext cx="431640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dur="indefinite" fill="hold">
                      <p:stCondLst>
                        <p:cond delay="0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1557360"/>
            <a:ext cx="346716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9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Verdana"/>
              </a:rPr>
              <a:t>Вулкан на Гавайских остров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17640" y="2376360"/>
            <a:ext cx="6066000" cy="456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48" dur="indefinite" restart="never" fill="hold">
          <p:childTnLst>
            <p:seq>
              <p:cTn id="349" dur="indefinite" nodeType="mainSeq">
                <p:childTnLst>
                  <p:par>
                    <p:cTn id="350" dur="indefinite" fill="hold">
                      <p:stCondLst>
                        <p:cond delay="0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ГОРЯЧИЕ ИСТОЧНИКИ И ГЕЙЗЕ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600200"/>
            <a:ext cx="45007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Verdana"/>
              </a:rPr>
              <a:t>В районах, где есть вулканы, подземные воды имеют высокую температуру и содержат в растворенном виде разнообразные соли, газы, т.е. являются минеральными. На поверхность эти воды вытекают, образуя источники, ручьи, реки. Иногда они вырываются горячим фонтаном, поднимаясь на высоту в несколько десятков метров. Такие фонтанирующие источники называются </a:t>
            </a:r>
            <a:r>
              <a:rPr b="1" lang="ru-RU" sz="1600" spc="-1" strike="noStrike">
                <a:solidFill>
                  <a:srgbClr val="ecae00"/>
                </a:solidFill>
                <a:latin typeface="Verdana"/>
              </a:rPr>
              <a:t>ГЕЙЗЕРАМИ</a:t>
            </a:r>
            <a:r>
              <a:rPr b="1" lang="ru-RU" sz="1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cae00"/>
                </a:solidFill>
                <a:latin typeface="Verdana"/>
              </a:rPr>
              <a:t>Горячие подземные воды</a:t>
            </a:r>
            <a:r>
              <a:rPr b="1" lang="ru-RU" sz="1600" spc="-1" strike="noStrike">
                <a:solidFill>
                  <a:srgbClr val="006600"/>
                </a:solidFill>
                <a:latin typeface="Verdana"/>
              </a:rPr>
              <a:t> люди используют для обогревания помещений, теплиц (Камчатка, о.Исландия). Минеральные источники – в лечебных целя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3280" y="1839960"/>
            <a:ext cx="4259520" cy="359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fill="hold">
                      <p:stCondLst>
                        <p:cond delay="0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СНОВНЫЕ ФОРМЫ РЕЛЬЕФА ПОВЕРХНОСТИ ЗЕМЛ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600200"/>
            <a:ext cx="8785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Рельеф материковой и океанической земной коры очень разнообразен. Но и на суше и на дне Океана выделяются две основные формы: горы и обширные равнинные пространства. Разнообразие рельефа объясняется подвижностью земной коры; взаимодействие внутренних процессов земли, которые создают неровности поверхности земли, с внешними, которые направлены на ее выравнивание (выветривание, ледники, ветер, текучие вод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0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ГОРА-это выпуклая форма поверхности с хорошо выраженной вершиной, подошвой, склонами. Высота гор над окружающей местностью больше 200 метров. Чаще горы образуют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ГОРНЫЕ ХРЕБ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о абсолютной высоте различают: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 низкие горы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(до 1000 м); 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средневысотные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(от 1000 до 2000 м); 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высокие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(более 2000 м). Высочайшие горы Земли –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Гималаи,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и среди них – самая высокая вершина – г.Эверест (8848 м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В горных странах происходит наиболее сильное взаимодействие внутренних и внешних процессов. Чем быстрее горы поднимаются, тем быстрее они разрушаются. Человек изменяет горы, когда добывает полезные ископаемые, проводит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дороги, прокладывает тунне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4000" y="333360"/>
            <a:ext cx="439236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ры суши</a:t>
            </a:r>
            <a:endParaRPr b="1" i="1" lang="en-US" sz="1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03640" y="67320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3886200"/>
            <a:ext cx="3961080" cy="297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45720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00720" y="1197000"/>
            <a:ext cx="46432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Большую часть поверхности суши занимают равнины. Если на равнине нет возвышенностей или понижений, то ее называют </a:t>
            </a:r>
            <a:r>
              <a:rPr b="0" i="1" lang="ru-RU" sz="1400" spc="-1" strike="noStrike" u="sng">
                <a:solidFill>
                  <a:srgbClr val="ffff00"/>
                </a:solidFill>
                <a:uFillTx/>
                <a:latin typeface="Verdana"/>
              </a:rPr>
              <a:t>плоской</a:t>
            </a:r>
            <a:r>
              <a:rPr b="0" i="1" lang="ru-RU" sz="1400" spc="-1" strike="noStrike">
                <a:solidFill>
                  <a:srgbClr val="006600"/>
                </a:solidFill>
                <a:latin typeface="Verdana"/>
              </a:rPr>
              <a:t>.</a:t>
            </a: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 Но чаще встречаются </a:t>
            </a:r>
            <a:r>
              <a:rPr b="0" i="1" lang="ru-RU" sz="1400" spc="-1" strike="noStrike" u="sng">
                <a:solidFill>
                  <a:srgbClr val="ffff00"/>
                </a:solidFill>
                <a:uFillTx/>
                <a:latin typeface="Verdana"/>
              </a:rPr>
              <a:t>холмистые</a:t>
            </a:r>
            <a:r>
              <a:rPr b="0" lang="ru-RU" sz="14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равнины. Их рельеф более разнообразен: холмы, овраги, понижения с озерами, широкие речные долин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По абсолютной высоте различают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три основных типа равнин:</a:t>
            </a: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 низменности (до 200 м); возвышенности (от 200 до 500 м); плоскогорья (более 500 м). Низменности и возвышенности обычно покрыты толщей осадочных пород. Равнины обычно соответствуют наиболее устойчивым частям материковой коры. Внутренние процессы проявляются здесь в виде медленных вертикальных колебаний. Разнообразие или однообразие рельефа равнин связано с действием внешних си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Verdana"/>
              </a:rPr>
              <a:t>Равнины наиболее удобны для хозяйственной деятельности человек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0" y="404640"/>
            <a:ext cx="4176720" cy="66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внины  суши</a:t>
            </a:r>
            <a:endParaRPr b="1" i="1" lang="en-US" sz="1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95280" y="362592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5" name="typ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dur="indefinite" fill="hold">
                      <p:stCondLst>
                        <p:cond delay="indefinite"/>
                      </p:stCondLst>
                      <p:childTnLst>
                        <p:par>
                          <p:cTn id="4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cae00"/>
                </a:solidFill>
                <a:latin typeface="Arial"/>
              </a:rPr>
              <a:t>Горы и равнины океа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637000"/>
            <a:ext cx="85075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Рельеф ложа океана включает много вулканов, как действующих, так и потухших с выровненными волнами вершинами; отдельные горные хребт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Важнейшим открытием являются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срединно - океанические хребты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посередине каждого океана – это валообразные поднятия океанической земной коры, образующие единую цепь протяженностью более 70 тыс. км. Там, где вершины срединно – океанических хребтов выходят на поверхность, образуются острова (о. Исландия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Большую часть дна Океана занимают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котловины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, рельеф которых равнинный. Здесь есть участки плоские и всхолмленные. В отдельных частях котловин возвышаются конусы вулканов. Дно глубоководных равнин покрыто осадочными породами толщей до нескольких километров. Один из типов равнин Океана –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материковые отмели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– это части материка, находящиеся ниже уровня Океана до глубины 200 м. Материковые отмели покрыты преимущественно обломочными породами, принесенными реками с суш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Самые большие изменения рельефа океанических равнин связаны с землетрясениями, извержениями вулканов, разломами земной коры. Создаваемые ими неровности преобразуются внешними процессами. Осадочные породы, оседая на дно, выравнивают его. В окраинных частях океанов обнаружены 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желоба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, их глубина достигает более 10 км (Марианский желоб – 11022 м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dur="indefinite" fill="hold">
                      <p:stCondLst>
                        <p:cond delay="0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dur="indefinite" fill="hold">
                      <p:stCondLst>
                        <p:cond delay="indefinite"/>
                      </p:stCondLst>
                      <p:childTnLst>
                        <p:par>
                          <p:cTn id="4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Verdana"/>
              </a:rPr>
              <a:t>Рассказать о строении Земли, литосферы и земной кор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Verdana"/>
              </a:rPr>
              <a:t>Показать движения земной коры и дать представление о породах ее слагающих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Verdana"/>
              </a:rPr>
              <a:t>Выявить разнообразие форм рельефа поверхности Зем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Строение Зем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Строение литосферы и явления в ней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Что такое литосфер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Породы, слагающие земную кор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Движения земной кор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а) Землетряс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б) Вулканиз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в) Горячие источники и гейзе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Основные формы рельефа поверхности Зем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Горы и равнины суш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SzPct val="70000"/>
              <a:buFont typeface="Verdana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Verdana"/>
              </a:rPr>
              <a:t>Горы и равнины океа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Строение Зем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В настоящее время ученые предполагают, что в центре Земли находится ядро, его радиус около 3500 км. Ядро окружено мантией, ее толщина примерно 2900 км. Над мантией расположена земная кора, толщина ее колеблется от 5 до 80 км. Земная кора – самая твердая оболочка. Вещество мантии находится в особом пластическом состоянии, это вещество под давлением может медленно течь. Наиболее тяжелые и плотные вещества находятся в ядре; температура там около 3500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38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0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Что такое литосфер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8320" y="1600200"/>
            <a:ext cx="403848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Земная кора состоит из трех слоев: осадочного, гранитного, базальтового. Каждый слой земной коры по–своему примечателен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Осадочные породы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 образовались путем отложения вещества на суше или осаждения его в водной среде. Они лежат пластами, сменяющими друг друга. За осадочными породами располагается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слой гранита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. Гранит образовался в результате извержения и застывания магмы в толще земной коры в условиях высоких температур и давления. Это </a:t>
            </a:r>
            <a:r>
              <a:rPr b="0" i="1" lang="ru-RU" sz="1400" spc="-1" strike="noStrike" u="sng">
                <a:solidFill>
                  <a:srgbClr val="800000"/>
                </a:solidFill>
                <a:uFillTx/>
                <a:latin typeface="Verdana"/>
              </a:rPr>
              <a:t>магматическая порода. 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Следующий за гранитом слой земной коры — </a:t>
            </a:r>
            <a:r>
              <a:rPr b="0" lang="ru-RU" sz="1400" spc="-1" strike="noStrike">
                <a:solidFill>
                  <a:srgbClr val="ecae00"/>
                </a:solidFill>
                <a:latin typeface="Verdana"/>
              </a:rPr>
              <a:t>базальтовый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. Базальт также имеет магматическое происхождение. Он тяжелее гранита и содержит больше железа, магния и кальция. Земная кора не везде имеет одинаковую толщину. </a:t>
            </a:r>
            <a:r>
              <a:rPr b="0" i="1" lang="ru-RU" sz="1400" spc="-1" strike="noStrike" u="sng">
                <a:solidFill>
                  <a:srgbClr val="800000"/>
                </a:solidFill>
                <a:uFillTx/>
                <a:latin typeface="Verdana"/>
              </a:rPr>
              <a:t>Толщина земной коры</a:t>
            </a:r>
            <a:r>
              <a:rPr b="0" lang="ru-RU" sz="1400" spc="-1" strike="noStrike">
                <a:solidFill>
                  <a:srgbClr val="800000"/>
                </a:solidFill>
                <a:latin typeface="Verdana"/>
              </a:rPr>
              <a:t> меньше под океанами, чем под материками. Самая большая толщина земной коры наблюдается под горными масси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2" name="type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00ff"/>
                </a:solidFill>
                <a:latin typeface="Arial"/>
              </a:rPr>
              <a:t>Породы слагающие земную кор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Земная кора сложена самыми разнообразными минералами и горными.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 этих пластах можно встретить залежи полезных ископаемых — каменного угля, нефти, каменной соли. Все эти полезные ископаемые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органического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оисхождения. Гранит образовался в результате извержения и застывания магмы в толще земной коры в условиях высоких температур и давления. Это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магматическая порода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. Базальт тяжелее гранита и содержит больше железа, магния и кальц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4178160"/>
            <a:ext cx="3024360" cy="220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type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0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Породы слагающие земную кор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28412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42920" y="41720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07040" y="1295280"/>
            <a:ext cx="3325680" cy="249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292720" y="42260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5" name="type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Движения земной кор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1557360"/>
            <a:ext cx="36781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86400"/>
                </a:solidFill>
                <a:latin typeface="Verdana"/>
              </a:rPr>
              <a:t>Ученые считают, что земная кора разделена глубинными разломами на блоки или плиты, разной величины. Эти плиты перемещаются по разжиженному слою мантии относительно друг друга. Есть плиты, которые заключают в себе только земную кору материков (Евразийская плита). Но большинство плит заключает в себе как земную кору материков, так и земную кору ложа океанов. В местах, где сходятся плиты, происходит их столкновение, одна плита надвигается на другую, при этом образуются горные пояса, глубоководные желоба, островные дуги. Яркие примеры таких образований — Японские и Курильские острова. Движение плит ученые связывают с движением вещества в мантии. Какие же силы передвигают литосферные плиты? Это внутренние силы Земли, возникающие в результате распада радиоактивных элементов, входящих в состав ядра Земл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75308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2" name="type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0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abc0"/>
            </a:gs>
            <a:gs pos="100000">
              <a:srgbClr val="67ca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89000"/>
            <a:ext cx="878544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Границы литосферных плит находятся как в местах их разрыва, так и в местах столкновения - это подвижные участки земной коры, к которым приурочено большинство действующих вулканов и где часты землетрясения. Эти участки образуют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сейсмические пояса Земли</a:t>
            </a: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. К сейсмическим поясам Земли относятся районы Тихоокеанского побережья, Средиземноморья, побережья Атлантического океана. </a:t>
            </a:r>
            <a:r>
              <a:rPr b="0" lang="ru-RU" sz="2400" spc="-1" strike="noStrike" u="sng">
                <a:solidFill>
                  <a:srgbClr val="d2490c"/>
                </a:solidFill>
                <a:uFillTx/>
                <a:latin typeface="Verdana"/>
              </a:rPr>
              <a:t>Самым крупным сейсмическим поясом Земли</a:t>
            </a: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 является Тихоокеанский вулканический пояс, или, как его часто называют, Тихоокеанское «огненное кольцо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2490c"/>
                </a:solidFill>
                <a:latin typeface="Verdana"/>
              </a:rPr>
              <a:t>Чем больше мы удаляемся от границ подвижных участков к центру плиты, тем более устойчивыми становятся участки земной коры. Москва, например, находится в центре Евразийской плиты, и ее, территория считается вполне сейсмически устойчив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4:09:06Z</dcterms:created>
  <dc:creator>Customer</dc:creator>
  <dc:description/>
  <dc:language>en-US</dc:language>
  <cp:lastModifiedBy>Коля</cp:lastModifiedBy>
  <dcterms:modified xsi:type="dcterms:W3CDTF">2013-06-04T10:16:30Z</dcterms:modified>
  <cp:revision>24</cp:revision>
  <dc:subject/>
  <dc:title>Литосфера</dc:title>
</cp:coreProperties>
</file>