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29.jpeg" ContentType="image/jpeg"/>
  <Override PartName="/ppt/media/image8.jpeg" ContentType="image/jpeg"/>
  <Override PartName="/ppt/media/image9.png" ContentType="image/png"/>
  <Override PartName="/ppt/media/image1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C4B-63EA-4D6A-AB7E-10F873C9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EB6-5D1F-4065-B11E-02781E14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E05-847B-4013-895C-8C9671CE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244-A7C2-48A4-85B2-F1B812E3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0C2-28FE-42FC-9439-7A24AD7A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8BC-C38A-4C88-AEA5-FDB4CCC0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7FA-A390-432F-AF02-5A84D6ED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E32-913F-4541-9231-D27E985E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6A6-B14E-4CF0-A930-18FEF191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B56-1341-4F04-A277-5F105FB3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A1F-7DB4-4C93-B1D2-C5566D4F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21C-333E-4E1C-9CF6-4D0C321B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4357-4C0E-4B56-AD0D-93121C5C8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hyperlink" Target="http://ru.wikipedia.org/wiki/&#1060;&#1072;&#1081;&#1083;:Coat_of_Arms_of_Ust-abakansky_rayon_(Khakassia).gif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ru.wikipedia.org/wiki/&#1060;&#1072;&#1081;&#1083;:Coat_of_Arms_of_Shirinsky_rayon_(Khakassia).gif" TargetMode="External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xcurs.ru/" TargetMode="External"/><Relationship Id="rId2" Type="http://schemas.openxmlformats.org/officeDocument/2006/relationships/hyperlink" Target="http://www.excurs.ru/" TargetMode="External"/><Relationship Id="rId3" Type="http://schemas.openxmlformats.org/officeDocument/2006/relationships/hyperlink" Target="http://www.excurs.ru/" TargetMode="External"/><Relationship Id="rId4" Type="http://schemas.openxmlformats.org/officeDocument/2006/relationships/hyperlink" Target="http://www.excurs.ru/" TargetMode="External"/><Relationship Id="rId5" Type="http://schemas.openxmlformats.org/officeDocument/2006/relationships/image" Target="../media/image21.png"/><Relationship Id="rId6" Type="http://schemas.openxmlformats.org/officeDocument/2006/relationships/hyperlink" Target="http://www.excurs.ru/history/Heraldry_history.htm" TargetMode="External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8153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 Black"/>
              </a:rPr>
              <a:t>Использование НРК в преподавании географ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1120" y="4419360"/>
            <a:ext cx="4495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читель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БОУ Катановская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апсаргина Д.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ите гербы и флаг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их районов РХ изображ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1797120" cy="2238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0120" y="1600200"/>
            <a:ext cx="1895400" cy="2362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562720" y="1295280"/>
            <a:ext cx="168120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4114800"/>
            <a:ext cx="1784520" cy="2219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1523880"/>
            <a:ext cx="1955880" cy="236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Flag of Beysky rayon (Khakassia).png"/>
          <p:cNvPicPr/>
          <p:nvPr/>
        </p:nvPicPr>
        <p:blipFill>
          <a:blip r:embed="rId9"/>
          <a:stretch/>
        </p:blipFill>
        <p:spPr>
          <a:xfrm>
            <a:off x="6553080" y="3429000"/>
            <a:ext cx="2438640" cy="1625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Flag of Shirinsky rayon (Khakassia).png"/>
          <p:cNvPicPr/>
          <p:nvPr/>
        </p:nvPicPr>
        <p:blipFill>
          <a:blip r:embed="rId10"/>
          <a:stretch/>
        </p:blipFill>
        <p:spPr>
          <a:xfrm>
            <a:off x="5562720" y="5181480"/>
            <a:ext cx="2286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ерб Аскиз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зеленом поле две золотые, скачущие, противообращенно-соединенные передние половины коней в таковых же уборах и с общим червленым (красным) с золотыми украшениями и стременами седлом и общей червленой подпругой; над седлом - золотая чаша с червленым пояском на подставке и дважды просеченным серебряно-червлено-серебряным пояском у кр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гербе поселения скачущие кони - символизирует основное занятие местного населения. Конь - символ устремленности в будущее, здоровья, физической силы, скорости, трудолюбия и выносливост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оме скотоводства местное население занималось добычей золота. Золотая чаша - символ богатств Аскизской земли, в которой найдены многочисленные залежи золота, железа, мрамора, угля, гипса, марганца, меди, молибдена и других полезных ископаемых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ры, покрытые хвойными и лиственными деревьями (на гербе символически отражены зеленым цветом), леса богатые орехом, грибами и ягодами создают неповторимый, уникальный образ Аскизской земл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еленый цвет символизирует весну, здоровье, природу, надежду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олото - символ высшей ценности, величия, великодушия, богатства, урожая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асный цвет - символ мужества, жизнеутверждающей силы и красоты, праздника, труда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ребро - символ чистоты, ясности, открытости, божественной мудрости, прими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94489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ГЕРБ, ЭМБЛЕМА, СИМВОЛ: В ЧЕМ РАЗНИЦ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Геральд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 гербоведение - дисциплина, посвященная изучению гер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Геральд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частью эмблематики - группы взаимосвязанных дисциплин, изучающих эм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терминов “герб”, “эмблема”, а также “символ” имеет смысл рассмотреть во взаимной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мв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нак, иносказательно указывающий на некое понятие или явление (так, скипетр – символ власти, пальмовая ветвь – мира, а также первенства, и т.д.)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м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имвол, предметом обозначения которого является не абстрактное понятие, а индивидуальный или коллективный “обладатель” этой эмблемы, устойчиво ею пользующийся (так, скрещенные топоры – эмблема инженерных войск Российской империи, а также их генерал-инспектора)*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нец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астный случай эмблемы, характеризующийся тем, что его строение, употребление, правовой статус соответствуют особым, исторически установившимся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urs.ru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590920" y="1600200"/>
            <a:ext cx="4152960" cy="657360"/>
          </a:xfrm>
          <a:prstGeom prst="rect">
            <a:avLst/>
          </a:prstGeom>
          <a:ln w="0">
            <a:noFill/>
          </a:ln>
        </p:spPr>
      </p:pic>
      <p:pic>
        <p:nvPicPr>
          <p:cNvPr id="81" name="Knop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53080" y="4114800"/>
            <a:ext cx="685800" cy="409680"/>
          </a:xfrm>
          <a:prstGeom prst="rect">
            <a:avLst/>
          </a:prstGeom>
          <a:ln w="0">
            <a:noFill/>
          </a:ln>
        </p:spPr>
      </p:pic>
      <p:pic>
        <p:nvPicPr>
          <p:cNvPr id="82" name="Knop" descr=""/>
          <p:cNvPicPr/>
          <p:nvPr/>
        </p:nvPicPr>
        <p:blipFill>
          <a:blip r:embed="rId8"/>
          <a:stretch/>
        </p:blipFill>
        <p:spPr>
          <a:xfrm>
            <a:off x="6400800" y="3276720"/>
            <a:ext cx="685800" cy="409320"/>
          </a:xfrm>
          <a:prstGeom prst="rect">
            <a:avLst/>
          </a:prstGeom>
          <a:ln w="0">
            <a:noFill/>
          </a:ln>
        </p:spPr>
      </p:pic>
      <p:pic>
        <p:nvPicPr>
          <p:cNvPr id="83" name="Knop" descr=""/>
          <p:cNvPicPr/>
          <p:nvPr/>
        </p:nvPicPr>
        <p:blipFill>
          <a:blip r:embed="rId9"/>
          <a:stretch/>
        </p:blipFill>
        <p:spPr>
          <a:xfrm>
            <a:off x="228600" y="2286000"/>
            <a:ext cx="685800" cy="409680"/>
          </a:xfrm>
          <a:prstGeom prst="rect">
            <a:avLst/>
          </a:prstGeom>
          <a:ln w="0">
            <a:noFill/>
          </a:ln>
        </p:spPr>
      </p:pic>
      <p:pic>
        <p:nvPicPr>
          <p:cNvPr id="84" name="Knop" descr=""/>
          <p:cNvPicPr/>
          <p:nvPr/>
        </p:nvPicPr>
        <p:blipFill>
          <a:blip r:embed="rId10"/>
          <a:stretch/>
        </p:blipFill>
        <p:spPr>
          <a:xfrm>
            <a:off x="228600" y="4114800"/>
            <a:ext cx="685800" cy="409680"/>
          </a:xfrm>
          <a:prstGeom prst="rect">
            <a:avLst/>
          </a:prstGeom>
          <a:ln w="0">
            <a:noFill/>
          </a:ln>
        </p:spPr>
      </p:pic>
      <p:pic>
        <p:nvPicPr>
          <p:cNvPr id="85" name="Vit" descr=""/>
          <p:cNvPicPr/>
          <p:nvPr/>
        </p:nvPicPr>
        <p:blipFill>
          <a:blip r:embed="rId11"/>
          <a:stretch/>
        </p:blipFill>
        <p:spPr>
          <a:xfrm>
            <a:off x="3657600" y="2438280"/>
            <a:ext cx="23814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Knop" descr=""/>
          <p:cNvPicPr/>
          <p:nvPr/>
        </p:nvPicPr>
        <p:blipFill>
          <a:blip r:embed="rId12"/>
          <a:stretch/>
        </p:blipFill>
        <p:spPr>
          <a:xfrm>
            <a:off x="152280" y="3276720"/>
            <a:ext cx="685800" cy="409320"/>
          </a:xfrm>
          <a:prstGeom prst="rect">
            <a:avLst/>
          </a:prstGeom>
          <a:ln w="0">
            <a:noFill/>
          </a:ln>
        </p:spPr>
      </p:pic>
      <p:pic>
        <p:nvPicPr>
          <p:cNvPr id="87" name="Knop" descr=""/>
          <p:cNvPicPr/>
          <p:nvPr/>
        </p:nvPicPr>
        <p:blipFill>
          <a:blip r:embed="rId13"/>
          <a:stretch/>
        </p:blipFill>
        <p:spPr>
          <a:xfrm>
            <a:off x="5867280" y="2362320"/>
            <a:ext cx="685800" cy="40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200" y="1943280"/>
            <a:ext cx="238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810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11480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2133720"/>
          <a:ext cx="3255840" cy="3429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607840"/>
              </a:tblGrid>
              <a:tr h="788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СТОРИЯ ГЕРАЛЬД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АВИЛА ГЕРАЛЬД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РОССИЙСКАЯ ГЕРАЛЬД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ЖИВОТНЫЙ МИР ГЕРАЛЬД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553080" y="2133720"/>
          <a:ext cx="2962440" cy="3457440"/>
        </p:xfrm>
        <a:graphic>
          <a:graphicData uri="http://schemas.openxmlformats.org/drawingml/2006/table">
            <a:tbl>
              <a:tblPr/>
              <a:tblGrid>
                <a:gridCol w="2051280"/>
                <a:gridCol w="91116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ГЕРАЛЬДИЧЕСКИЙ АТЛ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Л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АШ ГЕР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GALL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Knop" descr=""/>
          <p:cNvPicPr/>
          <p:nvPr/>
        </p:nvPicPr>
        <p:blipFill>
          <a:blip r:embed="rId14"/>
          <a:stretch/>
        </p:blipFill>
        <p:spPr>
          <a:xfrm>
            <a:off x="228600" y="4114800"/>
            <a:ext cx="685800" cy="409680"/>
          </a:xfrm>
          <a:prstGeom prst="rect">
            <a:avLst/>
          </a:prstGeom>
          <a:ln w="0">
            <a:noFill/>
          </a:ln>
        </p:spPr>
      </p:pic>
      <p:pic>
        <p:nvPicPr>
          <p:cNvPr id="100" name="Knop" descr=""/>
          <p:cNvPicPr/>
          <p:nvPr/>
        </p:nvPicPr>
        <p:blipFill>
          <a:blip r:embed="rId15"/>
          <a:stretch/>
        </p:blipFill>
        <p:spPr>
          <a:xfrm>
            <a:off x="228600" y="4800600"/>
            <a:ext cx="685800" cy="409680"/>
          </a:xfrm>
          <a:prstGeom prst="rect">
            <a:avLst/>
          </a:prstGeom>
          <a:ln w="0">
            <a:noFill/>
          </a:ln>
        </p:spPr>
      </p:pic>
      <p:pic>
        <p:nvPicPr>
          <p:cNvPr id="101" name="Knop" descr=""/>
          <p:cNvPicPr/>
          <p:nvPr/>
        </p:nvPicPr>
        <p:blipFill>
          <a:blip r:embed="rId16"/>
          <a:stretch/>
        </p:blipFill>
        <p:spPr>
          <a:xfrm>
            <a:off x="6477120" y="4952880"/>
            <a:ext cx="6858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оставить герб или эмблему «Сообщество учителей географии Республики Хака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9154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ставить проект эмблемы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10 м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щитить свой проект (объяснить значение символов)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3 м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брать лучшую эмбл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Эмблемы и герб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1905120" cy="254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Оформление православной гимназии"/>
          <p:cNvPicPr/>
          <p:nvPr/>
        </p:nvPicPr>
        <p:blipFill>
          <a:blip r:embed="rId3"/>
          <a:stretch/>
        </p:blipFill>
        <p:spPr>
          <a:xfrm>
            <a:off x="5410080" y="83808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герб школы"/>
          <p:cNvPicPr/>
          <p:nvPr/>
        </p:nvPicPr>
        <p:blipFill>
          <a:blip r:embed="rId4"/>
          <a:stretch/>
        </p:blipFill>
        <p:spPr>
          <a:xfrm>
            <a:off x="4648320" y="3809880"/>
            <a:ext cx="3504960" cy="228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учитель года эмблема"/>
          <p:cNvPicPr/>
          <p:nvPr/>
        </p:nvPicPr>
        <p:blipFill>
          <a:blip r:embed="rId5"/>
          <a:stretch/>
        </p:blipFill>
        <p:spPr>
          <a:xfrm>
            <a:off x="2286000" y="990720"/>
            <a:ext cx="2941560" cy="327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стенд логотип школы"/>
          <p:cNvPicPr/>
          <p:nvPr/>
        </p:nvPicPr>
        <p:blipFill>
          <a:blip r:embed="rId6"/>
          <a:stretch/>
        </p:blipFill>
        <p:spPr>
          <a:xfrm>
            <a:off x="228600" y="3962520"/>
            <a:ext cx="31240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ект «НРК государственных стандартов общего образования и учебные программы по предметам «Родной край – Хакасия» (1-9 кл), «Современная Хакасия» (10-11кл)» Абакан, 200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РК и музейная педагогика в образовательном процессе: Аскизский опыт. Сборник практических материалов для учителя. – Абакан: Хак.кн.изд.,200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акасский детский праздник Тун пайрам: пособие для учителя. – Абакан: Хак.кн.изд.,2011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www.excurs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Красные тюльпа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066680" y="449568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онально-культурная основа воспитания создаётся систематическим приобщением подрастающего поколения к культурным и духовно-нравственным традициям, базовым национальным ценностям на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Основной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целью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 НРК является: воспитание личности, способной к самоопределению, готовой к самореализации в специфической для РХ природно-климатической, экономической, исторической и социокультурной среде, посредством освоения основ национальной культуры, национального языка и национальной литературы, изучения природных, историко-культурных, экономических, социально-экологических особенностей родного края.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61560" y="379800"/>
            <a:ext cx="588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заменов итоговой аттест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курс 9 и 11 классов по географ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203480"/>
          <a:ext cx="8686800" cy="473220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990360"/>
                <a:gridCol w="609840"/>
                <a:gridCol w="609480"/>
                <a:gridCol w="609480"/>
                <a:gridCol w="685800"/>
                <a:gridCol w="1067040"/>
                <a:gridCol w="12189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(форма экзамен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ЕГЭ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 (ГИ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ЕГЭ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828800"/>
            <a:ext cx="8763120" cy="5714640"/>
            <a:chOff x="152280" y="1828800"/>
            <a:chExt cx="8763120" cy="57146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066640" y="1828800"/>
              <a:ext cx="3848760" cy="46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152280" y="1836720"/>
              <a:ext cx="3731400" cy="46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508840" y="6872760"/>
              <a:ext cx="4268880" cy="67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-4343400" y="1752480"/>
            <a:ext cx="8325000" cy="5790960"/>
            <a:chOff x="-4343400" y="1752480"/>
            <a:chExt cx="8325000" cy="57909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89000" y="1752480"/>
              <a:ext cx="3792600" cy="48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-4343400" y="1801080"/>
              <a:ext cx="3987720" cy="48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-2577600" y="6848640"/>
              <a:ext cx="4237920" cy="69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52280" y="27432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«Символика Республики Хакас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Imprint MT Shadow"/>
              </a:rPr>
              <a:t>познакомится с символикой 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учить литературу по д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знакомиться с символикой Р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пространение и обобщение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спомните значение герба Хака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559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й герб Республики Хакасия представляет собой овальный с выемкой в верхней части красный геральдический щит, на котором изображен крылатый снежный барс белого цвета с тёмными пятнами на спине и приподнятой передней правой лапой. Щит обрамлён березовыми ветвями с зелёными листьями. В основании обрамления в зелёном шестиугольнике надпись "ХАКАСИЯ", в верхней разомкнутой части обрамления - солярный знак. Надпись "ХАКАСИЯ" и солярный знак золотого цвета. Из приложенного к тексту закона цветного изображения следует, что Государственный герб Республики Хакасия представляет собой серебряный круглый щит, в центре которого помещено красное традиционное хакасское женское нагрудное украшение пого в виде сердцевидной овальной пластины с двойной узкой золотой кай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ите гербы каких городов РХ изображ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86200" y="4191120"/>
            <a:ext cx="159084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5200" y="1905120"/>
            <a:ext cx="163512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971800" y="1371600"/>
            <a:ext cx="1514520" cy="2476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181480" y="1905120"/>
            <a:ext cx="166536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315200" y="1905120"/>
            <a:ext cx="156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5T14:28:0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