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9.png" ContentType="image/png"/>
  <Override PartName="/ppt/media/image11.jpeg" ContentType="image/jpeg"/>
  <Override PartName="/ppt/media/image7.wmf" ContentType="image/x-wmf"/>
  <Override PartName="/ppt/media/image16.jpeg" ContentType="image/jpeg"/>
  <Override PartName="/ppt/media/image15.png" ContentType="image/png"/>
  <Override PartName="/ppt/media/image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6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Учитель" initials="У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presProps" Target="presProps.xml"/><Relationship Id="rId29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2-03T16:39:33.465000000" idx="1">
    <p:pos x="10" y="10"/>
    <p:text>Учитель: Мозгунова Наталья Александровна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f4259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E1882-1DD4-4345-B865-C74E342D977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1782B-72CE-4EDA-8537-95A82A5E8E5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59845-B721-407B-AC48-2EE4BCDBA47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DA3CC-6CF9-42B7-A1F3-06FB2620DB4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6BFB9-041C-4EF1-9FDD-76D1DF8DD40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AB673-E793-46F1-964E-E4AC20354AF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7C03A-57F4-4048-ADAC-ABFF8ABA87E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6E79F-DA7A-413A-A2C0-35E7F8336AD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050DE-34F4-490F-872A-20104C0ECEA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1CED8-FFF4-4B7F-A888-042B2E9487C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B0127-659C-4D6E-A489-D07B9D5D93E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F95C9-8261-459A-BA03-FBAD3F24D5C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88F89-EA86-4FF8-9D72-4562DAA541F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1C0DF-E9E4-4462-973F-1C2BC79B9A2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76940-DC55-4494-9436-BD8B4AF90E7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E44D2-6315-4230-815F-5CAC615EE6F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32A7F-7EA2-48A9-915D-2CCC79B16C4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16938-6A4E-4B9D-9FF1-FA3185AB92D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3F392-23A9-4EAB-ABBC-FEDCC1DBA4B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528E-5A4E-4B86-92DB-3AFD82D67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DA34-A329-4C9C-B1F8-B691AB78C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097B-AED2-4EC0-9A85-2FE444C23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A573-B3AD-4B87-AF04-99F8FD1C7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EDF7D-F329-4434-AE24-C5D83E528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311A1-8D38-4667-BD91-98050606F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06339-87A9-428A-ABB7-BDA566D0C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7031B-BC81-4300-AB45-983FFCBCD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B0936-932B-4C1F-AD1E-1714A51F3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C1CB4-8330-47BE-B658-8B74139D4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042A9-6595-4648-A682-A45021B9A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6705-0D83-460A-B079-1772FE077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FB6A4-A1A6-490F-A0EA-D0000AB19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C0C24-2D79-45ED-BED3-C907E9149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A623B-D500-40F2-B282-00CD40596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AD373-D4C9-4A25-9E29-6464365D7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1FAC6-5D17-420C-ADC7-9243F9460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CD0611-5D32-4664-B29F-EE19FB537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51DC80-460B-4975-B62C-C1E55E515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C9FA39-E344-40F3-A598-CD23AF4E3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86C9F8-9D92-4599-9A0B-CD2D43909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A80CC6-A680-431E-A858-FEA029CD7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F53B-78CF-46F1-A82A-BE0F6657B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A6E8CE-A150-4110-B68F-1927A7AFD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052AEA-E95F-4EFF-AB74-EDDF8B077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DAA889-7A6F-4914-9456-1B2F5BA4E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76510C-76B3-44F5-A7D0-ACA533D9D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4A9231-86F6-45CD-9A03-F0AFDB895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7CEBE3-F531-43FE-8066-423C69A65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5150C0-9CE1-47B4-9751-09A3DF3D6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4B2F60-EBDA-49DC-A30F-C2E6385AA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535876-2072-4BBB-82E2-0412D3E17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B32149-4CA8-435A-9DE8-3898E3DE0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9D42-7925-40DB-85E9-6ED9F59A3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CA4C6A-8161-4E10-96E8-E9024F316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DA3762-1D5F-47A9-B72B-5B3EE1D4F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0E2F83-4C48-4D72-8408-380AD5AE1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E959A1-9E1C-4D03-8C32-563DEF0D4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0DBDBB-49CD-4F1E-8236-7F958BB36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E08632-B5BF-407B-894D-7C8CCA717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89EC35-664B-41E3-AE1E-C8E05B964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1575D0-0F21-4649-9095-E02E1E8BB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B0F078-6F55-45F0-A23F-88E67C0C1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45122C-B0FA-447A-9A74-16456C64D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63E0-D298-424D-9501-1CC1B73AB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91DABD-CD4D-4336-87E6-16606F587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50FBC0-5144-404C-ADF2-69923079C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F75FD3-A44F-45D0-A8E4-3E6D3FE9E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9D010E-7B3D-4976-ABC9-E63C2B945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8CA4F6-5DAB-43C2-871C-4D1EAA1F7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1D8FC1-8D0A-402A-BB33-8F7C11223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179A5A-8C4F-40DF-83BB-ECA9518C7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22842B-54E0-480D-99BF-3C826DA74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470DF7-D9C0-4D18-B11F-6E6E3710F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729298-00D8-49F9-8597-B2B8204AF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E48A-B043-4085-9301-0406484DE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5348B8-01F7-4939-A147-42D594ED3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E4B7B2-13FB-430B-99C5-02426B8F7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1DDAF3-4773-4A7D-B321-46C61D437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07F049-9925-4F83-98FD-568D4B4B8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EC9FF7-F7A4-4C2D-9535-985970617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A57630-31BD-40D6-8279-DFED6C74E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F64972-6813-4FC1-8A85-7AC267954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081FBB-5D72-463C-90B0-B353F5D31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CE4EC2-24C4-411B-83BB-92635E5E7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0594D4-9B33-4C88-81A4-9FD65DEE2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1DB2-489F-47C0-8330-75BD0F313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962797-E95E-48A5-85B6-F6061F9AF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48EB8D-1847-4C13-9B51-131CAE6CA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5BE5AC-B277-48B8-85F6-D8471FD7B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4448D9-D8D6-449D-AA52-F5DDA673D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B7CED1-EB7C-43E1-95F1-D0E4E4296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B674D1-17B7-4142-B3B0-BE38D1894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91D9DE-D744-4A07-8323-3B91AFED2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80DCF6-2DDF-4A0B-A93F-309828363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2F10D4-C630-4BD8-841C-03E19F1E7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A507A8-10F0-4422-8960-229B45587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C335-D5BB-4FCC-8BFA-E0A579F90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3335F7-8958-48DC-872E-DCC343FE5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F0FED9-8AA2-45D6-AD8D-9BCBA253F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A8AF02-0EB0-4DEC-9201-0ED2D2237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85EFB9-060B-404F-B248-92C0DF3F1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C9D047-9D95-473F-AA00-FF32EC08F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2579-C360-465F-8AFE-98C0AAB94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6f4f9">
              <a:alpha val="33000"/>
            </a:srgbClr>
          </a:solidFill>
          <a:ln cap="rnd" w="3240">
            <a:solidFill>
              <a:srgbClr val="ab9f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e8e0f2"/>
            </a:solidFill>
            <a:miter/>
          </a:ln>
          <a:effectLst>
            <a:outerShdw dist="12600" dir="5400000" blurRad="0" rotWithShape="0">
              <a:srgbClr val="938b9c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f4259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a04d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c4652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3889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3889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3889f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6FB1D-209C-442C-B8C9-3C9C2A30823E}" type="slidenum">
              <a:rPr b="0" lang="ru-RU" sz="1200" spc="-1" strike="noStrike">
                <a:solidFill>
                  <a:srgbClr val="93889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05c64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6f4f9">
              <a:alpha val="33000"/>
            </a:srgbClr>
          </a:solidFill>
          <a:ln cap="rnd" w="3240">
            <a:solidFill>
              <a:srgbClr val="ab9f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e8e0f2"/>
            </a:solidFill>
            <a:miter/>
          </a:ln>
          <a:effectLst>
            <a:outerShdw dist="12600" dir="5400000" blurRad="0" rotWithShape="0">
              <a:srgbClr val="938b9c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05c64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b5a359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f4259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a04d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c4652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3889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3889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3889f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FEFAA-FD39-4169-A65E-4B05870B41BF}" type="slidenum">
              <a:rPr b="0" lang="ru-RU" sz="1200" spc="-1" strike="noStrike">
                <a:solidFill>
                  <a:srgbClr val="93889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05c64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b5a359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f4259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a04d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c4652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3889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3889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3889f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B7BAC-C443-492D-9B9F-C773311A88F9}" type="slidenum">
              <a:rPr b="0" lang="ru-RU" sz="1200" spc="-1" strike="noStrike">
                <a:solidFill>
                  <a:srgbClr val="93889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f4259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a04d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c4652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3889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3889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3889f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3A1A9-556B-4C53-8324-18654A0B9D4D}" type="slidenum">
              <a:rPr b="0" lang="ru-RU" sz="1200" spc="-1" strike="noStrike">
                <a:solidFill>
                  <a:srgbClr val="93889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05c64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f4259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a04d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c4652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3889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3889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3889f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B144D-80AB-4853-B7C2-7338D069BC37}" type="slidenum">
              <a:rPr b="0" lang="ru-RU" sz="1200" spc="-1" strike="noStrike">
                <a:solidFill>
                  <a:srgbClr val="93889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f4259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a04d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c4652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3889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3889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3889f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CAA8B-393F-44AB-8A2E-7F2DC1830C2A}" type="slidenum">
              <a:rPr b="0" lang="ru-RU" sz="1200" spc="-1" strike="noStrike">
                <a:solidFill>
                  <a:srgbClr val="93889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bfb2cf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c9c2d1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f4259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a04d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c4652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3889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3889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3889f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2F067-8E03-4509-949A-B9076B82A398}" type="slidenum">
              <a:rPr b="0" lang="ru-RU" sz="1200" spc="-1" strike="noStrike">
                <a:solidFill>
                  <a:srgbClr val="93889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61.xml"/><Relationship Id="rId3" Type="http://schemas.openxmlformats.org/officeDocument/2006/relationships/comments" Target="../comments/commen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6840" y="1071360"/>
            <a:ext cx="818676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1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82971"/>
                </a:solidFill>
                <a:latin typeface="Corbel"/>
              </a:rPr>
              <a:t>МИКРООРГАНИЗМЫ -</a:t>
            </a:r>
            <a:endParaRPr b="0" lang="en-US" sz="44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213840"/>
            <a:ext cx="3828960" cy="10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14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Выполнил: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414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ученик 3 «Б» класса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414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МБОУСОШ № 2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414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rbel"/>
              </a:rPr>
              <a:t>Шакиров Тимур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Подзаголовок 2"/>
          <p:cNvSpPr/>
          <p:nvPr/>
        </p:nvSpPr>
        <p:spPr>
          <a:xfrm>
            <a:off x="1143000" y="3643200"/>
            <a:ext cx="740736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a383d"/>
                </a:solidFill>
                <a:latin typeface="Corbe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Рисунок 1" descr=""/>
          <p:cNvPicPr/>
          <p:nvPr/>
        </p:nvPicPr>
        <p:blipFill>
          <a:blip r:embed="rId1"/>
          <a:stretch/>
        </p:blipFill>
        <p:spPr>
          <a:xfrm>
            <a:off x="1643040" y="3000240"/>
            <a:ext cx="5857920" cy="3571920"/>
          </a:xfrm>
          <a:prstGeom prst="rect">
            <a:avLst/>
          </a:prstGeom>
          <a:ln w="9360">
            <a:solidFill>
              <a:srgbClr val="ceb966"/>
            </a:solidFill>
            <a:miter/>
          </a:ln>
        </p:spPr>
      </p:pic>
      <p:sp>
        <p:nvSpPr>
          <p:cNvPr id="329" name="Заголовок 1"/>
          <p:cNvSpPr/>
          <p:nvPr/>
        </p:nvSpPr>
        <p:spPr>
          <a:xfrm>
            <a:off x="1428840" y="2071800"/>
            <a:ext cx="200016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rbel"/>
              </a:rPr>
              <a:t>друзь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Заголовок 1"/>
          <p:cNvSpPr/>
          <p:nvPr/>
        </p:nvSpPr>
        <p:spPr>
          <a:xfrm>
            <a:off x="5500800" y="2071800"/>
            <a:ext cx="328608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rbel"/>
              </a:rPr>
              <a:t>враг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Заголовок 1"/>
          <p:cNvSpPr/>
          <p:nvPr/>
        </p:nvSpPr>
        <p:spPr>
          <a:xfrm>
            <a:off x="3786120" y="2071800"/>
            <a:ext cx="200016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82971"/>
                </a:solidFill>
                <a:latin typeface="Corbel"/>
              </a:rPr>
              <a:t>или</a:t>
            </a:r>
            <a:r>
              <a:rPr b="1" lang="ru-RU" sz="4400" spc="-1" strike="noStrike">
                <a:solidFill>
                  <a:srgbClr val="7e4e99"/>
                </a:solidFill>
                <a:latin typeface="Corbe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Заголовок 1"/>
          <p:cNvSpPr/>
          <p:nvPr/>
        </p:nvSpPr>
        <p:spPr>
          <a:xfrm>
            <a:off x="3143160" y="2857680"/>
            <a:ext cx="3286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82971"/>
                </a:solidFill>
                <a:latin typeface="Corbe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7225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a383d"/>
                </a:solidFill>
                <a:latin typeface="Corbe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8" name="Подзаголовок 2"/>
          <p:cNvSpPr/>
          <p:nvPr/>
        </p:nvSpPr>
        <p:spPr>
          <a:xfrm>
            <a:off x="1143000" y="3643200"/>
            <a:ext cx="321480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a383d"/>
                </a:solidFill>
                <a:latin typeface="Corbe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Box 11"/>
          <p:cNvSpPr/>
          <p:nvPr/>
        </p:nvSpPr>
        <p:spPr>
          <a:xfrm>
            <a:off x="1571760" y="285840"/>
            <a:ext cx="735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82971"/>
                </a:solidFill>
                <a:latin typeface="Arial"/>
              </a:rPr>
              <a:t>А вот так выглядит очень вредная бактерия сальмонелл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Box 12"/>
          <p:cNvSpPr/>
          <p:nvPr/>
        </p:nvSpPr>
        <p:spPr>
          <a:xfrm>
            <a:off x="2000160" y="5357880"/>
            <a:ext cx="678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82971"/>
                </a:solidFill>
                <a:latin typeface="Arial"/>
              </a:rPr>
              <a:t>Она вызывает тяжелейшее заболевание челове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Рисунок 18" descr="Salmonella typhi, Salmonella paratiphi, брюшной тиф, паратиф, сальмонелла, сальмонеллез, сальмонеллёз, вода, патоген, водный патогенный микроорганизм, бактерия, заражение."/>
          <p:cNvPicPr/>
          <p:nvPr/>
        </p:nvPicPr>
        <p:blipFill>
          <a:blip r:embed="rId1"/>
          <a:stretch/>
        </p:blipFill>
        <p:spPr>
          <a:xfrm>
            <a:off x="2786040" y="1500120"/>
            <a:ext cx="3705120" cy="3005280"/>
          </a:xfrm>
          <a:prstGeom prst="rect">
            <a:avLst/>
          </a:prstGeom>
          <a:ln w="38160">
            <a:solidFill>
              <a:srgbClr val="00206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7225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a383d"/>
                </a:solidFill>
                <a:latin typeface="Corbe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3" name="Подзаголовок 2"/>
          <p:cNvSpPr/>
          <p:nvPr/>
        </p:nvSpPr>
        <p:spPr>
          <a:xfrm>
            <a:off x="1143000" y="3643200"/>
            <a:ext cx="321480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a383d"/>
                </a:solidFill>
                <a:latin typeface="Corbe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Box 11"/>
          <p:cNvSpPr/>
          <p:nvPr/>
        </p:nvSpPr>
        <p:spPr>
          <a:xfrm>
            <a:off x="1571760" y="285840"/>
            <a:ext cx="7358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огда появились микроб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Box 6"/>
          <p:cNvSpPr/>
          <p:nvPr/>
        </p:nvSpPr>
        <p:spPr>
          <a:xfrm>
            <a:off x="1357200" y="1143000"/>
            <a:ext cx="742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82971"/>
                </a:solidFill>
                <a:latin typeface="Arial"/>
              </a:rPr>
              <a:t>Микробы – древнейшие обитатели планет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82971"/>
                </a:solidFill>
                <a:latin typeface="Arial"/>
              </a:rPr>
              <a:t>Они появились на земле за много миллиардов лет до появления человека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6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7225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a383d"/>
                </a:solidFill>
                <a:latin typeface="Corbe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8" name="Подзаголовок 2"/>
          <p:cNvSpPr/>
          <p:nvPr/>
        </p:nvSpPr>
        <p:spPr>
          <a:xfrm>
            <a:off x="1143000" y="3643200"/>
            <a:ext cx="321480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a383d"/>
                </a:solidFill>
                <a:latin typeface="Corbe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Box 11"/>
          <p:cNvSpPr/>
          <p:nvPr/>
        </p:nvSpPr>
        <p:spPr>
          <a:xfrm>
            <a:off x="1571760" y="285840"/>
            <a:ext cx="73580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Но есть ещё и плохие микробы, которые вызывают разные болезни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Box 7"/>
          <p:cNvSpPr/>
          <p:nvPr/>
        </p:nvSpPr>
        <p:spPr>
          <a:xfrm>
            <a:off x="3500280" y="2071800"/>
            <a:ext cx="41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Они - наши враг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7225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a383d"/>
                </a:solidFill>
                <a:latin typeface="Corbe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3" name="Подзаголовок 2"/>
          <p:cNvSpPr/>
          <p:nvPr/>
        </p:nvSpPr>
        <p:spPr>
          <a:xfrm>
            <a:off x="1143000" y="3643200"/>
            <a:ext cx="321480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a383d"/>
                </a:solidFill>
                <a:latin typeface="Corbe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Box 6"/>
          <p:cNvSpPr/>
          <p:nvPr/>
        </p:nvSpPr>
        <p:spPr>
          <a:xfrm>
            <a:off x="1357200" y="285840"/>
            <a:ext cx="742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82971"/>
                </a:solidFill>
                <a:latin typeface="Arial"/>
              </a:rPr>
              <a:t>Некоторые микроорганизмы вызывают пищевое отравл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Box 7"/>
          <p:cNvSpPr/>
          <p:nvPr/>
        </p:nvSpPr>
        <p:spPr>
          <a:xfrm>
            <a:off x="1357200" y="1214280"/>
            <a:ext cx="7429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82971"/>
                </a:solidFill>
                <a:latin typeface="Arial"/>
              </a:rPr>
              <a:t>Даже небольшое количество микробов, которые попадают в наш организм,  могут  вызвать серьёзные заболева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Box 8"/>
          <p:cNvSpPr/>
          <p:nvPr/>
        </p:nvSpPr>
        <p:spPr>
          <a:xfrm>
            <a:off x="1428840" y="2428920"/>
            <a:ext cx="742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82971"/>
                </a:solidFill>
                <a:latin typeface="Arial"/>
              </a:rPr>
              <a:t>В окружающей нас среде: воздухе, почве, воде — находится много микробов, и они попадают в наш организ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Box 9"/>
          <p:cNvSpPr/>
          <p:nvPr/>
        </p:nvSpPr>
        <p:spPr>
          <a:xfrm>
            <a:off x="1428840" y="4429080"/>
            <a:ext cx="742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A 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можно ли уничтожить этих микробов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5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7225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a383d"/>
                </a:solidFill>
                <a:latin typeface="Corbe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0" name="Подзаголовок 2"/>
          <p:cNvSpPr/>
          <p:nvPr/>
        </p:nvSpPr>
        <p:spPr>
          <a:xfrm>
            <a:off x="1143000" y="3643200"/>
            <a:ext cx="321480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a383d"/>
                </a:solidFill>
                <a:latin typeface="Corbe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Box 6"/>
          <p:cNvSpPr/>
          <p:nvPr/>
        </p:nvSpPr>
        <p:spPr>
          <a:xfrm>
            <a:off x="1214280" y="285840"/>
            <a:ext cx="7429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Попробуем провести некоторые опыт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Box 7"/>
          <p:cNvSpPr/>
          <p:nvPr/>
        </p:nvSpPr>
        <p:spPr>
          <a:xfrm>
            <a:off x="1357200" y="2071800"/>
            <a:ext cx="7429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Опыт №1: Наличие микробов на разных предмет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Box 10"/>
          <p:cNvSpPr/>
          <p:nvPr/>
        </p:nvSpPr>
        <p:spPr>
          <a:xfrm>
            <a:off x="1332000" y="4149720"/>
            <a:ext cx="734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82971"/>
                </a:solidFill>
                <a:latin typeface="Arial"/>
              </a:rPr>
              <a:t>Возьмем стерильную палочку и  проведем по исследуемым поверхностя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7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Подзаголовок 2"/>
          <p:cNvSpPr/>
          <p:nvPr/>
        </p:nvSpPr>
        <p:spPr>
          <a:xfrm>
            <a:off x="1143000" y="3643200"/>
            <a:ext cx="321480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a383d"/>
                </a:solidFill>
                <a:latin typeface="Corbe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Box 6"/>
          <p:cNvSpPr/>
          <p:nvPr/>
        </p:nvSpPr>
        <p:spPr>
          <a:xfrm>
            <a:off x="1143000" y="285840"/>
            <a:ext cx="7643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Опыт: Порча продук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Box 8"/>
          <p:cNvSpPr/>
          <p:nvPr/>
        </p:nvSpPr>
        <p:spPr>
          <a:xfrm>
            <a:off x="1116000" y="1052640"/>
            <a:ext cx="802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82971"/>
                </a:solidFill>
                <a:latin typeface="Arial"/>
              </a:rPr>
              <a:t>Возьмем кусок хлеба и поместим его в полиэтиленовый пак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Picture 2" descr="хлеб"/>
          <p:cNvPicPr/>
          <p:nvPr/>
        </p:nvPicPr>
        <p:blipFill>
          <a:blip r:embed="rId1"/>
          <a:stretch/>
        </p:blipFill>
        <p:spPr>
          <a:xfrm>
            <a:off x="2411280" y="2492280"/>
            <a:ext cx="6159600" cy="4087800"/>
          </a:xfrm>
          <a:prstGeom prst="rect">
            <a:avLst/>
          </a:prstGeom>
          <a:ln w="0">
            <a:noFill/>
          </a:ln>
        </p:spPr>
      </p:pic>
      <p:sp>
        <p:nvSpPr>
          <p:cNvPr id="420" name="Стрелка вправо 11"/>
          <p:cNvSpPr/>
          <p:nvPr/>
        </p:nvSpPr>
        <p:spPr>
          <a:xfrm rot="3529200">
            <a:off x="1292760" y="2277000"/>
            <a:ext cx="1282680" cy="484200"/>
          </a:xfrm>
          <a:prstGeom prst="rightArrow">
            <a:avLst>
              <a:gd name="adj1" fmla="val 50000"/>
              <a:gd name="adj2" fmla="val 50001"/>
            </a:avLst>
          </a:prstGeom>
          <a:solidFill>
            <a:srgbClr val="382971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7225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a383d"/>
                </a:solidFill>
                <a:latin typeface="Corbe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2" name="Подзаголовок 2"/>
          <p:cNvSpPr/>
          <p:nvPr/>
        </p:nvSpPr>
        <p:spPr>
          <a:xfrm>
            <a:off x="1143000" y="3643200"/>
            <a:ext cx="321480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a383d"/>
                </a:solidFill>
                <a:latin typeface="Corbe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Box 8"/>
          <p:cNvSpPr/>
          <p:nvPr/>
        </p:nvSpPr>
        <p:spPr>
          <a:xfrm>
            <a:off x="1357200" y="214200"/>
            <a:ext cx="778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82971"/>
                </a:solidFill>
                <a:latin typeface="Arial"/>
              </a:rPr>
              <a:t>Попробуем взять кусочек хлеба и посеять на специальную питательную сред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Picture 2" descr="http://www.vscht.cz/obsah/fakulty/fpbt/ostatni/miniatlas/images/plisne/kolonie/Rhizopus%20stolonifer%20CCF%203225%20MEA%207-25.jpg"/>
          <p:cNvPicPr/>
          <p:nvPr/>
        </p:nvPicPr>
        <p:blipFill>
          <a:blip r:embed="rId1"/>
          <a:stretch/>
        </p:blipFill>
        <p:spPr>
          <a:xfrm>
            <a:off x="2556000" y="955800"/>
            <a:ext cx="5016240" cy="3616200"/>
          </a:xfrm>
          <a:prstGeom prst="rect">
            <a:avLst/>
          </a:prstGeom>
          <a:ln w="0">
            <a:noFill/>
          </a:ln>
        </p:spPr>
      </p:pic>
      <p:sp>
        <p:nvSpPr>
          <p:cNvPr id="426" name="TextBox 12"/>
          <p:cNvSpPr/>
          <p:nvPr/>
        </p:nvSpPr>
        <p:spPr>
          <a:xfrm>
            <a:off x="1619280" y="4724280"/>
            <a:ext cx="65008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Arial"/>
              </a:rPr>
              <a:t>Вот такое огромное количество плесени  выросло через 5  дней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7225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a383d"/>
                </a:solidFill>
                <a:latin typeface="Corbe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8" name="Подзаголовок 2"/>
          <p:cNvSpPr/>
          <p:nvPr/>
        </p:nvSpPr>
        <p:spPr>
          <a:xfrm>
            <a:off x="1143000" y="3643200"/>
            <a:ext cx="321480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a383d"/>
                </a:solidFill>
                <a:latin typeface="Corbe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Box 6"/>
          <p:cNvSpPr/>
          <p:nvPr/>
        </p:nvSpPr>
        <p:spPr>
          <a:xfrm>
            <a:off x="1500120" y="0"/>
            <a:ext cx="7643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акие можно сделать выводы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Box 10"/>
          <p:cNvSpPr/>
          <p:nvPr/>
        </p:nvSpPr>
        <p:spPr>
          <a:xfrm>
            <a:off x="1332000" y="2133720"/>
            <a:ext cx="7572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82971"/>
                </a:solidFill>
                <a:latin typeface="Arial"/>
              </a:rPr>
              <a:t>Находясь в нашем организме,  полезные микробы помогают ему быть здоровым и не дают вредным бактериям наносить вред человек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Box 14"/>
          <p:cNvSpPr/>
          <p:nvPr/>
        </p:nvSpPr>
        <p:spPr>
          <a:xfrm>
            <a:off x="1571760" y="785880"/>
            <a:ext cx="757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82971"/>
                </a:solidFill>
                <a:latin typeface="Arial"/>
              </a:rPr>
              <a:t>Мир микробов интересен и многообразен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Box 16"/>
          <p:cNvSpPr/>
          <p:nvPr/>
        </p:nvSpPr>
        <p:spPr>
          <a:xfrm>
            <a:off x="3000240" y="1214280"/>
            <a:ext cx="492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82971"/>
                </a:solidFill>
                <a:latin typeface="Arial"/>
              </a:rPr>
              <a:t>Среди микробов есть наши друзья и враг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Box 18"/>
          <p:cNvSpPr/>
          <p:nvPr/>
        </p:nvSpPr>
        <p:spPr>
          <a:xfrm>
            <a:off x="1332000" y="3357720"/>
            <a:ext cx="635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82971"/>
                </a:solidFill>
                <a:latin typeface="Arial"/>
              </a:rPr>
              <a:t>Я точно знаю, что нужно заботиться о своем здоровье, соблюдать правила гигиены и кушать неиспорченные продукты.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Box 19"/>
          <p:cNvSpPr/>
          <p:nvPr/>
        </p:nvSpPr>
        <p:spPr>
          <a:xfrm>
            <a:off x="2286000" y="4714920"/>
            <a:ext cx="6143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82971"/>
                </a:solidFill>
                <a:latin typeface="Arial"/>
              </a:rPr>
              <a:t>А как сложно будет  жить на земле, если микроорганизмы перестанут нам помогать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Box 20"/>
          <p:cNvSpPr/>
          <p:nvPr/>
        </p:nvSpPr>
        <p:spPr>
          <a:xfrm>
            <a:off x="2143080" y="5786280"/>
            <a:ext cx="6143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Будьте здоровы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Подзаголовок 2"/>
          <p:cNvSpPr/>
          <p:nvPr/>
        </p:nvSpPr>
        <p:spPr>
          <a:xfrm>
            <a:off x="1143000" y="3643200"/>
            <a:ext cx="321480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a383d"/>
                </a:solidFill>
                <a:latin typeface="Corbe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Box 10"/>
          <p:cNvSpPr/>
          <p:nvPr/>
        </p:nvSpPr>
        <p:spPr>
          <a:xfrm>
            <a:off x="1428840" y="1285920"/>
            <a:ext cx="678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Спасибо за вним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67720" cy="15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82971"/>
                </a:solidFill>
                <a:latin typeface="Arial"/>
                <a:ea typeface="Arial"/>
              </a:rPr>
              <a:t>Когда я был маленький,  мне мама очень часто говорила что нужно мыть руки с мылом после улицы, обязательно помыть фрукты и овощи  перед едой. </a:t>
            </a:r>
            <a:endParaRPr b="0" lang="en-US" sz="24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7225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a383d"/>
                </a:solidFill>
                <a:latin typeface="Corbe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5" name="Подзаголовок 2"/>
          <p:cNvSpPr/>
          <p:nvPr/>
        </p:nvSpPr>
        <p:spPr>
          <a:xfrm>
            <a:off x="1143000" y="3643200"/>
            <a:ext cx="740736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a383d"/>
                </a:solidFill>
                <a:latin typeface="Corbe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Заголовок 1"/>
          <p:cNvSpPr/>
          <p:nvPr/>
        </p:nvSpPr>
        <p:spPr>
          <a:xfrm>
            <a:off x="1403280" y="2133720"/>
            <a:ext cx="740736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82971"/>
                </a:solidFill>
                <a:latin typeface="Arial"/>
              </a:rPr>
              <a:t>Она предупреждала, что ко мне в организм попадут какие-то бактерии и микробы, и я могу заболеть. Мне стало интересно. Почему я могу заболеть? Что это за микробы? Чем они мне могут навредить? Откуда они берутся? Все ли микробы приносят вред человеку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Заголовок 1"/>
          <p:cNvSpPr/>
          <p:nvPr/>
        </p:nvSpPr>
        <p:spPr>
          <a:xfrm>
            <a:off x="1285920" y="2714760"/>
            <a:ext cx="740736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1"/>
          <p:cNvSpPr/>
          <p:nvPr/>
        </p:nvSpPr>
        <p:spPr>
          <a:xfrm>
            <a:off x="1258920" y="4587840"/>
            <a:ext cx="7634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82971"/>
                </a:solidFill>
                <a:latin typeface="Arial"/>
              </a:rPr>
              <a:t>Мне всегда это было непонятно</a:t>
            </a:r>
            <a:r>
              <a:rPr b="0" lang="en-US" sz="2400" spc="-1" strike="noStrike">
                <a:solidFill>
                  <a:srgbClr val="382971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82971"/>
                </a:solidFill>
                <a:latin typeface="Arial"/>
              </a:rPr>
              <a:t>Кто же эти микробы  и где они есть, если я их совсем не вижу. </a:t>
            </a:r>
            <a:r>
              <a:rPr b="0" lang="en-US" sz="2400" spc="-1" strike="noStrike">
                <a:solidFill>
                  <a:srgbClr val="382971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82971"/>
                </a:solidFill>
                <a:latin typeface="Arial"/>
              </a:rPr>
              <a:t>Может, мама всё это  придумывала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Box 9"/>
          <p:cNvSpPr/>
          <p:nvPr/>
        </p:nvSpPr>
        <p:spPr>
          <a:xfrm>
            <a:off x="2357280" y="5715000"/>
            <a:ext cx="39294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7225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a383d"/>
                </a:solidFill>
                <a:latin typeface="Corbe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Подзаголовок 2"/>
          <p:cNvSpPr/>
          <p:nvPr/>
        </p:nvSpPr>
        <p:spPr>
          <a:xfrm>
            <a:off x="1143000" y="3643200"/>
            <a:ext cx="740736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a383d"/>
                </a:solidFill>
                <a:latin typeface="Corbe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Заголовок 1"/>
          <p:cNvSpPr/>
          <p:nvPr/>
        </p:nvSpPr>
        <p:spPr>
          <a:xfrm>
            <a:off x="1285920" y="2714760"/>
            <a:ext cx="740736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1"/>
          <p:cNvSpPr/>
          <p:nvPr/>
        </p:nvSpPr>
        <p:spPr>
          <a:xfrm>
            <a:off x="1835280" y="1133280"/>
            <a:ext cx="6000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82971"/>
                </a:solidFill>
                <a:latin typeface="Arial"/>
              </a:rPr>
              <a:t>Когда на уроке окружающего мира мы заговорили о бактериях, мне стало интересно, и я попросил маму помочь мне познакомиться с загадочным миром микроорганизмов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Box 9"/>
          <p:cNvSpPr/>
          <p:nvPr/>
        </p:nvSpPr>
        <p:spPr>
          <a:xfrm>
            <a:off x="2357280" y="5715000"/>
            <a:ext cx="39294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1"/>
          <p:cNvSpPr/>
          <p:nvPr/>
        </p:nvSpPr>
        <p:spPr>
          <a:xfrm>
            <a:off x="1979640" y="4012200"/>
            <a:ext cx="6000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82971"/>
                </a:solidFill>
                <a:latin typeface="Arial"/>
              </a:rPr>
              <a:t>Теперь я многое узнал о них, и готов поделиться со своими друзьям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03280" y="1412640"/>
            <a:ext cx="7407360" cy="17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r>
              <a:rPr b="0" lang="ru-RU" sz="2400" spc="-1" strike="noStrike">
                <a:solidFill>
                  <a:srgbClr val="382971"/>
                </a:solidFill>
                <a:latin typeface="Arial"/>
                <a:ea typeface="Arial"/>
              </a:rPr>
              <a:t>Название Микроорганизмы (микробы) произошло от греческих слов 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микрос</a:t>
            </a:r>
            <a:r>
              <a:rPr b="0" lang="ru-RU" sz="2400" spc="-1" strike="noStrike">
                <a:solidFill>
                  <a:srgbClr val="382971"/>
                </a:solidFill>
                <a:latin typeface="Arial"/>
                <a:ea typeface="Arial"/>
              </a:rPr>
              <a:t>– маленький и 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биос </a:t>
            </a:r>
            <a:r>
              <a:rPr b="0" lang="en-US" sz="2400" spc="-1" strike="noStrike">
                <a:solidFill>
                  <a:srgbClr val="382971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382971"/>
                </a:solidFill>
                <a:latin typeface="Arial"/>
                <a:ea typeface="Arial"/>
              </a:rPr>
              <a:t>– жизнь.</a:t>
            </a:r>
            <a:br>
              <a:rPr sz="1600"/>
            </a:br>
            <a:r>
              <a:rPr b="0" lang="ru-RU" sz="1600" spc="-1" strike="noStrike">
                <a:solidFill>
                  <a:srgbClr val="69666e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347" name="Подзаголовок 2"/>
          <p:cNvSpPr/>
          <p:nvPr/>
        </p:nvSpPr>
        <p:spPr>
          <a:xfrm>
            <a:off x="1143000" y="3643200"/>
            <a:ext cx="740736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a383d"/>
                </a:solidFill>
                <a:latin typeface="Corbe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Заголовок 1"/>
          <p:cNvSpPr/>
          <p:nvPr/>
        </p:nvSpPr>
        <p:spPr>
          <a:xfrm>
            <a:off x="1428840" y="1214280"/>
            <a:ext cx="740736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Заголовок 1"/>
          <p:cNvSpPr/>
          <p:nvPr/>
        </p:nvSpPr>
        <p:spPr>
          <a:xfrm>
            <a:off x="1285920" y="2714760"/>
            <a:ext cx="740736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Box 11"/>
          <p:cNvSpPr/>
          <p:nvPr/>
        </p:nvSpPr>
        <p:spPr>
          <a:xfrm>
            <a:off x="1258920" y="3284640"/>
            <a:ext cx="7643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2400" spc="-1" strike="noStrike">
                <a:solidFill>
                  <a:srgbClr val="382971"/>
                </a:solidFill>
                <a:latin typeface="Arial"/>
              </a:rPr>
              <a:t>К микроорганизмам  относятся бактерии, дрожжи,  микроскопические грибы и водорос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Box 12"/>
          <p:cNvSpPr/>
          <p:nvPr/>
        </p:nvSpPr>
        <p:spPr>
          <a:xfrm>
            <a:off x="1403280" y="5084640"/>
            <a:ext cx="7143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82971"/>
                </a:solidFill>
                <a:latin typeface="Arial"/>
              </a:rPr>
              <a:t>Большинство микроорганизмов состоят из одной клет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Заголовок 1"/>
          <p:cNvSpPr/>
          <p:nvPr/>
        </p:nvSpPr>
        <p:spPr>
          <a:xfrm>
            <a:off x="1285920" y="571680"/>
            <a:ext cx="740736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Что такое микроорганизмы?</a:t>
            </a:r>
            <a:br>
              <a:rPr sz="1600"/>
            </a:br>
            <a:r>
              <a:rPr b="0" lang="ru-RU" sz="1600" spc="-1" strike="noStrike">
                <a:solidFill>
                  <a:srgbClr val="69666e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Подзаголовок 2"/>
          <p:cNvSpPr/>
          <p:nvPr/>
        </p:nvSpPr>
        <p:spPr>
          <a:xfrm>
            <a:off x="1143000" y="3643200"/>
            <a:ext cx="740736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a383d"/>
                </a:solidFill>
                <a:latin typeface="Corbe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Заголовок 1"/>
          <p:cNvSpPr/>
          <p:nvPr/>
        </p:nvSpPr>
        <p:spPr>
          <a:xfrm>
            <a:off x="1428840" y="1214280"/>
            <a:ext cx="740736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Заголовок 1"/>
          <p:cNvSpPr/>
          <p:nvPr/>
        </p:nvSpPr>
        <p:spPr>
          <a:xfrm>
            <a:off x="1285920" y="2714760"/>
            <a:ext cx="740736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Box 14"/>
          <p:cNvSpPr/>
          <p:nvPr/>
        </p:nvSpPr>
        <p:spPr>
          <a:xfrm>
            <a:off x="1403280" y="1341360"/>
            <a:ext cx="7143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Кто занимается изучением микроорганизмов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Box 15"/>
          <p:cNvSpPr/>
          <p:nvPr/>
        </p:nvSpPr>
        <p:spPr>
          <a:xfrm>
            <a:off x="1476360" y="3789360"/>
            <a:ext cx="7143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82971"/>
                </a:solidFill>
                <a:latin typeface="Arial"/>
              </a:rPr>
              <a:t>Изучением микроорганизмов занимается наука микробиолог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7225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a383d"/>
                </a:solidFill>
                <a:latin typeface="Corbe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9" name="Подзаголовок 2"/>
          <p:cNvSpPr/>
          <p:nvPr/>
        </p:nvSpPr>
        <p:spPr>
          <a:xfrm>
            <a:off x="1143000" y="3643200"/>
            <a:ext cx="321480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a383d"/>
                </a:solidFill>
                <a:latin typeface="Corbe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Box 6"/>
          <p:cNvSpPr/>
          <p:nvPr/>
        </p:nvSpPr>
        <p:spPr>
          <a:xfrm>
            <a:off x="1143000" y="1143000"/>
            <a:ext cx="3357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82971"/>
                </a:solidFill>
                <a:latin typeface="Arial"/>
              </a:rPr>
              <a:t>Микробы очень и очень маленькие, меньше самых маленьких насекомы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Box 7"/>
          <p:cNvSpPr/>
          <p:nvPr/>
        </p:nvSpPr>
        <p:spPr>
          <a:xfrm>
            <a:off x="2214720" y="357120"/>
            <a:ext cx="535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акого размера микроб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Рисунок 10" descr=" Фотография 11. Бактерии очень и очень маленькие, меньше самых маленьких насекомых, даже букашка по сравнению с ними огромная, как гора. "/>
          <p:cNvPicPr/>
          <p:nvPr/>
        </p:nvPicPr>
        <p:blipFill>
          <a:blip r:embed="rId1"/>
          <a:stretch/>
        </p:blipFill>
        <p:spPr>
          <a:xfrm>
            <a:off x="4000680" y="2000160"/>
            <a:ext cx="4830480" cy="3857760"/>
          </a:xfrm>
          <a:prstGeom prst="rect">
            <a:avLst/>
          </a:prstGeom>
          <a:ln w="0">
            <a:noFill/>
          </a:ln>
        </p:spPr>
      </p:pic>
      <p:sp>
        <p:nvSpPr>
          <p:cNvPr id="363" name="TextBox 9"/>
          <p:cNvSpPr/>
          <p:nvPr/>
        </p:nvSpPr>
        <p:spPr>
          <a:xfrm>
            <a:off x="1428840" y="6143760"/>
            <a:ext cx="72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82971"/>
                </a:solidFill>
                <a:latin typeface="Arial"/>
              </a:rPr>
              <a:t>Даже букашка по сравнению с ними огромная, как го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7225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a383d"/>
                </a:solidFill>
                <a:latin typeface="Corbe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5" name="Подзаголовок 2"/>
          <p:cNvSpPr/>
          <p:nvPr/>
        </p:nvSpPr>
        <p:spPr>
          <a:xfrm>
            <a:off x="1143000" y="3643200"/>
            <a:ext cx="321480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a383d"/>
                </a:solidFill>
                <a:latin typeface="Corbe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Box 6"/>
          <p:cNvSpPr/>
          <p:nvPr/>
        </p:nvSpPr>
        <p:spPr>
          <a:xfrm>
            <a:off x="1571760" y="1357200"/>
            <a:ext cx="4286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82971"/>
                </a:solidFill>
                <a:latin typeface="Arial"/>
              </a:rPr>
              <a:t>Для того чтобы увидеть микробов, нам нужен специальный прибор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Box 8"/>
          <p:cNvSpPr/>
          <p:nvPr/>
        </p:nvSpPr>
        <p:spPr>
          <a:xfrm>
            <a:off x="1357200" y="3071880"/>
            <a:ext cx="4286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микроско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Box 10"/>
          <p:cNvSpPr/>
          <p:nvPr/>
        </p:nvSpPr>
        <p:spPr>
          <a:xfrm>
            <a:off x="2428920" y="4643280"/>
            <a:ext cx="428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82971"/>
                </a:solidFill>
                <a:latin typeface="Arial"/>
              </a:rPr>
              <a:t>который увеличивает предметы в сотни ра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Рисунок 2" descr="микроскоп"/>
          <p:cNvPicPr/>
          <p:nvPr/>
        </p:nvPicPr>
        <p:blipFill>
          <a:blip r:embed="rId1"/>
          <a:stretch/>
        </p:blipFill>
        <p:spPr>
          <a:xfrm>
            <a:off x="6000840" y="1071720"/>
            <a:ext cx="2238120" cy="3714480"/>
          </a:xfrm>
          <a:prstGeom prst="rect">
            <a:avLst/>
          </a:prstGeom>
          <a:ln w="0">
            <a:noFill/>
          </a:ln>
        </p:spPr>
      </p:pic>
      <p:sp>
        <p:nvSpPr>
          <p:cNvPr id="370" name="TextBox 9"/>
          <p:cNvSpPr/>
          <p:nvPr/>
        </p:nvSpPr>
        <p:spPr>
          <a:xfrm>
            <a:off x="2214720" y="357120"/>
            <a:ext cx="675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Как увидеть микробов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1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8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7225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a383d"/>
                </a:solidFill>
                <a:latin typeface="Corbe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2" name="Подзаголовок 2"/>
          <p:cNvSpPr/>
          <p:nvPr/>
        </p:nvSpPr>
        <p:spPr>
          <a:xfrm>
            <a:off x="1143000" y="3643200"/>
            <a:ext cx="321480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a383d"/>
                </a:solidFill>
                <a:latin typeface="Corbe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Box 11"/>
          <p:cNvSpPr/>
          <p:nvPr/>
        </p:nvSpPr>
        <p:spPr>
          <a:xfrm>
            <a:off x="1571760" y="285840"/>
            <a:ext cx="7358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82971"/>
                </a:solidFill>
                <a:latin typeface="Arial"/>
              </a:rPr>
              <a:t>Если положить капельку воды  на стекло микроскопа, то мы увидим микробов, которые живут в н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Рисунок 20" descr="Картинка 2 из 47"/>
          <p:cNvPicPr/>
          <p:nvPr/>
        </p:nvPicPr>
        <p:blipFill>
          <a:blip r:embed="rId1"/>
          <a:stretch/>
        </p:blipFill>
        <p:spPr>
          <a:xfrm>
            <a:off x="1692360" y="1052640"/>
            <a:ext cx="6595920" cy="40878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375" name="TextBox 12"/>
          <p:cNvSpPr/>
          <p:nvPr/>
        </p:nvSpPr>
        <p:spPr>
          <a:xfrm>
            <a:off x="2000160" y="5357880"/>
            <a:ext cx="678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82971"/>
                </a:solidFill>
                <a:latin typeface="Arial"/>
              </a:rPr>
              <a:t>Капелька такая маленькая, но, сколько в ней микробов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7225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a383d"/>
                </a:solidFill>
                <a:latin typeface="Corbe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7" name="Подзаголовок 2"/>
          <p:cNvSpPr/>
          <p:nvPr/>
        </p:nvSpPr>
        <p:spPr>
          <a:xfrm>
            <a:off x="1143000" y="3643200"/>
            <a:ext cx="321480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a383d"/>
                </a:solidFill>
                <a:latin typeface="Corbe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Box 11"/>
          <p:cNvSpPr/>
          <p:nvPr/>
        </p:nvSpPr>
        <p:spPr>
          <a:xfrm>
            <a:off x="1571760" y="285840"/>
            <a:ext cx="735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82971"/>
                </a:solidFill>
                <a:latin typeface="Arial"/>
              </a:rPr>
              <a:t>Микробы могут иметь разнообразную форму</a:t>
            </a:r>
            <a:r>
              <a:rPr b="0" lang="en-US" sz="1800" spc="-1" strike="noStrike">
                <a:solidFill>
                  <a:srgbClr val="382971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38297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Прямоугольник 7"/>
          <p:cNvSpPr/>
          <p:nvPr/>
        </p:nvSpPr>
        <p:spPr>
          <a:xfrm>
            <a:off x="1428840" y="928800"/>
            <a:ext cx="75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82971"/>
                </a:solidFill>
                <a:latin typeface="Arial"/>
              </a:rPr>
              <a:t>Одни микробы неподвижны, у других имеются реснички или хвостики , при помощи которых они передвигаю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Box 8"/>
          <p:cNvSpPr/>
          <p:nvPr/>
        </p:nvSpPr>
        <p:spPr>
          <a:xfrm>
            <a:off x="1500120" y="1571760"/>
            <a:ext cx="714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82971"/>
                </a:solidFill>
                <a:latin typeface="Arial"/>
              </a:rPr>
              <a:t>Вот так выглядят некоторые  микробы  под микроскопо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2" descr="Кишечная палочка (Escherichia coli).  ТЭМ"/>
          <p:cNvPicPr/>
          <p:nvPr/>
        </p:nvPicPr>
        <p:blipFill>
          <a:blip r:embed="rId1"/>
          <a:stretch/>
        </p:blipFill>
        <p:spPr>
          <a:xfrm>
            <a:off x="1573200" y="2000160"/>
            <a:ext cx="2070000" cy="2214720"/>
          </a:xfrm>
          <a:prstGeom prst="rect">
            <a:avLst/>
          </a:prstGeom>
          <a:ln w="0">
            <a:noFill/>
          </a:ln>
        </p:spPr>
      </p:pic>
      <p:pic>
        <p:nvPicPr>
          <p:cNvPr id="382" name="Рисунок 14" descr="Термотолерантные колиформные бактерии"/>
          <p:cNvPicPr/>
          <p:nvPr/>
        </p:nvPicPr>
        <p:blipFill>
          <a:blip r:embed="rId2"/>
          <a:stretch/>
        </p:blipFill>
        <p:spPr>
          <a:xfrm>
            <a:off x="3990960" y="2000160"/>
            <a:ext cx="2071800" cy="2214720"/>
          </a:xfrm>
          <a:prstGeom prst="rect">
            <a:avLst/>
          </a:prstGeom>
          <a:ln w="0">
            <a:noFill/>
          </a:ln>
        </p:spPr>
      </p:pic>
      <p:pic>
        <p:nvPicPr>
          <p:cNvPr id="383" name="Рисунок 15" descr="Кишечная палочка (Escherichia coli).  СЭМ"/>
          <p:cNvPicPr/>
          <p:nvPr/>
        </p:nvPicPr>
        <p:blipFill>
          <a:blip r:embed="rId3"/>
          <a:stretch/>
        </p:blipFill>
        <p:spPr>
          <a:xfrm>
            <a:off x="6426360" y="2000160"/>
            <a:ext cx="2155680" cy="2214720"/>
          </a:xfrm>
          <a:prstGeom prst="rect">
            <a:avLst/>
          </a:prstGeom>
          <a:ln w="0">
            <a:noFill/>
          </a:ln>
        </p:spPr>
      </p:pic>
      <p:pic>
        <p:nvPicPr>
          <p:cNvPr id="384" name="Рисунок 25" descr=" Фотография 28. Вот так выглядят разные микробы и бактерии под микроскопом. "/>
          <p:cNvPicPr/>
          <p:nvPr/>
        </p:nvPicPr>
        <p:blipFill>
          <a:blip r:embed="rId4"/>
          <a:stretch/>
        </p:blipFill>
        <p:spPr>
          <a:xfrm>
            <a:off x="1500120" y="4357800"/>
            <a:ext cx="2298600" cy="2214360"/>
          </a:xfrm>
          <a:prstGeom prst="rect">
            <a:avLst/>
          </a:prstGeom>
          <a:ln w="0">
            <a:noFill/>
          </a:ln>
        </p:spPr>
      </p:pic>
      <p:pic>
        <p:nvPicPr>
          <p:cNvPr id="385" name="Рисунок 17" descr="Nice-looking-G20"/>
          <p:cNvPicPr/>
          <p:nvPr/>
        </p:nvPicPr>
        <p:blipFill>
          <a:blip r:embed="rId5"/>
          <a:stretch/>
        </p:blipFill>
        <p:spPr>
          <a:xfrm>
            <a:off x="4000680" y="4429080"/>
            <a:ext cx="2128680" cy="2214720"/>
          </a:xfrm>
          <a:prstGeom prst="rect">
            <a:avLst/>
          </a:prstGeom>
          <a:ln w="0">
            <a:noFill/>
          </a:ln>
        </p:spPr>
      </p:pic>
      <p:pic>
        <p:nvPicPr>
          <p:cNvPr id="386" name="Рисунок 16" descr="275px-Dvulgaris_micrograph"/>
          <p:cNvPicPr/>
          <p:nvPr/>
        </p:nvPicPr>
        <p:blipFill>
          <a:blip r:embed="rId6"/>
          <a:stretch/>
        </p:blipFill>
        <p:spPr>
          <a:xfrm>
            <a:off x="6359400" y="4357800"/>
            <a:ext cx="2170080" cy="21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2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2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82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1T20:11:58Z</dcterms:created>
  <dc:creator>Пользователь Windows</dc:creator>
  <dc:description/>
  <dc:language>en-US</dc:language>
  <cp:lastModifiedBy>Учитель</cp:lastModifiedBy>
  <dcterms:modified xsi:type="dcterms:W3CDTF">2015-02-03T12:39:43Z</dcterms:modified>
  <cp:revision>68</cp:revision>
  <dc:subject/>
  <dc:title>Слайд 1</dc:title>
</cp:coreProperties>
</file>