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1.jpeg" ContentType="image/jpeg"/>
  <Override PartName="/ppt/media/image7.wmf" ContentType="image/x-wmf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итель" initials="У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<Relationship Id="rId2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2-03T16:39:33.465000000" idx="1">
    <p:pos x="10" y="10"/>
    <p:text>Учитель: Мозгунова Наталья Александровна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D999-2E16-43E9-A4F0-372D6D936A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54D1-FEB3-4687-BD5F-245D0DE2F2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45E2-CC34-4898-A9AF-D65B57C3E0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B9B0-F6A1-41C6-8FFC-9390024018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278E-6309-4FF1-A9E9-572B1DDA8D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84DA-51D1-4F13-86D5-6CA4FF0EF1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FB4C-1E22-409F-A658-D1542E8E7B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377A-4CFE-4BA6-8F51-D8FE3762DB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50B7-45DE-4A65-BC2D-3EB4DFFEBC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A379-509C-4E97-85E4-91E6233A25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CA07-2F62-4125-847A-0F72FCD842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B1F9-5FF6-4945-91E4-E1AA0C66D3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9149-B814-4BB4-96B9-1F17FF8DD1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7D56-4AF0-4988-A0F9-B01F6A00CF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D614-93E8-44F4-A92B-15B1D022D0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B889-57EF-4713-AE1E-22AC4695CE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3EB3-C01D-4B0F-9667-6EF59A3385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85CE-743A-43A8-8C51-B66EC10806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E5F2-834A-4B4D-BD72-5A739A458E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CD37-A35D-480D-B183-26E52BC5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46BB-834A-4EC3-9B8D-D98C98D2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DF8-0DF3-43BE-BFC5-2634DD95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B155-0BBD-4168-978D-0996FD59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63F2-E0B0-45AD-A85C-7EA0E4AD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4404-1490-4FA0-AC29-EBC24E12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68D5-D31F-4CC3-9196-9A8BBC5F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B902-45B4-4CA9-885A-E7511658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0735-BEEE-4C02-A45B-FBC6726B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1BFD-D994-42FA-9D49-A3A3E4B1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9CF4-52EF-4655-8C0C-C71C50D2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BBFD-0CD7-4B03-BE4F-0D921E00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1AF0-29C9-4830-873D-14D8957D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BD82-D2AC-4880-AFDA-D5FB5E95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1D82-E204-449E-8A40-644DC34B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6D0F-B50F-43B5-84D5-C493979F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E25D-51F3-4FF7-9974-A353F1C0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EE271-58DA-4A2B-AF7B-4A9E20D5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279A9-1665-4538-B2D3-BE934B74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12CD3-B544-4654-AFD1-12DB62E4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54C66-11DA-4078-B39F-AC1821D4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1D50D-81C4-4124-9377-33E097F4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74CD-4E77-4D51-B15A-E13EE532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EABD6-EEC3-4A41-9706-BBE4BF16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27D0E-75C9-4FA4-8EFF-C1A9B757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339C8-152D-43B2-B8CE-00E284A1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15E92-D0CC-4432-B4DC-9CF9A69F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103A7-97C7-4E6C-B74A-7EA66041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26C99-E1C5-4E68-AC83-9BE74716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6DAF4-E54F-486C-8700-F9A9A66B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4AC61-4AE5-4E9C-9A97-80B21C55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FE5B6-8255-4B0A-AE31-14B97DAF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653F3-8364-4A17-9B8E-B99588CF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C0FA-931D-4E91-ABA1-D8B6D3A6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0E08A-9ECC-4229-8C69-ED8A3B14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65E3E-3389-4F4F-879E-5E300ED6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EE403-8DCA-47D3-86D7-44B49AB0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FDE42-6F7D-4606-8110-3270D5C6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0DA76-4D3E-40C2-A91C-4D79E995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F4954-2FBA-4351-BBBF-FCD42FD3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102B2-30AE-445F-AF16-4534C57F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449BC-6B74-4ACC-898A-011003C9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43926-2FCA-4B1D-93BF-FF27255F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E4F1A-3849-4283-B155-1A690835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8644-5DCD-4431-9A48-1A28C5A4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E3CB4-98F8-49FE-A860-2F94F16F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8A17A-F965-4AD9-B813-DFDA06AE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05C43-1252-4313-9294-462201AC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D3CFD-6305-4CDB-9C6B-621700C2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90515-95AF-407C-80AE-68C6870C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A4C2A-B193-405E-BBDE-E81A5800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AC586-C934-4450-8385-47BD3BC7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88CB1-0704-4B0A-A5F0-55C717FA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81B75-39AE-470E-96BB-3F8AE564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59B07-3A8C-4A46-820B-C1F144CF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AEE-377A-4A3D-8CBF-30D63F74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AD561-2851-4B2F-BBE1-4591FB6D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3C479-5F71-427E-8BE7-882BA3F4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AACF5-98D8-4BEF-BB2A-B788E0F9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AC897-AAC9-4FCD-B018-DD377A19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A6BEE-F7EE-4856-86C4-4925D3BC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213BF-E2A6-4A07-ACC2-1264C8BB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7D2E3-FCE8-478E-B863-5D9DCE8B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D5815-843F-4011-874E-F866A432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FAD01-862B-4EE7-8447-852C22DB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9E07A-FFCD-42B6-8685-6FA85BCF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AB9-461F-40C1-B539-3DFAA9E5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07A9A-FACD-4AE3-8F7B-C37194D4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A3C83-387F-48E0-BE9B-9EC8DE42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0AE73-8785-4076-8742-1F65EC41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0850B-4784-4B4E-82D6-69206359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B2E7E-1CBC-4A63-AEA5-93463C11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3121E-A808-4B27-953F-55D5197E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2D168-8316-42FC-BF6A-8184C2BC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CC431-CA1D-469B-A471-427FB0A9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FBCED-04A6-4899-8596-538CE86D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38D89-3EAC-44B2-BE43-0DBDBB2F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AD0D-6621-4CD7-990A-F3009B4B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ABC38-1566-40E4-A460-F624AFE9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BA839-DE66-463D-A58F-9454C48E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26FFB-98C7-4C82-ACD6-C34A5BFF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88CD5-DC74-4872-B58D-A3513D99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D35EC-0604-45F3-A914-7D01113E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5D02-4E3E-42EF-87FB-95118E53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931A-49FB-4746-8C32-C65346BAE06B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1D33-74F5-4246-9B63-0F2F6CFD6AF8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00D2-0816-48FE-98D9-BC95C1E4FBF4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752F-6B06-4176-913F-809EE05DC864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14B8-D186-4759-9310-C9D5BAAB2276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BB83-9162-4E9A-A73C-E7D49251925A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B1D9-CF65-4AF4-9427-5DBDEE77D2CA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comments" Target="../comments/commen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071360"/>
            <a:ext cx="81867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82971"/>
                </a:solidFill>
                <a:latin typeface="Corbel"/>
              </a:rPr>
              <a:t>МИКРООРГАНИЗМЫ -</a:t>
            </a:r>
            <a:endParaRPr b="0" lang="en-US" sz="44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13840"/>
            <a:ext cx="382896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14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ыполнил: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14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ученик 3 «Б» класс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14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МБОУСОШ № 2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14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Шакиров Тимур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одзаголовок 2"/>
          <p:cNvSpPr/>
          <p:nvPr/>
        </p:nvSpPr>
        <p:spPr>
          <a:xfrm>
            <a:off x="1143000" y="3643200"/>
            <a:ext cx="74073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Рисунок 1" descr=""/>
          <p:cNvPicPr/>
          <p:nvPr/>
        </p:nvPicPr>
        <p:blipFill>
          <a:blip r:embed="rId1"/>
          <a:stretch/>
        </p:blipFill>
        <p:spPr>
          <a:xfrm>
            <a:off x="1643040" y="3000240"/>
            <a:ext cx="5857920" cy="3571920"/>
          </a:xfrm>
          <a:prstGeom prst="rect">
            <a:avLst/>
          </a:prstGeom>
          <a:ln w="9360">
            <a:solidFill>
              <a:srgbClr val="ceb966"/>
            </a:solidFill>
            <a:miter/>
          </a:ln>
        </p:spPr>
      </p:pic>
      <p:sp>
        <p:nvSpPr>
          <p:cNvPr id="329" name="Заголовок 1"/>
          <p:cNvSpPr/>
          <p:nvPr/>
        </p:nvSpPr>
        <p:spPr>
          <a:xfrm>
            <a:off x="1428840" y="2071800"/>
            <a:ext cx="2000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друз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Заголовок 1"/>
          <p:cNvSpPr/>
          <p:nvPr/>
        </p:nvSpPr>
        <p:spPr>
          <a:xfrm>
            <a:off x="5500800" y="2071800"/>
            <a:ext cx="3286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вра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Заголовок 1"/>
          <p:cNvSpPr/>
          <p:nvPr/>
        </p:nvSpPr>
        <p:spPr>
          <a:xfrm>
            <a:off x="3786120" y="2071800"/>
            <a:ext cx="2000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82971"/>
                </a:solidFill>
                <a:latin typeface="Corbel"/>
              </a:rPr>
              <a:t>или</a:t>
            </a:r>
            <a:r>
              <a:rPr b="1" lang="ru-RU" sz="4400" spc="-1" strike="noStrike">
                <a:solidFill>
                  <a:srgbClr val="7e4e99"/>
                </a:solidFill>
                <a:latin typeface="Corbe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Заголовок 1"/>
          <p:cNvSpPr/>
          <p:nvPr/>
        </p:nvSpPr>
        <p:spPr>
          <a:xfrm>
            <a:off x="3143160" y="2857680"/>
            <a:ext cx="328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82971"/>
                </a:solidFill>
                <a:latin typeface="Corbe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722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Подзаголовок 2"/>
          <p:cNvSpPr/>
          <p:nvPr/>
        </p:nvSpPr>
        <p:spPr>
          <a:xfrm>
            <a:off x="1143000" y="3643200"/>
            <a:ext cx="3214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1"/>
          <p:cNvSpPr/>
          <p:nvPr/>
        </p:nvSpPr>
        <p:spPr>
          <a:xfrm>
            <a:off x="1571760" y="28584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А вот так выглядит очень вредная бактерия сальмонел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2"/>
          <p:cNvSpPr/>
          <p:nvPr/>
        </p:nvSpPr>
        <p:spPr>
          <a:xfrm>
            <a:off x="2000160" y="53578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Она вызывает тяжелейшее заболевание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Рисунок 18" descr="Salmonella typhi, Salmonella paratiphi, брюшной тиф, паратиф, сальмонелла, сальмонеллез, сальмонеллёз, вода, патоген, водный патогенный микроорганизм, бактерия, заражение."/>
          <p:cNvPicPr/>
          <p:nvPr/>
        </p:nvPicPr>
        <p:blipFill>
          <a:blip r:embed="rId1"/>
          <a:stretch/>
        </p:blipFill>
        <p:spPr>
          <a:xfrm>
            <a:off x="2786040" y="1500120"/>
            <a:ext cx="3705120" cy="30052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722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Подзаголовок 2"/>
          <p:cNvSpPr/>
          <p:nvPr/>
        </p:nvSpPr>
        <p:spPr>
          <a:xfrm>
            <a:off x="1143000" y="3643200"/>
            <a:ext cx="3214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1"/>
          <p:cNvSpPr/>
          <p:nvPr/>
        </p:nvSpPr>
        <p:spPr>
          <a:xfrm>
            <a:off x="1571760" y="28584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гда появились микроб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6"/>
          <p:cNvSpPr/>
          <p:nvPr/>
        </p:nvSpPr>
        <p:spPr>
          <a:xfrm>
            <a:off x="1357200" y="114300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Микробы – древнейшие обитатели план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Они появились на земле за много миллиардов лет до появления челове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722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Подзаголовок 2"/>
          <p:cNvSpPr/>
          <p:nvPr/>
        </p:nvSpPr>
        <p:spPr>
          <a:xfrm>
            <a:off x="1143000" y="3643200"/>
            <a:ext cx="3214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1571760" y="285840"/>
            <a:ext cx="7358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о есть ещё и плохие микробы, которые вызывают разные болезни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7"/>
          <p:cNvSpPr/>
          <p:nvPr/>
        </p:nvSpPr>
        <p:spPr>
          <a:xfrm>
            <a:off x="3500280" y="207180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ни - наши враг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722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Подзаголовок 2"/>
          <p:cNvSpPr/>
          <p:nvPr/>
        </p:nvSpPr>
        <p:spPr>
          <a:xfrm>
            <a:off x="1143000" y="3643200"/>
            <a:ext cx="3214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6"/>
          <p:cNvSpPr/>
          <p:nvPr/>
        </p:nvSpPr>
        <p:spPr>
          <a:xfrm>
            <a:off x="1357200" y="28584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Некоторые микроорганизмы вызывают пищевое отра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7"/>
          <p:cNvSpPr/>
          <p:nvPr/>
        </p:nvSpPr>
        <p:spPr>
          <a:xfrm>
            <a:off x="1357200" y="1214280"/>
            <a:ext cx="74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Даже небольшое количество микробов, которые попадают в наш организм,  могут  вызвать серьёзные заболе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8"/>
          <p:cNvSpPr/>
          <p:nvPr/>
        </p:nvSpPr>
        <p:spPr>
          <a:xfrm>
            <a:off x="1428840" y="2428920"/>
            <a:ext cx="74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В окружающей нас среде: воздухе, почве, воде — находится много микробов, и они попадают в наш орган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9"/>
          <p:cNvSpPr/>
          <p:nvPr/>
        </p:nvSpPr>
        <p:spPr>
          <a:xfrm>
            <a:off x="1428840" y="442908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можно ли уничтожить этих микроб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722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Подзаголовок 2"/>
          <p:cNvSpPr/>
          <p:nvPr/>
        </p:nvSpPr>
        <p:spPr>
          <a:xfrm>
            <a:off x="1143000" y="3643200"/>
            <a:ext cx="3214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6"/>
          <p:cNvSpPr/>
          <p:nvPr/>
        </p:nvSpPr>
        <p:spPr>
          <a:xfrm>
            <a:off x="1214280" y="285840"/>
            <a:ext cx="742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пробуем провести некоторые опы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7"/>
          <p:cNvSpPr/>
          <p:nvPr/>
        </p:nvSpPr>
        <p:spPr>
          <a:xfrm>
            <a:off x="1357200" y="2071800"/>
            <a:ext cx="742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пыт №1: Наличие микробов на разных предме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0"/>
          <p:cNvSpPr/>
          <p:nvPr/>
        </p:nvSpPr>
        <p:spPr>
          <a:xfrm>
            <a:off x="1332000" y="414972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Возьмем стерильную палочку и  проведем по исследуемым поверхностя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одзаголовок 2"/>
          <p:cNvSpPr/>
          <p:nvPr/>
        </p:nvSpPr>
        <p:spPr>
          <a:xfrm>
            <a:off x="1143000" y="3643200"/>
            <a:ext cx="3214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"/>
          <p:cNvSpPr/>
          <p:nvPr/>
        </p:nvSpPr>
        <p:spPr>
          <a:xfrm>
            <a:off x="1143000" y="285840"/>
            <a:ext cx="76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пыт: Порча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8"/>
          <p:cNvSpPr/>
          <p:nvPr/>
        </p:nvSpPr>
        <p:spPr>
          <a:xfrm>
            <a:off x="1116000" y="1052640"/>
            <a:ext cx="80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82971"/>
                </a:solidFill>
                <a:latin typeface="Arial"/>
              </a:rPr>
              <a:t>Возьмем кусок хлеба и поместим его в полиэтиленовый пак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" descr="хлеб"/>
          <p:cNvPicPr/>
          <p:nvPr/>
        </p:nvPicPr>
        <p:blipFill>
          <a:blip r:embed="rId1"/>
          <a:stretch/>
        </p:blipFill>
        <p:spPr>
          <a:xfrm>
            <a:off x="2411280" y="2492280"/>
            <a:ext cx="6159600" cy="4087800"/>
          </a:xfrm>
          <a:prstGeom prst="rect">
            <a:avLst/>
          </a:prstGeom>
          <a:ln w="0">
            <a:noFill/>
          </a:ln>
        </p:spPr>
      </p:pic>
      <p:sp>
        <p:nvSpPr>
          <p:cNvPr id="420" name="Стрелка вправо 11"/>
          <p:cNvSpPr/>
          <p:nvPr/>
        </p:nvSpPr>
        <p:spPr>
          <a:xfrm rot="3529200">
            <a:off x="1292760" y="2277000"/>
            <a:ext cx="1282680" cy="484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382971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722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Подзаголовок 2"/>
          <p:cNvSpPr/>
          <p:nvPr/>
        </p:nvSpPr>
        <p:spPr>
          <a:xfrm>
            <a:off x="1143000" y="3643200"/>
            <a:ext cx="3214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8"/>
          <p:cNvSpPr/>
          <p:nvPr/>
        </p:nvSpPr>
        <p:spPr>
          <a:xfrm>
            <a:off x="1357200" y="214200"/>
            <a:ext cx="77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82971"/>
                </a:solidFill>
                <a:latin typeface="Arial"/>
              </a:rPr>
              <a:t>Попробуем взять кусочек хлеба и посеять на специальную питательную сре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http://www.vscht.cz/obsah/fakulty/fpbt/ostatni/miniatlas/images/plisne/kolonie/Rhizopus%20stolonifer%20CCF%203225%20MEA%207-25.jpg"/>
          <p:cNvPicPr/>
          <p:nvPr/>
        </p:nvPicPr>
        <p:blipFill>
          <a:blip r:embed="rId1"/>
          <a:stretch/>
        </p:blipFill>
        <p:spPr>
          <a:xfrm>
            <a:off x="2556000" y="955800"/>
            <a:ext cx="5016240" cy="361620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2"/>
          <p:cNvSpPr/>
          <p:nvPr/>
        </p:nvSpPr>
        <p:spPr>
          <a:xfrm>
            <a:off x="1619280" y="4724280"/>
            <a:ext cx="6500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Вот такое огромное количество плесени  выросло через 5  дней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722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Подзаголовок 2"/>
          <p:cNvSpPr/>
          <p:nvPr/>
        </p:nvSpPr>
        <p:spPr>
          <a:xfrm>
            <a:off x="1143000" y="3643200"/>
            <a:ext cx="3214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6"/>
          <p:cNvSpPr/>
          <p:nvPr/>
        </p:nvSpPr>
        <p:spPr>
          <a:xfrm>
            <a:off x="1500120" y="0"/>
            <a:ext cx="76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кие можно сделать выводы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0"/>
          <p:cNvSpPr/>
          <p:nvPr/>
        </p:nvSpPr>
        <p:spPr>
          <a:xfrm>
            <a:off x="1332000" y="213372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Находясь в нашем организме,  полезные микробы помогают ему быть здоровым и не дают вредным бактериям наносить вред челове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14"/>
          <p:cNvSpPr/>
          <p:nvPr/>
        </p:nvSpPr>
        <p:spPr>
          <a:xfrm>
            <a:off x="1571760" y="78588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Мир микробов интересен и многообразен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6"/>
          <p:cNvSpPr/>
          <p:nvPr/>
        </p:nvSpPr>
        <p:spPr>
          <a:xfrm>
            <a:off x="3000240" y="1214280"/>
            <a:ext cx="49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Среди микробов есть наши друзья и вра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8"/>
          <p:cNvSpPr/>
          <p:nvPr/>
        </p:nvSpPr>
        <p:spPr>
          <a:xfrm>
            <a:off x="1332000" y="3357720"/>
            <a:ext cx="63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Я точно знаю, что нужно заботиться о своем здоровье, соблюдать правила гигиены и кушать неиспорченные продукты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19"/>
          <p:cNvSpPr/>
          <p:nvPr/>
        </p:nvSpPr>
        <p:spPr>
          <a:xfrm>
            <a:off x="2286000" y="4714920"/>
            <a:ext cx="61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А как сложно будет  жить на земле, если микроорганизмы перестанут нам помог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0"/>
          <p:cNvSpPr/>
          <p:nvPr/>
        </p:nvSpPr>
        <p:spPr>
          <a:xfrm>
            <a:off x="2143080" y="5786280"/>
            <a:ext cx="61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удьте здоров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Подзаголовок 2"/>
          <p:cNvSpPr/>
          <p:nvPr/>
        </p:nvSpPr>
        <p:spPr>
          <a:xfrm>
            <a:off x="1143000" y="3643200"/>
            <a:ext cx="3214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0"/>
          <p:cNvSpPr/>
          <p:nvPr/>
        </p:nvSpPr>
        <p:spPr>
          <a:xfrm>
            <a:off x="1428840" y="1285920"/>
            <a:ext cx="678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6772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82971"/>
                </a:solidFill>
                <a:latin typeface="Arial"/>
                <a:ea typeface="Arial"/>
              </a:rPr>
              <a:t>Когда я был маленький,  мне мама очень часто говорила что нужно мыть руки с мылом после улицы, обязательно помыть фрукты и овощи  перед едой. </a:t>
            </a:r>
            <a:endParaRPr b="0" lang="en-US" sz="24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722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Подзаголовок 2"/>
          <p:cNvSpPr/>
          <p:nvPr/>
        </p:nvSpPr>
        <p:spPr>
          <a:xfrm>
            <a:off x="1143000" y="3643200"/>
            <a:ext cx="74073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Заголовок 1"/>
          <p:cNvSpPr/>
          <p:nvPr/>
        </p:nvSpPr>
        <p:spPr>
          <a:xfrm>
            <a:off x="1403280" y="2133720"/>
            <a:ext cx="7407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82971"/>
                </a:solidFill>
                <a:latin typeface="Arial"/>
              </a:rPr>
              <a:t>Она предупреждала, что ко мне в организм попадут какие-то бактерии и микробы, и я могу заболеть. Мне стало интересно. Почему я могу заболеть? Что это за микробы? Чем они мне могут навредить? Откуда они берутся? Все ли микробы приносят вред человек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Заголовок 1"/>
          <p:cNvSpPr/>
          <p:nvPr/>
        </p:nvSpPr>
        <p:spPr>
          <a:xfrm>
            <a:off x="1285920" y="2714760"/>
            <a:ext cx="74073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"/>
          <p:cNvSpPr/>
          <p:nvPr/>
        </p:nvSpPr>
        <p:spPr>
          <a:xfrm>
            <a:off x="1258920" y="4587840"/>
            <a:ext cx="76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82971"/>
                </a:solidFill>
                <a:latin typeface="Arial"/>
              </a:rPr>
              <a:t>Мне всегда это было непонятно</a:t>
            </a:r>
            <a:r>
              <a:rPr b="0" lang="en-US" sz="2400" spc="-1" strike="noStrike">
                <a:solidFill>
                  <a:srgbClr val="382971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82971"/>
                </a:solidFill>
                <a:latin typeface="Arial"/>
              </a:rPr>
              <a:t>Кто же эти микробы  и где они есть, если я их совсем не вижу. </a:t>
            </a:r>
            <a:r>
              <a:rPr b="0" lang="en-US" sz="2400" spc="-1" strike="noStrike">
                <a:solidFill>
                  <a:srgbClr val="38297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82971"/>
                </a:solidFill>
                <a:latin typeface="Arial"/>
              </a:rPr>
              <a:t>Может, мама всё это  придумыв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9"/>
          <p:cNvSpPr/>
          <p:nvPr/>
        </p:nvSpPr>
        <p:spPr>
          <a:xfrm>
            <a:off x="2357280" y="5715000"/>
            <a:ext cx="3929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722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Подзаголовок 2"/>
          <p:cNvSpPr/>
          <p:nvPr/>
        </p:nvSpPr>
        <p:spPr>
          <a:xfrm>
            <a:off x="1143000" y="3643200"/>
            <a:ext cx="74073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Заголовок 1"/>
          <p:cNvSpPr/>
          <p:nvPr/>
        </p:nvSpPr>
        <p:spPr>
          <a:xfrm>
            <a:off x="1285920" y="2714760"/>
            <a:ext cx="74073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"/>
          <p:cNvSpPr/>
          <p:nvPr/>
        </p:nvSpPr>
        <p:spPr>
          <a:xfrm>
            <a:off x="1835280" y="1133280"/>
            <a:ext cx="600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82971"/>
                </a:solidFill>
                <a:latin typeface="Arial"/>
              </a:rPr>
              <a:t>Когда на уроке окружающего мира мы заговорили о бактериях, мне стало интересно, и я попросил маму помочь мне познакомиться с загадочным миром микроорганизмов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9"/>
          <p:cNvSpPr/>
          <p:nvPr/>
        </p:nvSpPr>
        <p:spPr>
          <a:xfrm>
            <a:off x="2357280" y="5715000"/>
            <a:ext cx="3929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"/>
          <p:cNvSpPr/>
          <p:nvPr/>
        </p:nvSpPr>
        <p:spPr>
          <a:xfrm>
            <a:off x="1979640" y="4012200"/>
            <a:ext cx="600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82971"/>
                </a:solidFill>
                <a:latin typeface="Arial"/>
              </a:rPr>
              <a:t>Теперь я многое узнал о них, и готов поделиться со своими друзь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03280" y="1412640"/>
            <a:ext cx="7407360" cy="17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2400" spc="-1" strike="noStrike">
                <a:solidFill>
                  <a:srgbClr val="382971"/>
                </a:solidFill>
                <a:latin typeface="Arial"/>
                <a:ea typeface="Arial"/>
              </a:rPr>
              <a:t>Название Микроорганизмы (микробы) произошло от греческих слов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микрос</a:t>
            </a:r>
            <a:r>
              <a:rPr b="0" lang="ru-RU" sz="2400" spc="-1" strike="noStrike">
                <a:solidFill>
                  <a:srgbClr val="382971"/>
                </a:solidFill>
                <a:latin typeface="Arial"/>
                <a:ea typeface="Arial"/>
              </a:rPr>
              <a:t>– маленький и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биос </a:t>
            </a:r>
            <a:r>
              <a:rPr b="0" lang="en-US" sz="2400" spc="-1" strike="noStrike">
                <a:solidFill>
                  <a:srgbClr val="382971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382971"/>
                </a:solidFill>
                <a:latin typeface="Arial"/>
                <a:ea typeface="Arial"/>
              </a:rPr>
              <a:t>– жизнь.</a:t>
            </a:r>
            <a:br>
              <a:rPr sz="1600"/>
            </a:br>
            <a:r>
              <a:rPr b="0" lang="ru-RU" sz="1600" spc="-1" strike="noStrike">
                <a:solidFill>
                  <a:srgbClr val="69666e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47" name="Подзаголовок 2"/>
          <p:cNvSpPr/>
          <p:nvPr/>
        </p:nvSpPr>
        <p:spPr>
          <a:xfrm>
            <a:off x="1143000" y="3643200"/>
            <a:ext cx="74073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Заголовок 1"/>
          <p:cNvSpPr/>
          <p:nvPr/>
        </p:nvSpPr>
        <p:spPr>
          <a:xfrm>
            <a:off x="1428840" y="1214280"/>
            <a:ext cx="74073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Заголовок 1"/>
          <p:cNvSpPr/>
          <p:nvPr/>
        </p:nvSpPr>
        <p:spPr>
          <a:xfrm>
            <a:off x="1285920" y="2714760"/>
            <a:ext cx="74073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1"/>
          <p:cNvSpPr/>
          <p:nvPr/>
        </p:nvSpPr>
        <p:spPr>
          <a:xfrm>
            <a:off x="1258920" y="3284640"/>
            <a:ext cx="76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2400" spc="-1" strike="noStrike">
                <a:solidFill>
                  <a:srgbClr val="382971"/>
                </a:solidFill>
                <a:latin typeface="Arial"/>
              </a:rPr>
              <a:t>К микроорганизмам  относятся бактерии, дрожжи,  микроскопические грибы и водоро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2"/>
          <p:cNvSpPr/>
          <p:nvPr/>
        </p:nvSpPr>
        <p:spPr>
          <a:xfrm>
            <a:off x="1403280" y="508464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82971"/>
                </a:solidFill>
                <a:latin typeface="Arial"/>
              </a:rPr>
              <a:t>Большинство микроорганизмов состоят из одной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Заголовок 1"/>
          <p:cNvSpPr/>
          <p:nvPr/>
        </p:nvSpPr>
        <p:spPr>
          <a:xfrm>
            <a:off x="1285920" y="571680"/>
            <a:ext cx="74073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Что такое микроорганизмы?</a:t>
            </a:r>
            <a:br>
              <a:rPr sz="1600"/>
            </a:br>
            <a:r>
              <a:rPr b="0" lang="ru-RU" sz="1600" spc="-1" strike="noStrike">
                <a:solidFill>
                  <a:srgbClr val="69666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одзаголовок 2"/>
          <p:cNvSpPr/>
          <p:nvPr/>
        </p:nvSpPr>
        <p:spPr>
          <a:xfrm>
            <a:off x="1143000" y="3643200"/>
            <a:ext cx="74073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Заголовок 1"/>
          <p:cNvSpPr/>
          <p:nvPr/>
        </p:nvSpPr>
        <p:spPr>
          <a:xfrm>
            <a:off x="1428840" y="1214280"/>
            <a:ext cx="74073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Заголовок 1"/>
          <p:cNvSpPr/>
          <p:nvPr/>
        </p:nvSpPr>
        <p:spPr>
          <a:xfrm>
            <a:off x="1285920" y="2714760"/>
            <a:ext cx="74073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4"/>
          <p:cNvSpPr/>
          <p:nvPr/>
        </p:nvSpPr>
        <p:spPr>
          <a:xfrm>
            <a:off x="1403280" y="1341360"/>
            <a:ext cx="714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то занимается изучением микроорганизм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5"/>
          <p:cNvSpPr/>
          <p:nvPr/>
        </p:nvSpPr>
        <p:spPr>
          <a:xfrm>
            <a:off x="1476360" y="3789360"/>
            <a:ext cx="71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82971"/>
                </a:solidFill>
                <a:latin typeface="Arial"/>
              </a:rPr>
              <a:t>Изучением микроорганизмов занимается наука микроби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722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Подзаголовок 2"/>
          <p:cNvSpPr/>
          <p:nvPr/>
        </p:nvSpPr>
        <p:spPr>
          <a:xfrm>
            <a:off x="1143000" y="3643200"/>
            <a:ext cx="3214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6"/>
          <p:cNvSpPr/>
          <p:nvPr/>
        </p:nvSpPr>
        <p:spPr>
          <a:xfrm>
            <a:off x="1143000" y="11430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Микробы очень и очень маленькие, меньше самых маленьких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7"/>
          <p:cNvSpPr/>
          <p:nvPr/>
        </p:nvSpPr>
        <p:spPr>
          <a:xfrm>
            <a:off x="2214720" y="357120"/>
            <a:ext cx="53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кого размера микроб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Рисунок 10" descr=" Фотография 11. Бактерии очень и очень маленькие, меньше самых маленьких насекомых, даже букашка по сравнению с ними огромная, как гора. "/>
          <p:cNvPicPr/>
          <p:nvPr/>
        </p:nvPicPr>
        <p:blipFill>
          <a:blip r:embed="rId1"/>
          <a:stretch/>
        </p:blipFill>
        <p:spPr>
          <a:xfrm>
            <a:off x="4000680" y="2000160"/>
            <a:ext cx="4830480" cy="3857760"/>
          </a:xfrm>
          <a:prstGeom prst="rect">
            <a:avLst/>
          </a:prstGeom>
          <a:ln w="0">
            <a:noFill/>
          </a:ln>
        </p:spPr>
      </p:pic>
      <p:sp>
        <p:nvSpPr>
          <p:cNvPr id="363" name="TextBox 9"/>
          <p:cNvSpPr/>
          <p:nvPr/>
        </p:nvSpPr>
        <p:spPr>
          <a:xfrm>
            <a:off x="1428840" y="614376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Даже букашка по сравнению с ними огромная, как г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722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Подзаголовок 2"/>
          <p:cNvSpPr/>
          <p:nvPr/>
        </p:nvSpPr>
        <p:spPr>
          <a:xfrm>
            <a:off x="1143000" y="3643200"/>
            <a:ext cx="3214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6"/>
          <p:cNvSpPr/>
          <p:nvPr/>
        </p:nvSpPr>
        <p:spPr>
          <a:xfrm>
            <a:off x="1571760" y="1357200"/>
            <a:ext cx="42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Для того чтобы увидеть микробов, нам нужен специальный прибор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8"/>
          <p:cNvSpPr/>
          <p:nvPr/>
        </p:nvSpPr>
        <p:spPr>
          <a:xfrm>
            <a:off x="1357200" y="3071880"/>
            <a:ext cx="4286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икроско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0"/>
          <p:cNvSpPr/>
          <p:nvPr/>
        </p:nvSpPr>
        <p:spPr>
          <a:xfrm>
            <a:off x="2428920" y="464328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который увеличивает предметы в сотни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Рисунок 2" descr="микроскоп"/>
          <p:cNvPicPr/>
          <p:nvPr/>
        </p:nvPicPr>
        <p:blipFill>
          <a:blip r:embed="rId1"/>
          <a:stretch/>
        </p:blipFill>
        <p:spPr>
          <a:xfrm>
            <a:off x="6000840" y="1071720"/>
            <a:ext cx="2238120" cy="3714480"/>
          </a:xfrm>
          <a:prstGeom prst="rect">
            <a:avLst/>
          </a:prstGeom>
          <a:ln w="0">
            <a:noFill/>
          </a:ln>
        </p:spPr>
      </p:pic>
      <p:sp>
        <p:nvSpPr>
          <p:cNvPr id="370" name="TextBox 9"/>
          <p:cNvSpPr/>
          <p:nvPr/>
        </p:nvSpPr>
        <p:spPr>
          <a:xfrm>
            <a:off x="2214720" y="357120"/>
            <a:ext cx="675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ак увидеть микроб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722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Подзаголовок 2"/>
          <p:cNvSpPr/>
          <p:nvPr/>
        </p:nvSpPr>
        <p:spPr>
          <a:xfrm>
            <a:off x="1143000" y="3643200"/>
            <a:ext cx="3214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1"/>
          <p:cNvSpPr/>
          <p:nvPr/>
        </p:nvSpPr>
        <p:spPr>
          <a:xfrm>
            <a:off x="1571760" y="28584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Если положить капельку воды  на стекло микроскопа, то мы увидим микробов, которые живут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Рисунок 20" descr="Картинка 2 из 47"/>
          <p:cNvPicPr/>
          <p:nvPr/>
        </p:nvPicPr>
        <p:blipFill>
          <a:blip r:embed="rId1"/>
          <a:stretch/>
        </p:blipFill>
        <p:spPr>
          <a:xfrm>
            <a:off x="1692360" y="1052640"/>
            <a:ext cx="6595920" cy="4087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75" name="TextBox 12"/>
          <p:cNvSpPr/>
          <p:nvPr/>
        </p:nvSpPr>
        <p:spPr>
          <a:xfrm>
            <a:off x="2000160" y="53578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Капелька такая маленькая, но, сколько в ней микробо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722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Подзаголовок 2"/>
          <p:cNvSpPr/>
          <p:nvPr/>
        </p:nvSpPr>
        <p:spPr>
          <a:xfrm>
            <a:off x="1143000" y="3643200"/>
            <a:ext cx="3214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1"/>
          <p:cNvSpPr/>
          <p:nvPr/>
        </p:nvSpPr>
        <p:spPr>
          <a:xfrm>
            <a:off x="1571760" y="2858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Микробы могут иметь разнообразную форму</a:t>
            </a:r>
            <a:r>
              <a:rPr b="0" lang="en-US" sz="1800" spc="-1" strike="noStrike">
                <a:solidFill>
                  <a:srgbClr val="382971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7"/>
          <p:cNvSpPr/>
          <p:nvPr/>
        </p:nvSpPr>
        <p:spPr>
          <a:xfrm>
            <a:off x="1428840" y="92880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Одни микробы неподвижны, у других имеются реснички или хвостики , при помощи которых они передвиг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8"/>
          <p:cNvSpPr/>
          <p:nvPr/>
        </p:nvSpPr>
        <p:spPr>
          <a:xfrm>
            <a:off x="1500120" y="15717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Вот так выглядят некоторые  микробы  под микроскоп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Кишечная палочка (Escherichia coli).  ТЭМ"/>
          <p:cNvPicPr/>
          <p:nvPr/>
        </p:nvPicPr>
        <p:blipFill>
          <a:blip r:embed="rId1"/>
          <a:stretch/>
        </p:blipFill>
        <p:spPr>
          <a:xfrm>
            <a:off x="1573200" y="2000160"/>
            <a:ext cx="2070000" cy="221472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14" descr="Термотолерантные колиформные бактерии"/>
          <p:cNvPicPr/>
          <p:nvPr/>
        </p:nvPicPr>
        <p:blipFill>
          <a:blip r:embed="rId2"/>
          <a:stretch/>
        </p:blipFill>
        <p:spPr>
          <a:xfrm>
            <a:off x="3990960" y="2000160"/>
            <a:ext cx="2071800" cy="221472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15" descr="Кишечная палочка (Escherichia coli).  СЭМ"/>
          <p:cNvPicPr/>
          <p:nvPr/>
        </p:nvPicPr>
        <p:blipFill>
          <a:blip r:embed="rId3"/>
          <a:stretch/>
        </p:blipFill>
        <p:spPr>
          <a:xfrm>
            <a:off x="6426360" y="2000160"/>
            <a:ext cx="2155680" cy="221472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25" descr=" Фотография 28. Вот так выглядят разные микробы и бактерии под микроскопом. "/>
          <p:cNvPicPr/>
          <p:nvPr/>
        </p:nvPicPr>
        <p:blipFill>
          <a:blip r:embed="rId4"/>
          <a:stretch/>
        </p:blipFill>
        <p:spPr>
          <a:xfrm>
            <a:off x="1500120" y="4357800"/>
            <a:ext cx="2298600" cy="221436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17" descr="Nice-looking-G20"/>
          <p:cNvPicPr/>
          <p:nvPr/>
        </p:nvPicPr>
        <p:blipFill>
          <a:blip r:embed="rId5"/>
          <a:stretch/>
        </p:blipFill>
        <p:spPr>
          <a:xfrm>
            <a:off x="4000680" y="4429080"/>
            <a:ext cx="2128680" cy="221472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16" descr="275px-Dvulgaris_micrograph"/>
          <p:cNvPicPr/>
          <p:nvPr/>
        </p:nvPicPr>
        <p:blipFill>
          <a:blip r:embed="rId6"/>
          <a:stretch/>
        </p:blipFill>
        <p:spPr>
          <a:xfrm>
            <a:off x="6359400" y="4357800"/>
            <a:ext cx="217008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20:11:58Z</dcterms:created>
  <dc:creator>Пользователь Windows</dc:creator>
  <dc:description/>
  <dc:language>en-US</dc:language>
  <cp:lastModifiedBy>Учитель</cp:lastModifiedBy>
  <dcterms:modified xsi:type="dcterms:W3CDTF">2015-02-03T12:39:43Z</dcterms:modified>
  <cp:revision>68</cp:revision>
  <dc:subject/>
  <dc:title>Слайд 1</dc:title>
</cp:coreProperties>
</file>