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6.jpeg" ContentType="image/jpeg"/>
  <Override PartName="/ppt/media/image24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35.jpeg" ContentType="image/jpeg"/>
  <Override PartName="/ppt/media/image10.wmf" ContentType="image/x-wmf"/>
  <Override PartName="/ppt/media/image31.jpeg" ContentType="image/jpeg"/>
  <Override PartName="/ppt/media/image25.jpeg" ContentType="image/jpeg"/>
  <Override PartName="/ppt/media/image9.jpeg" ContentType="image/jpeg"/>
  <Override PartName="/ppt/media/image17.jpeg" ContentType="image/jpeg"/>
  <Override PartName="/ppt/media/image11.wmf" ContentType="image/x-wmf"/>
  <Override PartName="/ppt/media/image3.png" ContentType="image/png"/>
  <Override PartName="/ppt/media/image33.png" ContentType="image/png"/>
  <Override PartName="/ppt/media/image14.jpeg" ContentType="image/jpeg"/>
  <Override PartName="/ppt/media/image28.gif" ContentType="image/gif"/>
  <Override PartName="/ppt/media/image30.png" ContentType="image/png"/>
  <Override PartName="/ppt/media/image37.jpeg" ContentType="image/jpeg"/>
  <Override PartName="/ppt/media/image34.jpeg" ContentType="image/jpeg"/>
  <Override PartName="/ppt/media/image40.wmf" ContentType="image/x-wmf"/>
  <Override PartName="/ppt/media/image32.jpeg" ContentType="image/jpeg"/>
  <Override PartName="/ppt/media/image39.wmf" ContentType="image/x-wmf"/>
  <Override PartName="/ppt/media/image8.png" ContentType="image/png"/>
  <Override PartName="/ppt/media/image41.wmf" ContentType="image/x-wmf"/>
  <Override PartName="/ppt/media/image7.jpeg" ContentType="image/jpeg"/>
  <Override PartName="/ppt/media/image38.jpeg" ContentType="image/jpeg"/>
  <Override PartName="/ppt/media/image12.wmf" ContentType="image/x-wmf"/>
  <Override PartName="/ppt/media/image4.png" ContentType="image/png"/>
  <Override PartName="/ppt/media/image6.jpeg" ContentType="image/jpeg"/>
  <Override PartName="/ppt/media/image27.jpeg" ContentType="image/jpeg"/>
  <Override PartName="/ppt/media/image13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5.png" ContentType="image/png"/>
  <Override PartName="/ppt/media/image43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DBFA-9532-44F7-AF11-4E73DD27A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187C-5DC7-45B7-B916-2AADD8988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0B3A-8E81-43AA-82E1-9071BC732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D069-656E-46D1-B878-69BB8C9B6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706FC-7250-4F65-B552-BC1595230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A319E-96A6-41AB-ABAD-BA2450866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DB894-EE79-402C-874B-DEA29F3D1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47E14-63EB-4E8C-B93F-8392FC44C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5E661-4A66-4F0A-B306-50B8C22A8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16535-803A-46C4-9EA6-1CB857E0C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DF540-7483-4CF0-A5FA-B02D8558E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950C-7BC0-4025-BB64-B4ACED9B6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D5528-352E-4CF0-9895-8198C6558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0666B-133B-4959-B291-6A9B52AB1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5EAC3-1130-48B4-9D8E-E1DDCBAA1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EB701-91F8-4E2C-B37F-2D6F6FF2D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777F5-939A-4129-A105-26FD00B81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E33D-C2A8-4652-8319-9922312FD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6E1A-EABE-4515-956A-0547D85CB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107D-72C1-4E51-8189-B0F4B8B02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B9E7-328D-40CC-BC8D-09C2DFE46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2FA1-4661-4805-A951-3C269E5E6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DCEE-2912-407B-B4E9-9B3514DBC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9795-9DF6-484F-9164-6BC26AD13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9c696"/>
              </a:gs>
              <a:gs pos="100000">
                <a:srgbClr val="e6e3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FB24E-802E-4ECB-ABD4-105C3D6856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580E7-3124-4632-B038-51EA4F623B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6e3a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gif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hyperlink" Target="http://nsportal.ru/node/461238" TargetMode="External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2.wmf"/><Relationship Id="rId9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597528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Методическая разработка раздела образовательной программы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«Мы и наше здоровье»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Курса «Окружающий мир»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 класс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УМК «Школа России»</a:t>
            </a:r>
            <a:br>
              <a:rPr sz="2400"/>
            </a:br>
            <a:endParaRPr b="0" lang="en-US" sz="2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5363640" y="4149720"/>
            <a:ext cx="3527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Выполнил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Веселова Елена Николае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учитель начальных классов       МБОУ Устанской средней общеобразовательной шко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6021360"/>
            <a:ext cx="237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Уста 2013 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6" descr="image097"/>
          <p:cNvPicPr/>
          <p:nvPr/>
        </p:nvPicPr>
        <p:blipFill>
          <a:blip r:embed="rId1"/>
          <a:stretch/>
        </p:blipFill>
        <p:spPr>
          <a:xfrm>
            <a:off x="539640" y="3141720"/>
            <a:ext cx="2881440" cy="261756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6732720" y="620640"/>
            <a:ext cx="1965240" cy="2619360"/>
          </a:xfrm>
          <a:prstGeom prst="rect">
            <a:avLst/>
          </a:prstGeom>
          <a:ln w="255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351e"/>
                </a:solidFill>
                <a:latin typeface="Arial"/>
              </a:rPr>
              <a:t>Ожидаемые результаты</a:t>
            </a:r>
            <a:endParaRPr b="0" lang="en-US" sz="28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993300"/>
                </a:solidFill>
                <a:uFillTx/>
                <a:latin typeface="Arial"/>
              </a:rPr>
              <a:t>в познавательной сфере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: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повысится познавательная мотивация к изучению своего организма, закономерностей его строения развития; учащиеся овладеют навыками исследовательской деятельности при осуществлении  единства и взаимосвязи урочной и внеурочной деятельности;  повысится контроль за качеством своего организм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993300"/>
                </a:solidFill>
                <a:uFillTx/>
                <a:latin typeface="Arial"/>
              </a:rPr>
              <a:t>в нравственной сфере: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повысится уровень сформированности  духовно-нравственных качеств личности учащихся через приобщение детей к здоровому образу жизни; сформируется желание следовать правилам безопасного поведения в общественных мест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993300"/>
                </a:solidFill>
                <a:uFillTx/>
                <a:latin typeface="Arial"/>
              </a:rPr>
              <a:t>в социальной сфере: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сформируются навыки сотрудничества и взаимодействия с взрослыми и сверстниками вне стен школ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79280" y="3933720"/>
            <a:ext cx="1965600" cy="22320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395280" y="692280"/>
            <a:ext cx="1359000" cy="135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348000" y="4221000"/>
            <a:ext cx="1582920" cy="0"/>
          </a:xfrm>
          <a:prstGeom prst="line">
            <a:avLst/>
          </a:prstGeom>
          <a:ln w="1015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348000" y="3357720"/>
            <a:ext cx="1582920" cy="0"/>
          </a:xfrm>
          <a:prstGeom prst="line">
            <a:avLst/>
          </a:prstGeom>
          <a:ln w="1015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348000" y="2276640"/>
            <a:ext cx="1582920" cy="0"/>
          </a:xfrm>
          <a:prstGeom prst="line">
            <a:avLst/>
          </a:prstGeom>
          <a:ln w="1015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276720" y="1484280"/>
            <a:ext cx="0" cy="4681440"/>
          </a:xfrm>
          <a:prstGeom prst="line">
            <a:avLst/>
          </a:prstGeom>
          <a:ln w="1015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351e"/>
                </a:solidFill>
                <a:latin typeface="Arial"/>
              </a:rPr>
              <a:t>Содержание собственного </a:t>
            </a:r>
            <a:br>
              <a:rPr sz="2800"/>
            </a:br>
            <a:r>
              <a:rPr b="1" lang="en-US" sz="2800" spc="-1" strike="noStrike">
                <a:solidFill>
                  <a:srgbClr val="42351e"/>
                </a:solidFill>
                <a:latin typeface="Arial"/>
              </a:rPr>
              <a:t>педагогического опыта</a:t>
            </a:r>
            <a:endParaRPr b="0" lang="en-US" sz="2800" spc="-1" strike="noStrike">
              <a:solidFill>
                <a:srgbClr val="b39257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250920" y="2205000"/>
            <a:ext cx="3917880" cy="2938680"/>
          </a:xfrm>
          <a:prstGeom prst="rect">
            <a:avLst/>
          </a:prstGeom>
          <a:ln w="25560">
            <a:solidFill>
              <a:srgbClr val="42351e"/>
            </a:solidFill>
            <a:miter/>
          </a:ln>
        </p:spPr>
      </p:pic>
      <p:sp>
        <p:nvSpPr>
          <p:cNvPr id="269" name=""/>
          <p:cNvSpPr/>
          <p:nvPr/>
        </p:nvSpPr>
        <p:spPr>
          <a:xfrm>
            <a:off x="3276720" y="1484280"/>
            <a:ext cx="1582560" cy="0"/>
          </a:xfrm>
          <a:prstGeom prst="line">
            <a:avLst/>
          </a:prstGeom>
          <a:ln w="1015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276720" y="6165720"/>
            <a:ext cx="1582560" cy="0"/>
          </a:xfrm>
          <a:prstGeom prst="line">
            <a:avLst/>
          </a:prstGeom>
          <a:ln w="1015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003640" y="1916280"/>
            <a:ext cx="38894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Авторское поуроч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планирование внеуроч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03640" y="1125360"/>
            <a:ext cx="3889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Авторское поуроч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тематическое планиро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076720" y="2924280"/>
            <a:ext cx="38894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Разработка уроков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внеклассных мероприя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3860640"/>
            <a:ext cx="3889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рганизация занятий на баз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ФОКа «СПАРТ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932360" y="4724280"/>
            <a:ext cx="3889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Организация и прове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занятий круж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003640" y="5734080"/>
            <a:ext cx="38894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Взаимодействие с родител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276720" y="5157720"/>
            <a:ext cx="1582560" cy="0"/>
          </a:xfrm>
          <a:prstGeom prst="line">
            <a:avLst/>
          </a:prstGeom>
          <a:ln w="1015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500"/>
                            </p:stCondLst>
                            <p:childTnLst>
                              <p:par>
                                <p:cTn id="4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500"/>
                            </p:stCondLst>
                            <p:childTnLst>
                              <p:par>
                                <p:cTn id="4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500"/>
                            </p:stCondLst>
                            <p:childTnLst>
                              <p:par>
                                <p:cTn id="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500"/>
                            </p:stCondLst>
                            <p:childTnLst>
                              <p:par>
                                <p:cTn id="5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500"/>
                            </p:stCondLst>
                            <p:childTnLst>
                              <p:par>
                                <p:cTn id="6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7500"/>
                            </p:stCondLst>
                            <p:childTnLst>
                              <p:par>
                                <p:cTn id="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8500"/>
                            </p:stCondLst>
                            <p:childTnLst>
                              <p:par>
                                <p:cTn id="7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9500"/>
                            </p:stCondLst>
                            <p:childTnLst>
                              <p:par>
                                <p:cTn id="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500"/>
                            </p:stCondLst>
                            <p:childTnLst>
                              <p:par>
                                <p:cTn id="8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1500"/>
                            </p:stCondLst>
                            <p:childTnLst>
                              <p:par>
                                <p:cTn id="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2351e"/>
                </a:solidFill>
                <a:latin typeface="Arial"/>
              </a:rPr>
              <a:t>Педагогические технологии</a:t>
            </a:r>
            <a:endParaRPr b="0" lang="en-US" sz="2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15640" y="764640"/>
            <a:ext cx="6553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технология личностно-ориентированного подход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информационно-коммуникативные технолог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технология педагогики сотрудниче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132000" y="2276640"/>
            <a:ext cx="316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351e"/>
                </a:solidFill>
                <a:latin typeface="Arial"/>
              </a:rPr>
              <a:t>Методы обу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492360" y="3213000"/>
            <a:ext cx="4248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наглядны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словесны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практическ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4572000" y="4365720"/>
            <a:ext cx="2832120" cy="2124000"/>
          </a:xfrm>
          <a:prstGeom prst="rect">
            <a:avLst/>
          </a:prstGeom>
          <a:ln w="25560">
            <a:solidFill>
              <a:srgbClr val="42351e"/>
            </a:solidFill>
            <a:miter/>
          </a:ln>
        </p:spPr>
      </p:pic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6588000" y="1268280"/>
            <a:ext cx="2343240" cy="27910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284" name="" descr=""/>
          <p:cNvPicPr/>
          <p:nvPr/>
        </p:nvPicPr>
        <p:blipFill>
          <a:blip r:embed="rId3"/>
          <a:stretch/>
        </p:blipFill>
        <p:spPr>
          <a:xfrm>
            <a:off x="324000" y="1628640"/>
            <a:ext cx="2736720" cy="2052720"/>
          </a:xfrm>
          <a:prstGeom prst="rect">
            <a:avLst/>
          </a:prstGeom>
          <a:ln w="25560">
            <a:solidFill>
              <a:srgbClr val="42351e"/>
            </a:solidFill>
            <a:miter/>
          </a:ln>
        </p:spPr>
      </p:pic>
      <p:pic>
        <p:nvPicPr>
          <p:cNvPr id="285" name="" descr=""/>
          <p:cNvPicPr/>
          <p:nvPr/>
        </p:nvPicPr>
        <p:blipFill>
          <a:blip r:embed="rId4"/>
          <a:stretch/>
        </p:blipFill>
        <p:spPr>
          <a:xfrm>
            <a:off x="1258920" y="3860640"/>
            <a:ext cx="2138400" cy="2853000"/>
          </a:xfrm>
          <a:prstGeom prst="rect">
            <a:avLst/>
          </a:prstGeom>
          <a:ln w="25560">
            <a:solidFill>
              <a:srgbClr val="42351e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39257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Учебная деятельность</a:t>
            </a:r>
            <a:endParaRPr b="0" lang="en-US" sz="2800" spc="-1" strike="noStrike">
              <a:solidFill>
                <a:srgbClr val="b39257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2324160" cy="174312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6804000" y="260280"/>
            <a:ext cx="2124000" cy="15908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3"/>
          <a:stretch/>
        </p:blipFill>
        <p:spPr>
          <a:xfrm>
            <a:off x="1332000" y="2060640"/>
            <a:ext cx="2905200" cy="218124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4"/>
          <a:stretch/>
        </p:blipFill>
        <p:spPr>
          <a:xfrm>
            <a:off x="4788000" y="1989000"/>
            <a:ext cx="3024000" cy="227016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5"/>
          <a:stretch/>
        </p:blipFill>
        <p:spPr>
          <a:xfrm>
            <a:off x="5508720" y="4365720"/>
            <a:ext cx="3095640" cy="232236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6"/>
          <a:stretch/>
        </p:blipFill>
        <p:spPr>
          <a:xfrm>
            <a:off x="395280" y="4365720"/>
            <a:ext cx="3024360" cy="226836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3276720" y="907920"/>
            <a:ext cx="2736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Наблю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Иг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Практические зан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Исследования и откры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7"/>
          <a:stretch/>
        </p:blipFill>
        <p:spPr>
          <a:xfrm>
            <a:off x="3780000" y="4941720"/>
            <a:ext cx="136188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3859200" y="0"/>
            <a:ext cx="5284800" cy="352260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43214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Внеурочная дея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692280"/>
            <a:ext cx="345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лассные час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«Твоё здоровье и питание»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«Вредные привыч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и как с ними бороться?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«Разговор о правильн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питании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неклассные мероприят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День здоровья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Семейный праздник «Пап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Мама, я – спортивная семья!»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«Весёлые старты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42351e"/>
                </a:solidFill>
                <a:uFillTx/>
                <a:latin typeface="Arial"/>
              </a:rPr>
              <a:t>Беседы медицинского работ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Профилактика заботева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Закаливание как способ защи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организ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500720" y="3500280"/>
            <a:ext cx="33112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Занятия: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плавани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лечебная физкуль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1692360" y="4653000"/>
            <a:ext cx="2592360" cy="1944720"/>
          </a:xfrm>
          <a:prstGeom prst="rect">
            <a:avLst/>
          </a:prstGeom>
          <a:ln w="25560">
            <a:solidFill>
              <a:srgbClr val="42351e"/>
            </a:solidFill>
            <a:miter/>
          </a:ln>
        </p:spPr>
      </p:pic>
      <p:pic>
        <p:nvPicPr>
          <p:cNvPr id="300" name="" descr=""/>
          <p:cNvPicPr/>
          <p:nvPr/>
        </p:nvPicPr>
        <p:blipFill>
          <a:blip r:embed="rId3"/>
          <a:stretch/>
        </p:blipFill>
        <p:spPr>
          <a:xfrm>
            <a:off x="5364000" y="4508640"/>
            <a:ext cx="2808360" cy="2106360"/>
          </a:xfrm>
          <a:prstGeom prst="rect">
            <a:avLst/>
          </a:prstGeom>
          <a:ln w="25560">
            <a:solidFill>
              <a:srgbClr val="42351e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8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7000"/>
                            </p:stCondLst>
                            <p:childTnLst>
                              <p:par>
                                <p:cTn id="1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9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 rot="1120800">
            <a:off x="2195640" y="2349360"/>
            <a:ext cx="1601640" cy="208944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 rot="20857800">
            <a:off x="539640" y="2276280"/>
            <a:ext cx="1303560" cy="208728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Кружковая работа</a:t>
            </a:r>
            <a:endParaRPr b="0" lang="en-US" sz="28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23640" y="1268280"/>
            <a:ext cx="5111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351e"/>
                </a:solidFill>
                <a:latin typeface="Arial"/>
              </a:rPr>
              <a:t>УМК «Разговор о правильном питани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003640" y="981000"/>
            <a:ext cx="414036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2351e"/>
                </a:solidFill>
                <a:latin typeface="Arial"/>
              </a:rPr>
              <a:t>Дополнительная образователь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2351e"/>
                </a:solidFill>
                <a:latin typeface="Arial"/>
              </a:rPr>
              <a:t>програм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351e"/>
                </a:solidFill>
                <a:latin typeface="Arial"/>
              </a:rPr>
              <a:t>«Красивая осан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3"/>
          <a:stretch/>
        </p:blipFill>
        <p:spPr>
          <a:xfrm rot="20815200">
            <a:off x="394920" y="4076640"/>
            <a:ext cx="1712880" cy="22320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4"/>
          <a:stretch/>
        </p:blipFill>
        <p:spPr>
          <a:xfrm rot="924000">
            <a:off x="2268360" y="4076640"/>
            <a:ext cx="1855800" cy="23940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4572000" y="2637000"/>
            <a:ext cx="4248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00"/>
                </a:solidFill>
                <a:latin typeface="Arial"/>
              </a:rPr>
              <a:t>Программа разработана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педагог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00"/>
                </a:solidFill>
                <a:latin typeface="Arial"/>
              </a:rPr>
              <a:t>школы для учащихся 1-4 клас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00"/>
                </a:solidFill>
                <a:latin typeface="Arial"/>
              </a:rPr>
              <a:t>с целью коррекции осанки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00"/>
                </a:solidFill>
                <a:latin typeface="Arial"/>
              </a:rPr>
              <a:t>плоскостопия у детей младше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00"/>
                </a:solidFill>
                <a:latin typeface="Arial"/>
              </a:rPr>
              <a:t>школьного возраста через организаци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00"/>
                </a:solidFill>
                <a:latin typeface="Arial"/>
              </a:rPr>
              <a:t>физкультурно-оздоровительных занят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00"/>
                </a:solidFill>
                <a:latin typeface="Arial"/>
              </a:rPr>
              <a:t>в начальной школ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00"/>
                </a:solidFill>
                <a:latin typeface="Arial"/>
              </a:rPr>
              <a:t>Программа принимала участие в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00"/>
                </a:solidFill>
                <a:latin typeface="Arial"/>
              </a:rPr>
              <a:t>Всероссийском конкурс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993300"/>
                </a:solidFill>
                <a:latin typeface="Arial"/>
              </a:rPr>
              <a:t>образовательных програм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00"/>
                </a:solidFill>
                <a:latin typeface="Arial"/>
              </a:rPr>
              <a:t>«Здоровое поколение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6633"/>
                </a:solidFill>
                <a:uFillTx/>
                <a:latin typeface="Arial"/>
                <a:hlinkClick r:id="rId5"/>
              </a:rPr>
              <a:t>http://nsportal.ru/node/4612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10920" y="115920"/>
            <a:ext cx="5040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Работа с родителями</a:t>
            </a:r>
            <a:endParaRPr b="0" lang="en-US" sz="28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37432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00"/>
                </a:solidFill>
                <a:latin typeface="Arial"/>
              </a:rPr>
              <a:t>Мониторинг здоровья де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00"/>
                </a:solidFill>
                <a:latin typeface="Arial"/>
              </a:rPr>
              <a:t>Анкетирова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00"/>
                </a:solidFill>
                <a:latin typeface="Arial"/>
              </a:rPr>
              <a:t>Индивидуальные консультации, советы специалис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00"/>
                </a:solidFill>
                <a:latin typeface="Arial"/>
              </a:rPr>
              <a:t>Беседы «Вопрос-ответ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00"/>
                </a:solidFill>
                <a:latin typeface="Arial"/>
              </a:rPr>
              <a:t>Классные родительские собр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00"/>
                </a:solidFill>
                <a:latin typeface="Arial"/>
              </a:rPr>
              <a:t>Совместные занятия для детей и родите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00"/>
                </a:solidFill>
                <a:latin typeface="Arial"/>
              </a:rPr>
              <a:t>Совместные спортивные праздни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5003640" y="836640"/>
            <a:ext cx="3961080" cy="2970360"/>
          </a:xfrm>
          <a:prstGeom prst="rect">
            <a:avLst/>
          </a:prstGeom>
          <a:ln w="25560">
            <a:solidFill>
              <a:srgbClr val="42351e"/>
            </a:solidFill>
            <a:miter/>
          </a:ln>
        </p:spPr>
      </p:pic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5364000" y="4292640"/>
            <a:ext cx="2953080" cy="2284200"/>
          </a:xfrm>
          <a:prstGeom prst="rect">
            <a:avLst/>
          </a:prstGeom>
          <a:ln w="25560">
            <a:solidFill>
              <a:srgbClr val="42351e"/>
            </a:solidFill>
            <a:miter/>
          </a:ln>
        </p:spPr>
      </p:pic>
      <p:pic>
        <p:nvPicPr>
          <p:cNvPr id="313" name="" descr=""/>
          <p:cNvPicPr/>
          <p:nvPr/>
        </p:nvPicPr>
        <p:blipFill>
          <a:blip r:embed="rId3"/>
          <a:stretch/>
        </p:blipFill>
        <p:spPr>
          <a:xfrm>
            <a:off x="1547640" y="4508640"/>
            <a:ext cx="2335320" cy="2125440"/>
          </a:xfrm>
          <a:prstGeom prst="rect">
            <a:avLst/>
          </a:prstGeom>
          <a:ln w="25560">
            <a:solidFill>
              <a:srgbClr val="42351e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6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3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351e"/>
                </a:solidFill>
                <a:latin typeface="Arial"/>
              </a:rPr>
              <a:t>Результаты исследования после изучения раздела программы</a:t>
            </a:r>
            <a:endParaRPr b="0" lang="en-US" sz="28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26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324000" y="1773360"/>
          <a:ext cx="3816360" cy="21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773360"/>
                    <a:ext cx="3816360" cy="21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"/>
          <p:cNvSpPr/>
          <p:nvPr/>
        </p:nvSpPr>
        <p:spPr>
          <a:xfrm>
            <a:off x="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3780000" y="1700280"/>
          <a:ext cx="5003640" cy="225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0" y="1700280"/>
                    <a:ext cx="5003640" cy="22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"/>
          <p:cNvSpPr/>
          <p:nvPr/>
        </p:nvSpPr>
        <p:spPr>
          <a:xfrm>
            <a:off x="0" y="250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324000" y="3860640"/>
          <a:ext cx="3816360" cy="2808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4000" y="3860640"/>
                    <a:ext cx="381636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4" name=""/>
          <p:cNvSpPr/>
          <p:nvPr/>
        </p:nvSpPr>
        <p:spPr>
          <a:xfrm>
            <a:off x="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4140360" y="4005360"/>
          <a:ext cx="4537080" cy="2338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40360" y="4005360"/>
                    <a:ext cx="4537080" cy="23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Отслеживание результатов</a:t>
            </a:r>
            <a:endParaRPr b="0" lang="en-US" sz="2800" spc="-1" strike="noStrike">
              <a:solidFill>
                <a:srgbClr val="b39257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2916360" y="1557360"/>
            <a:ext cx="3267000" cy="45259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6300720" y="4365720"/>
            <a:ext cx="2664000" cy="1152360"/>
          </a:xfrm>
          <a:prstGeom prst="ellipse">
            <a:avLst/>
          </a:prstGeom>
          <a:solidFill>
            <a:srgbClr val="e6e3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Медицинск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работ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79280" y="4292640"/>
            <a:ext cx="2521080" cy="1224000"/>
          </a:xfrm>
          <a:prstGeom prst="ellipse">
            <a:avLst/>
          </a:prstGeom>
          <a:solidFill>
            <a:srgbClr val="e6e3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Де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79280" y="1628640"/>
            <a:ext cx="2590920" cy="1224000"/>
          </a:xfrm>
          <a:prstGeom prst="ellipse">
            <a:avLst/>
          </a:prstGeom>
          <a:solidFill>
            <a:srgbClr val="e6e3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Класс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руководи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372360" y="1628640"/>
            <a:ext cx="2592360" cy="1297080"/>
          </a:xfrm>
          <a:prstGeom prst="ellipse">
            <a:avLst/>
          </a:prstGeom>
          <a:solidFill>
            <a:srgbClr val="e6e3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Родит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547640" y="2997360"/>
            <a:ext cx="1440000" cy="647640"/>
          </a:xfrm>
          <a:prstGeom prst="line">
            <a:avLst/>
          </a:prstGeom>
          <a:ln w="63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6227280" y="3860280"/>
            <a:ext cx="1476360" cy="360360"/>
          </a:xfrm>
          <a:prstGeom prst="line">
            <a:avLst/>
          </a:prstGeom>
          <a:ln w="63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1547640" y="3789000"/>
            <a:ext cx="1440000" cy="431640"/>
          </a:xfrm>
          <a:prstGeom prst="line">
            <a:avLst/>
          </a:prstGeom>
          <a:ln w="63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6227280" y="2997360"/>
            <a:ext cx="1297080" cy="792000"/>
          </a:xfrm>
          <a:prstGeom prst="line">
            <a:avLst/>
          </a:prstGeom>
          <a:ln w="63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Реализация методической разработк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способствует  сохранению и укреплению здорового образа жизни в школе, семье, обществ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Способствует углублению знаний о своем здоровье и об организме в целом; усвоению правил, норм поведения в рамках ЗОЖ, ;воспитанию ответственного отношения к своему здоров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представляет значительный интерес для школьной практ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37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351e"/>
                </a:solidFill>
                <a:latin typeface="Arial"/>
              </a:rPr>
              <a:t>Тема: </a:t>
            </a:r>
            <a:br>
              <a:rPr sz="2800"/>
            </a:b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«Формирование у младших школьников  ответственного отношения к своему здоровью,  через приобщение детей к здоровому образу жизни,  в процессе изучения  интегрированного курса «Окружающий мир» УМК «Школа России».</a:t>
            </a: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b39257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 rot="20992800">
            <a:off x="684360" y="3213000"/>
            <a:ext cx="3456000" cy="2368800"/>
          </a:xfrm>
          <a:prstGeom prst="rect">
            <a:avLst/>
          </a:prstGeom>
          <a:ln w="25560">
            <a:solidFill>
              <a:srgbClr val="42351e"/>
            </a:solidFill>
            <a:miter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 rot="1326000">
            <a:off x="6084360" y="3429000"/>
            <a:ext cx="1792440" cy="2303640"/>
          </a:xfrm>
          <a:prstGeom prst="rect">
            <a:avLst/>
          </a:prstGeom>
          <a:ln w="25560">
            <a:solidFill>
              <a:srgbClr val="42351e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351e"/>
                </a:solidFill>
                <a:latin typeface="Arial"/>
              </a:rPr>
              <a:t>Анализ психолого-педагогической </a:t>
            </a:r>
            <a:br>
              <a:rPr sz="2800"/>
            </a:br>
            <a:r>
              <a:rPr b="1" lang="en-US" sz="2800" spc="-1" strike="noStrike">
                <a:solidFill>
                  <a:srgbClr val="42351e"/>
                </a:solidFill>
                <a:latin typeface="Arial"/>
              </a:rPr>
              <a:t>литературы по теме</a:t>
            </a:r>
            <a:br>
              <a:rPr sz="2800"/>
            </a:br>
            <a:endParaRPr b="0" lang="en-US" sz="28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99"/>
                </a:solidFill>
                <a:latin typeface="Arial"/>
              </a:rPr>
              <a:t>Изучением и накоплением практического опыта здорового образа жизни занимались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99"/>
                </a:solidFill>
                <a:latin typeface="Arial"/>
              </a:rPr>
              <a:t>Педагогические условия укрепления здоровья школьников в воспитательной системе                                                      В. А. Сухомлин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3399"/>
                </a:solidFill>
                <a:latin typeface="Arial"/>
              </a:rPr>
              <a:t>Профессор Ю.Ф. Змановски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003399"/>
                </a:solidFill>
                <a:latin typeface="Arial"/>
              </a:rPr>
              <a:t>«</a:t>
            </a:r>
            <a:r>
              <a:rPr b="1" i="1" lang="ru-RU" sz="2000" spc="-1" strike="noStrike" u="sng">
                <a:solidFill>
                  <a:srgbClr val="003399"/>
                </a:solidFill>
                <a:uFillTx/>
                <a:latin typeface="Arial"/>
              </a:rPr>
              <a:t>К здоровью без лекарст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99"/>
                </a:solidFill>
                <a:latin typeface="Arial"/>
              </a:rPr>
              <a:t>основами  безопасности детей школьного возраста - Практический психолог В.Г. Алямовска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1" i="1" lang="ru-RU" sz="2000" spc="-1" strike="noStrike" u="sng">
                <a:solidFill>
                  <a:srgbClr val="003399"/>
                </a:solidFill>
                <a:uFillTx/>
                <a:latin typeface="Arial"/>
              </a:rPr>
              <a:t>Программа «Здоровье детей раннего возраст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3399"/>
                </a:solidFill>
                <a:latin typeface="Arial"/>
              </a:rPr>
              <a:t>О создании в школах групп здоровья -                       Школьный врач Л.Н. Лагуте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99"/>
                </a:solidFill>
                <a:latin typeface="Arial"/>
              </a:rPr>
              <a:t>Писатель, педагог, врач Януш Корча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1" i="1" lang="ru-RU" sz="2000" spc="-1" strike="noStrike" u="sng">
                <a:solidFill>
                  <a:srgbClr val="003399"/>
                </a:solidFill>
                <a:uFillTx/>
                <a:latin typeface="Arial"/>
              </a:rPr>
              <a:t>«Как любить ребён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351e"/>
                </a:solidFill>
                <a:latin typeface="Arial"/>
              </a:rPr>
              <a:t>Пояснительная записка</a:t>
            </a:r>
            <a:endParaRPr b="0" lang="en-US" sz="28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95280" y="4868640"/>
            <a:ext cx="829152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Самое драгоценное, что дала природа человеку от рождения  – это  здоровье, и только здоровый человек способен быть настоящим творцом собственной судьбы и судьбы своей стра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Прямоугольник 18" descr=""/>
          <p:cNvPicPr/>
          <p:nvPr/>
        </p:nvPicPr>
        <p:blipFill>
          <a:blip r:embed="rId1"/>
          <a:stretch/>
        </p:blipFill>
        <p:spPr>
          <a:xfrm>
            <a:off x="6227640" y="620640"/>
            <a:ext cx="3357720" cy="184644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19" descr="1110005n100s85q.jpg"/>
          <p:cNvPicPr/>
          <p:nvPr/>
        </p:nvPicPr>
        <p:blipFill>
          <a:blip r:embed="rId2"/>
          <a:stretch/>
        </p:blipFill>
        <p:spPr>
          <a:xfrm rot="21071400">
            <a:off x="1187280" y="1341000"/>
            <a:ext cx="5453280" cy="31194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468360" y="1341360"/>
            <a:ext cx="2670120" cy="200844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  <p:pic>
        <p:nvPicPr>
          <p:cNvPr id="226" name="" descr=""/>
          <p:cNvPicPr/>
          <p:nvPr/>
        </p:nvPicPr>
        <p:blipFill>
          <a:blip r:embed="rId4"/>
          <a:stretch/>
        </p:blipFill>
        <p:spPr>
          <a:xfrm>
            <a:off x="3708360" y="1916280"/>
            <a:ext cx="1743120" cy="261936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  <p:pic>
        <p:nvPicPr>
          <p:cNvPr id="227" name="" descr=""/>
          <p:cNvPicPr/>
          <p:nvPr/>
        </p:nvPicPr>
        <p:blipFill>
          <a:blip r:embed="rId5"/>
          <a:stretch/>
        </p:blipFill>
        <p:spPr>
          <a:xfrm>
            <a:off x="6156360" y="2421000"/>
            <a:ext cx="2592360" cy="194472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2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4788000" y="836640"/>
            <a:ext cx="1728720" cy="3313080"/>
          </a:xfrm>
          <a:prstGeom prst="line">
            <a:avLst/>
          </a:prstGeom>
          <a:ln w="1015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771280" y="277920"/>
            <a:ext cx="331308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50920" y="1413000"/>
            <a:ext cx="25207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00"/>
                </a:solidFill>
                <a:latin typeface="Arial"/>
              </a:rPr>
              <a:t>Формирова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00"/>
                </a:solidFill>
                <a:latin typeface="Arial"/>
              </a:rPr>
              <a:t>здорового образ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00"/>
                </a:solidFill>
                <a:latin typeface="Arial"/>
              </a:rPr>
              <a:t>жизни в единств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00"/>
                </a:solidFill>
                <a:latin typeface="Arial"/>
              </a:rPr>
              <a:t>составляющих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00"/>
                </a:solidFill>
                <a:latin typeface="Arial"/>
              </a:rPr>
              <a:t>здоровье физическо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00"/>
                </a:solidFill>
                <a:latin typeface="Arial"/>
              </a:rPr>
              <a:t>психическо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00"/>
                </a:solidFill>
                <a:latin typeface="Arial"/>
              </a:rPr>
              <a:t>духовно-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00"/>
                </a:solidFill>
                <a:latin typeface="Arial"/>
              </a:rPr>
              <a:t>социально-нравственное.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977080" y="1268280"/>
            <a:ext cx="316692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00"/>
                </a:solidFill>
                <a:latin typeface="Arial"/>
              </a:rPr>
              <a:t>Воспита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00"/>
                </a:solidFill>
                <a:latin typeface="Arial"/>
              </a:rPr>
              <a:t>духовно–нравственн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00"/>
                </a:solidFill>
                <a:latin typeface="Arial"/>
              </a:rPr>
              <a:t>личности, выполняющ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00"/>
                </a:solidFill>
                <a:latin typeface="Arial"/>
              </a:rPr>
              <a:t>правила здорового образ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00"/>
                </a:solidFill>
                <a:latin typeface="Arial"/>
              </a:rPr>
              <a:t>жизни, безопасного для человек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00"/>
                </a:solidFill>
                <a:latin typeface="Arial"/>
              </a:rPr>
              <a:t>и окружающей его среды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2268360" y="836640"/>
            <a:ext cx="1872000" cy="3386160"/>
          </a:xfrm>
          <a:prstGeom prst="line">
            <a:avLst/>
          </a:prstGeom>
          <a:ln w="1015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84360" y="3789360"/>
            <a:ext cx="187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Шко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24000" y="4076640"/>
            <a:ext cx="237636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Сниж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показателе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здоровь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учащих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96000" y="3645000"/>
            <a:ext cx="25192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3 «Б»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3492360" y="4365720"/>
          <a:ext cx="5651640" cy="232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4365720"/>
                    <a:ext cx="5651640" cy="23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"/>
          <p:cNvSpPr/>
          <p:nvPr/>
        </p:nvSpPr>
        <p:spPr>
          <a:xfrm rot="5400000">
            <a:off x="3527280" y="441000"/>
            <a:ext cx="1657440" cy="3743280"/>
          </a:xfrm>
          <a:custGeom>
            <a:avLst/>
            <a:gdLst>
              <a:gd name="textAreaLeft" fmla="*/ 0 w 1657440"/>
              <a:gd name="textAreaRight" fmla="*/ 1657800 w 1657440"/>
              <a:gd name="textAreaTop" fmla="*/ 935640 h 3743280"/>
              <a:gd name="textAreaBottom" fmla="*/ 2807640 h 3743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Федеральны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бразовательны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тандар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ового поко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500720" y="836640"/>
            <a:ext cx="0" cy="647640"/>
          </a:xfrm>
          <a:prstGeom prst="line">
            <a:avLst/>
          </a:prstGeom>
          <a:ln w="1015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rot="16200000">
            <a:off x="4139280" y="-1178640"/>
            <a:ext cx="647640" cy="3382920"/>
          </a:xfrm>
          <a:prstGeom prst="flowChartOnlineStorag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351e"/>
                </a:solidFill>
                <a:latin typeface="Arial"/>
              </a:rPr>
              <a:t>Актуа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351e"/>
                </a:solidFill>
                <a:latin typeface="Arial"/>
              </a:rPr>
              <a:t>Результаты исследования перед началом изучения раздела программы</a:t>
            </a:r>
            <a:endParaRPr b="0" lang="en-US" sz="28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16000" y="1988640"/>
            <a:ext cx="21700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Проблемы своего здоровь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40360" y="1700280"/>
            <a:ext cx="2087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Знание и выполн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правил здоров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образа жиз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0" y="3141720"/>
          <a:ext cx="4716360" cy="273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141720"/>
                    <a:ext cx="4716360" cy="27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>
            <a:off x="0" y="25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4572000" y="3068640"/>
          <a:ext cx="4325760" cy="273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3068640"/>
                    <a:ext cx="4325760" cy="27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351e"/>
                </a:solidFill>
                <a:latin typeface="Arial"/>
              </a:rPr>
              <a:t>Новизна</a:t>
            </a:r>
            <a:endParaRPr b="0" lang="en-US" sz="32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Программа объединяет в себе практические занятия с учётом индивидуальных особенностей здоровья каждого учащегося в классе  и  теоретические сведения из области анатомии, физиологии, гигиены  школьника, ОБЖ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Систематизирование и совершенствование содержания раздела программы «Мы и наше здоровье» через интеграцию урочной и внеурочной деятельности в сотрудничестве с родителями и внешними ресурс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Создание  авторского поурочного планирования по разделу с обновлением содержания, а именно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- использование новых форм организации урока (урок-исследование, урок-практикум, урок  с приглашением медицинского работника, урок на базе ФОКа «Спарта»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- активное использование на уроках информационно-коммуникативных технологий  (ИКТ презентаций), а также электронных образовательных ресурсов (ЭОР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1619280" y="2349360"/>
            <a:ext cx="5761080" cy="432144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351e"/>
                </a:solidFill>
                <a:latin typeface="Arial"/>
              </a:rPr>
              <a:t>Практическая значимость</a:t>
            </a:r>
            <a:endParaRPr b="0" lang="en-US" sz="28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-360" y="692280"/>
            <a:ext cx="87138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dd48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Материалы,  содержащиеся в разработке, могут использоваться в деятельности учителей, воспитателей ГПД общеобразовательных школ, педагогов дополнительного образования в процессе работы по воспитанию школьников здорового образа жиз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3743280" cy="2808360"/>
          </a:xfrm>
          <a:prstGeom prst="rect">
            <a:avLst/>
          </a:prstGeom>
          <a:ln w="25560">
            <a:solidFill>
              <a:srgbClr val="0033cc"/>
            </a:solidFill>
            <a:miter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356000" y="4762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2351e"/>
                </a:solidFill>
                <a:uFillTx/>
                <a:latin typeface="Arial"/>
              </a:rPr>
              <a:t>Цель: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Формирование представлений о человеке как части живой природы, о строении и жизнедеятельности нашего организма как единого целого.</a:t>
            </a:r>
            <a:endParaRPr b="0" lang="en-US" sz="2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3357360"/>
            <a:ext cx="8229600" cy="31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42351e"/>
                </a:solidFill>
                <a:uFillTx/>
                <a:latin typeface="Arial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создать условия для развития познавательного интереса и ответственного отношения  к своему здоровью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приобщать младших школьников к здоровому образу жизни  через изучение  строения, функций и возможностей нашего организма  в цел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развивать  самостоятельность, способность контролировать своё поведение в различных жизненных ситуациях, делать правильный обоснованный выбор с учётом норм ЗОЖ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воспитывать ответственность и бережное  отношение к своему здоровь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6T14:44:01Z</dcterms:created>
  <dc:creator>1</dc:creator>
  <dc:description/>
  <dc:language>en-US</dc:language>
  <cp:lastModifiedBy>1</cp:lastModifiedBy>
  <dcterms:modified xsi:type="dcterms:W3CDTF">2015-02-03T16:19:03Z</dcterms:modified>
  <cp:revision>43</cp:revision>
  <dc:subject/>
  <dc:title>Слайд 1</dc:title>
</cp:coreProperties>
</file>