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10.wmf" ContentType="image/x-wmf"/>
  <Override PartName="/ppt/media/image31.jpeg" ContentType="image/jpeg"/>
  <Override PartName="/ppt/media/image25.jpeg" ContentType="image/jpeg"/>
  <Override PartName="/ppt/media/image9.jpeg" ContentType="image/jpeg"/>
  <Override PartName="/ppt/media/image17.jpeg" ContentType="image/jpeg"/>
  <Override PartName="/ppt/media/image11.wmf" ContentType="image/x-wmf"/>
  <Override PartName="/ppt/media/image3.png" ContentType="image/png"/>
  <Override PartName="/ppt/media/image33.png" ContentType="image/png"/>
  <Override PartName="/ppt/media/image14.jpeg" ContentType="image/jpeg"/>
  <Override PartName="/ppt/media/image28.gif" ContentType="image/gif"/>
  <Override PartName="/ppt/media/image30.png" ContentType="image/png"/>
  <Override PartName="/ppt/media/image37.jpeg" ContentType="image/jpeg"/>
  <Override PartName="/ppt/media/image34.jpeg" ContentType="image/jpeg"/>
  <Override PartName="/ppt/media/image40.wmf" ContentType="image/x-wmf"/>
  <Override PartName="/ppt/media/image32.jpeg" ContentType="image/jpeg"/>
  <Override PartName="/ppt/media/image39.wmf" ContentType="image/x-wmf"/>
  <Override PartName="/ppt/media/image8.png" ContentType="image/png"/>
  <Override PartName="/ppt/media/image41.wmf" ContentType="image/x-wmf"/>
  <Override PartName="/ppt/media/image7.jpeg" ContentType="image/jpeg"/>
  <Override PartName="/ppt/media/image38.jpeg" ContentType="image/jpeg"/>
  <Override PartName="/ppt/media/image12.wmf" ContentType="image/x-wmf"/>
  <Override PartName="/ppt/media/image4.png" ContentType="image/png"/>
  <Override PartName="/ppt/media/image6.jpeg" ContentType="image/jpeg"/>
  <Override PartName="/ppt/media/image27.jpeg" ContentType="image/jpeg"/>
  <Override PartName="/ppt/media/image1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5.png" ContentType="image/png"/>
  <Override PartName="/ppt/media/image4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3BC-66EE-458C-84F9-DC4FCFD6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B6B-15BD-431A-81C7-994A3540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BA1-22C7-44B3-B6BC-3D182AFF5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6E1-E9C7-42D4-9574-2B77ADC5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E180-71B2-4344-9B83-8006BD6A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01D1-F7C2-4868-A447-F94FEFCA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A593-F04C-4ADC-AE29-CBF10DA3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F7A3-E93C-4BA1-AA0E-C0FFA358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90FF-B9CC-466F-A55F-8BAFDDD1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A45A-5893-47B7-8E2C-1A8139FE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ADDA-0DEE-467B-839A-DEE15C15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6DF-86DA-41A0-85F1-44AD64FD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BFFD-3782-4CEB-834A-46381E2F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0EA7-7B51-485A-B1BB-BE1ABCF3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AEE6-D3C6-4965-B7F8-788D88C0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0807-4B2C-42BA-9C81-25DB791A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9B94-D5FA-427F-BAA5-DD758FD8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7187-EFF1-4711-AAE5-8CA9D427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68D-50DC-4381-ACDC-E414DDA4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D3C6-F2FA-4052-989A-D57178BB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E36-A013-4CB1-86DF-F8153D38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8735-828C-402B-90B2-1CE5B05F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634-6A9A-4E3E-A32E-8D3E4B1A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07C-2011-480D-80C0-95ED9549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CF39-F5DE-4A82-BD53-377EEEE1E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A26F-3FBA-4879-8746-544BC8506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gif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hyperlink" Target="http://nsportal.ru/node/461238" TargetMode="External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59752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Методическая разработка раздела образовательной программы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«Мы и наше здоровье»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урса «Окружающий мир»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класс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УМК «Школа России»</a:t>
            </a:r>
            <a:br>
              <a:rPr sz="2400"/>
            </a:b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63640" y="4149720"/>
            <a:ext cx="3527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Выполн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Веселова Елена Никола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учитель начальных классов       МБОУ Устанской средней общеобразовательной шк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6021360"/>
            <a:ext cx="237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Уста 2013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6" descr="image097"/>
          <p:cNvPicPr/>
          <p:nvPr/>
        </p:nvPicPr>
        <p:blipFill>
          <a:blip r:embed="rId1"/>
          <a:stretch/>
        </p:blipFill>
        <p:spPr>
          <a:xfrm>
            <a:off x="539640" y="3141720"/>
            <a:ext cx="2881440" cy="261756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732720" y="620640"/>
            <a:ext cx="1965240" cy="2619360"/>
          </a:xfrm>
          <a:prstGeom prst="rect">
            <a:avLst/>
          </a:prstGeom>
          <a:ln w="255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351e"/>
                </a:solidFill>
                <a:latin typeface="Arial"/>
              </a:rPr>
              <a:t>Ожидаемые результаты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3300"/>
                </a:solidFill>
                <a:uFillTx/>
                <a:latin typeface="Arial"/>
              </a:rPr>
              <a:t>в познавательной сфере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повысится познавательная мотивация к изучению своего организма, закономерностей его строения развития; учащиеся овладеют навыками исследовательской деятельности при осуществлении  единства и взаимосвязи урочной и внеурочной деятельности;  повысится контроль за качеством своего организ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3300"/>
                </a:solidFill>
                <a:uFillTx/>
                <a:latin typeface="Arial"/>
              </a:rPr>
              <a:t>в нравственной сфере: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повысится уровень сформированности  духовно-нравственных качеств личности учащихся через приобщение детей к здоровому образу жизни; сформируется желание следовать правилам безопасного поведения в общественных мес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993300"/>
                </a:solidFill>
                <a:uFillTx/>
                <a:latin typeface="Arial"/>
              </a:rPr>
              <a:t>в социальной сфере: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сформируются навыки сотрудничества и взаимодействия с взрослыми и сверстниками вне стен шко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1965600" cy="2232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35900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348000" y="4221000"/>
            <a:ext cx="1582920" cy="0"/>
          </a:xfrm>
          <a:prstGeom prst="line">
            <a:avLst/>
          </a:prstGeom>
          <a:ln w="101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48000" y="3357720"/>
            <a:ext cx="1582920" cy="0"/>
          </a:xfrm>
          <a:prstGeom prst="line">
            <a:avLst/>
          </a:prstGeom>
          <a:ln w="101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48000" y="2276640"/>
            <a:ext cx="1582920" cy="0"/>
          </a:xfrm>
          <a:prstGeom prst="line">
            <a:avLst/>
          </a:prstGeom>
          <a:ln w="101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6720" y="1484280"/>
            <a:ext cx="0" cy="4681440"/>
          </a:xfrm>
          <a:prstGeom prst="line">
            <a:avLst/>
          </a:prstGeom>
          <a:ln w="1015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351e"/>
                </a:solidFill>
                <a:latin typeface="Arial"/>
              </a:rPr>
              <a:t>Содержание собственного </a:t>
            </a:r>
            <a:br>
              <a:rPr sz="2800"/>
            </a:br>
            <a:r>
              <a:rPr b="1" lang="en-US" sz="2800" spc="-1" strike="noStrike">
                <a:solidFill>
                  <a:srgbClr val="42351e"/>
                </a:solidFill>
                <a:latin typeface="Arial"/>
              </a:rPr>
              <a:t>педагогического опыта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917880" cy="2938680"/>
          </a:xfrm>
          <a:prstGeom prst="rect">
            <a:avLst/>
          </a:prstGeom>
          <a:ln w="25560">
            <a:solidFill>
              <a:srgbClr val="42351e"/>
            </a:solidFill>
            <a:miter/>
          </a:ln>
        </p:spPr>
      </p:pic>
      <p:sp>
        <p:nvSpPr>
          <p:cNvPr id="269" name=""/>
          <p:cNvSpPr/>
          <p:nvPr/>
        </p:nvSpPr>
        <p:spPr>
          <a:xfrm>
            <a:off x="3276720" y="1484280"/>
            <a:ext cx="1582560" cy="0"/>
          </a:xfrm>
          <a:prstGeom prst="line">
            <a:avLst/>
          </a:prstGeom>
          <a:ln w="101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6165720"/>
            <a:ext cx="1582560" cy="0"/>
          </a:xfrm>
          <a:prstGeom prst="line">
            <a:avLst/>
          </a:prstGeom>
          <a:ln w="101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1916280"/>
            <a:ext cx="3889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Авторское поуроч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планирование внеуро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1125360"/>
            <a:ext cx="388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Авторское поу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тематическое план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76720" y="2924280"/>
            <a:ext cx="3889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Разработка уроков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внеклассных мероприя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3860640"/>
            <a:ext cx="388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Организация занятий на баз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ФОКа «СПАР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32360" y="4724280"/>
            <a:ext cx="3889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Организация и пр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занятий круж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003640" y="5734080"/>
            <a:ext cx="3889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Взаимодействие с родите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76720" y="5157720"/>
            <a:ext cx="1582560" cy="0"/>
          </a:xfrm>
          <a:prstGeom prst="line">
            <a:avLst/>
          </a:prstGeom>
          <a:ln w="101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50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8500"/>
                            </p:stCondLst>
                            <p:childTnLst>
                              <p:par>
                                <p:cTn id="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500"/>
                            </p:stCondLst>
                            <p:childTnLst>
                              <p:par>
                                <p:cTn id="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351e"/>
                </a:solidFill>
                <a:latin typeface="Arial"/>
              </a:rPr>
              <a:t>Педагогические технологии</a:t>
            </a: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5640" y="764640"/>
            <a:ext cx="6553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технология личностно-ориентированного подхо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информационно-коммуникативные технолог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технология педагогики сотруднич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32000" y="2276640"/>
            <a:ext cx="31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51e"/>
                </a:solidFill>
                <a:latin typeface="Arial"/>
              </a:rPr>
              <a:t>Метод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92360" y="3213000"/>
            <a:ext cx="424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наглядны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словесны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практическ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72000" y="4365720"/>
            <a:ext cx="2832120" cy="2124000"/>
          </a:xfrm>
          <a:prstGeom prst="rect">
            <a:avLst/>
          </a:prstGeom>
          <a:ln w="25560">
            <a:solidFill>
              <a:srgbClr val="42351e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588000" y="1268280"/>
            <a:ext cx="2343240" cy="2791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736720" cy="2052720"/>
          </a:xfrm>
          <a:prstGeom prst="rect">
            <a:avLst/>
          </a:prstGeom>
          <a:ln w="25560">
            <a:solidFill>
              <a:srgbClr val="42351e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4"/>
          <a:stretch/>
        </p:blipFill>
        <p:spPr>
          <a:xfrm>
            <a:off x="1258920" y="3860640"/>
            <a:ext cx="2138400" cy="2853000"/>
          </a:xfrm>
          <a:prstGeom prst="rect">
            <a:avLst/>
          </a:prstGeom>
          <a:ln w="25560">
            <a:solidFill>
              <a:srgbClr val="42351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39257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Учебная деятельность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324160" cy="17431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804000" y="260280"/>
            <a:ext cx="2124000" cy="15908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1332000" y="2060640"/>
            <a:ext cx="2905200" cy="21812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788000" y="1989000"/>
            <a:ext cx="3024000" cy="22701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"/>
          <a:stretch/>
        </p:blipFill>
        <p:spPr>
          <a:xfrm>
            <a:off x="5508720" y="436572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6"/>
          <a:stretch/>
        </p:blipFill>
        <p:spPr>
          <a:xfrm>
            <a:off x="395280" y="4365720"/>
            <a:ext cx="3024360" cy="2268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276720" y="907920"/>
            <a:ext cx="2736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Наблю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Практические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Исследования и откры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7"/>
          <a:stretch/>
        </p:blipFill>
        <p:spPr>
          <a:xfrm>
            <a:off x="3780000" y="4941720"/>
            <a:ext cx="1361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859200" y="0"/>
            <a:ext cx="5284800" cy="35226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43214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Внеуроч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692280"/>
            <a:ext cx="345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лассные ча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«Твоё здоровье и питание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«Вредные привыч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и как с ними бороться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«Разговор о правиль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итан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неклассные меропри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День здоровь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Семейный праздник «Пап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Мама, я – спортивная семья!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«Весёлые старт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2351e"/>
                </a:solidFill>
                <a:uFillTx/>
                <a:latin typeface="Arial"/>
              </a:rPr>
              <a:t>Беседы медицинского работ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офилактика заботе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Закаливание как способ защ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органи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00720" y="3500280"/>
            <a:ext cx="3311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Занятия: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плава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лечебная физкуль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692360" y="4653000"/>
            <a:ext cx="2592360" cy="1944720"/>
          </a:xfrm>
          <a:prstGeom prst="rect">
            <a:avLst/>
          </a:prstGeom>
          <a:ln w="25560">
            <a:solidFill>
              <a:srgbClr val="42351e"/>
            </a:solidFill>
            <a:miter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5364000" y="4508640"/>
            <a:ext cx="2808360" cy="2106360"/>
          </a:xfrm>
          <a:prstGeom prst="rect">
            <a:avLst/>
          </a:prstGeom>
          <a:ln w="25560">
            <a:solidFill>
              <a:srgbClr val="42351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8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 rot="1120800">
            <a:off x="2195640" y="2349360"/>
            <a:ext cx="1601640" cy="20894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 rot="20857800">
            <a:off x="539640" y="2276280"/>
            <a:ext cx="1303560" cy="20872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Кружковая работа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5111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51e"/>
                </a:solidFill>
                <a:latin typeface="Arial"/>
              </a:rPr>
              <a:t>УМК «Разговор о правильном питан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03640" y="981000"/>
            <a:ext cx="4140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351e"/>
                </a:solidFill>
                <a:latin typeface="Arial"/>
              </a:rPr>
              <a:t>Дополнительная образовате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351e"/>
                </a:solidFill>
                <a:latin typeface="Arial"/>
              </a:rPr>
              <a:t>програм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351e"/>
                </a:solidFill>
                <a:latin typeface="Arial"/>
              </a:rPr>
              <a:t>«Красивая осан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 rot="20815200">
            <a:off x="394920" y="4076640"/>
            <a:ext cx="1712880" cy="2232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tretch/>
        </p:blipFill>
        <p:spPr>
          <a:xfrm rot="924000">
            <a:off x="2268360" y="4076640"/>
            <a:ext cx="1855800" cy="2394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4572000" y="2637000"/>
            <a:ext cx="424800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Программа разработана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педагог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школы для учащихся 1-4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с целью коррекции осанки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плоскостопия у детей младше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школьного возраста через организац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физкультурно-оздоровительных 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в начальной шко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Программа принимала участие 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Всероссийском конкур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образовательных програм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«Здоровое поколение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6633"/>
                </a:solidFill>
                <a:uFillTx/>
                <a:latin typeface="Arial"/>
                <a:hlinkClick r:id="rId5"/>
              </a:rPr>
              <a:t>http://nsportal.ru/node/4612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10920" y="115920"/>
            <a:ext cx="5040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Работа с родителями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37432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Мониторинг здоровья де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Анкет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Индивидуальные консультации, советы специалис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Беседы «Вопрос-отве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Классные родительские собр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Совместные занятия для детей и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Совместные спортивные праздн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003640" y="836640"/>
            <a:ext cx="3961080" cy="2970360"/>
          </a:xfrm>
          <a:prstGeom prst="rect">
            <a:avLst/>
          </a:prstGeom>
          <a:ln w="25560">
            <a:solidFill>
              <a:srgbClr val="42351e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2953080" cy="2284200"/>
          </a:xfrm>
          <a:prstGeom prst="rect">
            <a:avLst/>
          </a:prstGeom>
          <a:ln w="25560">
            <a:solidFill>
              <a:srgbClr val="42351e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1547640" y="4508640"/>
            <a:ext cx="2335320" cy="2125440"/>
          </a:xfrm>
          <a:prstGeom prst="rect">
            <a:avLst/>
          </a:prstGeom>
          <a:ln w="25560">
            <a:solidFill>
              <a:srgbClr val="42351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351e"/>
                </a:solidFill>
                <a:latin typeface="Arial"/>
              </a:rPr>
              <a:t>Результаты исследования после изучения раздела программы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324000" y="1773360"/>
          <a:ext cx="381636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73360"/>
                    <a:ext cx="381636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3780000" y="1700280"/>
          <a:ext cx="5003640" cy="22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1700280"/>
                    <a:ext cx="5003640" cy="22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324000" y="3860640"/>
          <a:ext cx="3816360" cy="280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3860640"/>
                    <a:ext cx="381636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4140360" y="4005360"/>
          <a:ext cx="4537080" cy="233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4005360"/>
                    <a:ext cx="4537080" cy="23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Отслеживание результатов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3267000" cy="45259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300720" y="4365720"/>
            <a:ext cx="2664000" cy="1152360"/>
          </a:xfrm>
          <a:prstGeom prst="ellipse">
            <a:avLst/>
          </a:prstGeom>
          <a:solidFill>
            <a:srgbClr val="e6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Медицин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рабо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9280" y="4292640"/>
            <a:ext cx="2521080" cy="1224000"/>
          </a:xfrm>
          <a:prstGeom prst="ellipse">
            <a:avLst/>
          </a:prstGeom>
          <a:solidFill>
            <a:srgbClr val="e6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Д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280" y="1628640"/>
            <a:ext cx="2590920" cy="1224000"/>
          </a:xfrm>
          <a:prstGeom prst="ellipse">
            <a:avLst/>
          </a:prstGeom>
          <a:solidFill>
            <a:srgbClr val="e6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Класс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руково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372360" y="1628640"/>
            <a:ext cx="2592360" cy="1297080"/>
          </a:xfrm>
          <a:prstGeom prst="ellipse">
            <a:avLst/>
          </a:prstGeom>
          <a:solidFill>
            <a:srgbClr val="e6e3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47640" y="2997360"/>
            <a:ext cx="1440000" cy="647640"/>
          </a:xfrm>
          <a:prstGeom prst="line">
            <a:avLst/>
          </a:prstGeom>
          <a:ln w="63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6227280" y="3860280"/>
            <a:ext cx="1476360" cy="360360"/>
          </a:xfrm>
          <a:prstGeom prst="line">
            <a:avLst/>
          </a:prstGeom>
          <a:ln w="63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547640" y="3789000"/>
            <a:ext cx="1440000" cy="431640"/>
          </a:xfrm>
          <a:prstGeom prst="line">
            <a:avLst/>
          </a:prstGeom>
          <a:ln w="63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6227280" y="2997360"/>
            <a:ext cx="1297080" cy="792000"/>
          </a:xfrm>
          <a:prstGeom prst="line">
            <a:avLst/>
          </a:prstGeom>
          <a:ln w="63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Реализация методической разработк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способствует  сохранению и укреплению здорового образа жизни в школе, семье, обще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Способствует углублению знаний о своем здоровье и об организме в целом; усвоению правил, норм поведения в рамках ЗОЖ, ;воспитанию ответственного отношения к своему здоров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представляет значительный интерес для школьной прак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351e"/>
                </a:solidFill>
                <a:latin typeface="Arial"/>
              </a:rPr>
              <a:t>Тема: </a:t>
            </a:r>
            <a:br>
              <a:rPr sz="28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«Формирование у младших школьников  ответственного отношения к своему здоровью,  через приобщение детей к здоровому образу жизни,  в процессе изучения  интегрированного курса «Окружающий мир» УМК «Школа России».</a:t>
            </a: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 rot="20992800">
            <a:off x="684360" y="3213000"/>
            <a:ext cx="3456000" cy="2368800"/>
          </a:xfrm>
          <a:prstGeom prst="rect">
            <a:avLst/>
          </a:prstGeom>
          <a:ln w="25560">
            <a:solidFill>
              <a:srgbClr val="42351e"/>
            </a:solidFill>
            <a:miter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 rot="1326000">
            <a:off x="6084360" y="3429000"/>
            <a:ext cx="1792440" cy="2303640"/>
          </a:xfrm>
          <a:prstGeom prst="rect">
            <a:avLst/>
          </a:prstGeom>
          <a:ln w="25560">
            <a:solidFill>
              <a:srgbClr val="42351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351e"/>
                </a:solidFill>
                <a:latin typeface="Arial"/>
              </a:rPr>
              <a:t>Анализ психолого-педагогической </a:t>
            </a:r>
            <a:br>
              <a:rPr sz="2800"/>
            </a:br>
            <a:r>
              <a:rPr b="1" lang="en-US" sz="2800" spc="-1" strike="noStrike">
                <a:solidFill>
                  <a:srgbClr val="42351e"/>
                </a:solidFill>
                <a:latin typeface="Arial"/>
              </a:rPr>
              <a:t>литературы по теме</a:t>
            </a:r>
            <a:br>
              <a:rPr sz="2800"/>
            </a:b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Изучением и накоплением практического опыта здорового образа жизни занималис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Педагогические условия укрепления здоровья школьников в воспитательной системе                                                      В. А. Сухомл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Профессор Ю.Ф. Змановс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«</a:t>
            </a:r>
            <a:r>
              <a:rPr b="1" i="1" lang="ru-RU" sz="2000" spc="-1" strike="noStrike" u="sng">
                <a:solidFill>
                  <a:srgbClr val="003399"/>
                </a:solidFill>
                <a:uFillTx/>
                <a:latin typeface="Arial"/>
              </a:rPr>
              <a:t>К здоровью без лекарст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основами  безопасности детей школьного возраста - Практический психолог В.Г. Алямовс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i="1" lang="ru-RU" sz="2000" spc="-1" strike="noStrike" u="sng">
                <a:solidFill>
                  <a:srgbClr val="003399"/>
                </a:solidFill>
                <a:uFillTx/>
                <a:latin typeface="Arial"/>
              </a:rPr>
              <a:t>Программа «Здоровье детей раннего возрас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О создании в школах групп здоровья -                       Школьный врач Л.Н. Лагуте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Писатель, педагог, врач Януш Корч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i="1" lang="ru-RU" sz="2000" spc="-1" strike="noStrike" u="sng">
                <a:solidFill>
                  <a:srgbClr val="003399"/>
                </a:solidFill>
                <a:uFillTx/>
                <a:latin typeface="Arial"/>
              </a:rPr>
              <a:t>«Как любить ребён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351e"/>
                </a:solidFill>
                <a:latin typeface="Arial"/>
              </a:rPr>
              <a:t>Пояснительная записка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4868640"/>
            <a:ext cx="82915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Самое драгоценное, что дала природа человеку от рождения  – это  здоровье, и только здоровый человек способен быть настоящим творцом собственной судьбы и судьбы своей стр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Прямоугольник 18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3357720" cy="18464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9" descr="1110005n100s85q.jpg"/>
          <p:cNvPicPr/>
          <p:nvPr/>
        </p:nvPicPr>
        <p:blipFill>
          <a:blip r:embed="rId2"/>
          <a:stretch/>
        </p:blipFill>
        <p:spPr>
          <a:xfrm rot="21071400">
            <a:off x="1187280" y="1341000"/>
            <a:ext cx="5453280" cy="3119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68360" y="1341360"/>
            <a:ext cx="2670120" cy="200844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3708360" y="1916280"/>
            <a:ext cx="1743120" cy="261936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6156360" y="2421000"/>
            <a:ext cx="2592360" cy="1944720"/>
          </a:xfrm>
          <a:prstGeom prst="rect">
            <a:avLst/>
          </a:prstGeom>
          <a:ln w="2556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2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788000" y="836640"/>
            <a:ext cx="1728720" cy="33130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771280" y="277920"/>
            <a:ext cx="33130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1413000"/>
            <a:ext cx="2520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Форм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здорового об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жизни в единств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составляющих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здоровье физическо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психическо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духовно-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социально-нравственное.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77080" y="1268280"/>
            <a:ext cx="316692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Воспит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духовно–нравствен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личности, выполняющ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правила здорового обра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жизни, безопасного для челове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00"/>
                </a:solidFill>
                <a:latin typeface="Arial"/>
              </a:rPr>
              <a:t>и окружающей его среды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268360" y="836640"/>
            <a:ext cx="1872000" cy="338616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3789360"/>
            <a:ext cx="187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4076640"/>
            <a:ext cx="23763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Сни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показател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здоровь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учащих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3645000"/>
            <a:ext cx="2519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3 «Б»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492360" y="4365720"/>
          <a:ext cx="5651640" cy="23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4365720"/>
                    <a:ext cx="565164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 rot="5400000">
            <a:off x="3527280" y="441000"/>
            <a:ext cx="1657440" cy="3743280"/>
          </a:xfrm>
          <a:custGeom>
            <a:avLst/>
            <a:gdLst>
              <a:gd name="textAreaLeft" fmla="*/ 0 w 1657440"/>
              <a:gd name="textAreaRight" fmla="*/ 1657800 w 1657440"/>
              <a:gd name="textAreaTop" fmla="*/ 935640 h 3743280"/>
              <a:gd name="textAreaBottom" fmla="*/ 2807640 h 374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едера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разовате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вого поко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00720" y="836640"/>
            <a:ext cx="0" cy="64764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4139280" y="-1178640"/>
            <a:ext cx="647640" cy="3382920"/>
          </a:xfrm>
          <a:prstGeom prst="flowChartOnlineStorag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351e"/>
                </a:solidFill>
                <a:latin typeface="Arial"/>
              </a:rPr>
              <a:t>Актуа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351e"/>
                </a:solidFill>
                <a:latin typeface="Arial"/>
              </a:rPr>
              <a:t>Результаты исследования перед началом изучения раздела программы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16000" y="1988640"/>
            <a:ext cx="21700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Проблемы своего здоров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40360" y="1700280"/>
            <a:ext cx="2087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Знание и выполн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правил здоров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образа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3141720"/>
          <a:ext cx="471636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41720"/>
                    <a:ext cx="471636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0" y="3068640"/>
          <a:ext cx="4325760" cy="27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068640"/>
                    <a:ext cx="432576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351e"/>
                </a:solidFill>
                <a:latin typeface="Arial"/>
              </a:rPr>
              <a:t>Новизна</a:t>
            </a:r>
            <a:endParaRPr b="0" lang="en-US" sz="32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Программа объединяет в себе практические занятия с учётом индивидуальных особенностей здоровья каждого учащегося в классе  и  теоретические сведения из области анатомии, физиологии, гигиены  школьника, ОБЖ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истематизирование и совершенствование содержания раздела программы «Мы и наше здоровье» через интеграцию урочной и внеурочной деятельности в сотрудничестве с родителями и внешними ресур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оздание  авторского поурочного планирования по разделу с обновлением содержания, а именн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- использование новых форм организации урока (урок-исследование, урок-практикум, урок  с приглашением медицинского работника, урок на базе ФОКа «Спарта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- активное использование на уроках информационно-коммуникативных технологий  (ИКТ презентаций), а также электронных образовательных ресурсов (ЭО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5761080" cy="4321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2351e"/>
                </a:solidFill>
                <a:latin typeface="Arial"/>
              </a:rPr>
              <a:t>Практическая значимость</a:t>
            </a:r>
            <a:endParaRPr b="0" lang="en-US" sz="28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-360" y="692280"/>
            <a:ext cx="87138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dd48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Материалы,  содержащиеся в разработке, могут использоваться в деятельности учителей, воспитателей ГПД общеобразовательных школ, педагогов дополнительного образования в процессе работы по воспитанию школьников здорового образа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743280" cy="2808360"/>
          </a:xfrm>
          <a:prstGeom prst="rect">
            <a:avLst/>
          </a:prstGeom>
          <a:ln w="25560">
            <a:solidFill>
              <a:srgbClr val="0033cc"/>
            </a:solidFill>
            <a:miter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56000" y="4762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2351e"/>
                </a:solidFill>
                <a:uFillTx/>
                <a:latin typeface="Arial"/>
              </a:rPr>
              <a:t>Цель: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Формирование представлений о человеке как части живой природы, о строении и жизнедеятельности нашего организма как единого целого.</a:t>
            </a:r>
            <a:endParaRPr b="0" lang="en-US" sz="2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3357360"/>
            <a:ext cx="822960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2351e"/>
                </a:solidFill>
                <a:uFillTx/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создать условия для развития познавательного интереса и ответственного отношения  к своему здоровь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приобщать младших школьников к здоровому образу жизни  через изучение  строения, функций и возможностей нашего организма  в цел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развивать  самостоятельность, способность контролировать своё поведение в различных жизненных ситуациях, делать правильный обоснованный выбор с учётом норм ЗОЖ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воспитывать ответственность и бережное  отношение к своему здоров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14:44:01Z</dcterms:created>
  <dc:creator>1</dc:creator>
  <dc:description/>
  <dc:language>en-US</dc:language>
  <cp:lastModifiedBy>1</cp:lastModifiedBy>
  <dcterms:modified xsi:type="dcterms:W3CDTF">2015-02-03T16:19:03Z</dcterms:modified>
  <cp:revision>43</cp:revision>
  <dc:subject/>
  <dc:title>Слайд 1</dc:title>
</cp:coreProperties>
</file>