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EECE-1173-4F36-BE06-BC3FFF8A6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8BB1-65C6-4665-9563-6C8C554DD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56F-146E-4229-A06D-530D16C6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9E9-CF16-4C46-AD8C-5639803D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5D8-FE38-4011-B4DA-97AB3AE9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651-486D-4C82-827A-0B7B2F6F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D79-6C6F-45ED-BA11-FB424C48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39E-D65F-4CAD-A810-3AB6123A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98E-ABE5-44B3-8F9C-174C65B5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32F-A371-4C63-8C27-D9D79579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202-15BB-4E38-A492-166C80DC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017-E0DB-44CA-9970-7A719C2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CE5-FB59-4E5F-A65D-850FB512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9BF-B22F-4FDA-9263-86E24975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2550-5616-4368-A1C9-168F1A30E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5"/>
          <p:cNvSpPr txBox="1"/>
          <p:nvPr/>
        </p:nvSpPr>
        <p:spPr>
          <a:xfrm>
            <a:off x="1066680" y="380880"/>
            <a:ext cx="7086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28440">
                  <a:solidFill>
                    <a:srgbClr val="ff99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 </a:t>
            </a:r>
            <a:endParaRPr b="1" i="1" lang="en-US" sz="7200" spc="1" strike="noStrike">
              <a:ln w="28440">
                <a:solidFill>
                  <a:srgbClr val="ff99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361800" y="5335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Times New Roman"/>
              </a:rPr>
              <a:t>Наши трудные дети</a:t>
            </a:r>
            <a:endParaRPr b="1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"/>
          <p:cNvPicPr/>
          <p:nvPr/>
        </p:nvPicPr>
        <p:blipFill>
          <a:blip r:embed="rId1"/>
          <a:stretch/>
        </p:blipFill>
        <p:spPr>
          <a:xfrm>
            <a:off x="2171880" y="1785960"/>
            <a:ext cx="48765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одительская поддержк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– это проц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ходе которого родитель сосредоточивается на достоинствах ребёнка</a:t>
            </a:r>
            <a:r>
              <a:rPr b="0" lang="ru-RU" sz="19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 целью укрепления его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торый помогает ребёнку поверить в себя и свои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торый помогает ребёнку избежать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торый поддерживает ребёнка при неудач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imes New Roman"/>
              </a:rPr>
              <a:t>Психологическая поддержка ребёнка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забыть о прошлых неудач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мочь ребёнку обрести уверенность в том, что он справится с данной зада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зволить ребёнку «начать с нуля», опираясь на то, что родитель верит в него, в его способность достичь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мнить о прошлых удачах и возвращать к ним, а не к ошиб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Times New Roman"/>
              </a:rPr>
              <a:t>Для того, чтобы привить веру в ребёнка, родитель должен иметь мужество и желание сделать следующее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пираться на сильные стороны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збегать подчёркивания промахов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казать, что вы удовлетворены ребён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меть помочь ребёнку разбить большие задания на более мелкие, такие, с которыми он может справ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нести юмор во взаимоотношения с ребён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Знать обо всех попытках ребёнка справиться с зад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99"/>
                </a:solidFill>
                <a:latin typeface="Times New Roman"/>
              </a:rPr>
              <a:t>Для того, чтобы поддержать ребёнка, необходимо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меть взаимодействовать с ребён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зволить ребёнку самому решать проблемы там, где это возм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збегать дисциплинированных поощрений и наказ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инимать индивидуальность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являть сопереживание и веру в вашего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емонстрировать оптим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99"/>
                </a:solidFill>
                <a:latin typeface="Times New Roman"/>
              </a:rPr>
              <a:t>Для того, чтобы поддержать ребёнка, необходимо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990720" y="244440"/>
            <a:ext cx="7772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Times New Roman"/>
              </a:rPr>
              <a:t>Слова,</a:t>
            </a:r>
            <a:endParaRPr b="1" i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77720" y="719280"/>
            <a:ext cx="403884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торые поддерживают ребёнка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Зная тебя, я уверен, что ты сделаешь всё хорошо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Ты сделаешь это очень хорошо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Это серьёзный вызов, но я уверен, что ты к нему готов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635360" y="712800"/>
            <a:ext cx="403884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торые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ушают его веру в себя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Зная тебя и твои способности, я думаю, ты смог бы сделать это гораздо лучш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Ты мог бы сделать это намного лучш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Эта идея никогда не может быть реализована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Это для тебя слишком трудно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2860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Когда вы выражаете удовольствие от того, что делает ваш ребёнок, это поддерживает е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 стимулирует продолжить дело или делать новые попы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ubble9"/>
          <p:cNvPicPr/>
          <p:nvPr/>
        </p:nvPicPr>
        <p:blipFill>
          <a:blip r:embed="rId1"/>
          <a:stretch/>
        </p:blipFill>
        <p:spPr>
          <a:xfrm>
            <a:off x="3886200" y="3481560"/>
            <a:ext cx="38862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дельных слов (красиво, аккуратно, прекрасно, здорово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сказываний («Я горжусь тобой», «Это действительно прогресс», «Я рад, что ты в этом участвовал», «Это здорово!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косновений (дотронуться до руки, обнять, поглади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вместных действий, физического соучастия (сидеть или стоять рядом с ребёнком; играть с ним; слушать 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ражением лица (улыбка, подмигивание, смех, кив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оддерживать можно посредств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6091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одлинная поддержка родителями своего ребёнка должна основываться на подчёркивании его способностей, возможностей, положительных стор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3" descr="445919-ce959e4e7e140a5f.jpg"/>
          <p:cNvPicPr/>
          <p:nvPr/>
        </p:nvPicPr>
        <p:blipFill>
          <a:blip r:embed="rId1"/>
          <a:srcRect l="5129" t="9165" r="5058" b="30415"/>
          <a:stretch/>
        </p:blipFill>
        <p:spPr>
          <a:xfrm>
            <a:off x="1371600" y="3124080"/>
            <a:ext cx="6781680" cy="344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3720" y="304560"/>
            <a:ext cx="5867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Важно, чтобы родитель научился принимать ребёнка таким, какой он есть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, включая все его достижения и промахи, а в общении с ним учитывать значение таких вещей, как тон, жесты, выражения и т.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_p"/>
          <p:cNvPicPr/>
          <p:nvPr/>
        </p:nvPicPr>
        <p:blipFill>
          <a:blip r:embed="rId1"/>
          <a:stretch/>
        </p:blipFill>
        <p:spPr>
          <a:xfrm>
            <a:off x="380880" y="600120"/>
            <a:ext cx="25146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981080"/>
            <a:ext cx="84582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333399"/>
                </a:solidFill>
                <a:latin typeface="Times New Roman"/>
              </a:rPr>
              <a:t>Спасибо </a:t>
            </a:r>
            <a:br>
              <a:rPr sz="6800"/>
            </a:br>
            <a:r>
              <a:rPr b="1" lang="ru-RU" sz="6800" spc="-1" strike="noStrike">
                <a:solidFill>
                  <a:srgbClr val="333399"/>
                </a:solidFill>
                <a:latin typeface="Times New Roman"/>
              </a:rPr>
              <a:t>за внимание!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Познакомить родителей с причинами, которые приводят к трудновоспитываемост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Развивать умение поиска выхода в трудных ситуациях общения с такими дет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ель: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бсуждение проблемы воспитания в семье трудного ребё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560" y="1066680"/>
            <a:ext cx="87627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Трудные»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- это обширная  категория детей, демонстрирующих  отклонение в личностном развитии, нарушение характера и поведения. Трудными обычно называют тех детей, чье поведение резко отклоняется от общепринятых норм и препятствует полноценному воспитанию.       В число «трудных»  попадают дети неподдающиеся воздействию, неуспевающие  и недисциплинированные, школьники, с которыми взрослым трудно работать. Кроме того, сюда относят также детей, поступки которых носят характер правонару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Times New Roman"/>
              </a:rPr>
              <a:t>Трудный ребёно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1600200"/>
            <a:ext cx="6553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Борьба за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2. Борьба за самоутверждение, борьба за вл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3. Желание м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4. Неверие в собственный успе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99"/>
                </a:solidFill>
                <a:latin typeface="Times New Roman"/>
              </a:rPr>
              <a:t>Причины «плохого» поведения ребёнк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trud2"/>
          <p:cNvPicPr/>
          <p:nvPr/>
        </p:nvPicPr>
        <p:blipFill>
          <a:blip r:embed="rId1"/>
          <a:stretch/>
        </p:blipFill>
        <p:spPr>
          <a:xfrm>
            <a:off x="5943600" y="1616040"/>
            <a:ext cx="3621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80880" y="1066680"/>
          <a:ext cx="8229600" cy="548964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дение ребён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т быть как активным (привлекать всеобщее внимание всевозможными выходками), так и пассивным, т.е. делать всё очень медленно «в час по чайной ложке»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6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оведения, направленного на привлечения внима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 больше внимания уделяют детям, которые ведут себя плохо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не научены просить или требовать внимания в приемлемой форм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часто испытывают дефицит личного внимания к себе, чувствуют себя «пустым местом»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ельные стороны поведения, направленного на привлечения внимания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нуждаются во взаимоотношениях с окружающими, готовы к сотрудничеству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 предотвращения поведения, направленного на привлечения внима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 внимания уделять хорошему поведению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 детей просить внимания в приемлемой форм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оведение, направленное на привлечение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990720"/>
          <a:ext cx="8229600" cy="5522760"/>
        </p:xfrm>
        <a:graphic>
          <a:graphicData uri="http://schemas.openxmlformats.org/drawingml/2006/table">
            <a:tbl>
              <a:tblPr/>
              <a:tblGrid>
                <a:gridCol w="3527280"/>
                <a:gridCol w="4702320"/>
              </a:tblGrid>
              <a:tr h="124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дение ребён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ышки негодования, конфронтация с окружающими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хое непослушание. Ребёнок соглашается, но делает по-своему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0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властолюбивого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зменение социальных установок в обществ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Мода на «сильную личность» учит утверждению своей силы, а не конструктивному поведению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 властолюбивого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емонстрируют лидерские способности: умение независимо мыслить и способность сопротивляться авторитетам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 предотвращения властолюбивого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ход от конфронтации и снижение напряжённости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волять детям реализовать свои организаторские способности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Характеристика властолюбив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1219320"/>
          <a:ext cx="8229600" cy="511488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дение ребён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ые и скрытые физические и психологические акты насилия. Ребёнок может мстить учителям, родителям, всем окружающим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ждение мстительного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ение роста насилия в обществе в средствах массовой информации. Культивирование стиля «силового» разрешения конфликтов в семь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 мстительного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емонстрируют высокую жизнеспособность, умение защитить себя от боли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 профилактики мстительного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 ребёнка строить отношения с окружающими по принципу заботы о них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99cc00"/>
                        </a:buClr>
                        <a:buSzPct val="9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 ребёнка выражать свои переживания и требования к окружающим в приемлемой форм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Характеристика мстительн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8600" y="1219320"/>
          <a:ext cx="8763120" cy="5638680"/>
        </p:xfrm>
        <a:graphic>
          <a:graphicData uri="http://schemas.openxmlformats.org/drawingml/2006/table">
            <a:tbl>
              <a:tblPr/>
              <a:tblGrid>
                <a:gridCol w="2759040"/>
                <a:gridCol w="6004080"/>
              </a:tblGrid>
              <a:tr h="1520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дение ребён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ая форма: вспышки негодования: ребёнок теряет контроль над собой, когда давление ответственности становится слишком сильным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сивная форма: откладывание работы на потом, заболевани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происхождения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основанно завышенные ожидания учителей и родителей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ёрдая убеждённость ученика, что он должен быть лучше всех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ор на соревнование в семье и класс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 повед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большинства учащихся сильных сторон нет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ая часть детей может стремиться делать всё лучше всех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 профилактики «неверия» в собственные силы, низкой самооценк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держка ребёнка, чтобы его внутренняя установка «Я не могу» изменилась на «Я могу»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в преодолении социальной изоляции путём включения его в деятельность со сверстниками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Характеристика поведения,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огда ребёнок не верит в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jhk"/>
          <p:cNvPicPr/>
          <p:nvPr/>
        </p:nvPicPr>
        <p:blipFill>
          <a:blip r:embed="rId1"/>
          <a:stretch/>
        </p:blipFill>
        <p:spPr>
          <a:xfrm>
            <a:off x="6172200" y="3733920"/>
            <a:ext cx="2757600" cy="26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80880" y="1469520"/>
            <a:ext cx="685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«Я тебя люблю,</a:t>
            </a:r>
            <a:br>
              <a:rPr sz="4100"/>
            </a:b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 мы рядом, </a:t>
            </a:r>
            <a:br>
              <a:rPr sz="4100"/>
            </a:b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мы вместе</a:t>
            </a:r>
            <a:br>
              <a:rPr sz="4100"/>
            </a:b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и</a:t>
            </a:r>
            <a:br>
              <a:rPr sz="4100"/>
            </a:b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мы всё преодолеем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амые главные слова, которые сегодня нужно сказать своему ребён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Бакулева Наталья Александровна</cp:lastModifiedBy>
  <dcterms:modified xsi:type="dcterms:W3CDTF">2014-11-30T19:13:3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