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861A-0930-45F3-8C50-ABA44C751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0564-4082-4C0E-A69D-FB2678BF7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09C-568B-4C51-8060-E2317B94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7E2-4438-4C92-82EC-79BB2C1E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F52-2AC2-453B-88A5-7656B48D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476-4E27-4156-9CFF-D3EDB961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D00-D367-45C2-A1C9-D2F2C018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C1D-AAC4-4115-BF82-CC4A850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6B6-F980-4BDF-B8A2-C40F7ABA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8A3-B5A9-4EF0-A0F2-3F5FF720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629-8F3A-459B-B53F-08E3DE0C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29D-4FCF-4261-A830-BB5A8ED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58C-4BF2-4ED3-962B-338DACB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B6C-EC75-4087-8D84-38E2BB25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CB42-8E25-4C2A-9C2F-8A2C15B1F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5"/>
          <p:cNvSpPr txBox="1"/>
          <p:nvPr/>
        </p:nvSpPr>
        <p:spPr>
          <a:xfrm>
            <a:off x="1066680" y="380880"/>
            <a:ext cx="7086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28440">
                  <a:solidFill>
                    <a:srgbClr val="ff99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 </a:t>
            </a:r>
            <a:endParaRPr b="1" i="1" lang="en-US" sz="7200" spc="1" strike="noStrike">
              <a:ln w="28440">
                <a:solidFill>
                  <a:srgbClr val="ff99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361800" y="5335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Times New Roman"/>
              </a:rPr>
              <a:t>Наши трудные дети</a:t>
            </a:r>
            <a:endParaRPr b="1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"/>
          <p:cNvPicPr/>
          <p:nvPr/>
        </p:nvPicPr>
        <p:blipFill>
          <a:blip r:embed="rId1"/>
          <a:stretch/>
        </p:blipFill>
        <p:spPr>
          <a:xfrm>
            <a:off x="2171880" y="1785960"/>
            <a:ext cx="48765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одительская поддержк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– это проц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ходе которого родитель сосредоточивается на достоинствах ребёнка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целью укрепления его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ый помогает ребёнку поверить в себя и свои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ый помогает ребёнку избежать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ый поддерживает ребёнка при неудач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Психологическая поддержка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абыть о прошлых неудач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мочь ребёнку обрести уверенность в том, что он справится с данной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зволить ребёнку «начать с нуля», опираясь на то, что родитель верит в него, в его способность достичь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мнить о прошлых удачах и возвращать к ним, а не к ошиб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Times New Roman"/>
              </a:rPr>
              <a:t>Для того, чтобы привить веру в ребёнка, родитель должен иметь мужество и желание сделать следующе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ираться на сильные стороны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бегать подчёркивания промахов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казать, что вы удовлетворены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меть помочь ребёнку разбить большие задания на более мелкие, такие, с которыми он может справ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нести юмор во взаимоотношения с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нать обо всех попытках ребёнка справиться с за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Times New Roman"/>
              </a:rPr>
              <a:t>Для того, чтобы поддержать ребёнка, необходим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меть взаимодействовать с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зволить ребёнку самому решать проблемы там, где это 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бегать дисциплинированных поощрений и 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нимать индивидуальность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являть сопереживание и веру в вашего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монстрировать оптим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Times New Roman"/>
              </a:rPr>
              <a:t>Для того, чтобы поддержать ребёнка, необходим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990720" y="24444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Times New Roman"/>
              </a:rPr>
              <a:t>Слова,</a:t>
            </a:r>
            <a:endParaRPr b="1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77720" y="719280"/>
            <a:ext cx="40388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торые поддерживают ребёнка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ная тебя, я уверен, что ты сделаешь всё хорош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ы сделаешь это очень хорош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Это серьёзный вызов, но я уверен, что ты к нему гот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635360" y="712800"/>
            <a:ext cx="40388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торы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ушают его веру в себ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ная тебя и твои способности, я думаю, ты смог бы сделать это гораздо лучш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ы мог бы сделать это намного лучш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Эта идея никогда не может быть реализован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Это для тебя слишком трудн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2860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Когда вы выражаете удовольствие от того, что делает ваш ребёнок, это поддерживает 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тимулирует продолжить дело или делать новые попы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ubble9"/>
          <p:cNvPicPr/>
          <p:nvPr/>
        </p:nvPicPr>
        <p:blipFill>
          <a:blip r:embed="rId1"/>
          <a:stretch/>
        </p:blipFill>
        <p:spPr>
          <a:xfrm>
            <a:off x="3886200" y="3481560"/>
            <a:ext cx="38862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дельных слов (красиво, аккуратно, прекрасно, здорово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сказываний («Я горжусь тобой», «Это действительно прогресс», «Я рад, что ты в этом участвовал», «Это здорово!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косновений (дотронуться до руки, обнять, поглади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вместных действий, физического соучастия (сидеть или стоять рядом с ребёнком; играть с ним; слушать 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ражением лица (улыбка, подмигивание, смех, кив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ддерживать можно посредст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одлинная поддержка родителями своего ребёнка должна основываться на подчёркивании его способностей, возможностей, положительны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445919-ce959e4e7e140a5f.jpg"/>
          <p:cNvPicPr/>
          <p:nvPr/>
        </p:nvPicPr>
        <p:blipFill>
          <a:blip r:embed="rId1"/>
          <a:srcRect l="5129" t="9165" r="5058" b="30415"/>
          <a:stretch/>
        </p:blipFill>
        <p:spPr>
          <a:xfrm>
            <a:off x="1371600" y="3124080"/>
            <a:ext cx="6781680" cy="344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3720" y="304560"/>
            <a:ext cx="586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Важно, чтобы родитель научился принимать ребёнка таким, какой он ест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, включая все его достижения и промахи, а в общении с ним учитывать значение таких вещей, как тон, жесты, выражения и т.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_p"/>
          <p:cNvPicPr/>
          <p:nvPr/>
        </p:nvPicPr>
        <p:blipFill>
          <a:blip r:embed="rId1"/>
          <a:stretch/>
        </p:blipFill>
        <p:spPr>
          <a:xfrm>
            <a:off x="380880" y="600120"/>
            <a:ext cx="25146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4582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333399"/>
                </a:solidFill>
                <a:latin typeface="Times New Roman"/>
              </a:rPr>
              <a:t>Спасибо </a:t>
            </a:r>
            <a:br>
              <a:rPr sz="6800"/>
            </a:br>
            <a:r>
              <a:rPr b="1" lang="ru-RU" sz="68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ознакомить родителей с причинами, которые приводят к трудновоспитываем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звивать умение поиска выхода в трудных ситуациях общения с такими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ь: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суждение проблемы воспитания в семье трудного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560" y="1066680"/>
            <a:ext cx="8762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Трудные»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это обширная  категория детей, демонстрирующих  отклонение в личностном развитии, нарушение характера и поведения. Трудными обычно называют тех детей, чье поведение резко отклоняется от общепринятых норм и препятствует полноценному воспитанию.       В число «трудных»  попадают дети неподдающиеся воздействию, неуспевающие  и недисциплинированные, школьники, с которыми взрослым трудно работать. Кроме того, сюда относят также детей, поступки которых носят характер правонар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Трудный ребён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16002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Борьба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2. Борьба за самоутверждение, борьба за в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. Желание м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4. Неверие в собственный усп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Times New Roman"/>
              </a:rPr>
              <a:t>Причины «плохого» поведения ребёнк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trud2"/>
          <p:cNvPicPr/>
          <p:nvPr/>
        </p:nvPicPr>
        <p:blipFill>
          <a:blip r:embed="rId1"/>
          <a:stretch/>
        </p:blipFill>
        <p:spPr>
          <a:xfrm>
            <a:off x="5943600" y="161604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80880" y="1066680"/>
          <a:ext cx="8229600" cy="548964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 как активным (привлекать всеобщее внимание всевозможными выходками), так и пассивным, т.е. делать всё очень медленно «в час по чайной ложке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ведения, направленного на привлечения внима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 больше внимания уделяют детям, которые ведут себя плохо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не научены просить или требовать внимания в приемлемой форм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часто испытывают дефицит личного внимания к себе, чувствуют себя «пустым местом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ые стороны поведения, направленного на привлечения внимания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нуждаются во взаимоотношениях с окружающими, готовы к сотрудничеству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едотвращения поведения, направленного на привлечения внима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внимания уделять хорошему поведению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детей просить внимания в приемлемой форм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ведение, направленное на привлечение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990720"/>
          <a:ext cx="8229600" cy="5522760"/>
        </p:xfrm>
        <a:graphic>
          <a:graphicData uri="http://schemas.openxmlformats.org/drawingml/2006/table">
            <a:tbl>
              <a:tblPr/>
              <a:tblGrid>
                <a:gridCol w="3527280"/>
                <a:gridCol w="4702320"/>
              </a:tblGrid>
              <a:tr h="124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ышки негодования, конфронтация с окружающим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ое непослушание. Ребёнок соглашается, но делает по-своему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властолюбив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зменение социальных установок в обществ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ода на «сильную личность» учит утверждению своей силы, а не конструктивному поведению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 властолюбив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емонстрируют лидерские способности: умение независимо мыслить и способность сопротивляться авторитета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едотвращения властолюбив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от конфронтации и снижение напряжённост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ть детям реализовать свои организаторские способност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Характеристика властолюбив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1219320"/>
          <a:ext cx="8229600" cy="511488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 и скрытые физические и психологические акты насилия. Ребёнок может мстить учителям, родителям, всем окружающи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мстительн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е роста насилия в обществе в средствах массовой информации. Культивирование стиля «силового» разрешения конфликтов в семь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 мстительн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емонстрируют высокую жизнеспособность, умение защитить себя от бол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офилактики мстительн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ребёнка строить отношения с окружающими по принципу заботы о них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ребёнка выражать свои переживания и требования к окружающим в приемлемой форм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Характеристика мститель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219320"/>
          <a:ext cx="8763120" cy="5638680"/>
        </p:xfrm>
        <a:graphic>
          <a:graphicData uri="http://schemas.openxmlformats.org/drawingml/2006/table">
            <a:tbl>
              <a:tblPr/>
              <a:tblGrid>
                <a:gridCol w="2759040"/>
                <a:gridCol w="6004080"/>
              </a:tblGrid>
              <a:tr h="152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ая форма: вспышки негодования: ребёнок теряет контроль над собой, когда давление ответственности становится слишком сильны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ивная форма: откладывание работы на потом, заболевани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роисхождения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основанно завышенные ожидания учителей и родителей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ёрдая убеждённость ученика, что он должен быть лучше всех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р на соревнование в семье и класс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большинства учащихся сильных сторон нет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часть детей может стремиться делать всё лучше всех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офилактики «неверия» в собственные силы, низкой самооцен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 ребёнка, чтобы его внутренняя установка «Я не могу» изменилась на «Я могу»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реодолении социальной изоляции путём включения его в деятельность со сверстникам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Характеристика поведения,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да ребёнок не верит в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hk"/>
          <p:cNvPicPr/>
          <p:nvPr/>
        </p:nvPicPr>
        <p:blipFill>
          <a:blip r:embed="rId1"/>
          <a:stretch/>
        </p:blipFill>
        <p:spPr>
          <a:xfrm>
            <a:off x="6172200" y="3733920"/>
            <a:ext cx="275760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80880" y="1469520"/>
            <a:ext cx="685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«Я тебя люблю,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 мы рядом, 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мы вместе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и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мы всё преодолеем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амые главные слова, которые сегодня нужно сказать своему ребён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Бакулева Наталья Александровна</cp:lastModifiedBy>
  <dcterms:modified xsi:type="dcterms:W3CDTF">2014-11-30T19:13:3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