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32D-C8E0-432C-9D7E-07161828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DE6-39E0-42E5-86F0-B3C0B56E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B30B5-B92D-42B1-BC74-2679123C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4529-BFA2-42D1-8CEF-782CC29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1835F-0A0D-4808-8A14-3268552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DA577-75B4-46C3-9B32-00C91BB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8A455-A545-4D0C-8BC4-BEEE5AC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8209-88AF-441C-A096-F86E2E4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46CD8-97F1-4399-8D9D-62CEF6B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F3BB6-B503-45B1-A30F-31978AA5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FECB8-481A-4E4F-8F02-43AD874F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DC4F5-9164-405D-9162-DED96CA6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F24-54C9-412A-985F-25B3534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93E9D-D561-4080-8CD9-7F89036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77A4-BA22-4CFB-9263-ED92B73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C21AB-2AEE-460D-9BA6-271053E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B9C74-C9B1-42A9-953D-24DB6AE5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8E4D-3518-48D9-81B2-8802303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5892B-7639-46DF-A924-36DC999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CA48F-D7C4-4B16-A646-1B7B244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A99C5-D906-43E4-A471-4066851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F8697-54D3-4CCA-A7C5-531A154D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B0C31-ED94-49F6-953D-C326738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477-23FA-4046-8E70-992A1BB0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9D726-2ED5-491E-A4CB-BDA14BAB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7A96-3F0F-42EC-997C-0EF356D0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883-A4F6-4B39-B546-AAF3E0EA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D9D-B579-48DA-B1F2-49E0B12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4FA-4A84-46F7-B985-F208690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92A-4F6A-4310-8B24-DC61D7ED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801E-4B2D-4ED1-92D8-05F697FE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50FC-CCDD-4A8D-8F7A-A6F6106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660-0868-4569-BECA-E9036EB3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8FE-B148-4965-821F-EC88700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B10E-F3EC-401D-9C89-DF4C11A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C00-814F-4928-A216-D2DD8423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E992-4B2A-41C7-A8D3-DD8528D3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B5A-4A6A-438F-A852-B65F6775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9B4C-542B-47E1-A80A-2155C60D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4A8E-B853-4965-B815-4624B61D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5DDE-EC48-41D1-9894-1D12D1E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619D-5EA6-48E2-813D-06D6D71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0944-425C-44CD-85C0-C617E7D8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E99-1576-4985-ADBC-6177220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E6F5-AD86-45DA-8145-1D0C14E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AABF-84F4-490C-8E2F-9A3235D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D325-CFA5-4E70-B2AD-4A05E9D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2CA2-8B36-4934-AFF0-46405D9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5680-E4D6-4052-89FC-B1E93967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58C9-B499-49DF-B9C8-05E8DF29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AECD-C64F-4BA1-B076-3E5577BD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212C-6B56-4659-ABBD-F3A6E445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5E73-D336-44A5-8B0A-57CE7F0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E1EB-EE07-43C2-8C17-0D8A07D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3C6-7B45-4358-9481-7C1F56DD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284B-C976-4533-9383-D4AA323D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EF5B-B442-47D4-97BD-7335E2D7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E3E6-9066-489C-8FCA-6EC4AA20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3E9F-CB2F-441E-86C2-991F53F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9830-2C12-47A7-8A2C-5CC2489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4BFB-3468-4A83-87CD-5CDEF43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3037-E3E7-4C22-9F7F-DA8CEF0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A02E-CEE0-45AA-ACE2-C37A6567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AACA-3A2D-4E82-9535-08173A42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7E4C7-3E0C-4DCB-BFF8-013E74F4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FCE-9245-4FE8-B193-BCCAF083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569220-3370-4599-9F5A-364DC95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645A2-1E4E-439A-8FE0-80DE4D6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5A414E-EE5F-4849-B6B0-3B5BEC9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3D87F-C1F7-4670-AF7D-3BEC0AF1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5480E-EC3D-43F2-B41E-DA0C431B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40D79-BE54-4088-8607-FA738EE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E2B539-7DF4-46A6-8292-7C8AE9C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10209-C481-409E-9425-2E6A85C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D6D75-AC2B-4C82-9D98-224D01A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3666B-0C9E-4C77-A951-D73F633D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46D-8823-4BDB-A4F4-6ECD8AC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F3BCE5-6128-420A-8F42-3585283E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9FF01-DE17-4B86-8941-ACD35F4A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A442-4429-4E60-AF0D-CC3E1DE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0A4B-7594-42DD-B996-D67F103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55D6-9967-4B35-BA86-088934AC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5107A-3DEC-4B80-B3A3-08C976A7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5E57-88A7-4026-BB85-28718382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F293-987F-42FD-892C-039809B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8DCE-E6AE-4B5D-A0C0-97A093D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5003-8A0C-42D8-B6DA-154646A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C5D-FE9C-4DAD-934D-1128943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C6A0A-D54A-49DF-8786-51289869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D9AD-CA39-48D4-AC5C-1D39C86E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1C52-387A-4DA9-9672-7110B44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4E92-6282-4EBA-9F38-F5C2D75D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26C9-3990-458E-B969-196A56B5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B033-0552-46DA-BEC2-23359EF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52EB-41C3-45C9-AF11-715446FB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B6F2-4295-478A-969F-0125AB3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7649-1760-4D56-9F85-75F404F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79D4-E9D7-4600-A31F-9E40059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726-C38F-48DD-AAC6-7BCB45C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40CA-7E89-4E61-8E2A-1DAB660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78054-56B1-4A49-99A5-CB0DE40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1C2C-77D4-4A25-8D9E-650BCE95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F250-49C7-4292-928C-2493FEA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5226-D388-48A1-85BB-250A2D0E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5999-B5D2-4650-89A2-C81428B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906B-909F-4723-B283-F5D7CB1F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6F8E-E6F3-4F58-8924-6A5D0A2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511F-75DF-466F-8C36-F8F992A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B6CF-A3A6-4C75-87F3-1C41833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200-8892-4040-9171-B187A6D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9553-F83C-49B8-973C-FCDF528C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CEEC-A670-43B3-ADA8-9C09544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5BAC-532F-47C6-8E4A-C66ABA1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F270-6FB6-4D74-BE1D-F37CD8DC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34961-B00B-4B8E-8B23-E3AC6F3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0F8F-5604-44DC-B5AC-554D6DC4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8263-A2E5-4F1A-B6F7-C188D72C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F4BD-1C6E-4CE0-B788-14DA7D82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88331-1813-4227-900C-6931BB6D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6398C-03C2-473A-8731-26310430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E53-8ADC-42DE-B0DD-FAA00D0D7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17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6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E202-CFFB-45BB-821C-86D0065273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EB81-0BF1-4A08-8F55-A189D37922C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B41-7304-42A1-A2C6-49D32DBBD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3282-9107-4665-B08F-D51C1F476A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5DAA-8C51-4B4A-9F8C-3A0321CCA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E525-0FB5-44E8-8DA8-A15EC389A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61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61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1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C6CB-29D4-413A-B9AA-1BF9104BF91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6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7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8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0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1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2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279-9D50-4979-A6D5-16B7162DB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7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30F-11AB-4B68-8B68-73D26C97E9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371240" y="2133720"/>
            <a:ext cx="6945480" cy="1295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52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Box 1"/>
          <p:cNvSpPr/>
          <p:nvPr/>
        </p:nvSpPr>
        <p:spPr>
          <a:xfrm>
            <a:off x="826920" y="4221000"/>
            <a:ext cx="185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Box 2"/>
          <p:cNvSpPr/>
          <p:nvPr/>
        </p:nvSpPr>
        <p:spPr>
          <a:xfrm>
            <a:off x="5040360" y="56466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английского язы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зновой Е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28656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We are a typical French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7"/>
          <p:cNvSpPr/>
          <p:nvPr/>
        </p:nvSpPr>
        <p:spPr>
          <a:xfrm>
            <a:off x="688320" y="3284640"/>
            <a:ext cx="85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My Mum is a doctor and my Dad is a sportsman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8"/>
          <p:cNvSpPr/>
          <p:nvPr/>
        </p:nvSpPr>
        <p:spPr>
          <a:xfrm>
            <a:off x="255240" y="4292640"/>
            <a:ext cx="754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Mike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Well, I think I am athletic, brave and frien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5"/>
          <p:cNvSpPr/>
          <p:nvPr/>
        </p:nvSpPr>
        <p:spPr>
          <a:xfrm>
            <a:off x="900000" y="141300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I have got a brother. He is 25.</a:t>
            </a: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My brother is independent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4"/>
          <p:cNvSpPr/>
          <p:nvPr/>
        </p:nvSpPr>
        <p:spPr>
          <a:xfrm>
            <a:off x="657720" y="112536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speaks Englis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520920" y="2133720"/>
            <a:ext cx="65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hobbies are karate and swimm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7"/>
          <p:cNvSpPr/>
          <p:nvPr/>
        </p:nvSpPr>
        <p:spPr>
          <a:xfrm>
            <a:off x="396360" y="299736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’s Mum is a doctor and his Dad is a sports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8"/>
          <p:cNvSpPr/>
          <p:nvPr/>
        </p:nvSpPr>
        <p:spPr>
          <a:xfrm>
            <a:off x="468360" y="3860640"/>
            <a:ext cx="62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athletic, brave and frien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9"/>
          <p:cNvSpPr/>
          <p:nvPr/>
        </p:nvSpPr>
        <p:spPr>
          <a:xfrm>
            <a:off x="395280" y="4724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has got a brother. He is 25 and he 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642600" y="333360"/>
            <a:ext cx="35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is from Fra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4"/>
          <p:cNvSpPr/>
          <p:nvPr/>
        </p:nvSpPr>
        <p:spPr>
          <a:xfrm>
            <a:off x="543600" y="549360"/>
            <a:ext cx="53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veta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468360" y="191772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6"/>
          <p:cNvSpPr/>
          <p:nvPr/>
        </p:nvSpPr>
        <p:spPr>
          <a:xfrm>
            <a:off x="598320" y="3502080"/>
            <a:ext cx="753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Listening to music and danc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7"/>
          <p:cNvSpPr/>
          <p:nvPr/>
        </p:nvSpPr>
        <p:spPr>
          <a:xfrm>
            <a:off x="10969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568800" y="50133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9999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2958120" y="24940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Ger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30492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We are a typical Russian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757080" y="3284640"/>
            <a:ext cx="77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y Mum is a housewife and my Dad is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businessman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255240" y="4292640"/>
            <a:ext cx="75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Sveta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Well, I think I am intelligent, cre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and talkat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900000" y="141300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No, I haven’t. I have neither a brother nor a sis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4"/>
          <p:cNvSpPr/>
          <p:nvPr/>
        </p:nvSpPr>
        <p:spPr>
          <a:xfrm>
            <a:off x="655920" y="112536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speaks Ger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523440" y="213372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hobbies are listening to music and danc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7"/>
          <p:cNvSpPr/>
          <p:nvPr/>
        </p:nvSpPr>
        <p:spPr>
          <a:xfrm>
            <a:off x="448560" y="2997360"/>
            <a:ext cx="763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’s Mum is a housewife and her Dad is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siness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468360" y="4292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intelligent, creative and talkat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9"/>
          <p:cNvSpPr/>
          <p:nvPr/>
        </p:nvSpPr>
        <p:spPr>
          <a:xfrm>
            <a:off x="395280" y="530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has neither a brother nor a sis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10"/>
          <p:cNvSpPr/>
          <p:nvPr/>
        </p:nvSpPr>
        <p:spPr>
          <a:xfrm>
            <a:off x="649080" y="3333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is from Russ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Box 1"/>
          <p:cNvSpPr/>
          <p:nvPr/>
        </p:nvSpPr>
        <p:spPr>
          <a:xfrm>
            <a:off x="561600" y="431640"/>
            <a:ext cx="698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был использова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з УМК Биболетовой М.З. и др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oy English”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5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4"/>
          <p:cNvSpPr/>
          <p:nvPr/>
        </p:nvSpPr>
        <p:spPr>
          <a:xfrm>
            <a:off x="901440" y="-100080"/>
            <a:ext cx="53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inda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826920" y="1268280"/>
            <a:ext cx="684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1039680" y="2637000"/>
            <a:ext cx="54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Theatre and mus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12"/>
          <p:cNvSpPr/>
          <p:nvPr/>
        </p:nvSpPr>
        <p:spPr>
          <a:xfrm>
            <a:off x="1455840" y="302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15"/>
          <p:cNvSpPr/>
          <p:nvPr/>
        </p:nvSpPr>
        <p:spPr>
          <a:xfrm>
            <a:off x="1011240" y="3860640"/>
            <a:ext cx="59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ay any musical instru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Yes, I play the guit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1073520" y="53211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 Box 21"/>
          <p:cNvSpPr/>
          <p:nvPr/>
        </p:nvSpPr>
        <p:spPr>
          <a:xfrm>
            <a:off x="3162960" y="184464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French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5"/>
          <p:cNvSpPr/>
          <p:nvPr/>
        </p:nvSpPr>
        <p:spPr>
          <a:xfrm>
            <a:off x="468720" y="18900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6"/>
          <p:cNvSpPr/>
          <p:nvPr/>
        </p:nvSpPr>
        <p:spPr>
          <a:xfrm>
            <a:off x="504000" y="83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We are a typical English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470160" y="206064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8"/>
          <p:cNvSpPr/>
          <p:nvPr/>
        </p:nvSpPr>
        <p:spPr>
          <a:xfrm>
            <a:off x="1160640" y="27813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My Mum is a nurse and my Dad is a manager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9"/>
          <p:cNvSpPr/>
          <p:nvPr/>
        </p:nvSpPr>
        <p:spPr>
          <a:xfrm>
            <a:off x="472680" y="3573360"/>
            <a:ext cx="766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Linda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10"/>
          <p:cNvSpPr/>
          <p:nvPr/>
        </p:nvSpPr>
        <p:spPr>
          <a:xfrm>
            <a:off x="1332000" y="486900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ll, I think I am independent, curious and have  a good sense of humou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11"/>
          <p:cNvSpPr/>
          <p:nvPr/>
        </p:nvSpPr>
        <p:spPr>
          <a:xfrm>
            <a:off x="90000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12"/>
          <p:cNvSpPr/>
          <p:nvPr/>
        </p:nvSpPr>
        <p:spPr>
          <a:xfrm>
            <a:off x="190800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14"/>
          <p:cNvSpPr/>
          <p:nvPr/>
        </p:nvSpPr>
        <p:spPr>
          <a:xfrm>
            <a:off x="1908000" y="621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4"/>
          <p:cNvSpPr/>
          <p:nvPr/>
        </p:nvSpPr>
        <p:spPr>
          <a:xfrm>
            <a:off x="1166760" y="81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972720" y="1341360"/>
            <a:ext cx="755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have got a brother. He is very serious an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standing.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y sister is very naught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406800" y="40464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4"/>
          <p:cNvSpPr/>
          <p:nvPr/>
        </p:nvSpPr>
        <p:spPr>
          <a:xfrm>
            <a:off x="544680" y="260280"/>
            <a:ext cx="51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n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468360" y="162864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592200" y="3213000"/>
            <a:ext cx="58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Cooking and rea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1096920" y="3381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9"/>
          <p:cNvSpPr/>
          <p:nvPr/>
        </p:nvSpPr>
        <p:spPr>
          <a:xfrm>
            <a:off x="568800" y="472428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10"/>
          <p:cNvSpPr/>
          <p:nvPr/>
        </p:nvSpPr>
        <p:spPr>
          <a:xfrm>
            <a:off x="2975040" y="22050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Russi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 Box 5"/>
          <p:cNvSpPr/>
          <p:nvPr/>
        </p:nvSpPr>
        <p:spPr>
          <a:xfrm>
            <a:off x="32004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We are a typical German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1055160" y="3284640"/>
            <a:ext cx="77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My Mum is a dentist and my Dad is a driver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256320" y="4292640"/>
            <a:ext cx="74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Ann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Well, I think I am sociable, responsible and k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Text Box 5"/>
          <p:cNvSpPr/>
          <p:nvPr/>
        </p:nvSpPr>
        <p:spPr>
          <a:xfrm>
            <a:off x="900000" y="1413000"/>
            <a:ext cx="805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 have got a sister. She is 3.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My sister is 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nice and funn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4"/>
          <p:cNvSpPr/>
          <p:nvPr/>
        </p:nvSpPr>
        <p:spPr>
          <a:xfrm>
            <a:off x="624240" y="112536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speaks Russi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529920" y="2133720"/>
            <a:ext cx="64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hobbies are cooking and rea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465480" y="299736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’s Mum is a dentist and her Dad is a driv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9"/>
          <p:cNvSpPr/>
          <p:nvPr/>
        </p:nvSpPr>
        <p:spPr>
          <a:xfrm>
            <a:off x="468360" y="3860640"/>
            <a:ext cx="62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sociable, responsible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10"/>
          <p:cNvSpPr/>
          <p:nvPr/>
        </p:nvSpPr>
        <p:spPr>
          <a:xfrm>
            <a:off x="475560" y="4724280"/>
            <a:ext cx="76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has got a sister. She is 3 and she is  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and funn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11"/>
          <p:cNvSpPr/>
          <p:nvPr/>
        </p:nvSpPr>
        <p:spPr>
          <a:xfrm>
            <a:off x="569160" y="33336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is from German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4"/>
          <p:cNvSpPr/>
          <p:nvPr/>
        </p:nvSpPr>
        <p:spPr>
          <a:xfrm>
            <a:off x="543600" y="549360"/>
            <a:ext cx="529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ke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5"/>
          <p:cNvSpPr/>
          <p:nvPr/>
        </p:nvSpPr>
        <p:spPr>
          <a:xfrm>
            <a:off x="468360" y="191772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6"/>
          <p:cNvSpPr/>
          <p:nvPr/>
        </p:nvSpPr>
        <p:spPr>
          <a:xfrm>
            <a:off x="596520" y="3502080"/>
            <a:ext cx="599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Karate and swimm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10969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8"/>
          <p:cNvSpPr/>
          <p:nvPr/>
        </p:nvSpPr>
        <p:spPr>
          <a:xfrm>
            <a:off x="568800" y="50133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991600" y="24940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Englis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54:47Z</dcterms:created>
  <dc:creator>Katrin</dc:creator>
  <dc:description/>
  <dc:language>en-US</dc:language>
  <cp:lastModifiedBy>Acer</cp:lastModifiedBy>
  <dcterms:modified xsi:type="dcterms:W3CDTF">2015-01-26T18:12:15Z</dcterms:modified>
  <cp:revision>23</cp:revision>
  <dc:subject/>
  <dc:title>Personal Information</dc:title>
</cp:coreProperties>
</file>