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632-631D-4BA6-ABFC-CA5AC3A2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849-2AC9-4DB1-B5B5-4E33A71C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2B313-A2AE-4E7F-8FAE-F3D79168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7CB99-7CCD-499E-A3E9-47CE502D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95134-1274-48C1-A793-FECCF759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B71C8-091B-4BE5-B26E-79E9BA72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E7E5C-89C0-4D40-9AFA-513D4635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00758-5D10-4BD6-8BA6-84265242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B46BA-6F15-4993-B3B3-F7632744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B3665-B414-43DE-89B9-8EBB07DC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9A935-BE69-4E51-AEBC-32DE9758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E6838-9217-4892-97B9-B348F561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E2F-8C4A-4922-BA00-FBD8EC22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D52A8-03A9-46A6-8D20-CBD55823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3699B-7898-41B7-A94B-14D54890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DC520-2AB8-42F9-9924-269354EB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6EE11-8F6D-4A02-A8D9-7D6D179F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E85B0-6D3F-4A50-A487-D8860513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3D031-BA11-4475-8281-4455A95A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62C39-E389-401A-BEC7-801418E4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18829-AF46-40AE-845B-81863591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ACD86-A5AD-4298-963F-B1A88D20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6FCFA-84F5-4F37-8054-84991D4C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844-1B5B-4A03-945A-04E97FDC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DBAC7-1883-4E37-BE8B-FCA25CAD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22E2-6FAA-426F-9DA5-51A1BA62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6FEC-3069-46E4-BB9B-4EAD643B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2AAC-DE74-4EA9-8CB0-3BF2DE17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7886-1767-4216-9308-C152C68E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26AD-87E5-4BFC-A2B6-2CB95007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5C96-F0D5-48F7-8AC6-ADFEE50D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1B72-6BE3-440E-9108-A72AA619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2BF-07E5-4700-9D23-D05D3D61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B677-B21E-42E5-9E27-9E1C9654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A266-4956-4678-BFB3-C05344C3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BFEC-EE91-4E87-A9F3-EC9508D6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41BA-E2D9-4A0A-B8DE-1C9FAD6F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37F3-F7B2-4F66-8BDA-24FBDF97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8AE1A-AEDA-451F-97EE-80DFFBE3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3248A-51A0-48C5-8216-61658ECC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FD901-651B-43A8-957A-AB672E58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C1AAC-8C83-4A34-9A9F-E04F4746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B318-0B43-44BC-9EDD-20EB2542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6D7-9E14-4D0D-B079-74FD874C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86C88-6A27-4AEA-A7EF-E8DB26F0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8504-0592-443B-ACD5-0600D308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381FF-AD69-4A93-8913-2EF30E33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7C67-90E1-4E9E-B98F-3BC0A82C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D8029-47DA-4ECC-87E1-855EF359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3747-3313-4DD4-934C-825E05DF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61BF6-B632-410C-B732-BD3FC151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5AAD8-6567-4DF0-9FAA-A0AC21FB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07D70-AF9B-4A00-8FF7-00158E32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A640C-1A54-4446-9962-3A8E0AE6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A6B-72B1-4674-9B76-030DE74E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3E0F1-19AD-4371-872D-D2A889C4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3B9D7-6E4C-4600-A032-E9D1EC39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5062F-DE57-4E9E-9E29-0780BF5F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AC867-870B-47EF-B0A9-7984138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4464-5409-4B62-B705-CA21D2CD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AB103-F462-4FA0-9AB5-0D62E11E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7CCD9-4E8C-4961-92AD-227231DB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829F-01EC-4744-AC7A-283CDA3C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4ED0F-785B-4F37-9323-A379881F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0984FB-C8D6-48D4-9E36-D09E77B1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0F4-3849-488A-8D2F-7B8BB0DF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D7D713-DA44-4B3A-B3D2-62DDA56F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14F716-E989-4E25-81B4-727A4C40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9C2327-08CB-441B-B8C6-F9227D4E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4F92A7-FDD0-43B6-8242-CECA7F6E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076521-2CF4-4D4F-99D0-45C0D80C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2F4C1E-DA45-4BD5-865C-18748A9B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2457E5-ACC3-4CB4-848B-A4D7600D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B35051-3D09-4900-A34E-8570C570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7E5E00-8196-4A31-9D40-0620B39B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8142BB-060B-479B-AECE-D9DC67C3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325-8170-43CD-B801-D23205B5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2C189F-520F-4F55-9074-FB52C078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DCC47-D79A-46C4-8D7F-30F59005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7C80C-2A44-4E46-9EB8-5EB193E7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11CD3-DC03-46D6-AB65-60E5FA94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682A2-F47F-4B32-AF5D-9DA698A2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E6082-4BAA-4234-987B-0213F919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DB3B6-EFC7-455B-A6C0-B5E6A077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CEDA2-D1D8-443E-8A15-5FAC1DEE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AE59C-E1DE-4D93-B0FE-6F69089E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1331F-E0D6-4181-AF30-FC34874D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740-B2A4-4710-8C42-1386918A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786EF-73BF-4D2B-A672-28FDD556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1CC26-81C0-4BD4-AA96-DDE52F63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844BE-890D-4EE9-8207-DDABEF14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78569-E7DC-4088-B3E6-C6CB45BE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7156D-577B-417A-A440-509B9122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7ECB2-E6BD-42CD-8995-98762A4A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CA665-F5F6-483C-B88F-BFF7FA98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8FF21-84A5-4BA2-8033-E71377BB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5DF19-0648-4CDB-A75A-02F4EB8C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FE086-BB60-4465-8649-82B3BDE7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EE9-C01B-4C70-9E20-674CCA9D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D6344-81EC-4D6E-AD5D-0E5B6A73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41674-94C4-451E-A21A-14EF1587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FAF60-2320-4061-8438-7034A0F9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A03B0-A47D-4BED-80CC-4EC813B9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EC302-39C5-42B2-B5EE-F1C96413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356EC-82ED-4D64-9BA7-B1660791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535C2-5554-45EB-8EDE-60B6250D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751C6-358E-49EF-983A-6EDE5AA8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5DC92-0FEA-4A71-AA2A-05C2C3F1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5F286-3C47-4952-BDC5-1C539E4B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D15-0D42-4468-9CCF-195A672F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9325C-AC0B-400D-92E9-A29EBD7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A929B-2AFF-4FA2-BECB-AA325155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7ACF4-92B8-4DFB-9994-3BCB66F5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C6390-2C08-4373-B273-9F348FA9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75368-6B51-4497-BE3A-4BB7E428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7AD48-33D7-4485-B63A-05415512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78D1F-95B0-4EB7-AA22-12462CE1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3276A-030A-48B2-8F4E-97290136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98A6D-A03F-48C8-9750-98ADEE6C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651EC-9A6B-45B9-9004-DE5695C2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B50D-85DD-43F9-875A-77D16D6881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817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4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5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6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7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8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9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0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2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3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4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5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6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7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8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9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0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8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9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4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5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6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7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8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9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0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1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2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3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4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5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9C49-D5E5-40DF-9592-25CC68656C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9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9ADA-AAE7-42DA-95C4-41CD5B2DEEF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89E8-DFD6-4F3D-9087-6A9C4945C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4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C709-5B3C-4EF3-A6A9-1A3E711CCD4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9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E812-888D-4178-B62B-384495E9D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5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6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16EA-7EB4-43A4-AAA9-A22AE4F2A2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613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614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5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16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9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0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0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A587-5A08-4608-AAD3-9F29CFB1588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6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6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7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8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0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0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1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1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2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2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E00A-7012-46DE-BD40-5B446850E8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7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EC3F-67E0-4DED-8641-2E1C01A7509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371240" y="2133720"/>
            <a:ext cx="6945480" cy="1295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ersonal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52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I ask you a ques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TextBox 1"/>
          <p:cNvSpPr/>
          <p:nvPr/>
        </p:nvSpPr>
        <p:spPr>
          <a:xfrm>
            <a:off x="826920" y="4221000"/>
            <a:ext cx="1857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TextBox 2"/>
          <p:cNvSpPr/>
          <p:nvPr/>
        </p:nvSpPr>
        <p:spPr>
          <a:xfrm>
            <a:off x="5040360" y="564660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одготовлен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м английского язык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язновой Е.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4"/>
          <p:cNvSpPr/>
          <p:nvPr/>
        </p:nvSpPr>
        <p:spPr>
          <a:xfrm>
            <a:off x="251280" y="463680"/>
            <a:ext cx="64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ould you say your family is lik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Text Box 5"/>
          <p:cNvSpPr/>
          <p:nvPr/>
        </p:nvSpPr>
        <p:spPr>
          <a:xfrm>
            <a:off x="286560" y="11113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We are a typical French family. We are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close family and we get on well with each othe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Text Box 6"/>
          <p:cNvSpPr/>
          <p:nvPr/>
        </p:nvSpPr>
        <p:spPr>
          <a:xfrm>
            <a:off x="252720" y="2492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your parents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Text Box 7"/>
          <p:cNvSpPr/>
          <p:nvPr/>
        </p:nvSpPr>
        <p:spPr>
          <a:xfrm>
            <a:off x="688320" y="3284640"/>
            <a:ext cx="85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My Mum is a doctor and my Dad is a sportsman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Text Box 8"/>
          <p:cNvSpPr/>
          <p:nvPr/>
        </p:nvSpPr>
        <p:spPr>
          <a:xfrm>
            <a:off x="255240" y="4292640"/>
            <a:ext cx="754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Mike, how would you describe yourself, I me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main characteristic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Text Box 9"/>
          <p:cNvSpPr/>
          <p:nvPr/>
        </p:nvSpPr>
        <p:spPr>
          <a:xfrm>
            <a:off x="900000" y="5516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Well, I think I am athletic, brave and friend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Text Box 10"/>
          <p:cNvSpPr/>
          <p:nvPr/>
        </p:nvSpPr>
        <p:spPr>
          <a:xfrm>
            <a:off x="68256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Text Box 11"/>
          <p:cNvSpPr/>
          <p:nvPr/>
        </p:nvSpPr>
        <p:spPr>
          <a:xfrm>
            <a:off x="1690560" y="514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Text Box 4"/>
          <p:cNvSpPr/>
          <p:nvPr/>
        </p:nvSpPr>
        <p:spPr>
          <a:xfrm>
            <a:off x="1311120" y="884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Text Box 5"/>
          <p:cNvSpPr/>
          <p:nvPr/>
        </p:nvSpPr>
        <p:spPr>
          <a:xfrm>
            <a:off x="900000" y="1413000"/>
            <a:ext cx="805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I have got a brother. He is 25.</a:t>
            </a:r>
            <a:r>
              <a:rPr b="0" lang="ru-RU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My brother is independent and kind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Text Box 6"/>
          <p:cNvSpPr/>
          <p:nvPr/>
        </p:nvSpPr>
        <p:spPr>
          <a:xfrm>
            <a:off x="551160" y="476280"/>
            <a:ext cx="60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ny brothers or sist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4"/>
          <p:cNvSpPr/>
          <p:nvPr/>
        </p:nvSpPr>
        <p:spPr>
          <a:xfrm>
            <a:off x="657720" y="112536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ke speaks Englis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1547640" y="1413000"/>
            <a:ext cx="16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Text Box 6"/>
          <p:cNvSpPr/>
          <p:nvPr/>
        </p:nvSpPr>
        <p:spPr>
          <a:xfrm>
            <a:off x="520920" y="2133720"/>
            <a:ext cx="65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hobbies are karate and swimm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Text Box 7"/>
          <p:cNvSpPr/>
          <p:nvPr/>
        </p:nvSpPr>
        <p:spPr>
          <a:xfrm>
            <a:off x="396360" y="2997360"/>
            <a:ext cx="87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ke’s Mum is a doctor and his Dad is a sportsm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Text Box 8"/>
          <p:cNvSpPr/>
          <p:nvPr/>
        </p:nvSpPr>
        <p:spPr>
          <a:xfrm>
            <a:off x="468360" y="3860640"/>
            <a:ext cx="62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is athletic, brave and friend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Text Box 9"/>
          <p:cNvSpPr/>
          <p:nvPr/>
        </p:nvSpPr>
        <p:spPr>
          <a:xfrm>
            <a:off x="395280" y="4724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ke has got a brother. He is 25 and he i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pendent and kind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Text Box 10"/>
          <p:cNvSpPr/>
          <p:nvPr/>
        </p:nvSpPr>
        <p:spPr>
          <a:xfrm>
            <a:off x="642600" y="333360"/>
            <a:ext cx="35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ke is from Fra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Text Box 4"/>
          <p:cNvSpPr/>
          <p:nvPr/>
        </p:nvSpPr>
        <p:spPr>
          <a:xfrm>
            <a:off x="543600" y="549360"/>
            <a:ext cx="53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veta, may I ask you a ques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- Yes, certain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Text Box 5"/>
          <p:cNvSpPr/>
          <p:nvPr/>
        </p:nvSpPr>
        <p:spPr>
          <a:xfrm>
            <a:off x="468360" y="1917720"/>
            <a:ext cx="6840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What foreign languages do you speak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Text Box 6"/>
          <p:cNvSpPr/>
          <p:nvPr/>
        </p:nvSpPr>
        <p:spPr>
          <a:xfrm>
            <a:off x="598320" y="3502080"/>
            <a:ext cx="753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hobbi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- Listening to music and danc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7"/>
          <p:cNvSpPr/>
          <p:nvPr/>
        </p:nvSpPr>
        <p:spPr>
          <a:xfrm>
            <a:off x="1096920" y="367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8"/>
          <p:cNvSpPr/>
          <p:nvPr/>
        </p:nvSpPr>
        <p:spPr>
          <a:xfrm>
            <a:off x="568800" y="5013360"/>
            <a:ext cx="788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 lot of friend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Yes, lots, but only one close friend</a:t>
            </a:r>
            <a:r>
              <a:rPr b="0" lang="en-US" sz="1800" spc="-1" strike="noStrike">
                <a:solidFill>
                  <a:srgbClr val="9999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Text Box 9"/>
          <p:cNvSpPr/>
          <p:nvPr/>
        </p:nvSpPr>
        <p:spPr>
          <a:xfrm>
            <a:off x="2958120" y="24940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- Germ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 Box 4"/>
          <p:cNvSpPr/>
          <p:nvPr/>
        </p:nvSpPr>
        <p:spPr>
          <a:xfrm>
            <a:off x="251280" y="463680"/>
            <a:ext cx="64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ould you say your family is lik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Text Box 5"/>
          <p:cNvSpPr/>
          <p:nvPr/>
        </p:nvSpPr>
        <p:spPr>
          <a:xfrm>
            <a:off x="304920" y="11113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- We are a typical Russian family. We are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close family and we get on well with each othe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Text Box 6"/>
          <p:cNvSpPr/>
          <p:nvPr/>
        </p:nvSpPr>
        <p:spPr>
          <a:xfrm>
            <a:off x="252720" y="2492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your parents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Text Box 7"/>
          <p:cNvSpPr/>
          <p:nvPr/>
        </p:nvSpPr>
        <p:spPr>
          <a:xfrm>
            <a:off x="757080" y="3284640"/>
            <a:ext cx="77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y Mum is a housewife and my Dad is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businessman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Text Box 8"/>
          <p:cNvSpPr/>
          <p:nvPr/>
        </p:nvSpPr>
        <p:spPr>
          <a:xfrm>
            <a:off x="255240" y="4292640"/>
            <a:ext cx="75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Sveta, how would you describe yourself, I me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main characteristic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Text Box 9"/>
          <p:cNvSpPr/>
          <p:nvPr/>
        </p:nvSpPr>
        <p:spPr>
          <a:xfrm>
            <a:off x="900000" y="5516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Well, I think I am intelligent, cre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and talkati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Text Box 10"/>
          <p:cNvSpPr/>
          <p:nvPr/>
        </p:nvSpPr>
        <p:spPr>
          <a:xfrm>
            <a:off x="68256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Text Box 11"/>
          <p:cNvSpPr/>
          <p:nvPr/>
        </p:nvSpPr>
        <p:spPr>
          <a:xfrm>
            <a:off x="1690560" y="514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 Box 4"/>
          <p:cNvSpPr/>
          <p:nvPr/>
        </p:nvSpPr>
        <p:spPr>
          <a:xfrm>
            <a:off x="1311120" y="884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Text Box 5"/>
          <p:cNvSpPr/>
          <p:nvPr/>
        </p:nvSpPr>
        <p:spPr>
          <a:xfrm>
            <a:off x="900000" y="1413000"/>
            <a:ext cx="805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- No, I haven’t. I have neither a brother nor a sist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 Box 6"/>
          <p:cNvSpPr/>
          <p:nvPr/>
        </p:nvSpPr>
        <p:spPr>
          <a:xfrm>
            <a:off x="551160" y="476280"/>
            <a:ext cx="60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ny brothers or sist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4"/>
          <p:cNvSpPr/>
          <p:nvPr/>
        </p:nvSpPr>
        <p:spPr>
          <a:xfrm>
            <a:off x="655920" y="112536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veta speaks Germ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Text Box 5"/>
          <p:cNvSpPr/>
          <p:nvPr/>
        </p:nvSpPr>
        <p:spPr>
          <a:xfrm>
            <a:off x="1547640" y="1413000"/>
            <a:ext cx="16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523440" y="2133720"/>
            <a:ext cx="81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 hobbies are listening to music and danc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Text Box 7"/>
          <p:cNvSpPr/>
          <p:nvPr/>
        </p:nvSpPr>
        <p:spPr>
          <a:xfrm>
            <a:off x="448560" y="2997360"/>
            <a:ext cx="763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veta’s Mum is a housewife and her Dad is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sinessm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 Box 8"/>
          <p:cNvSpPr/>
          <p:nvPr/>
        </p:nvSpPr>
        <p:spPr>
          <a:xfrm>
            <a:off x="468360" y="4292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is intelligent, creative and talkati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Text Box 9"/>
          <p:cNvSpPr/>
          <p:nvPr/>
        </p:nvSpPr>
        <p:spPr>
          <a:xfrm>
            <a:off x="395280" y="5300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veta has neither a brother nor a sist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Text Box 10"/>
          <p:cNvSpPr/>
          <p:nvPr/>
        </p:nvSpPr>
        <p:spPr>
          <a:xfrm>
            <a:off x="649080" y="33336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veta is from Russ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TextBox 1"/>
          <p:cNvSpPr/>
          <p:nvPr/>
        </p:nvSpPr>
        <p:spPr>
          <a:xfrm>
            <a:off x="561600" y="431640"/>
            <a:ext cx="698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зентации был использован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из УМК Биболетовой М.З. и др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oy English”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5 клас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4"/>
          <p:cNvSpPr/>
          <p:nvPr/>
        </p:nvSpPr>
        <p:spPr>
          <a:xfrm>
            <a:off x="901440" y="-100080"/>
            <a:ext cx="534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inda, may I ask you a ques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Yes, certain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Text Box 6"/>
          <p:cNvSpPr/>
          <p:nvPr/>
        </p:nvSpPr>
        <p:spPr>
          <a:xfrm>
            <a:off x="826920" y="1268280"/>
            <a:ext cx="6840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What foreign languages do you speak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Text Box 8"/>
          <p:cNvSpPr/>
          <p:nvPr/>
        </p:nvSpPr>
        <p:spPr>
          <a:xfrm>
            <a:off x="1039680" y="2637000"/>
            <a:ext cx="544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hobbi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Theatre and musi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Text Box 12"/>
          <p:cNvSpPr/>
          <p:nvPr/>
        </p:nvSpPr>
        <p:spPr>
          <a:xfrm>
            <a:off x="1455840" y="302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Text Box 15"/>
          <p:cNvSpPr/>
          <p:nvPr/>
        </p:nvSpPr>
        <p:spPr>
          <a:xfrm>
            <a:off x="1011240" y="3860640"/>
            <a:ext cx="59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play any musical instrum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Yes, I play the guit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Text Box 17"/>
          <p:cNvSpPr/>
          <p:nvPr/>
        </p:nvSpPr>
        <p:spPr>
          <a:xfrm>
            <a:off x="1073520" y="5321160"/>
            <a:ext cx="788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 lot of friend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es, lots, but only one close friend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Text Box 21"/>
          <p:cNvSpPr/>
          <p:nvPr/>
        </p:nvSpPr>
        <p:spPr>
          <a:xfrm>
            <a:off x="3162960" y="184464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French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5"/>
          <p:cNvSpPr/>
          <p:nvPr/>
        </p:nvSpPr>
        <p:spPr>
          <a:xfrm>
            <a:off x="468720" y="189000"/>
            <a:ext cx="64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ould you say your family is lik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Text Box 6"/>
          <p:cNvSpPr/>
          <p:nvPr/>
        </p:nvSpPr>
        <p:spPr>
          <a:xfrm>
            <a:off x="504000" y="836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We are a typical English family. We are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ose family and we get on well with each othe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Text Box 7"/>
          <p:cNvSpPr/>
          <p:nvPr/>
        </p:nvSpPr>
        <p:spPr>
          <a:xfrm>
            <a:off x="470160" y="206064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your parents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Text Box 8"/>
          <p:cNvSpPr/>
          <p:nvPr/>
        </p:nvSpPr>
        <p:spPr>
          <a:xfrm>
            <a:off x="1160640" y="278136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My Mum is a nurse and my Dad is a manager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Text Box 9"/>
          <p:cNvSpPr/>
          <p:nvPr/>
        </p:nvSpPr>
        <p:spPr>
          <a:xfrm>
            <a:off x="472680" y="3573360"/>
            <a:ext cx="766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Linda, how would you describe yourself, I me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main characteristic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Text Box 10"/>
          <p:cNvSpPr/>
          <p:nvPr/>
        </p:nvSpPr>
        <p:spPr>
          <a:xfrm>
            <a:off x="1332000" y="486900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ll, I think I am independent, curious and have  a good sense of humou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Text Box 11"/>
          <p:cNvSpPr/>
          <p:nvPr/>
        </p:nvSpPr>
        <p:spPr>
          <a:xfrm>
            <a:off x="90000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Text Box 12"/>
          <p:cNvSpPr/>
          <p:nvPr/>
        </p:nvSpPr>
        <p:spPr>
          <a:xfrm>
            <a:off x="1908000" y="486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Text Box 14"/>
          <p:cNvSpPr/>
          <p:nvPr/>
        </p:nvSpPr>
        <p:spPr>
          <a:xfrm>
            <a:off x="1908000" y="621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4"/>
          <p:cNvSpPr/>
          <p:nvPr/>
        </p:nvSpPr>
        <p:spPr>
          <a:xfrm>
            <a:off x="1166760" y="81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Text Box 7"/>
          <p:cNvSpPr/>
          <p:nvPr/>
        </p:nvSpPr>
        <p:spPr>
          <a:xfrm>
            <a:off x="972720" y="1341360"/>
            <a:ext cx="755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 have got a brother. He is very serious an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derstanding.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y sister is very naughty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Text Box 8"/>
          <p:cNvSpPr/>
          <p:nvPr/>
        </p:nvSpPr>
        <p:spPr>
          <a:xfrm>
            <a:off x="406800" y="404640"/>
            <a:ext cx="60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ny brothers or sist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Text Box 4"/>
          <p:cNvSpPr/>
          <p:nvPr/>
        </p:nvSpPr>
        <p:spPr>
          <a:xfrm>
            <a:off x="544680" y="260280"/>
            <a:ext cx="516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n, may I ask you a ques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- Yes, certain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Text Box 5"/>
          <p:cNvSpPr/>
          <p:nvPr/>
        </p:nvSpPr>
        <p:spPr>
          <a:xfrm>
            <a:off x="468360" y="1628640"/>
            <a:ext cx="6840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What foreign languages do you speak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Text Box 6"/>
          <p:cNvSpPr/>
          <p:nvPr/>
        </p:nvSpPr>
        <p:spPr>
          <a:xfrm>
            <a:off x="592200" y="3213000"/>
            <a:ext cx="58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hobbi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- Cooking and read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7"/>
          <p:cNvSpPr/>
          <p:nvPr/>
        </p:nvSpPr>
        <p:spPr>
          <a:xfrm>
            <a:off x="1096920" y="3381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Text Box 9"/>
          <p:cNvSpPr/>
          <p:nvPr/>
        </p:nvSpPr>
        <p:spPr>
          <a:xfrm>
            <a:off x="568800" y="4724280"/>
            <a:ext cx="788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 lot of friend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Yes, lots, but only one close friend</a:t>
            </a: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Text Box 10"/>
          <p:cNvSpPr/>
          <p:nvPr/>
        </p:nvSpPr>
        <p:spPr>
          <a:xfrm>
            <a:off x="2975040" y="22050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- Russi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 Box 4"/>
          <p:cNvSpPr/>
          <p:nvPr/>
        </p:nvSpPr>
        <p:spPr>
          <a:xfrm>
            <a:off x="251280" y="463680"/>
            <a:ext cx="64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ould you say your family is lik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Text Box 5"/>
          <p:cNvSpPr/>
          <p:nvPr/>
        </p:nvSpPr>
        <p:spPr>
          <a:xfrm>
            <a:off x="320040" y="11113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- We are a typical German family. We are 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close family and we get on well with each othe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Text Box 6"/>
          <p:cNvSpPr/>
          <p:nvPr/>
        </p:nvSpPr>
        <p:spPr>
          <a:xfrm>
            <a:off x="252720" y="2492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your parents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 Box 7"/>
          <p:cNvSpPr/>
          <p:nvPr/>
        </p:nvSpPr>
        <p:spPr>
          <a:xfrm>
            <a:off x="1055160" y="3284640"/>
            <a:ext cx="77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- My Mum is a dentist and my Dad is a driver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Text Box 8"/>
          <p:cNvSpPr/>
          <p:nvPr/>
        </p:nvSpPr>
        <p:spPr>
          <a:xfrm>
            <a:off x="256320" y="4292640"/>
            <a:ext cx="740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Ann, how would you describe yourself, I me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main characteristic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Text Box 9"/>
          <p:cNvSpPr/>
          <p:nvPr/>
        </p:nvSpPr>
        <p:spPr>
          <a:xfrm>
            <a:off x="900000" y="5516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Well, I think I am sociable, responsible and ki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Text Box 10"/>
          <p:cNvSpPr/>
          <p:nvPr/>
        </p:nvSpPr>
        <p:spPr>
          <a:xfrm>
            <a:off x="68256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Text Box 11"/>
          <p:cNvSpPr/>
          <p:nvPr/>
        </p:nvSpPr>
        <p:spPr>
          <a:xfrm>
            <a:off x="1690560" y="514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 Box 4"/>
          <p:cNvSpPr/>
          <p:nvPr/>
        </p:nvSpPr>
        <p:spPr>
          <a:xfrm>
            <a:off x="1311120" y="884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Text Box 5"/>
          <p:cNvSpPr/>
          <p:nvPr/>
        </p:nvSpPr>
        <p:spPr>
          <a:xfrm>
            <a:off x="900000" y="1413000"/>
            <a:ext cx="805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I have got a sister. She is 3.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My sister is 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nice and funny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Text Box 6"/>
          <p:cNvSpPr/>
          <p:nvPr/>
        </p:nvSpPr>
        <p:spPr>
          <a:xfrm>
            <a:off x="551160" y="476280"/>
            <a:ext cx="60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ny brothers or sist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4"/>
          <p:cNvSpPr/>
          <p:nvPr/>
        </p:nvSpPr>
        <p:spPr>
          <a:xfrm>
            <a:off x="624240" y="112536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 speaks Russi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1547640" y="1413000"/>
            <a:ext cx="16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529920" y="2133720"/>
            <a:ext cx="64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 hobbies are cooking and read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Text Box 7"/>
          <p:cNvSpPr/>
          <p:nvPr/>
        </p:nvSpPr>
        <p:spPr>
          <a:xfrm>
            <a:off x="465480" y="299736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’s Mum is a dentist and her Dad is a driv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Text Box 9"/>
          <p:cNvSpPr/>
          <p:nvPr/>
        </p:nvSpPr>
        <p:spPr>
          <a:xfrm>
            <a:off x="468360" y="3860640"/>
            <a:ext cx="62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is sociable, responsible and kind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Text Box 10"/>
          <p:cNvSpPr/>
          <p:nvPr/>
        </p:nvSpPr>
        <p:spPr>
          <a:xfrm>
            <a:off x="475560" y="4724280"/>
            <a:ext cx="76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 has got a sister. She is 3 and she is  ver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ce and funn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Text Box 11"/>
          <p:cNvSpPr/>
          <p:nvPr/>
        </p:nvSpPr>
        <p:spPr>
          <a:xfrm>
            <a:off x="569160" y="33336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 is from German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4"/>
          <p:cNvSpPr/>
          <p:nvPr/>
        </p:nvSpPr>
        <p:spPr>
          <a:xfrm>
            <a:off x="543600" y="549360"/>
            <a:ext cx="529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ke, may I ask you a ques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Yes, certain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Text Box 5"/>
          <p:cNvSpPr/>
          <p:nvPr/>
        </p:nvSpPr>
        <p:spPr>
          <a:xfrm>
            <a:off x="468360" y="1917720"/>
            <a:ext cx="6840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What foreign languages do you speak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Text Box 6"/>
          <p:cNvSpPr/>
          <p:nvPr/>
        </p:nvSpPr>
        <p:spPr>
          <a:xfrm>
            <a:off x="596520" y="3502080"/>
            <a:ext cx="599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your hobbi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Karate and swimm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Text Box 7"/>
          <p:cNvSpPr/>
          <p:nvPr/>
        </p:nvSpPr>
        <p:spPr>
          <a:xfrm>
            <a:off x="1096920" y="367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Text Box 8"/>
          <p:cNvSpPr/>
          <p:nvPr/>
        </p:nvSpPr>
        <p:spPr>
          <a:xfrm>
            <a:off x="568800" y="5013360"/>
            <a:ext cx="788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you got a lot of friend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Yes, lots, but only one close friend</a:t>
            </a:r>
            <a:r>
              <a:rPr b="0" lang="en-US" sz="1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Text Box 9"/>
          <p:cNvSpPr/>
          <p:nvPr/>
        </p:nvSpPr>
        <p:spPr>
          <a:xfrm>
            <a:off x="2991600" y="249408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- Englis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5:54:47Z</dcterms:created>
  <dc:creator>Katrin</dc:creator>
  <dc:description/>
  <dc:language>en-US</dc:language>
  <cp:lastModifiedBy>Acer</cp:lastModifiedBy>
  <dcterms:modified xsi:type="dcterms:W3CDTF">2015-01-26T18:12:15Z</dcterms:modified>
  <cp:revision>23</cp:revision>
  <dc:subject/>
  <dc:title>Personal Information</dc:title>
</cp:coreProperties>
</file>