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206-4CD2-476C-AECC-C449A25E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E02-2742-45E7-8B25-D2D5890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114-0878-4666-BD81-FADCF1D2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54D-060F-4A15-A29B-B444759F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972-CD00-4119-81AC-F5DA393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0E7-AB8E-4943-8808-A54EDD2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F0B-CE29-49A1-98AC-6E9DAEF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62E-29D1-4B6E-BB6E-B1FAF285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0FF-155A-4EF5-9E15-740C91B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AD0-093D-44C6-98F2-1D79A3F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D3E-1CAA-4507-A685-BEDC21B5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17D-9EDE-4119-9C42-7E72077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CD5B-280C-4F62-9692-357F33271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384120"/>
            <a:ext cx="9156960" cy="3243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82520" y="3645000"/>
            <a:ext cx="884556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1292" t="0" r="51994" b="4878"/>
          <a:stretch/>
        </p:blipFill>
        <p:spPr>
          <a:xfrm>
            <a:off x="179280" y="189000"/>
            <a:ext cx="8774280" cy="6335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356000" y="18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ПЕРСПЕКТИВА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учение о способах передачи пространства на плоскости изобра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1122" t="3163" r="50646" b="11448"/>
          <a:stretch/>
        </p:blipFill>
        <p:spPr>
          <a:xfrm>
            <a:off x="179280" y="189000"/>
            <a:ext cx="8829720" cy="5543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ИНЕЙНАЯ ПЕРСПЕКТИВА С ДВУМЯ ТОЧКАМИ С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Линейная перспектива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изменение  масштаба изображения  объектов, расположенных на плос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79280" y="9079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раллельные линии сходятся в бесконечно удаленных точках, называемых </a:t>
            </a: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точками схода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линии горизо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Овал 4"/>
          <p:cNvGrpSpPr/>
          <p:nvPr/>
        </p:nvGrpSpPr>
        <p:grpSpPr>
          <a:xfrm>
            <a:off x="262080" y="2816280"/>
            <a:ext cx="261720" cy="255600"/>
            <a:chOff x="262080" y="2816280"/>
            <a:chExt cx="261720" cy="255600"/>
          </a:xfrm>
        </p:grpSpPr>
        <p:pic>
          <p:nvPicPr>
            <p:cNvPr id="49" name="Овал 4" descr=""/>
            <p:cNvPicPr/>
            <p:nvPr/>
          </p:nvPicPr>
          <p:blipFill>
            <a:blip r:embed="rId2"/>
            <a:stretch/>
          </p:blipFill>
          <p:spPr>
            <a:xfrm>
              <a:off x="262080" y="2816280"/>
              <a:ext cx="2617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44520" y="2873520"/>
              <a:ext cx="10152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Овал 5"/>
          <p:cNvGrpSpPr/>
          <p:nvPr/>
        </p:nvGrpSpPr>
        <p:grpSpPr>
          <a:xfrm>
            <a:off x="8686800" y="2816280"/>
            <a:ext cx="262080" cy="255600"/>
            <a:chOff x="8686800" y="2816280"/>
            <a:chExt cx="262080" cy="255600"/>
          </a:xfrm>
        </p:grpSpPr>
        <p:pic>
          <p:nvPicPr>
            <p:cNvPr id="52" name="Овал 5" descr=""/>
            <p:cNvPicPr/>
            <p:nvPr/>
          </p:nvPicPr>
          <p:blipFill>
            <a:blip r:embed="rId3"/>
            <a:stretch/>
          </p:blipFill>
          <p:spPr>
            <a:xfrm>
              <a:off x="8686800" y="2816280"/>
              <a:ext cx="26208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769240" y="2873520"/>
              <a:ext cx="101880" cy="1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4" name="Прямая со стрелкой 9"/>
          <p:cNvCxnSpPr/>
          <p:nvPr/>
        </p:nvCxnSpPr>
        <p:spPr>
          <a:xfrm flipH="1">
            <a:off x="468000" y="1773360"/>
            <a:ext cx="1008720" cy="1008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Прямая со стрелкой 11"/>
          <p:cNvCxnSpPr/>
          <p:nvPr/>
        </p:nvCxnSpPr>
        <p:spPr>
          <a:xfrm>
            <a:off x="1547640" y="1773360"/>
            <a:ext cx="7128720" cy="1080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64480" cy="633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937400" y="40464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ГЛОВАЯ ПЕРСП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0" r="759" b="15400"/>
          <a:stretch/>
        </p:blipFill>
        <p:spPr>
          <a:xfrm>
            <a:off x="250920" y="260280"/>
            <a:ext cx="889308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548280" y="5229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СПЕКТИВА УЛ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727" t="11189" r="1790" b="17941"/>
          <a:stretch/>
        </p:blipFill>
        <p:spPr>
          <a:xfrm>
            <a:off x="324000" y="549360"/>
            <a:ext cx="8621640" cy="4680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871360" y="5516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ЕРСПЕКТИВА ИНТЕРЬ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537" t="2101" r="3236" b="5501"/>
          <a:stretch/>
        </p:blipFill>
        <p:spPr>
          <a:xfrm>
            <a:off x="250920" y="404640"/>
            <a:ext cx="8523360" cy="6048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632160" y="6021360"/>
            <a:ext cx="63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ТРОЕНИЕ В ПЕРСПЕКТИВЕ РАЗЛИЧНЫХ ФО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5:57:58Z</dcterms:created>
  <dc:creator>Admin</dc:creator>
  <dc:description/>
  <dc:language>en-US</dc:language>
  <cp:lastModifiedBy>Admin</cp:lastModifiedBy>
  <dcterms:modified xsi:type="dcterms:W3CDTF">2015-02-03T16:54:13Z</dcterms:modified>
  <cp:revision>9</cp:revision>
  <dc:subject/>
  <dc:title>Слайд 1</dc:title>
</cp:coreProperties>
</file>