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4CAE-E356-4D25-8A2C-085050C2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D6CA-572F-4EE9-BA06-4D75AFFF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97B0-E744-40B6-AC91-DD855B6C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FECE-FA8A-4C23-9247-B615B94D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DC4C-BD0A-43A8-9652-EFA814E2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9A3A-72E8-4BB4-B1CB-440F0973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E75D-51BE-41B0-80BE-9C0E9044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78B7-B79C-4584-82A1-75FEF0A4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BDD-01CA-46A8-8520-98622361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4DF8-A1AA-4CDF-B9FC-7BFC8794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F5F4-6FE9-43AC-ABAD-A2563F29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4FC-54F5-4E53-8663-D7D63DF8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0243-69E5-4362-8765-7143DB12E4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384120"/>
            <a:ext cx="9156960" cy="32432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82520" y="3645000"/>
            <a:ext cx="8845560" cy="2189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1292" t="0" r="51994" b="4878"/>
          <a:stretch/>
        </p:blipFill>
        <p:spPr>
          <a:xfrm>
            <a:off x="179280" y="189000"/>
            <a:ext cx="8774280" cy="63356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4356000" y="189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ПЕРСПЕКТИВА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– учение о способах передачи пространства на плоскости изображ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rcRect l="1122" t="3163" r="50646" b="11448"/>
          <a:stretch/>
        </p:blipFill>
        <p:spPr>
          <a:xfrm>
            <a:off x="179280" y="189000"/>
            <a:ext cx="8829720" cy="554364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179280" y="333360"/>
            <a:ext cx="88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ИНЕЙНАЯ ПЕРСПЕКТИВА С ДВУМЯ ТОЧКАМИ С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Линейная перспектива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– изменение  масштаба изображения  объектов, расположенных на плоск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179280" y="90792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араллельные линии сходятся в бесконечно удаленных точках, называемых </a:t>
            </a: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точками схода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линии горизон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Овал 4"/>
          <p:cNvGrpSpPr/>
          <p:nvPr/>
        </p:nvGrpSpPr>
        <p:grpSpPr>
          <a:xfrm>
            <a:off x="262080" y="2816280"/>
            <a:ext cx="261720" cy="255600"/>
            <a:chOff x="262080" y="2816280"/>
            <a:chExt cx="261720" cy="255600"/>
          </a:xfrm>
        </p:grpSpPr>
        <p:pic>
          <p:nvPicPr>
            <p:cNvPr id="49" name="Овал 4" descr=""/>
            <p:cNvPicPr/>
            <p:nvPr/>
          </p:nvPicPr>
          <p:blipFill>
            <a:blip r:embed="rId2"/>
            <a:stretch/>
          </p:blipFill>
          <p:spPr>
            <a:xfrm>
              <a:off x="262080" y="2816280"/>
              <a:ext cx="26172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44520" y="2873520"/>
              <a:ext cx="101520" cy="1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Овал 5"/>
          <p:cNvGrpSpPr/>
          <p:nvPr/>
        </p:nvGrpSpPr>
        <p:grpSpPr>
          <a:xfrm>
            <a:off x="8686800" y="2816280"/>
            <a:ext cx="262080" cy="255600"/>
            <a:chOff x="8686800" y="2816280"/>
            <a:chExt cx="262080" cy="255600"/>
          </a:xfrm>
        </p:grpSpPr>
        <p:pic>
          <p:nvPicPr>
            <p:cNvPr id="52" name="Овал 5" descr=""/>
            <p:cNvPicPr/>
            <p:nvPr/>
          </p:nvPicPr>
          <p:blipFill>
            <a:blip r:embed="rId3"/>
            <a:stretch/>
          </p:blipFill>
          <p:spPr>
            <a:xfrm>
              <a:off x="8686800" y="2816280"/>
              <a:ext cx="26208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769240" y="2873520"/>
              <a:ext cx="101880" cy="1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4" name="Прямая со стрелкой 9"/>
          <p:cNvCxnSpPr/>
          <p:nvPr/>
        </p:nvCxnSpPr>
        <p:spPr>
          <a:xfrm flipH="1">
            <a:off x="468000" y="1773360"/>
            <a:ext cx="1008720" cy="1008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55" name="Прямая со стрелкой 11"/>
          <p:cNvCxnSpPr/>
          <p:nvPr/>
        </p:nvCxnSpPr>
        <p:spPr>
          <a:xfrm>
            <a:off x="1547640" y="1773360"/>
            <a:ext cx="7128720" cy="10800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64480" cy="633564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4937400" y="404640"/>
            <a:ext cx="31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ГЛОВАЯ ПЕРСПЕКТИ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0" t="0" r="759" b="15400"/>
          <a:stretch/>
        </p:blipFill>
        <p:spPr>
          <a:xfrm>
            <a:off x="250920" y="260280"/>
            <a:ext cx="8893080" cy="55450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548280" y="5229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ЕРСПЕКТИВА УЛИЦ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2727" t="11189" r="1790" b="17941"/>
          <a:stretch/>
        </p:blipFill>
        <p:spPr>
          <a:xfrm>
            <a:off x="324000" y="549360"/>
            <a:ext cx="8621640" cy="4680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2871360" y="551664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ПЕРСПЕКТИВА ИНТЕРЬ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1537" t="2101" r="3236" b="5501"/>
          <a:stretch/>
        </p:blipFill>
        <p:spPr>
          <a:xfrm>
            <a:off x="250920" y="404640"/>
            <a:ext cx="8523360" cy="60487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632160" y="6021360"/>
            <a:ext cx="63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СТРОЕНИЕ В ПЕРСПЕКТИВЕ РАЗЛИЧНЫХ ФОР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5:57:58Z</dcterms:created>
  <dc:creator>Admin</dc:creator>
  <dc:description/>
  <dc:language>en-US</dc:language>
  <cp:lastModifiedBy>Admin</cp:lastModifiedBy>
  <dcterms:modified xsi:type="dcterms:W3CDTF">2015-02-03T16:54:13Z</dcterms:modified>
  <cp:revision>9</cp:revision>
  <dc:subject/>
  <dc:title>Слайд 1</dc:title>
</cp:coreProperties>
</file>