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001E-7139-4FCD-89A4-E363C6B8B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975B-72AB-42DC-97EF-154DA81C8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F1E5-27F6-43E4-B595-C042FB19B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A837-69ED-4CD3-8FDE-37A859A33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4EC9-7C2E-4072-85BD-40144E7FD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3D86-4363-463A-921D-C4AA1DAA7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EDE2-1366-4268-B5A4-20721821F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F1A2-9887-4538-AD30-82D1F45E9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6674-23A7-4B2B-B519-D8E72B282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34A5-9F78-4FB7-8021-BD2DFA99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40F6-63E7-4996-A0C5-63B653E7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D06A-3C91-42D1-80D4-8169C5EC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CA91F-9248-4F9D-8192-5F4A869FDD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hkolo.ru/stroenie-i-funktsii-organov-dyihaniya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040" y="571680"/>
            <a:ext cx="8229600" cy="25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актикум для родителей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о теме: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АЗВИТИЕ РЕЧЕВОГО ДЫХАНИ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3285720"/>
            <a:ext cx="775800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Бышкин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ветлана Валерьевн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Учитель-логопед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катеринбург 20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сточники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499760" y="1600200"/>
            <a:ext cx="7186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Шаблон для презентации «Розы», интернет-ресурсы сайт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dsovet.su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лякова Л.И., Гончарова Н.Н., Шишкова Т.Г.. Методика развития речевого дыхания у дошкольников с нарушениями речи. Книголюб, 200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ганы дыхания -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shkolo.ru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357200" y="-360"/>
            <a:ext cx="73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дравствуйте, собравшиеся родители. Сегодня мы побеседуем на тему «Речевое дыхание и игры, направленные на его развитие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начала давайте вспомним основные органы дыхания и их назначение. Основная функция органов дыхания – это газообмен, жизненно важная функция. Также органы дыхания принимают участие в образовании голос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ыделяется 2 вида дыхания: физиологическое дыхание, о котором мы все имеем представлени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http://shkolo.ru/i/organy-dyhaniya.gif"/>
          <p:cNvPicPr/>
          <p:nvPr/>
        </p:nvPicPr>
        <p:blipFill>
          <a:blip r:embed="rId2"/>
          <a:stretch/>
        </p:blipFill>
        <p:spPr>
          <a:xfrm>
            <a:off x="1000080" y="571680"/>
            <a:ext cx="7072200" cy="59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914400" y="2785680"/>
            <a:ext cx="82296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акже есть речевое дыхание – это дыхание в процессе речи. Перед началом речи всегда делается быстрый вдох, более глубокий чем в покое. Важно не только вдохнуть достаточное количество воздуха, но и экономно его расходовать при произнесении фразы. Так речевой выдох обеспечивает звучание голоса при непрерывном высказывани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Скругленный прямоугольник 3"/>
          <p:cNvSpPr/>
          <p:nvPr/>
        </p:nvSpPr>
        <p:spPr>
          <a:xfrm>
            <a:off x="3429000" y="285840"/>
            <a:ext cx="2786040" cy="71424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ЫХАНИ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Скругленный прямоугольник 4"/>
          <p:cNvSpPr/>
          <p:nvPr/>
        </p:nvSpPr>
        <p:spPr>
          <a:xfrm>
            <a:off x="5429160" y="1785960"/>
            <a:ext cx="2786040" cy="71424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ЕЧЕВО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Скругленный прямоугольник 5"/>
          <p:cNvSpPr/>
          <p:nvPr/>
        </p:nvSpPr>
        <p:spPr>
          <a:xfrm>
            <a:off x="1285920" y="1785960"/>
            <a:ext cx="3214800" cy="71424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ИЗИОЛОГИЧЕСКО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071360" y="214200"/>
            <a:ext cx="761508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 ребенка речевое дыхание развивается параллельно с развитием речи, начиная с 3 – 6  мес. В возрасте 4 – 6 лет ребенок должен в процессе одного речевого выдоха успеть произнести фразу из 3 – 4 слов. В 5 – 6 лет речь ребенка усложняется, мышление позволяет строить фразы из 5 – 6 слов, но речевого выдоха не хватает на такие длинные фраз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ак появляются дополнительные вдохи во время высказывания, задержки дыхания, высказывание в итоге прерывается, кажется незавершенны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тановление речевого дыхания завершается к 10 годам, т.е. в 10 лет одного речевого выдоха достаточно на непрерывное произнесение одной фраз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928800" y="-360"/>
            <a:ext cx="77580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 детей с нарушениями речи физиологическое дыхание имеет свои особенности: оно поверхностное, легкие задействованы не в полном объеме, ритм дыхания неустойчив, легко нарушается при физической или эмоциональной нагрузке. Соответственно и речевое дыхание развивается патологически. В процессе речи у детей с нарушениями речи будут задержки дыхания, судорожные сокращения мышц грудной клетки, дополнительные вдохи. Вдох недостаточного объема, а речевой выдох часто укороченны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еперь нам понятно, что проблемы с речевым дыханием могут быть у детей с нормальным развитием, и у детей с нарушениями речи.  Следовательно, развивать речевое дыхание нужно у всех дошкольников. Сейчас мы узнаем, как в игровой форме тренировать речевой выдох у дошкольник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499760" y="785880"/>
            <a:ext cx="718668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гры, направленные на развитие речевого дыхания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- «Птичка улетела»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- «Сдуть шарик»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- «Сдуть бабочек»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- «Листопад»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- «Снегопад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МАСТЕР-КЛАСС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213920" y="1071720"/>
            <a:ext cx="792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зготовление наглядного пособия для развития речевого дыха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ыбрать картинку с цветком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ивязать нитку к бабочк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иклеить скотчем свободный конец нитки к изображению цветк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икрепить несколько бабочек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пробовать сдуть бабочек с цветк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1680" y="2214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Спасибо за внимание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6T10:15:00Z</dcterms:created>
  <dc:creator>Best</dc:creator>
  <dc:description/>
  <dc:language>en-US</dc:language>
  <cp:lastModifiedBy>1</cp:lastModifiedBy>
  <dcterms:modified xsi:type="dcterms:W3CDTF">2015-02-03T12:46:44Z</dcterms:modified>
  <cp:revision>71</cp:revision>
  <dc:subject/>
  <dc:title>ПОСУДА</dc:title>
</cp:coreProperties>
</file>