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D6C-4B54-4042-AE43-0198FDD3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CAD-E9FA-4ABF-B47C-C4D5E77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CB8-621A-4703-B884-CF6CA2A7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B45-362C-41E2-9348-4E529EAB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3C0-ADCA-4593-8ADE-973C1D6E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E5B-4B89-4C22-B3BE-A4F707F9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8B9-5C0B-4B2F-94A9-4CA8430E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1FC-ACA9-4B7C-906E-7224A14D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968-6767-4A1A-A3C4-9969382B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083-36DB-412D-96CF-550D52B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4AA-B57A-4C55-B9D4-415E692E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BCF-C2E4-4A7B-B3B5-DCCE4CF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CF5-25EC-4092-A1B1-9D00FA18F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hkolo.ru/stroenie-i-funktsii-organov-dyihaniya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ктикум 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 теме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ВИТИЕ РЕЧЕВОГО ДЫХ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285720"/>
            <a:ext cx="7758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ышк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етлана Валерьев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катеринбург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блон для презентации «Розы», интернет-ресурсы сайт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sovet.s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якова Л.И., Гончарова Н.Н., Шишкова Т.Г.. Методика развития речевого дыхания у дошкольников с нарушениями речи. Книголюб, 20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ы дыхания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hkolo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357200" y="-360"/>
            <a:ext cx="73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дравствуйте, собравшиеся родители. Сегодня мы побеседуем на тему «Речевое дыхание и игры, направленные на его развитие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ачала давайте вспомним основные органы дыхания и их назначение. Основная функция органов дыхания – это газообмен, жизненно важная функция. Также органы дыхания принимают участие в образовании голо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деляется 2 вида дыхания: физиологическое дыхание, о котором мы все имеем представл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shkolo.ru/i/organy-dyhaniya.gif"/>
          <p:cNvPicPr/>
          <p:nvPr/>
        </p:nvPicPr>
        <p:blipFill>
          <a:blip r:embed="rId2"/>
          <a:stretch/>
        </p:blipFill>
        <p:spPr>
          <a:xfrm>
            <a:off x="1000080" y="571680"/>
            <a:ext cx="70722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2785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же есть речевое дыхание – это дыхание в процессе речи. Перед началом речи всегда делается быстрый вдох, более глубокий чем в покое. Важно не только вдохнуть достаточное количество воздуха, но и экономно его расходовать при произнесении фразы. Так речевой выдох обеспечивает звучание голоса при непрерывном высказыван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кругленный прямоугольник 3"/>
          <p:cNvSpPr/>
          <p:nvPr/>
        </p:nvSpPr>
        <p:spPr>
          <a:xfrm>
            <a:off x="3429000" y="285840"/>
            <a:ext cx="278604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ЫХ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5429160" y="1785960"/>
            <a:ext cx="278604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ЧЕВ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1285920" y="1785960"/>
            <a:ext cx="3214800" cy="7142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ОЛОГИЧЕСК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71360" y="214200"/>
            <a:ext cx="76150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ребенка речевое дыхание развивается параллельно с развитием речи, начиная с 3 – 6  мес. В возрасте 4 – 6 лет ребенок должен в процессе одного речевого выдоха успеть произнести фразу из 3 – 4 слов. В 5 – 6 лет речь ребенка усложняется, мышление позволяет строить фразы из 5 – 6 слов, но речевого выдоха не хватает на такие длинные фра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появляются дополнительные вдохи во время высказывания, задержки дыхания, высказывание в итоге прерывается, кажется незавершен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новление речевого дыхания завершается к 10 годам, т.е. в 10 лет одного речевого выдоха достаточно на непрерывное произнесение одной фра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28800" y="-360"/>
            <a:ext cx="7758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детей с нарушениями речи физиологическое дыхание имеет свои особенности: оно поверхностное, легкие задействованы не в полном объеме, ритм дыхания неустойчив, легко нарушается при физической или эмоциональной нагрузке. Соответственно и речевое дыхание развивается патологически. В процессе речи у детей с нарушениями речи будут задержки дыхания, судорожные сокращения мышц грудной клетки, дополнительные вдохи. Вдох недостаточного объема, а речевой выдох часто укорочен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перь нам понятно, что проблемы с речевым дыханием могут быть у детей с нормальным развитием, и у детей с нарушениями речи.  Следовательно, развивать речевое дыхание нужно у всех дошкольников. Сейчас мы узнаем, как в игровой форме тренировать речевой выдох у дошколь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99760" y="785880"/>
            <a:ext cx="7186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ы, направленные на развитие речевого дых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Птичка улетел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Сдуть шарик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Сдуть бабочек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Листопад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«Снегопад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СТЕР-КЛАСС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3920" y="107172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готовление наглядного пособия для развития речевого дых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рать картинку с цветк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язать нитку к бабочк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леить скотчем свободный конец нитки к изображению цвет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репить несколько бабоче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пробовать сдуть бабочек с цве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1</cp:lastModifiedBy>
  <dcterms:modified xsi:type="dcterms:W3CDTF">2015-02-03T12:46:44Z</dcterms:modified>
  <cp:revision>71</cp:revision>
  <dc:subject/>
  <dc:title>ПОСУДА</dc:title>
</cp:coreProperties>
</file>