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74C-A1B9-40F4-B51A-707C9C44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FC8-B93B-4C42-A6F0-03AB0E3F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097-C7D5-484F-8F8D-10733EB6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F12-51DC-43E9-9D1E-09DF1E62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5A1-92D8-4451-9332-52B3C9E4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431-B7CB-4955-A244-9DDB8674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AA5-7AD7-431B-87EB-72CD2FD6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C6B-D4B4-4496-851C-4EC30CAF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9F7-E665-4848-8CEC-D1818022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E3B-5344-418F-B4DC-2853AA3D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BA5-86F2-4531-8FCC-7CE7D032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5DE-95D6-4153-869C-5B7E05B0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BA95-7AA6-407D-90DA-B84B6EF85B49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1923.zouo.ru/assets/images/journalist5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32860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У г. Омска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Гимназия № 159»</a:t>
            </a:r>
            <a:br>
              <a:rPr sz="1400"/>
            </a:br>
            <a:endParaRPr b="1" lang="en-US" sz="1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920" y="2214720"/>
            <a:ext cx="32860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ужок «Журналистика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entury Schoolbook"/>
              </a:rPr>
              <a:t>Ткаченко Ольга Викторовна, 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14-2015 уч.год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4284720" y="1557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 школьников для ознакомления и получения первоначальных навыков и умений профессии журнал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кругозора подростков, умение замечать интересные подробности ежеднев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жок «Журналистика»</a:t>
            </a:r>
            <a:br>
              <a:rPr sz="1800"/>
            </a:br>
            <a:endParaRPr b="1" lang="en-US" sz="1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" name="Picture 2" descr="http://im6-tub.yandex.net/i?id=106657087-00-24"/>
          <p:cNvPicPr/>
          <p:nvPr/>
        </p:nvPicPr>
        <p:blipFill>
          <a:blip r:embed="rId1"/>
          <a:stretch/>
        </p:blipFill>
        <p:spPr>
          <a:xfrm>
            <a:off x="223920" y="2349360"/>
            <a:ext cx="3400200" cy="25606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жок «Журналистика»</a:t>
            </a:r>
            <a:br>
              <a:rPr sz="1800"/>
            </a:br>
            <a:endParaRPr b="1" lang="en-US" sz="1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конце обучения учащийся будет умет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ходить в школьной жизни  интересные факты, способные стать материалом для публикаци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ять газетный жанр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соответствии с темой и основной мыслью отбирать материал, составлять план и пользоваться им в письменных и устных высказываниях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троить связные высказывания, используя различные жанры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ходить и исправлять орфографические, пунктуационные, грамматические и речевые ошибк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водить литературное редактирование и правку текст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нимать участие в подготовке каждого номера школьной газе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" name="Picture 2" descr="http://im6-tub.yandex.net/i?id=146938469-14-24"/>
          <p:cNvPicPr/>
          <p:nvPr/>
        </p:nvPicPr>
        <p:blipFill>
          <a:blip r:embed="rId1"/>
          <a:stretch/>
        </p:blipFill>
        <p:spPr>
          <a:xfrm>
            <a:off x="277920" y="2492280"/>
            <a:ext cx="3344760" cy="2521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жок «Журналистика»</a:t>
            </a:r>
            <a:br>
              <a:rPr sz="1800"/>
            </a:br>
            <a:endParaRPr b="1" lang="en-US" sz="1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вершенствование устной и письменной реч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очерк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тать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льето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языком стать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тирование  текс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ью. Разговорный жанр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средства художественной выразительности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" name="Picture 2" descr="Картинка 12 из 10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2349360"/>
            <a:ext cx="3659040" cy="2748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жок «Журналистика»</a:t>
            </a:r>
            <a:br>
              <a:rPr sz="1800"/>
            </a:br>
            <a:endParaRPr b="1" lang="en-US" sz="1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0" y="4436640"/>
            <a:ext cx="31687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Занятия кружк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недельник 14.3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реда 14.3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пасибо за внимание!!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" name="Picture 4" descr="http://im5-tub.yandex.net/i?id=116531113-10-24"/>
          <p:cNvPicPr/>
          <p:nvPr/>
        </p:nvPicPr>
        <p:blipFill>
          <a:blip r:embed="rId1"/>
          <a:stretch/>
        </p:blipFill>
        <p:spPr>
          <a:xfrm>
            <a:off x="684360" y="2206800"/>
            <a:ext cx="2371680" cy="3149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женя\Desktop\getImage.jpeg"/>
          <p:cNvPicPr/>
          <p:nvPr/>
        </p:nvPicPr>
        <p:blipFill>
          <a:blip r:embed="rId3"/>
          <a:stretch/>
        </p:blipFill>
        <p:spPr>
          <a:xfrm>
            <a:off x="5364000" y="1125360"/>
            <a:ext cx="2232360" cy="297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:\Users\Женя\Desktop\SDC12664.JPG"/>
          <p:cNvPicPr/>
          <p:nvPr/>
        </p:nvPicPr>
        <p:blipFill>
          <a:blip r:embed="rId4"/>
          <a:stretch/>
        </p:blipFill>
        <p:spPr>
          <a:xfrm>
            <a:off x="5364000" y="1052640"/>
            <a:ext cx="2376720" cy="31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4-09-02T13:33:56Z</dcterms:modified>
  <cp:revision>6</cp:revision>
  <dc:subject/>
  <dc:title>МОУ ДОД «Аликовский районный ЦДиЮТ» МОУ «Аликовская СОШ им.И.Я.Яковлева» </dc:title>
</cp:coreProperties>
</file>