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D634-C885-412A-9C74-3F5B3AE00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43240" y="348480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2C9A-7C19-4930-A6E0-CE89BD12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9592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406F-74A5-4DA8-8969-7448D67EB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6180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38036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4324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6180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38036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8272-CB09-48FF-B4B5-EAAD82896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F597-AC07-4854-9A40-D8100C16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98BE-5E08-44A5-BBB3-ABB7315D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BB3E-DDFA-4718-ABBA-78DEA9F8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DD6F-E8A5-4F50-9FA2-B89649A0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2920" y="357120"/>
            <a:ext cx="3286080" cy="72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A299-85BE-4F22-BA25-BB5545FF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490B-B861-4C16-B5EA-8420EF4F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9592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9B62-C68D-40C1-AF84-50B726DD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A589-EE2A-42D1-969C-82777BCF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entury Schoolbook"/>
              </a:rPr>
              <a:t>Click to edit the title text format</a:t>
            </a: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9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3120" y="6356520"/>
            <a:ext cx="392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236C-3C73-4DF4-80B8-3C10228BFBF6}" type="slidenum">
              <a:rPr b="1" lang="ru-RU" sz="12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1923.zouo.ru/assets/images/journalist5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2920" y="571680"/>
            <a:ext cx="328608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ОУ г. Омска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«Гимназия № 159»</a:t>
            </a:r>
            <a:br>
              <a:rPr sz="1400"/>
            </a:br>
            <a:endParaRPr b="1" lang="en-US" sz="14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920" y="2214720"/>
            <a:ext cx="328608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ружок «Журналистика»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уководитель: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d0d0d"/>
                </a:solidFill>
                <a:latin typeface="Century Schoolbook"/>
              </a:rPr>
              <a:t>Ткаченко Ольга Викторовна, учитель русского языка и литературы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d0d0d"/>
                </a:solidFill>
                <a:latin typeface="Century Schoolbook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014-2015 уч.год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Прямоугольник 7"/>
          <p:cNvSpPr/>
          <p:nvPr/>
        </p:nvSpPr>
        <p:spPr>
          <a:xfrm>
            <a:off x="4284720" y="155736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ение  школьников для ознакомления и получения первоначальных навыков и умений профессии журнали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 кругозора подростков, умение замечать интересные подробности ежедневно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3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ужок «Журналистика»</a:t>
            </a:r>
            <a:br>
              <a:rPr sz="1800"/>
            </a:br>
            <a:endParaRPr b="1" lang="en-US" sz="18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" name="Picture 2" descr="http://im6-tub.yandex.net/i?id=106657087-00-24"/>
          <p:cNvPicPr/>
          <p:nvPr/>
        </p:nvPicPr>
        <p:blipFill>
          <a:blip r:embed="rId1"/>
          <a:stretch/>
        </p:blipFill>
        <p:spPr>
          <a:xfrm>
            <a:off x="223920" y="2349360"/>
            <a:ext cx="3400200" cy="256068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3" descr=""/>
          <p:cNvPicPr/>
          <p:nvPr/>
        </p:nvPicPr>
        <p:blipFill>
          <a:blip r:embed="rId2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ужок «Журналистика»</a:t>
            </a:r>
            <a:br>
              <a:rPr sz="1800"/>
            </a:br>
            <a:endParaRPr b="1" lang="en-US" sz="18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Ожидаемые результаты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 конце обучения учащийся будет уметь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Находить в школьной жизни  интересные факты, способные стать материалом для публикации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Определять газетный жанр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 соответствии с темой и основной мыслью отбирать материал, составлять план и пользоваться им в письменных и устных высказываниях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Строить связные высказывания, используя различные жанры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Находить и исправлять орфографические, пунктуационные, грамматические и речевые ошибки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оводить литературное редактирование и правку текста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инимать участие в подготовке каждого номера школьной газеты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1" name="Picture 2" descr="http://im6-tub.yandex.net/i?id=146938469-14-24"/>
          <p:cNvPicPr/>
          <p:nvPr/>
        </p:nvPicPr>
        <p:blipFill>
          <a:blip r:embed="rId1"/>
          <a:stretch/>
        </p:blipFill>
        <p:spPr>
          <a:xfrm>
            <a:off x="277920" y="2492280"/>
            <a:ext cx="3344760" cy="25210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3" descr=""/>
          <p:cNvPicPr/>
          <p:nvPr/>
        </p:nvPicPr>
        <p:blipFill>
          <a:blip r:embed="rId2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ужок «Журналистика»</a:t>
            </a:r>
            <a:br>
              <a:rPr sz="1800"/>
            </a:br>
            <a:endParaRPr b="1" lang="en-US" sz="18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Совершенствование устной и письменной речи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очерк?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ая статья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льетон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 языком статьи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актирование  текст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вью. Разговорный жанр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использовать средства художественной выразительности 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5" name="Picture 2" descr="Картинка 12 из 100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2349360"/>
            <a:ext cx="3659040" cy="27482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"/>
          <p:cNvPicPr/>
          <p:nvPr/>
        </p:nvPicPr>
        <p:blipFill>
          <a:blip r:embed="rId3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ужок «Журналистика»</a:t>
            </a:r>
            <a:br>
              <a:rPr sz="1800"/>
            </a:br>
            <a:endParaRPr b="1" lang="en-US" sz="18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0" y="4436640"/>
            <a:ext cx="3168720" cy="17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Занятия кружка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онедельник 14.30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Среда 14.35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Спасибо за внимание!!!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just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just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9" name="Picture 4" descr="http://im5-tub.yandex.net/i?id=116531113-10-24"/>
          <p:cNvPicPr/>
          <p:nvPr/>
        </p:nvPicPr>
        <p:blipFill>
          <a:blip r:embed="rId1"/>
          <a:stretch/>
        </p:blipFill>
        <p:spPr>
          <a:xfrm>
            <a:off x="684360" y="2206800"/>
            <a:ext cx="2371680" cy="31492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3" descr=""/>
          <p:cNvPicPr/>
          <p:nvPr/>
        </p:nvPicPr>
        <p:blipFill>
          <a:blip r:embed="rId2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C:\Users\женя\Desktop\getImage.jpeg"/>
          <p:cNvPicPr/>
          <p:nvPr/>
        </p:nvPicPr>
        <p:blipFill>
          <a:blip r:embed="rId3"/>
          <a:stretch/>
        </p:blipFill>
        <p:spPr>
          <a:xfrm>
            <a:off x="5364000" y="1125360"/>
            <a:ext cx="2232360" cy="2975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E:\Users\Женя\Desktop\SDC12664.JPG"/>
          <p:cNvPicPr/>
          <p:nvPr/>
        </p:nvPicPr>
        <p:blipFill>
          <a:blip r:embed="rId4"/>
          <a:stretch/>
        </p:blipFill>
        <p:spPr>
          <a:xfrm>
            <a:off x="5364000" y="1052640"/>
            <a:ext cx="2376720" cy="31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Женя</cp:lastModifiedBy>
  <dcterms:modified xsi:type="dcterms:W3CDTF">2014-09-02T13:33:56Z</dcterms:modified>
  <cp:revision>6</cp:revision>
  <dc:subject/>
  <dc:title>МОУ ДОД «Аликовский районный ЦДиЮТ» МОУ «Аликовская СОШ им.И.Я.Яковлева» </dc:title>
</cp:coreProperties>
</file>