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36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D116-8845-43C5-9424-6CC48468B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B1FD-8415-4A4D-BC9D-FAAB7C2D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0D8-D7B9-42C3-BDFF-C8BC9CC8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8E6B-7482-4B98-BFD8-77A64DFD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C43C-C027-4579-964B-885A5F84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B064-E77E-4B4E-B0B2-5AC946405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8CF6-4290-4034-916E-4C6BCFE6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D00A-EC72-4D28-81FF-9FFE544E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1D4-2BC1-4A33-8E87-B7FA9547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1BBF-FACF-430D-B1F2-36417A7C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EA71-45BC-46CD-8FB1-0EEDC16C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48B0-DF1D-4404-AB98-9A7A1E07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3C50-9641-4445-BF98-4525DB936E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44640"/>
            <a:ext cx="496872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Народы нижнего Приамурь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4827600" y="404640"/>
            <a:ext cx="39654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егидаль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327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название – амгун бэйэнин- «амгунский». Негидальцы, народ, проживающий на территории Хабаровского края по рекам Амгунь и Амур. Численность 622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6526080" y="0"/>
            <a:ext cx="2617920" cy="2997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3348000" y="3068640"/>
            <a:ext cx="48276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ив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356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название – нивх – «человек». Нивхи, прежнее название – гиляки, народ, проживающий в основном на территории Хабаровского края по нижнему течению реки Амур и острове Сахалин. Численность 4673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5796000" y="0"/>
            <a:ext cx="3030480" cy="3384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4211640" y="3500280"/>
            <a:ext cx="407520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27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Оро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36352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оназвание – орочили. Орочи – народ, роживающий в Приморье и Хабаровском крае по рекам Тумнин и Амур. Численность 915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5796000" y="0"/>
            <a:ext cx="2933640" cy="3591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2"/>
          <a:stretch/>
        </p:blipFill>
        <p:spPr>
          <a:xfrm>
            <a:off x="4140360" y="3697200"/>
            <a:ext cx="471636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Удэгей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3313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название – удэхэ- «лесные люди». Удэгейцы – народ, проживающий в Приморье и Хабаровском крае. Численность 2011 чело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5724360" y="0"/>
            <a:ext cx="2781360" cy="3218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3635280" y="3443400"/>
            <a:ext cx="47530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48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Уль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3348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название – нани – «человек земли». Ульчи, народ, проживающий в основном на территории Хабаровского края по нижнему течению реки Амур и острове Сахалин. Численность 3233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5651640" y="0"/>
            <a:ext cx="2568600" cy="2951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3635280" y="3141720"/>
            <a:ext cx="52927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12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Эве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067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название – эвэн. Эвенки– прежнее название – тунгусы «оленные люди», народ, проживающий на территории Сибири и Дальнего Востока. Численность 30233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5873760" y="0"/>
            <a:ext cx="2941560" cy="3284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4140360" y="3390840"/>
            <a:ext cx="47210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Эве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3995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оназвание –эвен. Эвены, прежнее название – ламуты, народ, проживающий на территории Сибири и Дальнего Востока. Численность 17199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5724360" y="0"/>
            <a:ext cx="2727360" cy="315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2"/>
          <a:stretch/>
        </p:blipFill>
        <p:spPr>
          <a:xfrm>
            <a:off x="3851280" y="3197160"/>
            <a:ext cx="484668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Декоративное народное искусство нанайц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учше и наиболее полно этнические традиции проявились в женском искусстве нанайцев. Традиционным материалом вплоть до середины 20 века являлась рыбья кожа. Кожа кеты давахса шла на изготовление халата, обуви. Кожа щуки гачахса – на обувь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очи детские. 30-50-е годы XX века. Кожа кеты, тка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Объект 3" descr=""/>
          <p:cNvPicPr/>
          <p:nvPr/>
        </p:nvPicPr>
        <p:blipFill>
          <a:blip r:embed="rId1"/>
          <a:stretch/>
        </p:blipFill>
        <p:spPr>
          <a:xfrm>
            <a:off x="2268360" y="1600200"/>
            <a:ext cx="51120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лочи женские. 30-50-е годы XX века. Кожа ке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Объект 3" descr=""/>
          <p:cNvPicPr/>
          <p:nvPr/>
        </p:nvPicPr>
        <p:blipFill>
          <a:blip r:embed="rId1"/>
          <a:stretch/>
        </p:blipFill>
        <p:spPr>
          <a:xfrm>
            <a:off x="2089080" y="1600200"/>
            <a:ext cx="4965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44276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территории Хабаровского края российского Дальнего Востока издревле проживают восемь коренных малочисленных народов: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найцы, негидальцы, нивхи, орочи, удэгейцы, ульчи, эвенки, эв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4416480" y="0"/>
            <a:ext cx="443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ушки из костей крупных пород ры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Объект 3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66261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мири – халат женский праздничный. Фрагмен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Объект 3" descr=""/>
          <p:cNvPicPr/>
          <p:nvPr/>
        </p:nvPicPr>
        <p:blipFill>
          <a:blip r:embed="rId1"/>
          <a:stretch/>
        </p:blipFill>
        <p:spPr>
          <a:xfrm>
            <a:off x="1692360" y="1600200"/>
            <a:ext cx="5472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мири – халат женский праздничный из ткани с аппликацией из рыбьей кож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Объект 3" descr=""/>
          <p:cNvPicPr/>
          <p:nvPr/>
        </p:nvPicPr>
        <p:blipFill>
          <a:blip r:embed="rId1"/>
          <a:stretch/>
        </p:blipFill>
        <p:spPr>
          <a:xfrm>
            <a:off x="1878120" y="1773360"/>
            <a:ext cx="53877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Изделия из берест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роб для хранения одежды. Середина XX века. Береста, корни, натуральный краси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Объект 3" descr=""/>
          <p:cNvPicPr/>
          <p:nvPr/>
        </p:nvPicPr>
        <p:blipFill>
          <a:blip r:embed="rId1"/>
          <a:stretch/>
        </p:blipFill>
        <p:spPr>
          <a:xfrm>
            <a:off x="1692360" y="1600200"/>
            <a:ext cx="5688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Национальная еда нанайцев и ульч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ыбная пища составляет основу питания. Самое любимое рыбное блюдо – юкола, его делали из сазана, амура, толстолоб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же популярен национальный суп – канюйда (морская капуста канюй, юкола, черемша, соль). А также раньше в пищу шло мясо медведей, оленей, уток, мясо ездовых соба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пёшки сиа из черёмух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Объект 3" descr=""/>
          <p:cNvPicPr/>
          <p:nvPr/>
        </p:nvPicPr>
        <p:blipFill>
          <a:blip r:embed="rId1"/>
          <a:stretch/>
        </p:blipFill>
        <p:spPr>
          <a:xfrm>
            <a:off x="1332000" y="2030400"/>
            <a:ext cx="64800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з жизни и система хозяйства коренных народов Приамурья определяются географической средой и климатическими условиями. Основные традиционные занятия: рыболовство, таёжная и морская охота, собиратель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2556000" y="2637000"/>
            <a:ext cx="468000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основе мировоззрения аборигенов Приамурья лежат древнейшие представления и верования. Наиболее значимы культ природы и шаманство. Коренные народы Приамурья являются наследниками самобытной культуры, насчитывающей более пяти тысяч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3851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ркий пласт культуры составляет богатое различными видами и формами декоративно-прикладное искусство, тесно связанное с народным бытом и обря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476360" y="2286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рашенная вышивкой праздничная и повседневная одежда из рыбьей и оленьей кожи, различные по функции изделия из бересты, тальника, дерева, кости, меховые ковры – такова обширная область народного искусства Приамур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1586160" cy="374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6372360" y="2565360"/>
            <a:ext cx="1881000" cy="3960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2484360" y="2637000"/>
            <a:ext cx="1846440" cy="230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4"/>
          <a:stretch/>
        </p:blipFill>
        <p:spPr>
          <a:xfrm>
            <a:off x="4356000" y="3860640"/>
            <a:ext cx="20098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ршиной народного творчества является орнамент. Орнамент воплотил народные представления о мире и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3084480" cy="4076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3924360" y="2440080"/>
            <a:ext cx="446400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наше время особое значение приобрело понятие «экология культуры». Бережное отношение к истокам, сохранение ценных культурных традиций – это забота о настоящем и будущем не только малочисленных народов, но и человечества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2565360"/>
            <a:ext cx="4643280" cy="303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4627440" y="3844800"/>
            <a:ext cx="451656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Нанайц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356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амоназвание – нани – «здешний человек». Нанайцы, прежнее название – гольды, народ, проживающий в основном на территории Хабаровского края по нижнему течению реки Амур. Численность 12017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6012000" y="0"/>
            <a:ext cx="2595600" cy="2997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3851280" y="3189240"/>
            <a:ext cx="488952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9T13:39:29Z</dcterms:created>
  <dc:creator>NATASHA</dc:creator>
  <dc:description/>
  <dc:language>en-US</dc:language>
  <cp:lastModifiedBy>AK SPADVM</cp:lastModifiedBy>
  <dcterms:modified xsi:type="dcterms:W3CDTF">2014-10-07T09:53:00Z</dcterms:modified>
  <cp:revision>22</cp:revision>
  <dc:subject/>
  <dc:title>«Реферат из Интернета: хорошо это или плохо?»</dc:title>
</cp:coreProperties>
</file>