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36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CCE7-01C4-49A4-8C16-FBE2A11D2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DB56-A960-40F2-8C15-7DEA7C91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F938-F584-4C30-B518-ADC01795A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79C9-1E35-4F93-9805-747FDED9C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3545-3718-41C8-AB5C-C8A059DB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67F0-D7FD-4818-99EC-085FB89C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5E15-3659-4B8B-8A07-3E942CEA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08C7-BA86-477D-9694-4100973C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E276-AC03-43D9-822B-A85E5025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5757-845B-4E44-9379-F80D6C02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1CD7-7C0B-411E-8B34-CF88E368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0C60-FA8C-4EC1-845D-1D59A39C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9439-3298-4848-90EF-3E683F4ED0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844640"/>
            <a:ext cx="496872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Народы нижнего Приамурь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1"/>
          <a:stretch/>
        </p:blipFill>
        <p:spPr>
          <a:xfrm>
            <a:off x="4827600" y="404640"/>
            <a:ext cx="39654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Негидаль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3276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оназвание – амгун бэйэнин- «амгунский». Негидальцы, народ, проживающий на территории Хабаровского края по рекам Амгунь и Амур. Численность 622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6526080" y="0"/>
            <a:ext cx="2617920" cy="2997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2"/>
          <a:stretch/>
        </p:blipFill>
        <p:spPr>
          <a:xfrm>
            <a:off x="3348000" y="3068640"/>
            <a:ext cx="482760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Нивх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356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оназвание – нивх – «человек». Нивхи, прежнее название – гиляки, народ, проживающий в основном на территории Хабаровского края по нижнему течению реки Амур и острове Сахалин. Численность 4673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5796000" y="0"/>
            <a:ext cx="3030480" cy="3384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4211640" y="3500280"/>
            <a:ext cx="4075200" cy="30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Оро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36352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моназвание – орочили. Орочи – народ, роживающий в Приморье и Хабаровском крае по рекам Тумнин и Амур. Численность 915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5796000" y="0"/>
            <a:ext cx="2933640" cy="3591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2"/>
          <a:stretch/>
        </p:blipFill>
        <p:spPr>
          <a:xfrm>
            <a:off x="4140360" y="3697200"/>
            <a:ext cx="471636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Удэгей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33130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оназвание – удэхэ- «лесные люди». Удэгейцы – народ, проживающий в Приморье и Хабаровском крае. Численность 2011 челов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5724360" y="0"/>
            <a:ext cx="2781360" cy="3218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3635280" y="3443400"/>
            <a:ext cx="475308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48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Уль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3348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оназвание – нани – «человек земли». Ульчи, народ, проживающий в основном на территории Хабаровского края по нижнему течению реки Амур и острове Сахалин. Численность 3233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5651640" y="0"/>
            <a:ext cx="2568600" cy="2951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3635280" y="3141720"/>
            <a:ext cx="5292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12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Эве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40672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оназвание – эвэн. Эвенки– прежнее название – тунгусы «оленные люди», народ, проживающий на территории Сибири и Дальнего Востока. Численность 30233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5873760" y="0"/>
            <a:ext cx="2941560" cy="3284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4140360" y="3390840"/>
            <a:ext cx="47210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Эве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39956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моназвание –эвен. Эвены, прежнее название – ламуты, народ, проживающий на территории Сибири и Дальнего Востока. Численность 17199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5724360" y="0"/>
            <a:ext cx="2727360" cy="3159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2"/>
          <a:stretch/>
        </p:blipFill>
        <p:spPr>
          <a:xfrm>
            <a:off x="3851280" y="3197160"/>
            <a:ext cx="484668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Декоративное народное искусство нанайц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учше и наиболее полно этнические традиции проявились в женском искусстве нанайцев. Традиционным материалом вплоть до середины 20 века являлась рыбья кожа. Кожа кеты давахса шла на изготовление халата, обуви. Кожа щуки гачахса – на обувь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лочи детские. 30-50-е годы XX века. Кожа кеты, ткан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Объект 3" descr=""/>
          <p:cNvPicPr/>
          <p:nvPr/>
        </p:nvPicPr>
        <p:blipFill>
          <a:blip r:embed="rId1"/>
          <a:stretch/>
        </p:blipFill>
        <p:spPr>
          <a:xfrm>
            <a:off x="2268360" y="1600200"/>
            <a:ext cx="51120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лочи женские. 30-50-е годы XX века. Кожа ке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Объект 3" descr=""/>
          <p:cNvPicPr/>
          <p:nvPr/>
        </p:nvPicPr>
        <p:blipFill>
          <a:blip r:embed="rId1"/>
          <a:stretch/>
        </p:blipFill>
        <p:spPr>
          <a:xfrm>
            <a:off x="2089080" y="1600200"/>
            <a:ext cx="4965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44276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территории Хабаровского края российского Дальнего Востока издревле проживают восемь коренных малочисленных народов: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анайцы, негидальцы, нивхи, орочи, удэгейцы, ульчи, эвенки, эв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4416480" y="0"/>
            <a:ext cx="4438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грушки из костей крупных пород ры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Объект 3" descr=""/>
          <p:cNvPicPr/>
          <p:nvPr/>
        </p:nvPicPr>
        <p:blipFill>
          <a:blip r:embed="rId1"/>
          <a:stretch/>
        </p:blipFill>
        <p:spPr>
          <a:xfrm>
            <a:off x="1258920" y="2276640"/>
            <a:ext cx="66261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мири – халат женский праздничный. Фрагмен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Объект 3" descr=""/>
          <p:cNvPicPr/>
          <p:nvPr/>
        </p:nvPicPr>
        <p:blipFill>
          <a:blip r:embed="rId1"/>
          <a:stretch/>
        </p:blipFill>
        <p:spPr>
          <a:xfrm>
            <a:off x="1692360" y="1600200"/>
            <a:ext cx="5472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мири – халат женский праздничный из ткани с аппликацией из рыбьей кож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Объект 3" descr=""/>
          <p:cNvPicPr/>
          <p:nvPr/>
        </p:nvPicPr>
        <p:blipFill>
          <a:blip r:embed="rId1"/>
          <a:stretch/>
        </p:blipFill>
        <p:spPr>
          <a:xfrm>
            <a:off x="1878120" y="1773360"/>
            <a:ext cx="53877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Изделия из бересты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ороб для хранения одежды. Середина XX века. Береста, корни, натуральный красит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Объект 3" descr=""/>
          <p:cNvPicPr/>
          <p:nvPr/>
        </p:nvPicPr>
        <p:blipFill>
          <a:blip r:embed="rId1"/>
          <a:stretch/>
        </p:blipFill>
        <p:spPr>
          <a:xfrm>
            <a:off x="1692360" y="1600200"/>
            <a:ext cx="5688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Национальная еда нанайцев и ульч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ыбная пища составляет основу питания. Самое любимое рыбное блюдо – юкола, его делали из сазана, амура, толстоло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же популярен национальный суп – канюйда (морская капуста канюй, юкола, черемша, соль). А также раньше в пищу шло мясо медведей, оленей, уток, мясо ездовых соба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пёшки сиа из черёмух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Объект 3" descr=""/>
          <p:cNvPicPr/>
          <p:nvPr/>
        </p:nvPicPr>
        <p:blipFill>
          <a:blip r:embed="rId1"/>
          <a:stretch/>
        </p:blipFill>
        <p:spPr>
          <a:xfrm>
            <a:off x="1332000" y="2030400"/>
            <a:ext cx="648000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 жизни и система хозяйства коренных народов Приамурья определяются географической средой и климатическими условиями. Основные традиционные занятия: рыболовство, таёжная и морская охота, собиратель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2556000" y="2637000"/>
            <a:ext cx="468000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0" y="0"/>
            <a:ext cx="4572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основе мировоззрения аборигенов Приамурья лежат древнейшие представления и верования. Наиболее значимы культ природы и шаманство. Коренные народы Приамурья являются наследниками самобытной культуры, насчитывающей более пяти тысяч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38512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ркий пласт культуры составляет богатое различными видами и формами декоративно-прикладное искусство, тесно связанное с народным бытом и обряд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476360" y="2286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крашенная вышивкой праздничная и повседневная одежда из рыбьей и оленьей кожи, различные по функции изделия из бересты, тальника, дерева, кости, меховые ковры – такова обширная область народного искусства Приамур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900000" y="2637000"/>
            <a:ext cx="1586160" cy="3743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6372360" y="2565360"/>
            <a:ext cx="1881000" cy="3960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3"/>
          <a:stretch/>
        </p:blipFill>
        <p:spPr>
          <a:xfrm>
            <a:off x="2484360" y="2637000"/>
            <a:ext cx="1846440" cy="2304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4"/>
          <a:stretch/>
        </p:blipFill>
        <p:spPr>
          <a:xfrm>
            <a:off x="4356000" y="3860640"/>
            <a:ext cx="20098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ршиной народного творчества является орнамент. Орнамент воплотил народные представления о мире и челове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3084480" cy="4076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3924360" y="2440080"/>
            <a:ext cx="446400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наше время особое значение приобрело понятие «экология культуры». Бережное отношение к истокам, сохранение ценных культурных традиций – это забота о настоящем и будущем не только малочисленных народов, но и человечества в це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2565360"/>
            <a:ext cx="4643280" cy="3030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4627440" y="3844800"/>
            <a:ext cx="451656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Нанай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356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оназвание – нани – «здешний человек». Нанайцы, прежнее название – гольды, народ, проживающий в основном на территории Хабаровского края по нижнему течению реки Амур. Численность 12017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6012000" y="0"/>
            <a:ext cx="2595600" cy="2997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3851280" y="3189240"/>
            <a:ext cx="488952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13:39:29Z</dcterms:created>
  <dc:creator>NATASHA</dc:creator>
  <dc:description/>
  <dc:language>en-US</dc:language>
  <cp:lastModifiedBy>AK SPADVM</cp:lastModifiedBy>
  <dcterms:modified xsi:type="dcterms:W3CDTF">2014-10-07T09:53:00Z</dcterms:modified>
  <cp:revision>22</cp:revision>
  <dc:subject/>
  <dc:title>«Реферат из Интернета: хорошо это или плохо?»</dc:title>
</cp:coreProperties>
</file>