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545-5874-4B26-B0A2-0CD14F63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C7D-108E-4B3B-AEB7-FA5AD1C1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F77-4FB6-44C0-BD97-DFD5CFA3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4B0-84AA-43F9-91E7-504ACD40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EC45-E447-47F1-9B70-D329B62A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C1F-FC72-4E65-9391-84E8312C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54F8-7A1E-4130-B4D9-60E52D5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05E7-C7BF-484B-AE6F-BF460BDF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72F-7B33-4881-B364-21DA97B4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817-AAF5-45B2-91C2-1475BC2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CF6-8FF9-4FEA-AF44-778FB5D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214-8940-4815-82F7-EBC97F3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5F3-9154-49A1-88D3-B06E97D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BAAE-6036-4107-A7DE-B29F3D1B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619-0A55-421D-A486-C2B9C681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1FB8-8104-4B47-A014-22038E79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CFAE-FEC6-49D9-8200-C663A97A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53F-D65B-4FD5-A10C-1B7FFCB9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AC3-4B78-4190-A639-3EC7AFDF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04E-CD01-48AB-9514-4838B670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450-48C7-40FE-B774-D4D6CBF0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8D5-DF36-458C-B270-F0B3FEB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BD4-B0CB-488A-8FE8-9420BCF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7F9-5E49-4F03-80EA-3591C7C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882A-7E5F-4219-B98F-8C3C7BDCD1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F8B-6B11-475C-812A-749162FAFD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ЙНА ИМЕ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640" y="1413000"/>
            <a:ext cx="51829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АСТА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ИСХОЖДЕНИЕ ИМЕН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– одно из самых красивейших женских имен. Родина имени – древняя Греция, именно там зародилось слово «Анастас», которое имело значение «воскресший» или «возвратившийся к жизни».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рошлых веках имя было распространено среди крестьян и в царской фамилии.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редко имя Анастасия встречается в русских сказках и песнях. Героини с именем Настенька очень милые, добрые, нежные. 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63640" y="2349360"/>
            <a:ext cx="3194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ЕРТЫ ХАРАКТ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26560" y="2349360"/>
            <a:ext cx="34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55640" y="2361960"/>
            <a:ext cx="4537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бладательницы имени Анастасия имеют неуемную фантазию и развитое воображение, они растут мечтательницам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имени сочетаются разные качества, например: простота и нежность, надежность и легкость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стенька обладает безошибочной интуицией и тонким душевным настроем. В то же время, Анастасия имеет аналитический склад ум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456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РИЦАТЕЛЬНЫЕ ЧЕРТЫ ХАРАКТЕ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рицательные черты обладательниц этого чудесного имени – холодность и леност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частую, родителям трудно воспитать в Насте трудолюбие, она предпочитает делать все по настроению и желанию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ВЛЕЧ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405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настасия с детства проявляет интерес к кулинарии и рукодел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стю всегда привлекают милые женскому сердцу вещицы и красивые цвет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сли родителям удается привить ей хозяйственность, то она сохраняется на всю жизн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3095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ВЕСТНЫЕ ЛЮД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2361960"/>
            <a:ext cx="5400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в. великомученица Анастасия (христианская святая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Цветаева (русская писательниц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Вертинская (советская и российская актриса театра и кино, режиссер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Немоляева (советская и российская актриса театра и кино, художник, дизайнер), 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Волочкова (российская балерина, актрис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Заворотнюк (современная российская актрис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Стоцкая (современная российская певиц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Задорожная (современная российская певица и актрис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Мыскина (российская теннисистка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360" y="2349360"/>
            <a:ext cx="2473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Что означает имя Анастасия"/>
          <p:cNvPicPr/>
          <p:nvPr/>
        </p:nvPicPr>
        <p:blipFill>
          <a:blip r:embed="rId1"/>
          <a:stretch/>
        </p:blipFill>
        <p:spPr>
          <a:xfrm>
            <a:off x="6300720" y="2781360"/>
            <a:ext cx="2381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6:07:52Z</dcterms:created>
  <dc:creator>катерина</dc:creator>
  <dc:description/>
  <dc:language>en-US</dc:language>
  <cp:lastModifiedBy>катерина</cp:lastModifiedBy>
  <dcterms:modified xsi:type="dcterms:W3CDTF">2015-01-22T17:44:18Z</dcterms:modified>
  <cp:revision>4</cp:revision>
  <dc:subject/>
  <dc:title>Слайд 1</dc:title>
</cp:coreProperties>
</file>