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2EF-7557-44A2-8BFA-0F01AF9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FF4-8A3F-4A37-AF66-6B73769B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C9E-7AB0-487E-B4AF-38AE3020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F15-C817-48F4-BA2B-A851DA59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849-7068-4B1F-8D04-5DD068F9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E3A-6341-4C3A-83AD-265F362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940-502F-456D-BE8C-1A02D087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B4E-2D86-4F69-9F1E-E255E5C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7A0-E92D-454A-807C-888D6C12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C44E-EAB5-452E-A808-FA90792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D95B-8CEC-4841-AB86-F41DD46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EAB-C8B0-4012-9164-4D39A14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9929-A41E-4DD6-9660-A255E10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D6A3-9AB1-4B5D-9344-32CF060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AC5-B21D-438C-A837-0695A8A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F662-6DAF-4507-8F3C-EF2C3837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E8D-F497-4B12-AA7B-4795380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E62-3612-412B-A9D5-918A41E6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27E-ED61-4544-9444-3FA47D8D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C07-F995-45BA-84D7-CF0D5F0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732-14DC-4CF6-BE67-72A6FEB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804-9B6E-45AF-A079-3C9FC73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65D-32B2-4068-AF8D-1E3D6B5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A4D-772C-4468-BF4B-2BA363F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065A-3A08-4D68-84D4-77EE51E345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735B-D05B-4CA1-9412-2666B41E7B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ЙНА ИМЕ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640" y="1413000"/>
            <a:ext cx="51829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АСТА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ИСХОЖДЕНИЕ ИМЕ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– одно из самых красивейших женских имен. Родина имени – древняя Греция, именно там зародилось слово «Анастас», которое имело значение «воскресший» или «возвратившийся к жизни»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рошлых веках имя было распространено среди крестьян и в царской фамилии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редко имя Анастасия встречается в русских сказках и песнях. Героини с именем Настенька очень милые, добрые, нежные. 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63640" y="2349360"/>
            <a:ext cx="3194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ЕРТЫ ХАРАКТ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26560" y="2349360"/>
            <a:ext cx="34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55640" y="2361960"/>
            <a:ext cx="4537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бладательницы имени Анастасия имеют неуемную фантазию и развитое воображение, они растут мечтательница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имени сочетаются разные качества, например: простота и нежность, надежность и легкость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стенька обладает безошибочной интуицией и тонким душевным настроем. В то же время, Анастасия имеет аналитический склад ум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456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РИЦАТЕЛЬНЫЕ ЧЕРТЫ ХАРАКТЕ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рицательные черты обладательниц этого чудесного имени – холодность и леност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частую, родителям трудно воспитать в Насте трудолюбие, она предпочитает делать все по настроению и желанию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ВЛЕЧ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405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настасия с детства проявляет интерес к кулинарии и рукодел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стю всегда привлекают милые женскому сердцу вещицы и красивые цве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сли родителям удается привить ей хозяйственность, то она сохраняется на всю жизн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3095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ВЕСТНЫЕ ЛЮД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2361960"/>
            <a:ext cx="5400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в. великомученица Анастасия (христианская святая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Цветаева (русская писательниц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Вертинская (советская и российская актриса театра и кино, режиссер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Немоляева (советская и российская актриса театра и кино, художник, дизайнер), 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Волочкова (российская балерина,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Заворотнюк (современная российская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Стоцкая (современная российская певиц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Задорожная (современная российская певица и актриса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астасия Мыскина (российская теннисистка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360" y="2349360"/>
            <a:ext cx="2473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Что означает имя Анастасия"/>
          <p:cNvPicPr/>
          <p:nvPr/>
        </p:nvPicPr>
        <p:blipFill>
          <a:blip r:embed="rId1"/>
          <a:stretch/>
        </p:blipFill>
        <p:spPr>
          <a:xfrm>
            <a:off x="6300720" y="2781360"/>
            <a:ext cx="2381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6:07:52Z</dcterms:created>
  <dc:creator>катерина</dc:creator>
  <dc:description/>
  <dc:language>en-US</dc:language>
  <cp:lastModifiedBy>катерина</cp:lastModifiedBy>
  <dcterms:modified xsi:type="dcterms:W3CDTF">2015-01-22T17:44:18Z</dcterms:modified>
  <cp:revision>4</cp:revision>
  <dc:subject/>
  <dc:title>Слайд 1</dc:title>
</cp:coreProperties>
</file>