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A49-249E-46FF-A4E5-31ABDE25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7E5-E3AB-41D8-9AE3-772057C1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945-A8C3-4BEB-81B0-C071AE07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204-4041-4DFF-BF3E-27349388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D65-10D5-4760-8021-B02F57B6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8C9-0856-40CF-A768-7E043B7A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D7E-E7FA-4041-8E33-895BC0FC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D59-18CF-4A07-BE7F-C2F8C894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AA99-78D9-41AA-8D82-0C669288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506-579D-42CC-8957-15D0919C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793-745C-4851-95EC-F720887E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8FD-0487-4461-A15D-22181BEB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0EE5-AC1C-406E-AC07-944ED95BFBD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G:\презента\5-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2361960"/>
            <a:ext cx="8839080" cy="19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Проект на тему: «Лесопользование в РФ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943600" y="5105520"/>
            <a:ext cx="3200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ставит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удент группы ПБ-3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едведев Владим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80880" y="2286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околамский колледж права экономики и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2971800" y="6248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1219320"/>
            <a:ext cx="91569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G:\презента\6264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Лесной фонд Р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G:\презента\1311325982_1256726858_74cc9ae0b88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5638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Собственн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:\презента\Природа аромашевского район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Участники лесных отношений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разделение лесов по целевому назначени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G:\презента\защитные леса2.jpg"/>
          <p:cNvPicPr/>
          <p:nvPr/>
        </p:nvPicPr>
        <p:blipFill>
          <a:blip r:embed="rId2"/>
          <a:stretch/>
        </p:blipFill>
        <p:spPr>
          <a:xfrm>
            <a:off x="152280" y="1231920"/>
            <a:ext cx="3581640" cy="288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G:\презента\защитные леса.jpg"/>
          <p:cNvPicPr/>
          <p:nvPr/>
        </p:nvPicPr>
        <p:blipFill>
          <a:blip r:embed="rId3"/>
          <a:stretch/>
        </p:blipFill>
        <p:spPr>
          <a:xfrm>
            <a:off x="152280" y="3594240"/>
            <a:ext cx="4114800" cy="311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G:\презента\эсэксплуатационные леса.jpg"/>
          <p:cNvPicPr/>
          <p:nvPr/>
        </p:nvPicPr>
        <p:blipFill>
          <a:blip r:embed="rId4"/>
          <a:stretch/>
        </p:blipFill>
        <p:spPr>
          <a:xfrm>
            <a:off x="3124080" y="2209680"/>
            <a:ext cx="5105520" cy="444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G:\презента\резервные.jpg"/>
          <p:cNvPicPr/>
          <p:nvPr/>
        </p:nvPicPr>
        <p:blipFill>
          <a:blip r:embed="rId5"/>
          <a:stretch/>
        </p:blipFill>
        <p:spPr>
          <a:xfrm>
            <a:off x="4114800" y="1295280"/>
            <a:ext cx="48531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G:\презента\заготовка древесины.jpg"/>
          <p:cNvPicPr/>
          <p:nvPr/>
        </p:nvPicPr>
        <p:blipFill>
          <a:blip r:embed="rId2"/>
          <a:stretch/>
        </p:blipFill>
        <p:spPr>
          <a:xfrm>
            <a:off x="228600" y="990720"/>
            <a:ext cx="4800600" cy="3209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G:\презента\заготовка живицы.jpg"/>
          <p:cNvPicPr/>
          <p:nvPr/>
        </p:nvPicPr>
        <p:blipFill>
          <a:blip r:embed="rId3"/>
          <a:stretch/>
        </p:blipFill>
        <p:spPr>
          <a:xfrm>
            <a:off x="4146480" y="3505320"/>
            <a:ext cx="4845240" cy="3173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G:\презента\заготовка орехов, грибов и лекарственных растений.jpg"/>
          <p:cNvPicPr/>
          <p:nvPr/>
        </p:nvPicPr>
        <p:blipFill>
          <a:blip r:embed="rId4"/>
          <a:stretch/>
        </p:blipFill>
        <p:spPr>
          <a:xfrm>
            <a:off x="3762360" y="533520"/>
            <a:ext cx="5153040" cy="3352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G:\презента\охота.jpg"/>
          <p:cNvPicPr/>
          <p:nvPr/>
        </p:nvPicPr>
        <p:blipFill>
          <a:blip r:embed="rId5"/>
          <a:stretch/>
        </p:blipFill>
        <p:spPr>
          <a:xfrm>
            <a:off x="2133720" y="762120"/>
            <a:ext cx="4314600" cy="571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G:\презента\туризм.jpg"/>
          <p:cNvPicPr/>
          <p:nvPr/>
        </p:nvPicPr>
        <p:blipFill>
          <a:blip r:embed="rId6"/>
          <a:stretch/>
        </p:blipFill>
        <p:spPr>
          <a:xfrm>
            <a:off x="380880" y="335268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ИДЫ ЛЕСОПОЛЬЗОВАНИ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2952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храна лесов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G:\презента\Леса подлежат охране от пожаров.jpg"/>
          <p:cNvPicPr/>
          <p:nvPr/>
        </p:nvPicPr>
        <p:blipFill>
          <a:blip r:embed="rId2"/>
          <a:stretch/>
        </p:blipFill>
        <p:spPr>
          <a:xfrm>
            <a:off x="0" y="1828800"/>
            <a:ext cx="6286680" cy="502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G:\презента\радиоактивными веществами.jpg"/>
          <p:cNvPicPr/>
          <p:nvPr/>
        </p:nvPicPr>
        <p:blipFill>
          <a:blip r:embed="rId3"/>
          <a:stretch/>
        </p:blipFill>
        <p:spPr>
          <a:xfrm>
            <a:off x="4468680" y="914400"/>
            <a:ext cx="46753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жарная безопасность в лесах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G:\презента\противопожарное обустройство лесов.jpg"/>
          <p:cNvPicPr/>
          <p:nvPr/>
        </p:nvPicPr>
        <p:blipFill>
          <a:blip r:embed="rId2"/>
          <a:stretch/>
        </p:blipFill>
        <p:spPr>
          <a:xfrm>
            <a:off x="2209680" y="2235240"/>
            <a:ext cx="6934320" cy="4622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G:\презента\тушение лесных пожаров(ведра 1.jpg"/>
          <p:cNvPicPr/>
          <p:nvPr/>
        </p:nvPicPr>
        <p:blipFill>
          <a:blip r:embed="rId3"/>
          <a:srcRect l="-3562" t="30235" r="0" b="0"/>
          <a:stretch/>
        </p:blipFill>
        <p:spPr>
          <a:xfrm>
            <a:off x="0" y="838080"/>
            <a:ext cx="6485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G:\презента\Лесопитомник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Воспроизводство лесов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7:39:32Z</dcterms:created>
  <dc:creator>Вовашечка</dc:creator>
  <dc:description/>
  <dc:language>en-US</dc:language>
  <cp:lastModifiedBy>Администратор</cp:lastModifiedBy>
  <dcterms:modified xsi:type="dcterms:W3CDTF">2013-04-25T05:59:1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