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CF4-96CF-4B24-ACEF-6D57FFD1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86D-7ACD-4828-8481-A5CF5916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EE8-E720-4454-89DC-659BEE6E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125-D8EF-499A-B775-6E86F64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983-16E3-4308-BCC6-70C9500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E24-1365-478D-AAA4-D784739A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323-D747-4F8F-A28D-959AD19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6F1-ED0A-43F1-A9EA-DE4658B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5CB-2E9C-4022-A4A2-0F45E696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404-E406-4886-AE16-0B6B810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72D-9FAD-4DFE-BC32-C6616D3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8D6-78A7-489B-9E1C-C06090C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9D85-6D67-444F-B8A2-13DAB3F712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:\презента\5-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839080" cy="19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роект на тему: «Лесопользование в РФ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600" y="510552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став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удент группы ПБ-3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ведев Влади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80880" y="2286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околамский колледж права экономики и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9718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219320"/>
            <a:ext cx="91569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:\презента\626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есной фонд Р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:\презента\1311325982_1256726858_74cc9ae0b8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обствен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:\презента\Природа аромашевского район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частники лесных отношен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разделение лесов по целевому назнач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G:\презента\защитные леса2.jpg"/>
          <p:cNvPicPr/>
          <p:nvPr/>
        </p:nvPicPr>
        <p:blipFill>
          <a:blip r:embed="rId2"/>
          <a:stretch/>
        </p:blipFill>
        <p:spPr>
          <a:xfrm>
            <a:off x="152280" y="1231920"/>
            <a:ext cx="3581640" cy="288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:\презента\защитные леса.jpg"/>
          <p:cNvPicPr/>
          <p:nvPr/>
        </p:nvPicPr>
        <p:blipFill>
          <a:blip r:embed="rId3"/>
          <a:stretch/>
        </p:blipFill>
        <p:spPr>
          <a:xfrm>
            <a:off x="152280" y="3594240"/>
            <a:ext cx="4114800" cy="311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:\презента\эсэксплуатационные леса.jpg"/>
          <p:cNvPicPr/>
          <p:nvPr/>
        </p:nvPicPr>
        <p:blipFill>
          <a:blip r:embed="rId4"/>
          <a:stretch/>
        </p:blipFill>
        <p:spPr>
          <a:xfrm>
            <a:off x="3124080" y="2209680"/>
            <a:ext cx="5105520" cy="444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:\презента\резервные.jpg"/>
          <p:cNvPicPr/>
          <p:nvPr/>
        </p:nvPicPr>
        <p:blipFill>
          <a:blip r:embed="rId5"/>
          <a:stretch/>
        </p:blipFill>
        <p:spPr>
          <a:xfrm>
            <a:off x="4114800" y="1295280"/>
            <a:ext cx="48531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:\презента\заготовка древесины.jpg"/>
          <p:cNvPicPr/>
          <p:nvPr/>
        </p:nvPicPr>
        <p:blipFill>
          <a:blip r:embed="rId2"/>
          <a:stretch/>
        </p:blipFill>
        <p:spPr>
          <a:xfrm>
            <a:off x="228600" y="990720"/>
            <a:ext cx="4800600" cy="320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презента\заготовка живицы.jpg"/>
          <p:cNvPicPr/>
          <p:nvPr/>
        </p:nvPicPr>
        <p:blipFill>
          <a:blip r:embed="rId3"/>
          <a:stretch/>
        </p:blipFill>
        <p:spPr>
          <a:xfrm>
            <a:off x="4146480" y="3505320"/>
            <a:ext cx="4845240" cy="317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G:\презента\заготовка орехов, грибов и лекарственных растений.jpg"/>
          <p:cNvPicPr/>
          <p:nvPr/>
        </p:nvPicPr>
        <p:blipFill>
          <a:blip r:embed="rId4"/>
          <a:stretch/>
        </p:blipFill>
        <p:spPr>
          <a:xfrm>
            <a:off x="3762360" y="533520"/>
            <a:ext cx="515304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G:\презента\охота.jpg"/>
          <p:cNvPicPr/>
          <p:nvPr/>
        </p:nvPicPr>
        <p:blipFill>
          <a:blip r:embed="rId5"/>
          <a:stretch/>
        </p:blipFill>
        <p:spPr>
          <a:xfrm>
            <a:off x="2133720" y="762120"/>
            <a:ext cx="431460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:\презента\туризм.jpg"/>
          <p:cNvPicPr/>
          <p:nvPr/>
        </p:nvPicPr>
        <p:blipFill>
          <a:blip r:embed="rId6"/>
          <a:stretch/>
        </p:blipFill>
        <p:spPr>
          <a:xfrm>
            <a:off x="380880" y="335268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ДЫ ЛЕСОПОЛЬЗОВА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2952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храна лес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G:\презента\Леса подлежат охране от пожаров.jpg"/>
          <p:cNvPicPr/>
          <p:nvPr/>
        </p:nvPicPr>
        <p:blipFill>
          <a:blip r:embed="rId2"/>
          <a:stretch/>
        </p:blipFill>
        <p:spPr>
          <a:xfrm>
            <a:off x="0" y="1828800"/>
            <a:ext cx="62866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:\презента\радиоактивными веществами.jpg"/>
          <p:cNvPicPr/>
          <p:nvPr/>
        </p:nvPicPr>
        <p:blipFill>
          <a:blip r:embed="rId3"/>
          <a:stretch/>
        </p:blipFill>
        <p:spPr>
          <a:xfrm>
            <a:off x="4468680" y="914400"/>
            <a:ext cx="46753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а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G:\презента\противопожарное обустройство лесов.jpg"/>
          <p:cNvPicPr/>
          <p:nvPr/>
        </p:nvPicPr>
        <p:blipFill>
          <a:blip r:embed="rId2"/>
          <a:stretch/>
        </p:blipFill>
        <p:spPr>
          <a:xfrm>
            <a:off x="2209680" y="2235240"/>
            <a:ext cx="6934320" cy="462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:\презента\тушение лесных пожаров(ведра 1.jpg"/>
          <p:cNvPicPr/>
          <p:nvPr/>
        </p:nvPicPr>
        <p:blipFill>
          <a:blip r:embed="rId3"/>
          <a:srcRect l="-3562" t="30235" r="0" b="0"/>
          <a:stretch/>
        </p:blipFill>
        <p:spPr>
          <a:xfrm>
            <a:off x="0" y="838080"/>
            <a:ext cx="6485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:\презента\Лесопитомни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оспроизводство лесов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7:39:32Z</dcterms:created>
  <dc:creator>Вовашечка</dc:creator>
  <dc:description/>
  <dc:language>en-US</dc:language>
  <cp:lastModifiedBy>Администратор</cp:lastModifiedBy>
  <dcterms:modified xsi:type="dcterms:W3CDTF">2013-04-25T05:59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