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CB0-B7DD-4740-B18B-D5A6209A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18C-8314-44EA-8F1D-D3DEC63E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FFC-11C0-4783-AE9B-5729BA42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3DD-E4AC-41FB-88B9-33587C41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156-6F43-4E99-AF56-1A7B1719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B60-FF3B-4517-AF89-68E0FDC9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E0F-D2F3-4054-BEC2-89744AC1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03C-1AA0-4383-94BD-B17A074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F3B-7360-4B69-8841-EECBE57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FB5-A7AB-467C-B90A-5FAD596B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FBD-FBB8-4F40-A283-268B4DF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FDF-351B-45F6-A226-246F9D77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9D7B-5887-44BD-B324-6E40A5E7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1294920"/>
            <a:ext cx="76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рганизация внеурочной исследовательской деятельности младших школьников в образовательной области «Техноло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МАОУ СОШ №53 г. То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Поляк Наталья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3520" y="838080"/>
          <a:ext cx="8076960" cy="4114800"/>
        </p:xfrm>
        <a:graphic>
          <a:graphicData uri="http://schemas.openxmlformats.org/drawingml/2006/table">
            <a:tbl>
              <a:tblPr/>
              <a:tblGrid>
                <a:gridCol w="2286000"/>
                <a:gridCol w="579096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этапа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хнико-технологические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Object 33"/>
          <p:cNvGraphicFramePr/>
          <p:nvPr/>
        </p:nvGraphicFramePr>
        <p:xfrm>
          <a:off x="3124080" y="2438280"/>
          <a:ext cx="480060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438280"/>
                    <a:ext cx="4800600" cy="23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Text Box 215"/>
          <p:cNvSpPr/>
          <p:nvPr/>
        </p:nvSpPr>
        <p:spPr>
          <a:xfrm>
            <a:off x="6172200" y="23623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6"/>
          <p:cNvSpPr/>
          <p:nvPr/>
        </p:nvSpPr>
        <p:spPr>
          <a:xfrm>
            <a:off x="5410080" y="26668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7"/>
          <p:cNvSpPr/>
          <p:nvPr/>
        </p:nvSpPr>
        <p:spPr>
          <a:xfrm>
            <a:off x="5105520" y="365760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8"/>
          <p:cNvSpPr/>
          <p:nvPr/>
        </p:nvSpPr>
        <p:spPr>
          <a:xfrm>
            <a:off x="4800600" y="28195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9"/>
          <p:cNvSpPr/>
          <p:nvPr/>
        </p:nvSpPr>
        <p:spPr>
          <a:xfrm>
            <a:off x="4191120" y="251460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0"/>
          <p:cNvSpPr/>
          <p:nvPr/>
        </p:nvSpPr>
        <p:spPr>
          <a:xfrm>
            <a:off x="3657600" y="33526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04920" y="228600"/>
          <a:ext cx="8153280" cy="6529320"/>
        </p:xfrm>
        <a:graphic>
          <a:graphicData uri="http://schemas.openxmlformats.org/drawingml/2006/table">
            <a:tbl>
              <a:tblPr/>
              <a:tblGrid>
                <a:gridCol w="2717640"/>
                <a:gridCol w="543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этапа 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технико-технологиче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57200" y="2286000"/>
          <a:ext cx="3429000" cy="3017880"/>
        </p:xfrm>
        <a:graphic>
          <a:graphicData uri="http://schemas.openxmlformats.org/drawingml/2006/table">
            <a:tbl>
              <a:tblPr/>
              <a:tblGrid>
                <a:gridCol w="1782720"/>
                <a:gridCol w="808200"/>
                <a:gridCol w="838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сть детей в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огут самостоятельно выполнять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уднять выполнять, необходима помощь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 самостоятельно, но иногда затрудня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 справля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14800" y="3581280"/>
          <a:ext cx="4038480" cy="2535480"/>
        </p:xfrm>
        <a:graphic>
          <a:graphicData uri="http://schemas.openxmlformats.org/drawingml/2006/table">
            <a:tbl>
              <a:tblPr/>
              <a:tblGrid>
                <a:gridCol w="1863720"/>
                <a:gridCol w="1087560"/>
                <a:gridCol w="1087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е участие детей в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активны при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, но не на всем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 большую часть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 весь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14800" y="1219320"/>
          <a:ext cx="4038480" cy="239220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143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формированности технологических ум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ожет, не зн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, знает, но затрудн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гда, с затрудн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, всегда 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66680" y="1343160"/>
          <a:ext cx="7696440" cy="4176720"/>
        </p:xfrm>
        <a:graphic>
          <a:graphicData uri="http://schemas.openxmlformats.org/drawingml/2006/table">
            <a:tbl>
              <a:tblPr/>
              <a:tblGrid>
                <a:gridCol w="2116080"/>
                <a:gridCol w="558036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 этапа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оммуникатив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27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1"/>
          <p:cNvGraphicFramePr/>
          <p:nvPr/>
        </p:nvGraphicFramePr>
        <p:xfrm>
          <a:off x="4419720" y="2895480"/>
          <a:ext cx="41907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895480"/>
                    <a:ext cx="4190760" cy="2210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Text Box 66"/>
          <p:cNvSpPr/>
          <p:nvPr/>
        </p:nvSpPr>
        <p:spPr>
          <a:xfrm>
            <a:off x="7162920" y="2819520"/>
            <a:ext cx="571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7"/>
          <p:cNvSpPr/>
          <p:nvPr/>
        </p:nvSpPr>
        <p:spPr>
          <a:xfrm>
            <a:off x="6629400" y="39625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>
            <a:off x="6095880" y="4343400"/>
            <a:ext cx="648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9"/>
          <p:cNvSpPr/>
          <p:nvPr/>
        </p:nvSpPr>
        <p:spPr>
          <a:xfrm>
            <a:off x="5638680" y="28954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>
            <a:off x="5257800" y="40384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1"/>
          <p:cNvSpPr/>
          <p:nvPr/>
        </p:nvSpPr>
        <p:spPr>
          <a:xfrm>
            <a:off x="4648320" y="426708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ы  сформирован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улятивных и познавательных УУ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констатирующий и контрольный эта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397160"/>
          <a:ext cx="8153640" cy="4601880"/>
        </p:xfrm>
        <a:graphic>
          <a:graphicData uri="http://schemas.openxmlformats.org/drawingml/2006/table">
            <a:tbl>
              <a:tblPr/>
              <a:tblGrid>
                <a:gridCol w="2038320"/>
                <a:gridCol w="3162600"/>
                <a:gridCol w="1668240"/>
                <a:gridCol w="1284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т.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уй цель свое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иши или внеси изменения в работу, чтобы изделие было более интерес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ни, какие свойства бумаги ты использовал? Какую лучше бумагу применять для издел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09480" y="380880"/>
          <a:ext cx="8229600" cy="5956560"/>
        </p:xfrm>
        <a:graphic>
          <a:graphicData uri="http://schemas.openxmlformats.org/drawingml/2006/table">
            <a:tbl>
              <a:tblPr/>
              <a:tblGrid>
                <a:gridCol w="2432160"/>
                <a:gridCol w="5797440"/>
              </a:tblGrid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этапа 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ичностные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Ι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формирован-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х ум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32"/>
          <p:cNvGraphicFramePr/>
          <p:nvPr/>
        </p:nvGraphicFramePr>
        <p:xfrm>
          <a:off x="3429000" y="1676520"/>
          <a:ext cx="480060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676520"/>
                    <a:ext cx="4800600" cy="181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1" name="Object 33"/>
          <p:cNvGraphicFramePr/>
          <p:nvPr/>
        </p:nvGraphicFramePr>
        <p:xfrm>
          <a:off x="3429000" y="4267080"/>
          <a:ext cx="478800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267080"/>
                    <a:ext cx="4788000" cy="19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Text Box 41"/>
          <p:cNvSpPr/>
          <p:nvPr/>
        </p:nvSpPr>
        <p:spPr>
          <a:xfrm>
            <a:off x="6858000" y="25909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6248520" y="2743200"/>
            <a:ext cx="57132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5715000" y="14479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4"/>
          <p:cNvSpPr/>
          <p:nvPr/>
        </p:nvSpPr>
        <p:spPr>
          <a:xfrm>
            <a:off x="5029200" y="24382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4419720" y="266688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4114800" y="17524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6629400" y="502920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8"/>
          <p:cNvSpPr/>
          <p:nvPr/>
        </p:nvSpPr>
        <p:spPr>
          <a:xfrm>
            <a:off x="6248520" y="480060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9"/>
          <p:cNvSpPr/>
          <p:nvPr/>
        </p:nvSpPr>
        <p:spPr>
          <a:xfrm>
            <a:off x="5943600" y="4114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952880" y="5410080"/>
            <a:ext cx="57168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1"/>
          <p:cNvSpPr/>
          <p:nvPr/>
        </p:nvSpPr>
        <p:spPr>
          <a:xfrm>
            <a:off x="4800600" y="51055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2"/>
          <p:cNvSpPr/>
          <p:nvPr/>
        </p:nvSpPr>
        <p:spPr>
          <a:xfrm>
            <a:off x="4495680" y="434340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3"/>
          <p:cNvSpPr/>
          <p:nvPr/>
        </p:nvSpPr>
        <p:spPr>
          <a:xfrm>
            <a:off x="3886200" y="41911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5334120" y="5181480"/>
            <a:ext cx="57132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7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нутый угол 4"/>
          <p:cNvSpPr/>
          <p:nvPr/>
        </p:nvSpPr>
        <p:spPr>
          <a:xfrm>
            <a:off x="990720" y="762120"/>
            <a:ext cx="7634160" cy="47908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исходя из результатов исследования можно сделать вывод:  программа внеурочной деятельности «Исследуем и преобразуем мир вокруг» решает следующие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умений исследовательской деятельности учащихся начальной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У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технико-технологических умений, знаний о культуре, технике, технологиях, что соответствует требованиям Ф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777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нутый угол 4"/>
          <p:cNvSpPr/>
          <p:nvPr/>
        </p:nvSpPr>
        <p:spPr>
          <a:xfrm>
            <a:off x="762120" y="685800"/>
            <a:ext cx="7634160" cy="5400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стоящее время в связи с переходом на новые ФГОС происходят изменения в системе образования. В частности, приоритетными становятся методы обучения, основанные на деятельностном подходе, формирование УУД, неотъемлемой частью образовательного процесса становится внеуроч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нутый угол 4"/>
          <p:cNvSpPr/>
          <p:nvPr/>
        </p:nvSpPr>
        <p:spPr>
          <a:xfrm>
            <a:off x="762120" y="685800"/>
            <a:ext cx="7634160" cy="5400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требованиями нового ФГОС НОО, который ориентирован на формирование УУД, в том числе исследовательских умений основанных на технико – технологических знаниях, а так же на организацию внеурочной исследовательской деятельности младших школьников, и недостаточным количеством методических разработок по внеурочной деятельности, в том числе в области «Технолог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нутый угол 5"/>
          <p:cNvSpPr/>
          <p:nvPr/>
        </p:nvSpPr>
        <p:spPr>
          <a:xfrm>
            <a:off x="533520" y="1143000"/>
            <a:ext cx="7619760" cy="4633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исциплина «Технология» предоставляет большие возможности для организации исследовательской деятельности в урочное и внеурочное время, но данное направление недостаточно разработ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484280"/>
            <a:ext cx="7777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нутый угол 5"/>
          <p:cNvSpPr/>
          <p:nvPr/>
        </p:nvSpPr>
        <p:spPr>
          <a:xfrm>
            <a:off x="228600" y="685800"/>
            <a:ext cx="8686800" cy="53341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внеурочной исследовательской деятельности в образовательной области «Технология»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«Исследуем и преобразуем мир вокруг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 решение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й исследовательской деятельности учащихся начально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азвитие УУ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формирование технико – технологических умений, знаний о культуре, технике, технолог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нутый угол 10"/>
          <p:cNvSpPr/>
          <p:nvPr/>
        </p:nvSpPr>
        <p:spPr>
          <a:xfrm>
            <a:off x="685800" y="685800"/>
            <a:ext cx="7634160" cy="47912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внеурочной деятельности </a:t>
            </a: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«Исследуем и преобразуем мир вокруг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вляется синтезом исследовательской и творческой созидательн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а предназначена для детей младшего школьного возраста 2-3 класса, которая является логическим продолжением основного курса «Технология», разработанного в системе развивающего обучения Л.В.Зан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ьная выноска 2"/>
          <p:cNvSpPr/>
          <p:nvPr/>
        </p:nvSpPr>
        <p:spPr>
          <a:xfrm>
            <a:off x="152280" y="2590920"/>
            <a:ext cx="2786040" cy="971280"/>
          </a:xfrm>
          <a:prstGeom prst="wedgeEllipseCallout">
            <a:avLst>
              <a:gd name="adj1" fmla="val 103250"/>
              <a:gd name="adj2" fmla="val -203263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Работа с текстиль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ьная выноска 4"/>
          <p:cNvSpPr/>
          <p:nvPr/>
        </p:nvSpPr>
        <p:spPr>
          <a:xfrm>
            <a:off x="2514600" y="3048120"/>
            <a:ext cx="3048120" cy="1282680"/>
          </a:xfrm>
          <a:prstGeom prst="wedgeEllipseCallout">
            <a:avLst>
              <a:gd name="adj1" fmla="val 13800"/>
              <a:gd name="adj2" fmla="val -193328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Работа с пластилином (тестом, гли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ьная выноска 7"/>
          <p:cNvSpPr/>
          <p:nvPr/>
        </p:nvSpPr>
        <p:spPr>
          <a:xfrm>
            <a:off x="5410080" y="2438280"/>
            <a:ext cx="3581640" cy="1752840"/>
          </a:xfrm>
          <a:prstGeom prst="wedgeEllipseCallout">
            <a:avLst>
              <a:gd name="adj1" fmla="val -70666"/>
              <a:gd name="adj2" fmla="val -131254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Работа с разным материалом (крупа, яичная скорлуп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ьная выноска 9"/>
          <p:cNvSpPr/>
          <p:nvPr/>
        </p:nvSpPr>
        <p:spPr>
          <a:xfrm>
            <a:off x="6324480" y="1066680"/>
            <a:ext cx="2590920" cy="1143000"/>
          </a:xfrm>
          <a:prstGeom prst="wedgeEllipseCallout">
            <a:avLst>
              <a:gd name="adj1" fmla="val -111777"/>
              <a:gd name="adj2" fmla="val -50995"/>
            </a:avLst>
          </a:prstGeom>
          <a:solidFill>
            <a:srgbClr val="b9b9e7"/>
          </a:soli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бота с природ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ьная выноска 10"/>
          <p:cNvSpPr/>
          <p:nvPr/>
        </p:nvSpPr>
        <p:spPr>
          <a:xfrm>
            <a:off x="228600" y="1143000"/>
            <a:ext cx="2341440" cy="1262160"/>
          </a:xfrm>
          <a:prstGeom prst="wedgeEllipseCallout">
            <a:avLst>
              <a:gd name="adj1" fmla="val 123453"/>
              <a:gd name="adj2" fmla="val -56930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Работа с бумагой и карт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DSCN1598"/>
          <p:cNvPicPr/>
          <p:nvPr/>
        </p:nvPicPr>
        <p:blipFill>
          <a:blip r:embed="rId1"/>
          <a:stretch/>
        </p:blipFill>
        <p:spPr>
          <a:xfrm>
            <a:off x="4419720" y="4419720"/>
            <a:ext cx="223524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0" descr="DSCN1594"/>
          <p:cNvPicPr/>
          <p:nvPr/>
        </p:nvPicPr>
        <p:blipFill>
          <a:blip r:embed="rId2"/>
          <a:stretch/>
        </p:blipFill>
        <p:spPr>
          <a:xfrm>
            <a:off x="152280" y="4419720"/>
            <a:ext cx="233676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TextBox 12"/>
          <p:cNvSpPr/>
          <p:nvPr/>
        </p:nvSpPr>
        <p:spPr>
          <a:xfrm>
            <a:off x="1676520" y="228600"/>
            <a:ext cx="6095880" cy="703800"/>
          </a:xfrm>
          <a:prstGeom prst="rect">
            <a:avLst/>
          </a:prstGeom>
          <a:solidFill>
            <a:srgbClr val="bfbfb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ема второго кла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«Из чего люди делают вещ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D:\НАТА2\фото на диссертацию\DSCN1588.JPG"/>
          <p:cNvPicPr/>
          <p:nvPr/>
        </p:nvPicPr>
        <p:blipFill>
          <a:blip r:embed="rId3"/>
          <a:srcRect l="0" t="13046" r="0" b="0"/>
          <a:stretch/>
        </p:blipFill>
        <p:spPr>
          <a:xfrm>
            <a:off x="2590920" y="4419720"/>
            <a:ext cx="1774800" cy="20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0" name="Picture 13" descr="D:\НАТА2\фото на диссертацию\DSCN1628.JPG"/>
          <p:cNvPicPr/>
          <p:nvPr/>
        </p:nvPicPr>
        <p:blipFill>
          <a:blip r:embed="rId4"/>
          <a:stretch/>
        </p:blipFill>
        <p:spPr>
          <a:xfrm>
            <a:off x="6781680" y="4419720"/>
            <a:ext cx="223524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ьная выноска 2"/>
          <p:cNvSpPr/>
          <p:nvPr/>
        </p:nvSpPr>
        <p:spPr>
          <a:xfrm>
            <a:off x="380880" y="2209680"/>
            <a:ext cx="3048120" cy="990720"/>
          </a:xfrm>
          <a:prstGeom prst="wedgeEllipseCallout">
            <a:avLst>
              <a:gd name="adj1" fmla="val 85453"/>
              <a:gd name="adj2" fmla="val -15415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 (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ножн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ьная выноска 4"/>
          <p:cNvSpPr/>
          <p:nvPr/>
        </p:nvSpPr>
        <p:spPr>
          <a:xfrm>
            <a:off x="2743200" y="3352680"/>
            <a:ext cx="3276720" cy="1067040"/>
          </a:xfrm>
          <a:prstGeom prst="wedgeEllipseCallout">
            <a:avLst>
              <a:gd name="adj1" fmla="val 8111"/>
              <a:gd name="adj2" fmla="val -24824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(каранда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ьная выноска 7"/>
          <p:cNvSpPr/>
          <p:nvPr/>
        </p:nvSpPr>
        <p:spPr>
          <a:xfrm>
            <a:off x="5715000" y="2362320"/>
            <a:ext cx="3203640" cy="1143000"/>
          </a:xfrm>
          <a:prstGeom prst="wedgeEllipseCallout">
            <a:avLst>
              <a:gd name="adj1" fmla="val -78736"/>
              <a:gd name="adj2" fmla="val -15269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 (швейная иг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ьная выноска 9"/>
          <p:cNvSpPr/>
          <p:nvPr/>
        </p:nvSpPr>
        <p:spPr>
          <a:xfrm>
            <a:off x="6095880" y="1066680"/>
            <a:ext cx="2819520" cy="990720"/>
          </a:xfrm>
          <a:prstGeom prst="wedgeEllipseCallout">
            <a:avLst>
              <a:gd name="adj1" fmla="val -95731"/>
              <a:gd name="adj2" fmla="val -49393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рана инструментов (к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ьная выноска 10"/>
          <p:cNvSpPr/>
          <p:nvPr/>
        </p:nvSpPr>
        <p:spPr>
          <a:xfrm>
            <a:off x="152280" y="1066680"/>
            <a:ext cx="2895840" cy="990720"/>
          </a:xfrm>
          <a:prstGeom prst="wedgeEllipseCallout">
            <a:avLst>
              <a:gd name="adj1" fmla="val 99486"/>
              <a:gd name="adj2" fmla="val -4878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 (линей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DSCN1599"/>
          <p:cNvPicPr/>
          <p:nvPr/>
        </p:nvPicPr>
        <p:blipFill>
          <a:blip r:embed="rId1"/>
          <a:stretch/>
        </p:blipFill>
        <p:spPr>
          <a:xfrm>
            <a:off x="152280" y="4724280"/>
            <a:ext cx="2057400" cy="15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6" descr="DSCN1631"/>
          <p:cNvPicPr/>
          <p:nvPr/>
        </p:nvPicPr>
        <p:blipFill>
          <a:blip r:embed="rId2"/>
          <a:stretch/>
        </p:blipFill>
        <p:spPr>
          <a:xfrm>
            <a:off x="2362320" y="4724280"/>
            <a:ext cx="2057400" cy="15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TextBox 11"/>
          <p:cNvSpPr/>
          <p:nvPr/>
        </p:nvSpPr>
        <p:spPr>
          <a:xfrm>
            <a:off x="1676520" y="228600"/>
            <a:ext cx="6095880" cy="703800"/>
          </a:xfrm>
          <a:prstGeom prst="rect">
            <a:avLst/>
          </a:prstGeom>
          <a:solidFill>
            <a:srgbClr val="bfbfb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ема третьего кла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«При помощи чего люди делают вещ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:\НАТА2\фото на диссертацию\DSCN1634.JPG"/>
          <p:cNvPicPr/>
          <p:nvPr/>
        </p:nvPicPr>
        <p:blipFill>
          <a:blip r:embed="rId3"/>
          <a:stretch/>
        </p:blipFill>
        <p:spPr>
          <a:xfrm>
            <a:off x="4572000" y="4724280"/>
            <a:ext cx="2057400" cy="15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Picture 13" descr="D:\НАТА2\фото на диссертацию\DSCN1631.JPG"/>
          <p:cNvPicPr/>
          <p:nvPr/>
        </p:nvPicPr>
        <p:blipFill>
          <a:blip r:embed="rId4"/>
          <a:stretch/>
        </p:blipFill>
        <p:spPr>
          <a:xfrm>
            <a:off x="6781680" y="4724280"/>
            <a:ext cx="2032200" cy="15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оценки эффективности программы были оценены следующи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76520" y="1066680"/>
          <a:ext cx="6095880" cy="5073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5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хнико-технологические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Технико-технологиче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продуктов детского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ммуникатив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Г.Л. Цукерман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укавич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егулятив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«Инструк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знаватель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«Инструк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ичност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формированности исследовательских ум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</cp:lastModifiedBy>
  <dcterms:modified xsi:type="dcterms:W3CDTF">2014-08-07T15:26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