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848-5F4D-4E8E-B2F3-CA82947F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55F-3B86-4B98-8511-AE1CEA1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5C2-C779-4F00-9FC5-406F309F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B37-5375-4B12-A89F-5B16F32B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C82B-9306-44DD-A348-385AAA74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3B29-76E0-451C-A345-80B3B7E7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566E-6190-4B87-971C-C816663B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9FB1-5F05-496C-9CFB-AFC11B86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3402-2CFF-4DDD-8FF2-B7EE0A1F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1EE2-50F3-45AB-8685-20453C29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1CA-E38E-4C4A-B473-01E9992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4A9-14F9-4098-A7DC-2E755369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3E2B-7005-4E33-AB98-8B0250B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2DDF-1785-4441-9E74-080F02E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5DCC-4A27-4D31-B311-C3B027B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CAD3-7C9A-471B-B301-6B8390F8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19E9-C9DE-418A-916D-D5CA499B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117-11AE-4F2F-B88E-122EDBCE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D58-D0E1-4E65-A451-43C84AD9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A72-562F-48FD-8C9B-39CDF628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EFE-4FB1-4471-ADD0-BF03C58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A95-BA0C-4710-B330-34A2B2A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7A4-5D30-4CCC-9E32-E8AA62E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41E-5956-42CE-B977-E8E0F082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FF8-F94E-4B78-BCE9-2B11A84F4E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4D2F-B6C4-40B2-B0F9-2CAC3B21A31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Депутаты намерены поднять проблемы жилья для журналистов в правительстве -Казахстан - Новости"/>
          <p:cNvPicPr/>
          <p:nvPr/>
        </p:nvPicPr>
        <p:blipFill>
          <a:blip r:embed="rId1"/>
          <a:srcRect l="2844" t="0" r="28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20000"/>
                </a:solidFill>
                <a:latin typeface="Times New Roman"/>
              </a:rPr>
              <a:t>Из истории слова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ермин «репортаж» происходит от французского  «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reportage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»              (англ. «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report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»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и означает – «сообщать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ам термин появился давно, в середине </a:t>
            </a: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299520" cy="632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Рассказ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Что?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Место события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Гд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Участник                      Кт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Время                                Когда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411280" y="3645000"/>
            <a:ext cx="4896000" cy="30240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АК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023840" y="758880"/>
            <a:ext cx="743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70040" y="485640"/>
            <a:ext cx="77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Arial"/>
              </a:rPr>
              <a:t>Репортаж – э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643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Разные такие…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7" name="Picture 4" descr="i[3]"/>
          <p:cNvPicPr/>
          <p:nvPr/>
        </p:nvPicPr>
        <p:blipFill>
          <a:blip r:embed="rId1"/>
          <a:stretch/>
        </p:blipFill>
        <p:spPr>
          <a:xfrm>
            <a:off x="250920" y="1844640"/>
            <a:ext cx="2879640" cy="202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s"/>
          <p:cNvPicPr/>
          <p:nvPr/>
        </p:nvPicPr>
        <p:blipFill>
          <a:blip r:embed="rId2"/>
          <a:stretch/>
        </p:blipFill>
        <p:spPr>
          <a:xfrm>
            <a:off x="3276720" y="1844640"/>
            <a:ext cx="2663640" cy="2001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[11]"/>
          <p:cNvPicPr/>
          <p:nvPr/>
        </p:nvPicPr>
        <p:blipFill>
          <a:blip r:embed="rId3"/>
          <a:stretch/>
        </p:blipFill>
        <p:spPr>
          <a:xfrm>
            <a:off x="3276720" y="4200480"/>
            <a:ext cx="2879640" cy="1946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0S8CACUF1H9CA6YA77ZCAYR2R0UCAJQ4H61CABN4W90CA2D0FRHCA6MYIZ3CAVKZMM8CAUK088ECAT5M9IRCAPSXMG5CA21O52WCAWNQBZ3CAWZQCR1CA72VTDLCAD738VBCA256R77CAOMUD7HCAY9FFRS"/>
          <p:cNvPicPr/>
          <p:nvPr/>
        </p:nvPicPr>
        <p:blipFill>
          <a:blip r:embed="rId4"/>
          <a:stretch/>
        </p:blipFill>
        <p:spPr>
          <a:xfrm>
            <a:off x="6084720" y="1844640"/>
            <a:ext cx="2881440" cy="196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[6]"/>
          <p:cNvPicPr/>
          <p:nvPr/>
        </p:nvPicPr>
        <p:blipFill>
          <a:blip r:embed="rId5"/>
          <a:stretch/>
        </p:blipFill>
        <p:spPr>
          <a:xfrm>
            <a:off x="324000" y="4221000"/>
            <a:ext cx="2735280" cy="19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MG_0016"/>
          <p:cNvPicPr/>
          <p:nvPr/>
        </p:nvPicPr>
        <p:blipFill>
          <a:blip r:embed="rId6"/>
          <a:stretch/>
        </p:blipFill>
        <p:spPr>
          <a:xfrm>
            <a:off x="6300720" y="4149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424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6858000"/>
            <a:ext cx="829152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UB0CA8R8BNMCA7AG03ZCA63NKULCAKBTIA2CARQWXCKCAV63TKECA82CEJFCALX93S1CAXXMTC2CACLRQFQCA4S3M44CAFM2HUGCAW13FQXCALC12S5CALBL67VCAT1SNOACA7BDV5SCAB40MM9CAMM29Z0"/>
          <p:cNvPicPr/>
          <p:nvPr/>
        </p:nvPicPr>
        <p:blipFill>
          <a:blip r:embed="rId1"/>
          <a:stretch/>
        </p:blipFill>
        <p:spPr>
          <a:xfrm>
            <a:off x="468360" y="4005360"/>
            <a:ext cx="2332080" cy="285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22ICA039TLKCAPJ2927CAH35Z83CA929UTSCAMPUPVMCACJLK99CA92G3T8CAFBFAQVCAOT2EV4CAARL21UCAQ1"/>
          <p:cNvPicPr/>
          <p:nvPr/>
        </p:nvPicPr>
        <p:blipFill>
          <a:blip r:embed="rId2"/>
          <a:stretch/>
        </p:blipFill>
        <p:spPr>
          <a:xfrm>
            <a:off x="468360" y="1700280"/>
            <a:ext cx="2651040" cy="2151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8"/>
          <p:cNvSpPr/>
          <p:nvPr/>
        </p:nvSpPr>
        <p:spPr>
          <a:xfrm>
            <a:off x="1403280" y="6922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Arial"/>
              </a:rPr>
              <a:t>Разные таки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3276720" y="1779480"/>
            <a:ext cx="5506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науч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светски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спортив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социаль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военный репорта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</a:rPr>
              <a:t>криминальный репортаж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Цель репортажа: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оссоздать полную картину события, чтобы читатель или зритель мог наглядно представить себе, как происходило событие, стать его очевид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1" descr="j0229385"/>
          <p:cNvPicPr/>
          <p:nvPr/>
        </p:nvPicPr>
        <p:blipFill>
          <a:blip r:embed="rId1"/>
          <a:stretch/>
        </p:blipFill>
        <p:spPr>
          <a:xfrm>
            <a:off x="6156360" y="4797360"/>
            <a:ext cx="18255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33520"/>
            <a:ext cx="821844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Динамика – основа репортаж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Закон репортажа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«эффект присутствия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images[6]"/>
          <p:cNvPicPr/>
          <p:nvPr/>
        </p:nvPicPr>
        <p:blipFill>
          <a:blip r:embed="rId1"/>
          <a:stretch/>
        </p:blipFill>
        <p:spPr>
          <a:xfrm>
            <a:off x="5651640" y="1897200"/>
            <a:ext cx="302400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33312"/>
          <p:cNvPicPr/>
          <p:nvPr/>
        </p:nvPicPr>
        <p:blipFill>
          <a:blip r:embed="rId2"/>
          <a:stretch/>
        </p:blipFill>
        <p:spPr>
          <a:xfrm>
            <a:off x="179280" y="3645000"/>
            <a:ext cx="2757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Профессия - репортёр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6800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Репортёр – журналист, который сообщает о происходящих события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OXECA2SDE43CAFERTXFCA36HAYICADR39ANCADCC7YECAU4ZOMKCATVAJC5CA6U71DXCAGSS9LQCA3FR2V9CA5MWNPMCATNGWMXCAUJS8ZACAP0LO4UCAN8KUGVCA3FJS63CAVK6PD3CA8ZZK20CANI0XMM"/>
          <p:cNvPicPr/>
          <p:nvPr/>
        </p:nvPicPr>
        <p:blipFill>
          <a:blip r:embed="rId1"/>
          <a:stretch/>
        </p:blipFill>
        <p:spPr>
          <a:xfrm>
            <a:off x="5867280" y="2060640"/>
            <a:ext cx="2417760" cy="3168720"/>
          </a:xfrm>
          <a:prstGeom prst="rect">
            <a:avLst/>
          </a:prstGeom>
          <a:ln w="28440">
            <a:solidFill>
              <a:srgbClr val="66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убеждён, что молодому писателю очень полезна работа в газет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Это – школа, заменить которую в литературе неч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К.Федин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95280" y="-16992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7:07:44Z</dcterms:created>
  <dc:creator>User</dc:creator>
  <dc:description/>
  <dc:language>en-US</dc:language>
  <cp:lastModifiedBy>Женя</cp:lastModifiedBy>
  <dcterms:modified xsi:type="dcterms:W3CDTF">2014-11-24T13:31:11Z</dcterms:modified>
  <cp:revision>34</cp:revision>
  <dc:subject/>
  <dc:title>    Репортаж как жанр   публицистического стиля</dc:title>
</cp:coreProperties>
</file>