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43F-F023-4903-BB8E-B7293C89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F47-BE54-4F7B-A2C9-ECEFBF20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6D4-1D52-466B-BE5A-D6718F9E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BD1-1C22-4809-9BF8-59C7D257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2F4-1CD3-42E9-8652-80E5AAD9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A5C9-8AEA-4ABA-9B49-6A40C5D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875B-D2AE-4A43-9CC7-2C6E0CA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3C8B-06FC-4C83-AEDE-DDF1188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BC8-F9C9-4154-AC93-BAB560D0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852F-CB28-43EE-A60B-C3AC6D61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0A0F-9215-4935-980C-5A240E4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5BA-4E88-4019-B928-5351998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4903-82CC-4B9F-AB6D-BED7539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B49-1C19-4039-8765-ECF6B61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5B0-B63A-47BC-B8AC-629F21C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A8DC-8298-456C-AF3B-FDCC6D18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5080-284E-4F8B-8B48-7B463D7D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A86-9947-46C6-924D-09FD65C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38D-6889-424B-9E35-3D46308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C9B-CD9A-4C38-9475-24D95AAB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4B5-4FC1-4C00-B603-EA52513F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A6C-4255-4A43-A050-ADA1C7C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E9D-3AB1-477D-AB51-DA4BCF8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B56-000F-47BE-BEB0-3962484C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881-AEC3-4161-9B94-1D0714D486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232E-AB2D-40AE-B36B-7B383045AFE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Депутаты намерены поднять проблемы жилья для журналистов в правительстве -Казахстан - Новости"/>
          <p:cNvPicPr/>
          <p:nvPr/>
        </p:nvPicPr>
        <p:blipFill>
          <a:blip r:embed="rId1"/>
          <a:srcRect l="2844" t="0" r="28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0000"/>
                </a:solidFill>
                <a:latin typeface="Times New Roman"/>
              </a:rPr>
              <a:t>Из истории слова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ермин «репортаж» происходит от французского  «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reportage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»              (англ. «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report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»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и означает – «сообщать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ам термин появился давно, в середине 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299520" cy="632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Рассказ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Что?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Место события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Гд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частник                      Кт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Время                                Когда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411280" y="3645000"/>
            <a:ext cx="4896000" cy="30240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023840" y="758880"/>
            <a:ext cx="743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70040" y="485640"/>
            <a:ext cx="77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Arial"/>
              </a:rPr>
              <a:t>Репортаж – э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643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Разные такие…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7" name="Picture 4" descr="i[3]"/>
          <p:cNvPicPr/>
          <p:nvPr/>
        </p:nvPicPr>
        <p:blipFill>
          <a:blip r:embed="rId1"/>
          <a:stretch/>
        </p:blipFill>
        <p:spPr>
          <a:xfrm>
            <a:off x="250920" y="1844640"/>
            <a:ext cx="287964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s"/>
          <p:cNvPicPr/>
          <p:nvPr/>
        </p:nvPicPr>
        <p:blipFill>
          <a:blip r:embed="rId2"/>
          <a:stretch/>
        </p:blipFill>
        <p:spPr>
          <a:xfrm>
            <a:off x="3276720" y="1844640"/>
            <a:ext cx="2663640" cy="200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[11]"/>
          <p:cNvPicPr/>
          <p:nvPr/>
        </p:nvPicPr>
        <p:blipFill>
          <a:blip r:embed="rId3"/>
          <a:stretch/>
        </p:blipFill>
        <p:spPr>
          <a:xfrm>
            <a:off x="3276720" y="4200480"/>
            <a:ext cx="2879640" cy="194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0S8CACUF1H9CA6YA77ZCAYR2R0UCAJQ4H61CABN4W90CA2D0FRHCA6MYIZ3CAVKZMM8CAUK088ECAT5M9IRCAPSXMG5CA21O52WCAWNQBZ3CAWZQCR1CA72VTDLCAD738VBCA256R77CAOMUD7HCAY9FFRS"/>
          <p:cNvPicPr/>
          <p:nvPr/>
        </p:nvPicPr>
        <p:blipFill>
          <a:blip r:embed="rId4"/>
          <a:stretch/>
        </p:blipFill>
        <p:spPr>
          <a:xfrm>
            <a:off x="6084720" y="1844640"/>
            <a:ext cx="2881440" cy="196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[6]"/>
          <p:cNvPicPr/>
          <p:nvPr/>
        </p:nvPicPr>
        <p:blipFill>
          <a:blip r:embed="rId5"/>
          <a:stretch/>
        </p:blipFill>
        <p:spPr>
          <a:xfrm>
            <a:off x="324000" y="4221000"/>
            <a:ext cx="2735280" cy="19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G_0016"/>
          <p:cNvPicPr/>
          <p:nvPr/>
        </p:nvPicPr>
        <p:blipFill>
          <a:blip r:embed="rId6"/>
          <a:stretch/>
        </p:blipFill>
        <p:spPr>
          <a:xfrm>
            <a:off x="6300720" y="4149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424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6858000"/>
            <a:ext cx="829152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UB0CA8R8BNMCA7AG03ZCA63NKULCAKBTIA2CARQWXCKCAV63TKECA82CEJFCALX93S1CAXXMTC2CACLRQFQCA4S3M44CAFM2HUGCAW13FQXCALC12S5CALBL67VCAT1SNOACA7BDV5SCAB40MM9CAMM29Z0"/>
          <p:cNvPicPr/>
          <p:nvPr/>
        </p:nvPicPr>
        <p:blipFill>
          <a:blip r:embed="rId1"/>
          <a:stretch/>
        </p:blipFill>
        <p:spPr>
          <a:xfrm>
            <a:off x="468360" y="4005360"/>
            <a:ext cx="2332080" cy="285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22ICA039TLKCAPJ2927CAH35Z83CA929UTSCAMPUPVMCACJLK99CA92G3T8CAFBFAQVCAOT2EV4CAARL21UCAQ1"/>
          <p:cNvPicPr/>
          <p:nvPr/>
        </p:nvPicPr>
        <p:blipFill>
          <a:blip r:embed="rId2"/>
          <a:stretch/>
        </p:blipFill>
        <p:spPr>
          <a:xfrm>
            <a:off x="468360" y="1700280"/>
            <a:ext cx="2651040" cy="2151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8"/>
          <p:cNvSpPr/>
          <p:nvPr/>
        </p:nvSpPr>
        <p:spPr>
          <a:xfrm>
            <a:off x="1403280" y="6922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Arial"/>
              </a:rPr>
              <a:t>Разные таки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3276720" y="1779480"/>
            <a:ext cx="550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науч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ветски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портив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оциаль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воен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криминальный репортаж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Цель репортажа: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оссоздать полную картину события, чтобы читатель или зритель мог наглядно представить себе, как происходило событие, стать его очевид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1" descr="j0229385"/>
          <p:cNvPicPr/>
          <p:nvPr/>
        </p:nvPicPr>
        <p:blipFill>
          <a:blip r:embed="rId1"/>
          <a:stretch/>
        </p:blipFill>
        <p:spPr>
          <a:xfrm>
            <a:off x="6156360" y="4797360"/>
            <a:ext cx="1825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33520"/>
            <a:ext cx="821844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Динамика – основа репортаж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Закон репортажа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«эффект присутствия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images[6]"/>
          <p:cNvPicPr/>
          <p:nvPr/>
        </p:nvPicPr>
        <p:blipFill>
          <a:blip r:embed="rId1"/>
          <a:stretch/>
        </p:blipFill>
        <p:spPr>
          <a:xfrm>
            <a:off x="5651640" y="1897200"/>
            <a:ext cx="30240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33312"/>
          <p:cNvPicPr/>
          <p:nvPr/>
        </p:nvPicPr>
        <p:blipFill>
          <a:blip r:embed="rId2"/>
          <a:stretch/>
        </p:blipFill>
        <p:spPr>
          <a:xfrm>
            <a:off x="179280" y="3645000"/>
            <a:ext cx="27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Профессия - репортёр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6800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Репортёр – журналист, который сообщает о происходящих события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OXECA2SDE43CAFERTXFCA36HAYICADR39ANCADCC7YECAU4ZOMKCATVAJC5CA6U71DXCAGSS9LQCA3FR2V9CA5MWNPMCATNGWMXCAUJS8ZACAP0LO4UCAN8KUGVCA3FJS63CAVK6PD3CA8ZZK20CANI0XMM"/>
          <p:cNvPicPr/>
          <p:nvPr/>
        </p:nvPicPr>
        <p:blipFill>
          <a:blip r:embed="rId1"/>
          <a:stretch/>
        </p:blipFill>
        <p:spPr>
          <a:xfrm>
            <a:off x="5867280" y="2060640"/>
            <a:ext cx="2417760" cy="3168720"/>
          </a:xfrm>
          <a:prstGeom prst="rect">
            <a:avLst/>
          </a:prstGeom>
          <a:ln w="28440">
            <a:solidFill>
              <a:srgbClr val="6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убеждён, что молодому писателю очень полезна работа в газе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Это – школа, заменить которую в литературе неч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К.Федин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95280" y="-16992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7:07:44Z</dcterms:created>
  <dc:creator>User</dc:creator>
  <dc:description/>
  <dc:language>en-US</dc:language>
  <cp:lastModifiedBy>Женя</cp:lastModifiedBy>
  <dcterms:modified xsi:type="dcterms:W3CDTF">2014-11-24T13:31:11Z</dcterms:modified>
  <cp:revision>34</cp:revision>
  <dc:subject/>
  <dc:title>    Репортаж как жанр   публицистического стиля</dc:title>
</cp:coreProperties>
</file>