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ABB2-8F84-4F1C-ACA2-3FD2D233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1091-3443-4A92-BB67-CE651C2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DC88-55C0-420A-B7DE-3D766E44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22DF-7984-4D69-ADB4-84F077FE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19D3-0022-4900-9758-56402FBA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3BA-C211-4824-BFBC-F469703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5BB-F663-422B-BB04-D9339DCD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69A-C459-4DC2-B58F-975CFD1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2B32-E4A7-49B7-8991-340FAF6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CEEA-0633-46D1-B7DC-1A8C82A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709-4E85-4421-A0B4-F8C5759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E255-62EE-45FF-ACD0-063ACAB5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C12B-01A4-4208-98F5-7F251EE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1A66-1B5F-4DE1-AF13-F7E5106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EF3E-5673-49F5-A044-7272DA5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EF0-06E3-46CA-A796-DEEDEF41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58E2-2587-4B20-8717-3199B27D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2DC7-4043-481D-A339-B56A6FFF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5814-FF67-452C-BB50-BC9E8FC3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3FCC-D456-46D5-83FE-0EA0C67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B7BB-54D5-4F6B-82E3-F62B9B8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DC93-BEB8-4D82-AD78-F159EF3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BBF4-326B-4FD6-8087-1EB7D64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692A-DDD6-4535-8612-574AA1F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4963-22B2-4918-9FBD-045F1B5CBC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3C97-598F-4F3B-B06C-C45B397466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Открытый урок 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о математике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енный в 3 класс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ителем начальных класс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олдак-оол Лидии Кууларов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за числа в ряд стоят?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Чётные числ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числа относятся к чётным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Те которые делятся на два без остатка и на себя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делите эти числа на 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устно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Учитель записывает ответы на доске) 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,2,3,4,5,6,7,8,9,1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величьте эти числа в 3 раза и запишите в тетрад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 Один ученик работает за доско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3,6,9,12,15,18,21, 24,27,3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08960" y="692280"/>
            <a:ext cx="44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Garamond"/>
              </a:rPr>
              <a:t>2,4, , ДО, , , ,18,20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едующая из забав - конь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де мы катаемся на  коньках?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на катк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( вывешивается две геометрические фигуры 2д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ставьте, что мы на катке. И вот у нас два катка.   Здм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акие геометрические фигуры напоминают наши катки? Давайте найдём площадь этих геометрических фигур. Какая это фигура? (прямоугольник) Какие данные нужны для нахождения площади? Как найти площадь прямоугольник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12" descr="Рисунок4"/>
          <p:cNvPicPr/>
          <p:nvPr/>
        </p:nvPicPr>
        <p:blipFill>
          <a:blip r:embed="rId1"/>
          <a:stretch/>
        </p:blipFill>
        <p:spPr>
          <a:xfrm>
            <a:off x="5364000" y="1557360"/>
            <a:ext cx="31878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4392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авайте найдём площадь этих геометрических фигур. Какая это фигура?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Garamond"/>
              </a:rPr>
              <a:t>(прямоугольник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ие данные нужны для нахождения площади? Как найти площадь прямоугольник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 те ученики кто забыли формулу, нашли её на нашем стенде-помощник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находят площадь прямоугольника? Реша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олько получилось? Что это за фигура? </a:t>
            </a:r>
            <a:r>
              <a:rPr b="0" i="1" lang="ru-RU" sz="2000" spc="-1" strike="noStrike">
                <a:solidFill>
                  <a:srgbClr val="ffcc00"/>
                </a:solidFill>
                <a:latin typeface="Garamond"/>
              </a:rPr>
              <a:t>(квадра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ие данные нужны для нахождения площади квадрата? Как найти площадь квадрата? Кто забыл формулу обращается к стенду. Решаем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акой ответ получилс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7" descr="Рисунок4"/>
          <p:cNvPicPr/>
          <p:nvPr/>
        </p:nvPicPr>
        <p:blipFill>
          <a:blip r:embed="rId1"/>
          <a:stretch/>
        </p:blipFill>
        <p:spPr>
          <a:xfrm>
            <a:off x="5292720" y="692280"/>
            <a:ext cx="3187800" cy="154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Рисунок6"/>
          <p:cNvPicPr/>
          <p:nvPr/>
        </p:nvPicPr>
        <p:blipFill>
          <a:blip r:embed="rId2"/>
          <a:stretch/>
        </p:blipFill>
        <p:spPr>
          <a:xfrm>
            <a:off x="5796000" y="2637000"/>
            <a:ext cx="25034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амостоятельная работ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атке мы покатались, а на санках ещё нет. Но у нас нет горки. Давайте слепим снежную горку из снежных комочков, но для того чтобы слепить крепкий комок нужно решить примеры. Возьмите комочки, лежащие на столе, подпишите 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а столе лежат листочки с примерами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1 вариант.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           2 вариан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-9=  7-9=  56:8=         2-9=  9-8=  42:6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-6=  9-4=  54:9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9-7=  5-9=  32:8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-9=  9-9=  49:7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4-9=  9-3=  48:8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-5=  2-9=  27:3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9-9=  6-9=  48:6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Рисунок7"/>
          <p:cNvPicPr/>
          <p:nvPr/>
        </p:nvPicPr>
        <p:blipFill>
          <a:blip r:embed="rId1"/>
          <a:stretch/>
        </p:blipFill>
        <p:spPr>
          <a:xfrm>
            <a:off x="4716360" y="2421000"/>
            <a:ext cx="3911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менялись листочками и проверили правильно ли всё сделано, там где правильный пример- ставим +, где неправильный пример- ставим -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ри, собери у всех комоч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т какая снежная горка получила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Открываю занавеску, а там висит рисунок снежной горки из комочков)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А прочная это горка или нет я смогу вам сказать только завтра, проверив все работ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14" descr="Рисунок8"/>
          <p:cNvPicPr/>
          <p:nvPr/>
        </p:nvPicPr>
        <p:blipFill>
          <a:blip r:embed="rId1"/>
          <a:stretch/>
        </p:blipFill>
        <p:spPr>
          <a:xfrm>
            <a:off x="324000" y="1700280"/>
            <a:ext cx="42670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2920" y="907920"/>
            <a:ext cx="40388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А теперь возвращаемся к тетради. Будем решать задачи. Скоро новый год и мы будем украшать новогоднюю ёл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А чем украшают новогоднюю ёлк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ы будем работать с ёлочными шариками, их надо будет посчитать. У каждого из вас на столе лежит текст задачи, прочитайте. Гриша, чита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9" descr="Рисунок9"/>
          <p:cNvPicPr/>
          <p:nvPr/>
        </p:nvPicPr>
        <p:blipFill>
          <a:blip r:embed="rId1"/>
          <a:stretch/>
        </p:blipFill>
        <p:spPr>
          <a:xfrm>
            <a:off x="250920" y="206064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 В 9 одинаковых наборах 54 ёлочных шарика. Сколько шариков в 5 таких наборах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вы прочитали? Докажит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О чём эта задач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нам известно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ое данное спряталось в вопросе? Что надо найт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 По ходу опроса учитель пишет на доске краткую запись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9наб. — 54 ш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5наб. —? Ша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Так что нам надо найт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ожем мы сразу ответить на вопрос задач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чему?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Нам неизвестно сколько шариков в одной коробке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м действием будем находить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 На доске пишем схему решения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еперь мы можем ответить на вопрос задач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чем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Каким действием будем находить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На доске пишем схему решени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ешите задачу в тетради, сегодня ответ мы запишем коротко, а проговорим пол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Сколько у нас получилось шаров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лодцы. А мне захотелось изменить вопрос. А сколько таких наборов получится из 60 шариков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У Влада, Егора, Насти и Давида, данные выделены зелёным цветом. Сколько таких наборов получилось? Как узна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та по учебнику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много отдохнули, работаем дальше. К новому году надо приготовить новогоднее угощение, например, овощной салат, для него нам понадобится свекл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кройте учебники на стр. 62, задача №3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читайте задачу. Гриша, прочитай её вслу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О чём он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такое свекл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Что нам известно в этой задач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1кор.—5 кг 6 ящ. – 60 к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спрашивается?  во ск. раз.&gt;?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торите ещё раз что нам известно и что надо найти. Можем мы сразу ответить на вопрос ? Почему? Каким действием будем находить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мы можем ответить на вопрос задачи? Почем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1кор.—5кг ^- во ск. раз.&gt;?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6 ящ. - 60к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вторите ещё раз что нам известно и что надо най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ожем мы сразу ответить на вопрос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чем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им действием будем находи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Теперь мы можем ответить на вопрос задачи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Почему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м действием мы будем это находи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 На доске записывается схема решения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Теперь мы можем ответить на вопрос задачи? Почему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м действием мы будем это находить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На доске пишется схема решения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ешаем. Что у нас получилось? Молод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ема урока: « Закрепление. Сводная таблица умножен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таблицу умножения и дел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решение задач на нахождение четвёртого пропорционального; -кратное сравн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хождение площади прямоугольника и квадра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какая новогодняя ёлка без весёлых игр. Давайте и мы поиграем, но мы же на уроке математики, поэтому мы вспомним чётные и нечётные числ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граем в игру: 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«Карлики-Великаны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Я называю число если оно чётное - вы Карлики, садитесь на корточки, а если нечётное- вы Великаны, подпрыгиваете, ставя руки на пояс. Когда я называю последнее число, если оно чётное - вы садитесь за пар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3, 6, 4, 5, 7, 8, 10, 11, 18, 13, 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должим игру, но поможет нам уже учебник. Смотрим задание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№4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Прочитайте. Женя, прочитай вслу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ие из этих чисел чётны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Уменьшите их в два раза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Фронтальный опрос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ие из этих чисел нечётны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величьте их в 9 раз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Фронтальный опрос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ебята, мы поиграли, а ёлку до конца мы не нарядили. Посмотрите на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№6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(Устно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м мы будем украшать ёлку? Сколько бабочек на рисунке? Сколько стрекоз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ое действие нужно выполнить, чтобы ответить на вопрос: во сколько раз бабочек меньше, чем стрекоз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Какой у нас ответ получился? Молод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Ёлку мы нарядили, но какая ёлка без гостей и без весёлых заданий, так как мы на уроке математики, то и задания будут математическими. Слушаем внимательно.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исица учила своих малыш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овить под куста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ёлых мыш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ши услышали злую лис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спрятались вс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 ёлкой в лес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шек же было всего только 5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каждой мышки по 9 мышат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сколько скажит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ышей и мыш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 елью ветвист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ихо сидят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45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3" descr="Рисунок10"/>
          <p:cNvPicPr/>
          <p:nvPr/>
        </p:nvPicPr>
        <p:blipFill>
          <a:blip r:embed="rId1"/>
          <a:stretch/>
        </p:blipFill>
        <p:spPr>
          <a:xfrm>
            <a:off x="5580000" y="1413000"/>
            <a:ext cx="2419560" cy="276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Рисунок11"/>
          <p:cNvPicPr/>
          <p:nvPr/>
        </p:nvPicPr>
        <p:blipFill>
          <a:blip r:embed="rId2"/>
          <a:stretch/>
        </p:blipFill>
        <p:spPr>
          <a:xfrm>
            <a:off x="4788000" y="4292640"/>
            <a:ext cx="3995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1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бка внукам рукавич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село вязал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связала 8 шту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нам показал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Ну-ка, внуки, ну-ка, внук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тяните ко мне рук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кавички надевай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ов, водички натаскай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, ребятки, не зевайт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олько внуков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чай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12" descr="Рисунок12"/>
          <p:cNvPicPr/>
          <p:nvPr/>
        </p:nvPicPr>
        <p:blipFill>
          <a:blip r:embed="rId1"/>
          <a:stretch/>
        </p:blipFill>
        <p:spPr>
          <a:xfrm>
            <a:off x="4643280" y="1052640"/>
            <a:ext cx="4077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 бельчонка маму-бел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дали около дуп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м на завтрак мама-бел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9 шишек принес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делила на троих—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колько каждому из них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Рисунок13"/>
          <p:cNvPicPr/>
          <p:nvPr/>
        </p:nvPicPr>
        <p:blipFill>
          <a:blip r:embed="rId1"/>
          <a:stretch/>
        </p:blipFill>
        <p:spPr>
          <a:xfrm>
            <a:off x="4716360" y="155736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Молодцы, ребята , но чтобы не забыть что мы сегодня делали дома надо тоже тренироваться. Откройте дневники и запишите домашнее зада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Учебник, стр. 62 №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на последок ещё одна игра. На улице была пурга, у меня на столе лежали задания, окно открылось и они разлетелись по всему классу. Нужно их найти и поставить нужный знак действ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всему классу развешаны приме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7*4=28   40*5=8   15*3=5   3*2=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0*6=5    9*4=36   54*9=6   48*8=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Рисунок15"/>
          <p:cNvPicPr/>
          <p:nvPr/>
        </p:nvPicPr>
        <p:blipFill>
          <a:blip r:embed="rId1"/>
          <a:stretch/>
        </p:blipFill>
        <p:spPr>
          <a:xfrm>
            <a:off x="5364000" y="3789360"/>
            <a:ext cx="355608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Рисунок14"/>
          <p:cNvPicPr/>
          <p:nvPr/>
        </p:nvPicPr>
        <p:blipFill>
          <a:blip r:embed="rId2"/>
          <a:stretch/>
        </p:blipFill>
        <p:spPr>
          <a:xfrm>
            <a:off x="5724360" y="134136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тог уро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 на уроке мы играли и что ещё дела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Молодцы. Оценки за урок я вам скажу после проверки ваших самостоятельных работ. Урок оконче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ип урок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закрепление изученного матери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, рабочая тетрадь, 3 разрезанных на детали снеговика, плакате геометрическими фигурами ( квадрат и прямоугольник), изображение снежной горки, отпечатанные на листочках задания, изображение снежин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рганизационный моме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Ну-ка проверь, дружок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ы готов начать урок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ё ль на месте, Всё ль в порядке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чка, книжки и тетрадка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ли правильно сидят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ль внимательно глядят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ждый хочет получа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роке только «пять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общение темы и цели урок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Таблица умнож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стойна уваж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а всегда во всём пра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б ни случилось в мир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А всё же будет дважды дв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- прежнему четыр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С. Маршак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бята, сегодня на нашем уроке мы будем закреплять знания таблицы умножения и деления, вспомним и проверим, как вы её запомнили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ступила зима, скоро выпадет снег и появятся всевозможные зимние забавы. Давайте поиграем в одну из зимних забав- слепим снеговик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 каждого ряда будет снеговик, но для того чтобы его слепить нам придется примеры решить. Проведём соревнование, кто быстрее его слепит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каждого ряда выходят по цепочке по одному человеку, решили пример - прикрепили одну деталь снеговика. Выиграет тот ряд- кто быстрее и правильнее решит и соберёт снеговик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стный счё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15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ря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9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4:8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-2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6: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79640" y="1628640"/>
            <a:ext cx="19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ря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8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6:8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3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6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348000" y="1700280"/>
            <a:ext cx="129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ря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8: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4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7:9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1:3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8:6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9" descr="Рисунок1"/>
          <p:cNvPicPr/>
          <p:nvPr/>
        </p:nvPicPr>
        <p:blipFill>
          <a:blip r:embed="rId1"/>
          <a:stretch/>
        </p:blipFill>
        <p:spPr>
          <a:xfrm>
            <a:off x="4788000" y="1557360"/>
            <a:ext cx="3873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4247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теперь проверим, как мы слепили снеговика. Проверяем не только свой столбик, но и другого ряда, один отвечает остальные сигнализируют светофор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439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летели к нам снежинки, нужно их расставить в ряд и закономерность их поймат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На доске прикреплены снежинк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ужно прикрепить оставшиеся снежинки к дос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(у доски один учени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11" descr="Рисунок3"/>
          <p:cNvPicPr/>
          <p:nvPr/>
        </p:nvPicPr>
        <p:blipFill>
          <a:blip r:embed="rId1"/>
          <a:stretch/>
        </p:blipFill>
        <p:spPr>
          <a:xfrm>
            <a:off x="4859280" y="11970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51:23Z</dcterms:created>
  <dc:creator>Бочарова Светлана Григорьевна</dc:creator>
  <dc:description/>
  <dc:language>en-US</dc:language>
  <cp:lastModifiedBy>User</cp:lastModifiedBy>
  <dcterms:modified xsi:type="dcterms:W3CDTF">2015-02-02T09:50:31Z</dcterms:modified>
  <cp:revision>13</cp:revision>
  <dc:subject/>
  <dc:title>Открытый урок  по математике </dc:title>
</cp:coreProperties>
</file>