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B09E-96A5-4782-A16C-7EEAA05D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E6D5-7276-407D-93AC-83B185C2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E74D-8CF0-443E-BC5B-ADE0D3E8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2A66-CB17-4F40-BE11-B6B5125D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FA61-D1E7-4F81-854D-F0600FE9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C2D2-8A4A-418D-A984-087A7A09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8257-48D4-4C66-90EA-50DF0290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AED6-E3F5-4C52-9BB1-E3D97C2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914D-3D05-4516-9E14-E6FAC020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4634-27F3-4400-8BDB-E698DEE6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D55D-FB92-46D8-A231-19C6292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4096-DA47-4BF7-BD75-CCCF3303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0B8D-231E-4445-A0C5-A6E925E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A002-E848-4410-903D-DC15CA41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471A-E90E-4971-8389-FB37BCFE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2D53-CD75-498C-9034-ACCE6011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6FD9-DF86-4FE7-9D66-2D19F743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43522-95E9-450B-AAD6-6BEFC07E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A66D-4538-4F4D-9D22-28A87176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A640-0E91-43B6-8666-FCECDAB8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7269-9073-4783-8296-5A6D5E30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C58B-2C0F-458C-8B50-D4181F20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6DAC-29A4-4C54-BC0F-27E2B6B6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35B7-80F8-4C13-9AA4-1A9F823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F0B1-89C3-4017-830F-5657FE73B0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5799-756B-4A2C-81A4-D4B87A1591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Открытый урок 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о математике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денный в 3 класс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ителем начальных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олдак-оол Лидии Кууларов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за числа в ряд стоят?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Чётные числ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числа относятся к чётным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Те которые делятся на два без остатка и на себя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делите эти числа на 2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устно)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Учитель записывает ответы на доске) </a:t>
            </a: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,2,3,4,5,6,7,8,9,1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величьте эти числа в 3 раза и запишите в тетрад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 Один ученик работает за доско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3,6,9,12,15,18,21, 24,27,3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08960" y="692280"/>
            <a:ext cx="44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Garamond"/>
              </a:rPr>
              <a:t>2,4, , ДО, , , ,18,20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едующая из забав - коньк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де мы катаемся на  коньках?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на катке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( вывешивается две геометрические фигуры 2д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ставьте, что мы на катке. И вот у нас два катка.   Здм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Какие геометрические фигуры напоминают наши катки? Давайте найдём площадь этих геометрических фигур. Какая это фигура? (прямоугольник) Какие данные нужны для нахождения площади? Как найти площадь прямоугольник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12" descr="Рисунок4"/>
          <p:cNvPicPr/>
          <p:nvPr/>
        </p:nvPicPr>
        <p:blipFill>
          <a:blip r:embed="rId1"/>
          <a:stretch/>
        </p:blipFill>
        <p:spPr>
          <a:xfrm>
            <a:off x="5364000" y="1557360"/>
            <a:ext cx="31878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4392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Давайте найдём площадь этих геометрических фигур. Какая это фигура?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Garamond"/>
              </a:rPr>
              <a:t>(прямоугольник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ие данные нужны для нахождения площади? Как найти площадь прямоугольник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 те ученики кто забыли формулу, нашли её на нашем стенде-помощник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находят площадь прямоугольника? Реша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колько получилось? Что это за фигура? </a:t>
            </a:r>
            <a:r>
              <a:rPr b="0" i="1" lang="ru-RU" sz="2000" spc="-1" strike="noStrike">
                <a:solidFill>
                  <a:srgbClr val="ffcc00"/>
                </a:solidFill>
                <a:latin typeface="Garamond"/>
              </a:rPr>
              <a:t>(квадра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ие данные нужны для нахождения площади квадрата? Как найти площадь квадрата? Кто забыл формулу обращается к стенду. Решаем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Какой ответ получился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7" descr="Рисунок4"/>
          <p:cNvPicPr/>
          <p:nvPr/>
        </p:nvPicPr>
        <p:blipFill>
          <a:blip r:embed="rId1"/>
          <a:stretch/>
        </p:blipFill>
        <p:spPr>
          <a:xfrm>
            <a:off x="5292720" y="692280"/>
            <a:ext cx="3187800" cy="154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Рисунок6"/>
          <p:cNvPicPr/>
          <p:nvPr/>
        </p:nvPicPr>
        <p:blipFill>
          <a:blip r:embed="rId2"/>
          <a:stretch/>
        </p:blipFill>
        <p:spPr>
          <a:xfrm>
            <a:off x="5796000" y="2637000"/>
            <a:ext cx="250344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амостоятельная работ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атке мы покатались, а на санках ещё нет. Но у нас нет горки. Давайте слепим снежную горку из снежных комочков, но для того чтобы слепить крепкий комок нужно решить примеры. Возьмите комочки, лежащие на столе, подпишите 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а столе лежат листочки с примерами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1 вариант.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           2 вариан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-9=  7-9=  56:8=         2-9=  9-8=  42:6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-6=  9-4=  54:9=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9-7=  5-9=  32:8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-9=  9-9=  49:7=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4-9=  9-3=  48:8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-5=  2-9=  27:3=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9-9=  6-9=  48:6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Рисунок7"/>
          <p:cNvPicPr/>
          <p:nvPr/>
        </p:nvPicPr>
        <p:blipFill>
          <a:blip r:embed="rId1"/>
          <a:stretch/>
        </p:blipFill>
        <p:spPr>
          <a:xfrm>
            <a:off x="4716360" y="2421000"/>
            <a:ext cx="3911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менялись листочками и проверили правильно ли всё сделано, там где правильный пример- ставим +, где неправильный пример- ставим -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ри, собери у всех комоч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т какая снежная горка получила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Открываю занавеску, а там висит рисунок снежной горки из комочков)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А прочная это горка или нет я смогу вам сказать только завтра, проверив все работ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14" descr="Рисунок8"/>
          <p:cNvPicPr/>
          <p:nvPr/>
        </p:nvPicPr>
        <p:blipFill>
          <a:blip r:embed="rId1"/>
          <a:stretch/>
        </p:blipFill>
        <p:spPr>
          <a:xfrm>
            <a:off x="324000" y="1700280"/>
            <a:ext cx="42670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42920" y="907920"/>
            <a:ext cx="40388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А теперь возвращаемся к тетради. Будем решать задачи. Скоро новый год и мы будем украшать новогоднюю ёл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А чем украшают новогоднюю ёлк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Мы будем работать с ёлочными шариками, их надо будет посчитать. У каждого из вас на столе лежит текст задачи, прочитайте. Гриша, чита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9" descr="Рисунок9"/>
          <p:cNvPicPr/>
          <p:nvPr/>
        </p:nvPicPr>
        <p:blipFill>
          <a:blip r:embed="rId1"/>
          <a:stretch/>
        </p:blipFill>
        <p:spPr>
          <a:xfrm>
            <a:off x="250920" y="206064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 В 9 одинаковых наборах 54 ёлочных шарика. Сколько шариков в 5 таких наборах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Что вы прочитали? Докажит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О чём эта задача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Что нам известно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ое данное спряталось в вопросе? Что надо найт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 По ходу опроса учитель пишет на доске краткую запись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9наб. — 54 ша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5наб. —? Ша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Так что нам надо найт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Можем мы сразу ответить на вопрос задач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Почему?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Нам неизвестно сколько шариков в одной коробке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м действием будем находить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 На доске пишем схему решения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еперь мы можем ответить на вопрос задач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очем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Каким действием будем находить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На доске пишем схему решения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Решите задачу в тетради, сегодня ответ мы запишем коротко, а проговорим пол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Сколько у нас получилось шаров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лодцы. А мне захотелось изменить вопрос. А сколько таких наборов получится из 60 шариков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У Влада, Егора, Насти и Давида, данные выделены зелёным цветом. Сколько таких наборов получилось? Как узна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1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та по учебнику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много отдохнули, работаем дальше. К новому году надо приготовить новогоднее угощение, например, овощной салат, для него нам понадобится свекл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ткройте учебники на стр. 62, задача №3</a:t>
            </a: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читайте задачу. Гриша, прочитай её вслу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О чём он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Что такое свекл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Что нам известно в этой задач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1кор.—5 кг 6 ящ. – 60 к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спрашивается?  во ск. раз.&gt;?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вторите ещё раз что нам известно и что надо найти. Можем мы сразу ответить на вопрос ? Почему? Каким действием будем находить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перь мы можем ответить на вопрос задачи? Почем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1кор.—5кг ^- во ск. раз.&gt;?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6 ящ. - 60к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Повторите ещё раз что нам известно и что надо най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Можем мы сразу ответить на вопрос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Почем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им действием будем находи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Теперь мы можем ответить на вопрос задач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Почему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м действием мы будем это находи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 На доске записывается схема решения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Теперь мы можем ответить на вопрос задачи? Почем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м действием мы будем это находить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На доске пишется схема решения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ешаем. Что у нас получилось? Молод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1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10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ма урока: « Закрепление. Сводная таблица умножения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ли урок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ть таблицу умножения и дел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ть решение задач на нахождение четвёртого пропорционального; -кратное сравн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хождение площади прямоугольника и квадра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какая новогодняя ёлка без весёлых игр. Давайте и мы поиграем, но мы же на уроке математики, поэтому мы вспомним чётные и нечётные числ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граем в игру: 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«Карлики-Великаны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Я называю число если оно чётное - вы Карлики, садитесь на корточки, а если нечётное- вы Великаны, подпрыгиваете, ставя руки на пояс. Когда я называю последнее число, если оно чётное - вы садитесь за пар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3, 6, 4, 5, 7, 8, 10, 11, 18, 13, 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должим игру, но поможет нам уже учебник. Смотрим задание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№4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Прочитайте. Женя, прочитай вслу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ие из этих чисел чётны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Уменьшите их в два раза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Фронтальный опрос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ие из этих чисел нечётны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величьте их в 9 раз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Фронтальный опрос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ебята, мы поиграли, а ёлку до конца мы не нарядили. Посмотрите на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№6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Устно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м мы будем украшать ёлку? Сколько бабочек на рисунке? Сколько стрекоз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действие нужно выполнить, чтобы ответить на вопрос: во сколько раз бабочек меньше, чем стрекоз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ой у нас ответ получился? Молод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Ёлку мы нарядили, но какая ёлка без гостей и без весёлых заданий, так как мы на уроке математики, то и задания будут математическими. Слушаем внимательно.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исица учила своих малыш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овить под куста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сёлых мыш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ыши услышали злую лис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спрятались вс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 ёлкой в лес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ышек же было всего только 5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каждой мышки по 9 мышат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сколько скажит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ышей и мыш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 елью ветвисто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ихо сидят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45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13" descr="Рисунок10"/>
          <p:cNvPicPr/>
          <p:nvPr/>
        </p:nvPicPr>
        <p:blipFill>
          <a:blip r:embed="rId1"/>
          <a:stretch/>
        </p:blipFill>
        <p:spPr>
          <a:xfrm>
            <a:off x="5580000" y="1413000"/>
            <a:ext cx="2419560" cy="2763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Рисунок11"/>
          <p:cNvPicPr/>
          <p:nvPr/>
        </p:nvPicPr>
        <p:blipFill>
          <a:blip r:embed="rId2"/>
          <a:stretch/>
        </p:blipFill>
        <p:spPr>
          <a:xfrm>
            <a:off x="4788000" y="4292640"/>
            <a:ext cx="39956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10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абка внукам рукавичк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село вязал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связала 8 штук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нам показал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Ну-ка, внуки, ну-ка, внук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тяните ко мне рук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укавички надевайт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ров, водички натаскайт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, ребятки, не зевайт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олько внуков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чайт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12" descr="Рисунок12"/>
          <p:cNvPicPr/>
          <p:nvPr/>
        </p:nvPicPr>
        <p:blipFill>
          <a:blip r:embed="rId1"/>
          <a:stretch/>
        </p:blipFill>
        <p:spPr>
          <a:xfrm>
            <a:off x="4643280" y="1052640"/>
            <a:ext cx="4077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 бельчонка маму-белк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дали около дуп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м на завтрак мама-бел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9 шишек принес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делила на троих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олько каждому из них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Рисунок13"/>
          <p:cNvPicPr/>
          <p:nvPr/>
        </p:nvPicPr>
        <p:blipFill>
          <a:blip r:embed="rId1"/>
          <a:stretch/>
        </p:blipFill>
        <p:spPr>
          <a:xfrm>
            <a:off x="4716360" y="1557360"/>
            <a:ext cx="40388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Молодцы, ребята , но чтобы не забыть что мы сегодня делали дома надо тоже тренироваться. Откройте дневники и запишите домашнее зада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Учебник, стр. 62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на последок ещё одна игра. На улице была пурга, у меня на столе лежали задания, окно открылось и они разлетелись по всему классу. Нужно их найти и поставить нужный знак действ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всему классу развешаны пример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7*4=28   40*5=8   15*3=5   3*2=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0*6=5    9*4=36   54*9=6   48*8=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Рисунок15"/>
          <p:cNvPicPr/>
          <p:nvPr/>
        </p:nvPicPr>
        <p:blipFill>
          <a:blip r:embed="rId1"/>
          <a:stretch/>
        </p:blipFill>
        <p:spPr>
          <a:xfrm>
            <a:off x="5364000" y="3789360"/>
            <a:ext cx="3556080" cy="2432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Рисунок14"/>
          <p:cNvPicPr/>
          <p:nvPr/>
        </p:nvPicPr>
        <p:blipFill>
          <a:blip r:embed="rId2"/>
          <a:stretch/>
        </p:blipFill>
        <p:spPr>
          <a:xfrm>
            <a:off x="5724360" y="134136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тог уро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 на уроке мы играли и что ещё дела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Молодцы. Оценки за урок я вам скажу после проверки ваших самостоятельных работ. Урок оконче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ип урок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закрепление изученного матери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, рабочая тетрадь, 3 разрезанных на детали снеговика, плакате геометрическими фигурами ( квадрат и прямоугольник), изображение снежной горки, отпечатанные на листочках задания, изображение снежин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рганизационный момен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Ну-ка проверь, дружок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ы готов начать урок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ё ль на месте, Всё ль в порядке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чка, книжки и тетрадка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ли правильно сидят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ль внимательно глядят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ждый хочет получа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уроке только «пять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общение темы и цели урок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Таблица умнож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стойна ува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а всегда во всём пра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б ни случилось в мир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А всё же будет дважды дв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- прежнему четыр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С. Маршак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бята, сегодня на нашем уроке мы будем закреплять знания таблицы умножения и деления, вспомним и проверим, как вы её запомнили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ступила зима, скоро выпадет снег и появятся всевозможные зимние забавы. Давайте поиграем в одну из зимних забав- слепим снеговик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 каждого ряда будет снеговик, но для того чтобы его слепить нам придется примеры решить. Проведём соревнование, кто быстрее его слепит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каждого ряда выходят по цепочке по одному человеку, решили пример - прикрепили одну деталь снеговика. Выиграет тот ряд- кто быстрее и правильнее решит и соберёт снеговик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стный счё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15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ря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9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4:8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-2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6: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979640" y="1628640"/>
            <a:ext cx="19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ря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8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6:8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3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6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48000" y="1700280"/>
            <a:ext cx="129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ря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8: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7:9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1:3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8:6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9" descr="Рисунок1"/>
          <p:cNvPicPr/>
          <p:nvPr/>
        </p:nvPicPr>
        <p:blipFill>
          <a:blip r:embed="rId1"/>
          <a:stretch/>
        </p:blipFill>
        <p:spPr>
          <a:xfrm>
            <a:off x="4788000" y="1557360"/>
            <a:ext cx="3873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42472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теперь проверим, как мы слепили снеговика. Проверяем не только свой столбик, но и другого ряда, один отвечает остальные сигнализируют светофор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439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летели к нам снежинки, нужно их расставить в ряд и закономерность их поймат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На доске прикреплены снежинк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ужно прикрепить оставшиеся снежинки к дос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(у доски один ученик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11" descr="Рисунок3"/>
          <p:cNvPicPr/>
          <p:nvPr/>
        </p:nvPicPr>
        <p:blipFill>
          <a:blip r:embed="rId1"/>
          <a:stretch/>
        </p:blipFill>
        <p:spPr>
          <a:xfrm>
            <a:off x="4859280" y="119700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51:23Z</dcterms:created>
  <dc:creator>Бочарова Светлана Григорьевна</dc:creator>
  <dc:description/>
  <dc:language>en-US</dc:language>
  <cp:lastModifiedBy>User</cp:lastModifiedBy>
  <dcterms:modified xsi:type="dcterms:W3CDTF">2015-02-02T09:50:31Z</dcterms:modified>
  <cp:revision>13</cp:revision>
  <dc:subject/>
  <dc:title>Открытый урок  по математике </dc:title>
</cp:coreProperties>
</file>