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9A0-C163-4779-AE39-B885EB43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65F-7924-4EAF-802A-F7B2ABB3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AD53-F79A-4033-B446-CF2608DD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90D-6DC3-4038-B2AA-F640D758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BAB-D69B-4BA9-AD2C-EAF8645F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698-AF72-43C0-B924-7479FF1D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2B3-2D9B-4BE3-89B2-C5356B7F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71E-12AE-40DB-BC82-B57FE059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0BB-8F5B-4AB0-9229-DFD1204E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ED1-47EF-48A1-99DE-D45A99DB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E51-55F5-49C4-81B4-406EF518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1E9-783B-43BF-AC5B-42C1A8A6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D1FA-5948-432A-B635-DDEAC6671B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971640" y="1052640"/>
            <a:ext cx="705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ть этот день несет н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дость общени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олнит сердц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агородными чувств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428920" y="21420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В Ы В О 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extBox 2" descr=""/>
          <p:cNvPicPr/>
          <p:nvPr/>
        </p:nvPicPr>
        <p:blipFill>
          <a:blip r:embed="rId1"/>
          <a:stretch/>
        </p:blipFill>
        <p:spPr>
          <a:xfrm>
            <a:off x="-23760" y="1133640"/>
            <a:ext cx="89596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extBox 1" descr=""/>
          <p:cNvPicPr/>
          <p:nvPr/>
        </p:nvPicPr>
        <p:blipFill>
          <a:blip r:embed="rId1"/>
          <a:stretch/>
        </p:blipFill>
        <p:spPr>
          <a:xfrm>
            <a:off x="1079640" y="-6480"/>
            <a:ext cx="6643440" cy="9874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00040" y="135720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1. Выборочный пересказ расска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TextBox 3" descr=""/>
          <p:cNvPicPr/>
          <p:nvPr/>
        </p:nvPicPr>
        <p:blipFill>
          <a:blip r:embed="rId2"/>
          <a:stretch/>
        </p:blipFill>
        <p:spPr>
          <a:xfrm>
            <a:off x="701640" y="2133720"/>
            <a:ext cx="8113680" cy="2152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571680" y="478620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Письменно ответьте на вопрос: Чем должен жить челов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libri"/>
              </a:rPr>
              <a:t>Тема уро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Музыка Э.Грига в произведении К.Г.Паустовского «Корзина с еловыми шишкам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Задачи уро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художественный вкус, любовь и интерес к чтению и к классической музы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енствовать навык выразительного чт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умение вести диало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ее глубоко вникать в смысл произве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mpkg0007"/>
          <p:cNvPicPr/>
          <p:nvPr/>
        </p:nvPicPr>
        <p:blipFill>
          <a:blip r:embed="rId1"/>
          <a:stretch/>
        </p:blipFill>
        <p:spPr>
          <a:xfrm>
            <a:off x="324000" y="333360"/>
            <a:ext cx="3887640" cy="2682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grig_eh_kh1"/>
          <p:cNvPicPr/>
          <p:nvPr/>
        </p:nvPicPr>
        <p:blipFill>
          <a:blip r:embed="rId2"/>
          <a:stretch/>
        </p:blipFill>
        <p:spPr>
          <a:xfrm>
            <a:off x="6000840" y="1285920"/>
            <a:ext cx="2533680" cy="3990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042920" y="3068640"/>
            <a:ext cx="248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Г.Пауст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92-19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148360" y="5445000"/>
            <a:ext cx="19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.Гр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43-19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C:\Documents and Settings\StreamofMyst\Мои документы\Мама\уроки чтения\Паустовский\картинки\12.gif"/>
          <p:cNvPicPr/>
          <p:nvPr/>
        </p:nvPicPr>
        <p:blipFill>
          <a:blip r:embed="rId1"/>
          <a:stretch/>
        </p:blipFill>
        <p:spPr>
          <a:xfrm>
            <a:off x="-6480" y="30240"/>
            <a:ext cx="4657680" cy="31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4925880" y="1206360"/>
            <a:ext cx="4224600" cy="28720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" descr=""/>
          <p:cNvPicPr/>
          <p:nvPr/>
        </p:nvPicPr>
        <p:blipFill>
          <a:blip r:embed="rId3"/>
          <a:stretch/>
        </p:blipFill>
        <p:spPr>
          <a:xfrm>
            <a:off x="-438120" y="2700360"/>
            <a:ext cx="10015560" cy="4024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2" descr=""/>
          <p:cNvPicPr/>
          <p:nvPr/>
        </p:nvPicPr>
        <p:blipFill>
          <a:blip r:embed="rId1"/>
          <a:stretch/>
        </p:blipFill>
        <p:spPr>
          <a:xfrm>
            <a:off x="603360" y="1219320"/>
            <a:ext cx="72849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Написание синквейна «Музык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Запишите существительное 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у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а 2 строке запишите 2 прилагательных, характеризующих это сущ. и раскрывающих т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а 3 строке запишите 3 слова, которые выражают действия данного пон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еперь запишите слова, которые отражают ваше отношение к этому понят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Запишите синоним к этому сло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одолжи фраз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сегодня я узнал…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было интересно…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я понял, что…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теперь я могу…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меня удивило…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урок дал мне для жизни…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Рисунок1"/>
          <p:cNvPicPr/>
          <p:nvPr/>
        </p:nvPicPr>
        <p:blipFill>
          <a:blip r:embed="rId1"/>
          <a:stretch/>
        </p:blipFill>
        <p:spPr>
          <a:xfrm>
            <a:off x="0" y="158760"/>
            <a:ext cx="5430960" cy="65404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4" descr=""/>
          <p:cNvPicPr/>
          <p:nvPr/>
        </p:nvPicPr>
        <p:blipFill>
          <a:blip r:embed="rId2"/>
          <a:stretch/>
        </p:blipFill>
        <p:spPr>
          <a:xfrm>
            <a:off x="5205240" y="3638520"/>
            <a:ext cx="3938760" cy="3017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9:17:48Z</dcterms:created>
  <dc:creator>EternalBliss</dc:creator>
  <dc:description/>
  <dc:language>en-US</dc:language>
  <cp:lastModifiedBy>1</cp:lastModifiedBy>
  <dcterms:modified xsi:type="dcterms:W3CDTF">2015-02-03T11:14:08Z</dcterms:modified>
  <cp:revision>50</cp:revision>
  <dc:subject/>
  <dc:title>danilova</dc:title>
</cp:coreProperties>
</file>