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28DE-EA93-4201-9945-DB6603AC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EE21-1546-4C71-A176-50AB8F0A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86EE-13BB-455C-8B2A-E393BD1A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4F59-B9AC-45C1-92D3-3C098F98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4567-A3BF-475B-A96B-417BD657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C0D-F34A-496D-9ED7-DFF116A6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E137-8A44-4A6C-A29F-A4793698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C13-C5A9-4940-A49D-C1EFC4D3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A97C-BFC9-4111-84D0-139D9ADB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4DE2-AA10-4974-A034-DC4A151A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87CB-DD84-43B8-A030-D423E29E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5999-11D3-4BEC-9FE1-EB6A849A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92d05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6F48-9B77-419C-B531-90C5E11C38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971640" y="1052640"/>
            <a:ext cx="705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усть этот день несет на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дость общения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олнит сердц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агородными чувства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2428920" y="214200"/>
            <a:ext cx="328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В Ы В О 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TextBox 2" descr=""/>
          <p:cNvPicPr/>
          <p:nvPr/>
        </p:nvPicPr>
        <p:blipFill>
          <a:blip r:embed="rId1"/>
          <a:stretch/>
        </p:blipFill>
        <p:spPr>
          <a:xfrm>
            <a:off x="-23760" y="1133640"/>
            <a:ext cx="89596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extBox 1" descr=""/>
          <p:cNvPicPr/>
          <p:nvPr/>
        </p:nvPicPr>
        <p:blipFill>
          <a:blip r:embed="rId1"/>
          <a:stretch/>
        </p:blipFill>
        <p:spPr>
          <a:xfrm>
            <a:off x="1079640" y="-6480"/>
            <a:ext cx="6643440" cy="9874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500040" y="135720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바탕"/>
                <a:ea typeface="바탕"/>
              </a:rPr>
              <a:t>1. Выборочный пересказ рассказ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TextBox 3" descr=""/>
          <p:cNvPicPr/>
          <p:nvPr/>
        </p:nvPicPr>
        <p:blipFill>
          <a:blip r:embed="rId2"/>
          <a:stretch/>
        </p:blipFill>
        <p:spPr>
          <a:xfrm>
            <a:off x="701640" y="2133720"/>
            <a:ext cx="8113680" cy="215244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571680" y="478620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Письменно ответьте на вопрос: Чем должен жить человек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libri"/>
              </a:rPr>
              <a:t>Тема уро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Музыка Э.Грига в произведении К.Г.Паустовского «Корзина с еловыми шишкам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alibri"/>
              </a:rPr>
              <a:t>Задачи уро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художественный вкус, любовь и интерес к чтению и к классической музы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енствовать навык выразительного чт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умение вести диало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ее глубоко вникать в смысл произвед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mpkg0007"/>
          <p:cNvPicPr/>
          <p:nvPr/>
        </p:nvPicPr>
        <p:blipFill>
          <a:blip r:embed="rId1"/>
          <a:stretch/>
        </p:blipFill>
        <p:spPr>
          <a:xfrm>
            <a:off x="324000" y="333360"/>
            <a:ext cx="3887640" cy="2682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grig_eh_kh1"/>
          <p:cNvPicPr/>
          <p:nvPr/>
        </p:nvPicPr>
        <p:blipFill>
          <a:blip r:embed="rId2"/>
          <a:stretch/>
        </p:blipFill>
        <p:spPr>
          <a:xfrm>
            <a:off x="6000840" y="1285920"/>
            <a:ext cx="2533680" cy="3990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042920" y="3068640"/>
            <a:ext cx="248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.Г.Пауст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92-196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5148360" y="5445000"/>
            <a:ext cx="196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.Гри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43-19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C:\Documents and Settings\StreamofMyst\Мои документы\Мама\уроки чтения\Паустовский\картинки\12.gif"/>
          <p:cNvPicPr/>
          <p:nvPr/>
        </p:nvPicPr>
        <p:blipFill>
          <a:blip r:embed="rId1"/>
          <a:stretch/>
        </p:blipFill>
        <p:spPr>
          <a:xfrm>
            <a:off x="-6480" y="30240"/>
            <a:ext cx="4657680" cy="31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4925880" y="1206360"/>
            <a:ext cx="4224600" cy="287208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" descr=""/>
          <p:cNvPicPr/>
          <p:nvPr/>
        </p:nvPicPr>
        <p:blipFill>
          <a:blip r:embed="rId3"/>
          <a:stretch/>
        </p:blipFill>
        <p:spPr>
          <a:xfrm>
            <a:off x="-438120" y="2700360"/>
            <a:ext cx="10015560" cy="4024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Прямоугольник 2" descr=""/>
          <p:cNvPicPr/>
          <p:nvPr/>
        </p:nvPicPr>
        <p:blipFill>
          <a:blip r:embed="rId1"/>
          <a:stretch/>
        </p:blipFill>
        <p:spPr>
          <a:xfrm>
            <a:off x="603360" y="1219320"/>
            <a:ext cx="72849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Написание синквейна «Музык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Запишите существительное 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узы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а 2 строке запишите 2 прилагательных, характеризующих это сущ. и раскрывающих те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а 3 строке запишите 3 слова, которые выражают действия данного пон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еперь запишите слова, которые отражают ваше отношение к этому понят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Запишите синоним к этому сло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родолжи фраз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сегодня я узнал…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было интересно…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я понял, что…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теперь я могу…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меня удивило…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54061"/>
                </a:solidFill>
                <a:latin typeface="Calibri"/>
              </a:rPr>
              <a:t>урок дал мне для жизни…</a:t>
            </a: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Рисунок1"/>
          <p:cNvPicPr/>
          <p:nvPr/>
        </p:nvPicPr>
        <p:blipFill>
          <a:blip r:embed="rId1"/>
          <a:stretch/>
        </p:blipFill>
        <p:spPr>
          <a:xfrm>
            <a:off x="0" y="158760"/>
            <a:ext cx="5430960" cy="654048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4" descr=""/>
          <p:cNvPicPr/>
          <p:nvPr/>
        </p:nvPicPr>
        <p:blipFill>
          <a:blip r:embed="rId2"/>
          <a:stretch/>
        </p:blipFill>
        <p:spPr>
          <a:xfrm>
            <a:off x="5205240" y="3638520"/>
            <a:ext cx="3938760" cy="3017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9:17:48Z</dcterms:created>
  <dc:creator>EternalBliss</dc:creator>
  <dc:description/>
  <dc:language>en-US</dc:language>
  <cp:lastModifiedBy>1</cp:lastModifiedBy>
  <dcterms:modified xsi:type="dcterms:W3CDTF">2015-02-03T11:14:08Z</dcterms:modified>
  <cp:revision>50</cp:revision>
  <dc:subject/>
  <dc:title>danilova</dc:title>
</cp:coreProperties>
</file>