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B1A-90AB-4BC9-997C-C675E9D6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B4B-DC22-49EC-A32C-5C878D5A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671-88D1-4B22-A24F-CDB03D76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595-2BE7-43AD-91EB-48E651DD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E366-5F93-4D24-A12B-98504385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822A-7A3E-461D-8A62-91B4BCD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DC2E-0F76-412C-9A7C-0A10CDE0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2867-DB3F-4791-AFBF-775E69F4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4745-C3BE-4B0F-A5E0-F5EE7D60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9C43-6DEB-41D0-ABC8-F4B18E09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ECA8-2980-4A1A-A490-B8E854D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24C-4F99-44C1-8DFA-C97BCEB8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D5E5-3EC4-476B-86C4-FA2F6F2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2ABD-223D-412E-9CFC-3FF1AD7D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0DBA-FD07-4641-9897-9F36FDF0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30F5-840B-47C9-961E-811AD1C3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76FF-8DDC-4FF8-BD81-25BB5527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630C0-E799-4205-A0C7-E82C5D02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FF95-DEA8-4758-B0C0-AB677B7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185A-EF40-44D8-859D-4A6BAE38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2369-C924-4F17-BD9A-1B4FB44B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61B1-D72E-4CE8-8DA3-984C73DD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DFB-E439-4656-BC5E-5F3EB630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2D13-3344-444A-8389-597169B4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D0DB-39EC-45DC-B9CB-A242F52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7292-660C-4F24-B92B-CE129846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AB0F-1640-4415-BF6E-6656CE6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9922-7B93-4F89-B96A-4BBD18E6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FF77F-EA28-48D0-8969-ECD97328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7264-5EDF-4D5B-A80C-8ED9AD12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EA3A-3710-43A6-8492-AFF1A3E5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7F5F-5725-4158-9F9D-7925B0B0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F6BE-D1FD-4B2A-BBC2-456D801B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483-D028-4585-8CF5-1854BF6D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0887-245C-4996-B482-1CC3C80F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DD51-A64F-4E54-B229-96962F5B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9544-D6DD-4195-AA76-73CFAE51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C714-1C55-4BD8-80A9-5E61719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E620-4509-4745-A80A-C17017A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FE05-6F58-4404-8290-18106CE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B916C-0FCD-43EA-9371-EE9042E6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5C561-F827-4D71-BD7D-D2A6A34E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E352-07CD-41AA-8E47-D114B191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E2AD-E83C-4AE3-9E22-1B97361A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B17-CFAF-4F05-B48A-354CF340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D07C-5C76-4E90-BBA5-F7090683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5B3C9-8CA3-4803-9102-47CC9D99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E6A39-883C-45AA-AA2D-1D1CF624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2587-E943-43BB-9D7E-3E2FCF9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895B6-E01C-41C0-BD99-004BA19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17C04-6915-4F7E-BE01-ACD5920C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FE988-F4F8-4DCF-A9AB-5F551D38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8E05-EDF3-4632-835A-CFB6B539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37C16-05A3-46DE-9D0F-3F991A3C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FEA1-32BA-47B6-B3E4-3C98092D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837-DF4D-4083-B612-7294C333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5C3A8-F466-4E9E-8B20-96379DBD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CA57F-4C19-43AA-8D51-A1616D3A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DF63C-D9B2-4967-9871-17E122A5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0CB53-F04E-469E-A176-0D3CF6FB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D8F59-DB4A-413B-BE5D-5FF9B9FD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10D6-B6B6-457D-9AA0-CBD9FD5E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F29DE-95EF-4198-9204-7F2F4A16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CB68B-7392-42DA-A210-AC0D93C5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A483-66FB-4F6C-A469-4124860C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C501-23C9-471B-BBD7-7563A19C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A63-8C39-4F21-BAC2-9BC821F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D078B-DFBE-49C2-826D-A087112E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B979-D650-488E-9CA2-F52D1DB4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B384D-CB0E-4B3B-B0EA-CE59288F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49147-B3CE-458B-AE49-A0D032C2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46640-4D7C-42F0-A525-73705B27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2D466-D026-4629-BD40-A1911D44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E80AA-368B-4D2E-86DF-EBE05508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80CCB-318A-40E9-AED4-C8409F46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DB839-320A-4C02-A01A-7A26FB46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F46AD-1924-41C4-9705-D77E7B5F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C0B-CB54-426F-9252-29456373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40AAF-F6FB-44B7-95EF-C6487248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1EE28-5A53-4964-B446-EE16A24D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73E71-0175-441A-AD79-D31C12FF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3D45C-1BEF-4069-AEEF-1D660F8B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11ED5-6F86-429E-9DF6-B8219316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477-DD73-43BD-99F7-C429631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0F53-6156-4ED7-AE93-9428F3033D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F058-DC0E-4AD2-AF38-DD3099F03C4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D48E-61B8-4101-8F6D-5F187AEFF2F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74F-04F3-476E-AF4C-72FF971464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999-4EAF-4CD7-B66A-8203AE76CA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8154-FCF5-4CEA-B5C1-AD725F6EB5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3BE1-C4C8-402C-94F2-2A3B5903B1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5"/>
          <p:cNvSpPr txBox="1"/>
          <p:nvPr/>
        </p:nvSpPr>
        <p:spPr>
          <a:xfrm>
            <a:off x="442800" y="138240"/>
            <a:ext cx="82296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епени Сравн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лагатель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WordArt 6"/>
          <p:cNvSpPr txBox="1"/>
          <p:nvPr/>
        </p:nvSpPr>
        <p:spPr>
          <a:xfrm>
            <a:off x="576360" y="3414600"/>
            <a:ext cx="7924680" cy="31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8" descr="Новый рисунок (18)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572314"/>
                </a:solidFill>
                <a:latin typeface="Comic Sans MS"/>
              </a:rPr>
              <a:t>Если Вам все ясно и понятно - проверьте свои знания и продемонстрируйте другим. </a:t>
            </a:r>
            <a:r>
              <a:rPr b="0" lang="ru-RU" sz="3200" spc="-1" strike="noStrike">
                <a:solidFill>
                  <a:srgbClr val="198a8a"/>
                </a:solidFill>
                <a:latin typeface="Comic Sans MS"/>
              </a:rPr>
              <a:t>Пройдите тест на образование степеней сравнения прилагательных.</a:t>
            </a:r>
            <a:r>
              <a:rPr b="0" lang="ru-RU" sz="3200" spc="-1" strike="noStrike">
                <a:solidFill>
                  <a:srgbClr val="572314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80880" y="2514600"/>
            <a:ext cx="7696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mic Sans MS"/>
              </a:rPr>
              <a:t>Choose the right le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o is the cleverest ani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dolphin               c) 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monkey              d) pengu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) Who is the biggest animal on the la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camel                 c) giraf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elephant            d) c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) Who is the fastest animal on the la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tiger                   c) leop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eagle                  d) h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1523880" y="1752480"/>
            <a:ext cx="62485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luck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Имена прилагательные в английском языке имеют три степени сравнения: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Comic Sans MS"/>
              </a:rPr>
              <a:t>положительную </a:t>
            </a: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(the Positive Degree),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ru-RU" sz="2500" spc="-1" strike="noStrike">
                <a:solidFill>
                  <a:srgbClr val="009900"/>
                </a:solidFill>
                <a:latin typeface="Comic Sans MS"/>
              </a:rPr>
              <a:t>сравнительную (</a:t>
            </a:r>
            <a:r>
              <a:rPr b="0" lang="en-US" sz="2500" spc="-1" strike="noStrike">
                <a:solidFill>
                  <a:srgbClr val="009900"/>
                </a:solidFill>
                <a:latin typeface="Comic Sans MS"/>
              </a:rPr>
              <a:t>the Comparative Degree)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500" spc="-1" strike="noStrike">
                <a:solidFill>
                  <a:srgbClr val="ff6600"/>
                </a:solidFill>
                <a:latin typeface="Comic Sans MS"/>
              </a:rPr>
              <a:t>превосходную (</a:t>
            </a:r>
            <a:r>
              <a:rPr b="0" lang="en-US" sz="2500" spc="-1" strike="noStrike">
                <a:solidFill>
                  <a:srgbClr val="ff6600"/>
                </a:solidFill>
                <a:latin typeface="Comic Sans MS"/>
              </a:rPr>
              <a:t>the Superlative Degree).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Степени сравнения односложных прилагательных образуются путем прибавления суффиксов к прилагательным в положительной степени: в сравнительной степени прибавляется суффикс 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-еr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, в превосходной степени -суффикс 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ru-RU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isten, read and lear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rm – warmer – the warm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d – colder – the cold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ean – cleaner – the clean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 – kinder – the kind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l – taller – the tall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-360" y="2282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написании удваивается конечная согласная буква, если односложное прилагательное оканчивается на одну согласную с предшествующим кратким гласным звуком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t- hotter- the hottest 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g - bigger – the bigge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t – fatter- the fatte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4" descr="Копия Новый рисунок (22)"/>
          <p:cNvPicPr/>
          <p:nvPr/>
        </p:nvPicPr>
        <p:blipFill>
          <a:blip r:embed="rId1"/>
          <a:stretch/>
        </p:blipFill>
        <p:spPr>
          <a:xfrm>
            <a:off x="800280" y="4419720"/>
            <a:ext cx="1847520" cy="2114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Копия Новый рисунок (22)"/>
          <p:cNvPicPr/>
          <p:nvPr/>
        </p:nvPicPr>
        <p:blipFill>
          <a:blip r:embed="rId2"/>
          <a:stretch/>
        </p:blipFill>
        <p:spPr>
          <a:xfrm>
            <a:off x="3162240" y="388620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Копия Новый рисунок (22)"/>
          <p:cNvPicPr/>
          <p:nvPr/>
        </p:nvPicPr>
        <p:blipFill>
          <a:blip r:embed="rId3"/>
          <a:stretch/>
        </p:blipFill>
        <p:spPr>
          <a:xfrm>
            <a:off x="5924520" y="3200400"/>
            <a:ext cx="2979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d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Копия (2) Новый рисунок (22)"/>
          <p:cNvPicPr/>
          <p:nvPr/>
        </p:nvPicPr>
        <p:blipFill>
          <a:blip r:embed="rId1"/>
          <a:stretch/>
        </p:blipFill>
        <p:spPr>
          <a:xfrm>
            <a:off x="685800" y="3886200"/>
            <a:ext cx="2212920" cy="2762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3505320" y="38862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6324480" y="3886200"/>
            <a:ext cx="2216160" cy="2762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0"/>
          <p:cNvSpPr/>
          <p:nvPr/>
        </p:nvSpPr>
        <p:spPr>
          <a:xfrm>
            <a:off x="2133720" y="1447920"/>
            <a:ext cx="510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y – sunnier – the sunn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y – happier – the happ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ry – hungrier – the hung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y – messier – the mess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y – dirtier – the dirt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1" descr="Рисунок1"/>
          <p:cNvPicPr/>
          <p:nvPr/>
        </p:nvPicPr>
        <p:blipFill>
          <a:blip r:embed="rId4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-360" y="8380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онечная гласная </a:t>
            </a:r>
            <a:r>
              <a:rPr b="1" lang="ru-RU" sz="3600" spc="-1" strike="noStrike">
                <a:solidFill>
                  <a:srgbClr val="ff66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(немое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) опускается перед фиксами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the 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ite - whiter – the whites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ice – nicer -the nices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de – wider – the wides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e – later – the lates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0" y="2282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Многосложные прилагательные образуют степени сравнения путём прибавления специальных слов к прилагательному в положительной степени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в сравнительной степени прибавляется слово </a:t>
            </a:r>
            <a:r>
              <a:rPr b="1" lang="ru-RU" sz="2900" spc="-1" strike="noStrike">
                <a:solidFill>
                  <a:srgbClr val="ff6600"/>
                </a:solidFill>
                <a:latin typeface="Comic Sans MS"/>
              </a:rPr>
              <a:t>more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, в превосходной степени слово </a:t>
            </a:r>
            <a:r>
              <a:rPr b="1" lang="ru-RU" sz="2900" spc="-1" strike="noStrike">
                <a:solidFill>
                  <a:srgbClr val="ff6600"/>
                </a:solidFill>
                <a:latin typeface="Comic Sans MS"/>
              </a:rPr>
              <a:t>most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5" descr="Новый рисунок (24)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8" descr="Новый рисунок (31)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7" descr="прилаг (5)"/>
          <p:cNvPicPr/>
          <p:nvPr/>
        </p:nvPicPr>
        <p:blipFill>
          <a:blip r:embed="rId2"/>
          <a:stretch/>
        </p:blipFill>
        <p:spPr>
          <a:xfrm>
            <a:off x="0" y="12952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omic Sans MS"/>
              </a:rPr>
              <a:t>Упражнение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1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7621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pare the animals. Use the words: </a:t>
            </a:r>
            <a:r>
              <a:rPr b="0" lang="en-US" sz="2600" spc="-1" strike="noStrike">
                <a:solidFill>
                  <a:srgbClr val="feb80a"/>
                </a:solidFill>
                <a:latin typeface="Comic Sans MS"/>
              </a:rPr>
              <a:t>useful, clever, big, strong, beautiful, funny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An elephant is bigger than a lion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5" descr="elephant"/>
          <p:cNvPicPr/>
          <p:nvPr/>
        </p:nvPicPr>
        <p:blipFill>
          <a:blip r:embed="rId1"/>
          <a:stretch/>
        </p:blipFill>
        <p:spPr>
          <a:xfrm rot="21406800">
            <a:off x="274320" y="2711160"/>
            <a:ext cx="3682800" cy="3598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lion"/>
          <p:cNvPicPr/>
          <p:nvPr/>
        </p:nvPicPr>
        <p:blipFill>
          <a:blip r:embed="rId2"/>
          <a:stretch/>
        </p:blipFill>
        <p:spPr>
          <a:xfrm>
            <a:off x="6534000" y="3828960"/>
            <a:ext cx="2595600" cy="2667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rabbit"/>
          <p:cNvPicPr/>
          <p:nvPr/>
        </p:nvPicPr>
        <p:blipFill>
          <a:blip r:embed="rId3"/>
          <a:stretch/>
        </p:blipFill>
        <p:spPr>
          <a:xfrm>
            <a:off x="228600" y="1905120"/>
            <a:ext cx="1676520" cy="1660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пп"/>
          <p:cNvPicPr/>
          <p:nvPr/>
        </p:nvPicPr>
        <p:blipFill>
          <a:blip r:embed="rId4"/>
          <a:stretch/>
        </p:blipFill>
        <p:spPr>
          <a:xfrm rot="21427800">
            <a:off x="3809880" y="3885840"/>
            <a:ext cx="2352960" cy="2666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Копия 1-4 класс (12)"/>
          <p:cNvPicPr/>
          <p:nvPr/>
        </p:nvPicPr>
        <p:blipFill>
          <a:blip r:embed="rId5"/>
          <a:stretch/>
        </p:blipFill>
        <p:spPr>
          <a:xfrm rot="378600">
            <a:off x="3885840" y="2133720"/>
            <a:ext cx="2295360" cy="1439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1" descr="parrot"/>
          <p:cNvPicPr/>
          <p:nvPr/>
        </p:nvPicPr>
        <p:blipFill>
          <a:blip r:embed="rId6"/>
          <a:stretch/>
        </p:blipFill>
        <p:spPr>
          <a:xfrm rot="264600">
            <a:off x="6629040" y="1828440"/>
            <a:ext cx="1860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прилаг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333360" y="7308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28600" y="487692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the pictures and say: which one is happ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user</cp:lastModifiedBy>
  <dcterms:modified xsi:type="dcterms:W3CDTF">2015-02-03T13:58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