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0D2-F6DA-4E83-9DF7-93BD04D9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646-7477-4F01-839F-3953EA58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F55-6BE4-4E9E-B1A7-752970A5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7A5-4F4F-4B48-A5BB-5A5499D4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56A-72DA-4852-B51D-A45BABED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966-47CA-4821-8B4D-897C1E2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2DE3-7A33-4425-9E0F-152EDC0E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3344-DA7E-4207-85C3-CC1FB5F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DDE-8EB7-4CD0-8799-93E1531A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36EC-2E46-4758-9E8E-4007788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08DB-A6E9-42B9-AD78-1D714E9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F91-B875-45B5-82AD-A6C0F65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B32D-7E3A-4620-9084-23AA941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9F93-BFAD-4F59-B4E8-9A72BF58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E1B-4AD7-4768-93CE-0242EA6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939-3C1D-4986-97A2-93429630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27B6-A51C-4412-B7EF-2F8CEDA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2AE9-00D3-46C5-8904-EA26C1ED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FFD2-51BF-4B3E-89F7-AAAA49F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6F4D-523C-4DB9-861F-A969098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9495-085E-452A-8426-AF3B6A2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BA47-7868-424C-906E-D6DE39BC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042-CE26-402A-9A26-740FFDC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4F02-9E0F-46D4-81B5-F2F1A3F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DCEB-2662-4D09-88C8-48E0563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39E8-7B7B-412A-8BEB-D2401AA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AAE6-2E09-45C3-8128-196FF5A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7CA0-2766-4A06-B7DB-4390BC2C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BC3A-D377-46AE-981E-3C1B0457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A470-BEFB-4B57-987F-2D09069C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414E-1B06-4EDE-BB2A-2F54EE59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0769-CB2D-48A1-8659-A272949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526B-6323-4562-9D0C-734468E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D1C-EC8E-4B04-A523-CF2F7F2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3049-F401-4F59-B63C-1F956BF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1F1B-7865-458C-BF17-A3841FBD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E5AF-5CF6-46FE-B201-25D59C1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115E-B5C3-4189-B1F6-FEEF56E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1FDB-0BCD-4EA6-A394-30D3B42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4FC3-BA02-4DD5-8083-615C9B6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BF4D-82B1-4C3F-A2A0-2C34C95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81E1-F6C0-4154-A782-B9D0EC2A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E58B-D35A-47C5-809D-564DC17E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E123-4D85-472A-A9B2-DF7B305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9BF-702B-4881-AD8B-653568D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2C57-5195-40DE-BDEB-00001296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5041-21BA-47F2-A2D1-9F6DDF9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9048-7DAF-4DE3-B16E-77CD1DD6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6A2D-5E37-48C6-B66C-1B67885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CC2B-A441-4AAC-A623-20BF5A4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B889-E08F-416E-B186-7813105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4094-DE1A-4B96-89B4-A3CCD147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7C162-623D-456F-926B-5D762608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5133-6035-401A-847E-8017C029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12B0-CA0E-4FFC-BAE7-CF3EB200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A31-E466-4E8D-9713-1E045FA2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81FA-D7E5-495D-957A-6620088C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86A7-EAE2-442A-AC9D-D682702B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97FE-10EC-4131-871B-9A0124A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5E1B-62F6-4224-B7E2-FFDB7BBC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24309-D6DF-440B-A74E-1C651BC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7BC7-7212-4E4D-AE72-DD7EB16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5AF0-2458-4178-AA56-BDB015F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0EC4-DD2D-4822-B439-1F7B9A0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0A32-24DE-4620-84EE-41A156C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189C-D4F9-4305-A974-0FDF02F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4F1-70A0-4FE9-A5F5-1766A67D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9710-C2B3-47DF-B4EF-D09FED52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681E-8AB4-4FF4-8667-10C145E1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E4FA-D98B-4D73-BBA9-272D1771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6AAA-FA0C-470E-B646-CC19307B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7798-68B5-47C6-A1B1-260CAAE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0294-0B76-4EA4-80B2-62E48B8A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3799-BEDD-478F-B21A-121D23F9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713B-540A-46E4-8C43-C8D069F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6519-289D-4939-BAFB-1586784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611F-C5B0-4FB2-8982-93DEC77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A2A-1271-4763-A3B0-FEB1527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754F-0C4F-40CE-8282-79CC807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D08D-D964-4A95-8390-A592DF5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1625-49D9-4051-9E42-E2160EB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58C6-A97A-45A9-8B18-0F92C39D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CDD5D-7B19-49E7-BB9C-AACE3064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040-8E8A-46C0-B8AE-50289DA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7B4-53CE-4CE4-8FDE-2C7716078E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0656-3302-4FD5-8102-C901EAECD6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F59D-BF7D-4DF4-A88F-843CB200985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711-00E3-4768-A978-833AD9F661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816-7D11-4DA3-AB94-DFB1F0D1AD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6F2-6A04-402F-85B5-2F35BD12D7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511-DFEE-41C4-A3B1-37222723AB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442800" y="138240"/>
            <a:ext cx="82296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епени С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576360" y="3414600"/>
            <a:ext cx="792468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572314"/>
                </a:solidFill>
                <a:latin typeface="Comic Sans MS"/>
              </a:rPr>
              <a:t>Если Вам все ясно и понятно - проверьте свои знания и продемонстрируйте другим. </a:t>
            </a:r>
            <a:r>
              <a:rPr b="0" lang="ru-RU" sz="3200" spc="-1" strike="noStrike">
                <a:solidFill>
                  <a:srgbClr val="198a8a"/>
                </a:solidFill>
                <a:latin typeface="Comic Sans MS"/>
              </a:rPr>
              <a:t>Пройдите тест на образование степеней сравнения прилагательных.</a:t>
            </a:r>
            <a:r>
              <a:rPr b="0" lang="ru-RU" sz="3200" spc="-1" strike="noStrike">
                <a:solidFill>
                  <a:srgbClr val="572314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80880" y="2514600"/>
            <a:ext cx="7696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mic Sans MS"/>
              </a:rPr>
              <a:t>Choose the right l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o is the cleverest an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dolphin               c) 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monkey              d) peng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) Who is the bigg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camel                 c) gira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lephant            d) c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) Who is the fastest animal on the la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) tiger                   c) leop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) eagle                  d) h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Имена прилагательные в английском языке имеют три степени сравнения: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Comic Sans MS"/>
              </a:rPr>
              <a:t>положительную </a:t>
            </a: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(the Positive Degree),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ru-RU" sz="2500" spc="-1" strike="noStrike">
                <a:solidFill>
                  <a:srgbClr val="009900"/>
                </a:solidFill>
                <a:latin typeface="Comic Sans MS"/>
              </a:rPr>
              <a:t>сравнительную (</a:t>
            </a:r>
            <a:r>
              <a:rPr b="0" lang="en-US" sz="2500" spc="-1" strike="noStrike">
                <a:solidFill>
                  <a:srgbClr val="009900"/>
                </a:solidFill>
                <a:latin typeface="Comic Sans MS"/>
              </a:rPr>
              <a:t>the Comparative Degree)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500" spc="-1" strike="noStrike">
                <a:solidFill>
                  <a:srgbClr val="ff6600"/>
                </a:solidFill>
                <a:latin typeface="Comic Sans MS"/>
              </a:rPr>
              <a:t>превосходную (</a:t>
            </a:r>
            <a:r>
              <a:rPr b="0" lang="en-US" sz="2500" spc="-1" strike="noStrike">
                <a:solidFill>
                  <a:srgbClr val="ff6600"/>
                </a:solidFill>
                <a:latin typeface="Comic Sans MS"/>
              </a:rPr>
              <a:t>the Superlative Degree)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Степени сравнения односложных прилагательных образуются путем прибавления суффиксов к прилагательным в положительной степени: в сравнительной степени прибавляется суффикс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-еr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, в превосходной степени -суффикс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isten, read and lear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rm – warmer – the warm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d – colder – the cold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ean – cleaner – the clean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 – kinder – the kind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l – taller – the talle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-360" y="228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написании удваивается конечная согласная буква, если односложное прилагательное оканчивается на одну согласную с предшествующим кратким гласным звуком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- hotter- the hottest 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g - bigger – the bigge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– fatter- the fatte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4" descr="Копия Новый рисунок (22)"/>
          <p:cNvPicPr/>
          <p:nvPr/>
        </p:nvPicPr>
        <p:blipFill>
          <a:blip r:embed="rId1"/>
          <a:stretch/>
        </p:blipFill>
        <p:spPr>
          <a:xfrm>
            <a:off x="800280" y="4419720"/>
            <a:ext cx="1847520" cy="2114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Копия Новый рисунок (22)"/>
          <p:cNvPicPr/>
          <p:nvPr/>
        </p:nvPicPr>
        <p:blipFill>
          <a:blip r:embed="rId2"/>
          <a:stretch/>
        </p:blipFill>
        <p:spPr>
          <a:xfrm>
            <a:off x="3162240" y="38862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Копия Новый рисунок (22)"/>
          <p:cNvPicPr/>
          <p:nvPr/>
        </p:nvPicPr>
        <p:blipFill>
          <a:blip r:embed="rId3"/>
          <a:stretch/>
        </p:blipFill>
        <p:spPr>
          <a:xfrm>
            <a:off x="5924520" y="3200400"/>
            <a:ext cx="2979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d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685800" y="3886200"/>
            <a:ext cx="2212920" cy="2762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505320" y="38862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324480" y="3886200"/>
            <a:ext cx="2216160" cy="276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0"/>
          <p:cNvSpPr/>
          <p:nvPr/>
        </p:nvSpPr>
        <p:spPr>
          <a:xfrm>
            <a:off x="2133720" y="1447920"/>
            <a:ext cx="510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y – sunnier – the sunn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y – happier – the happ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gry – hungrier – the hung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y – messier – the mess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y – dirtier – the dirt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Рисунок1"/>
          <p:cNvPicPr/>
          <p:nvPr/>
        </p:nvPicPr>
        <p:blipFill>
          <a:blip r:embed="rId4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-360" y="8380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te - whiter – the whit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ice – nicer -the nic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de – wider – the wid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 – later – the lates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0" y="2282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Многосложные прилагательные образуют степени сравнения путём прибавления специальных слов к прилагательному в положительной степени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в сравнительной степени прибавляется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re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, в превосходной степени слово </a:t>
            </a:r>
            <a:r>
              <a:rPr b="1" lang="ru-RU" sz="2900" spc="-1" strike="noStrike">
                <a:solidFill>
                  <a:srgbClr val="ff6600"/>
                </a:solidFill>
                <a:latin typeface="Comic Sans MS"/>
              </a:rPr>
              <a:t>most</a:t>
            </a: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5" descr="Новый рисунок (24)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Новый рисунок (31)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7" descr="прилаг (5)"/>
          <p:cNvPicPr/>
          <p:nvPr/>
        </p:nvPicPr>
        <p:blipFill>
          <a:blip r:embed="rId2"/>
          <a:stretch/>
        </p:blipFill>
        <p:spPr>
          <a:xfrm>
            <a:off x="0" y="12952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omic Sans MS"/>
              </a:rPr>
              <a:t>Упражнение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1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762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are the animals. Use the words: </a:t>
            </a:r>
            <a:r>
              <a:rPr b="0" lang="en-US" sz="2600" spc="-1" strike="noStrike">
                <a:solidFill>
                  <a:srgbClr val="feb80a"/>
                </a:solidFill>
                <a:latin typeface="Comic Sans MS"/>
              </a:rPr>
              <a:t>useful, clever, big, strong, beautiful, funny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An elephant is bigger than a lio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5" descr="elephant"/>
          <p:cNvPicPr/>
          <p:nvPr/>
        </p:nvPicPr>
        <p:blipFill>
          <a:blip r:embed="rId1"/>
          <a:stretch/>
        </p:blipFill>
        <p:spPr>
          <a:xfrm rot="21406800">
            <a:off x="274320" y="2711160"/>
            <a:ext cx="3682800" cy="3598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lion"/>
          <p:cNvPicPr/>
          <p:nvPr/>
        </p:nvPicPr>
        <p:blipFill>
          <a:blip r:embed="rId2"/>
          <a:stretch/>
        </p:blipFill>
        <p:spPr>
          <a:xfrm>
            <a:off x="6534000" y="3828960"/>
            <a:ext cx="2595600" cy="2667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rabbit"/>
          <p:cNvPicPr/>
          <p:nvPr/>
        </p:nvPicPr>
        <p:blipFill>
          <a:blip r:embed="rId3"/>
          <a:stretch/>
        </p:blipFill>
        <p:spPr>
          <a:xfrm>
            <a:off x="228600" y="1905120"/>
            <a:ext cx="1676520" cy="1660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пп"/>
          <p:cNvPicPr/>
          <p:nvPr/>
        </p:nvPicPr>
        <p:blipFill>
          <a:blip r:embed="rId4"/>
          <a:stretch/>
        </p:blipFill>
        <p:spPr>
          <a:xfrm rot="21427800">
            <a:off x="3809880" y="3885840"/>
            <a:ext cx="2352960" cy="2666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Копия 1-4 класс (12)"/>
          <p:cNvPicPr/>
          <p:nvPr/>
        </p:nvPicPr>
        <p:blipFill>
          <a:blip r:embed="rId5"/>
          <a:stretch/>
        </p:blipFill>
        <p:spPr>
          <a:xfrm rot="378600">
            <a:off x="3885840" y="2133720"/>
            <a:ext cx="2295360" cy="1439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parrot"/>
          <p:cNvPicPr/>
          <p:nvPr/>
        </p:nvPicPr>
        <p:blipFill>
          <a:blip r:embed="rId6"/>
          <a:stretch/>
        </p:blipFill>
        <p:spPr>
          <a:xfrm rot="264600">
            <a:off x="6629040" y="1828440"/>
            <a:ext cx="186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333360" y="7308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28600" y="487692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user</cp:lastModifiedBy>
  <dcterms:modified xsi:type="dcterms:W3CDTF">2015-02-03T13:58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