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CBD-BB4A-4285-BE3E-EED1116F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C46-6C26-4C36-B4BD-338CB0D5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5DA-669A-4D3E-B668-FED3A82B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097-5DF8-4C14-8E68-14E0DAD0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049-5857-49AD-B426-113B1189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C2C-F4F3-4FBB-95B0-62B0B465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3DF-6A77-462B-BD89-5E06AD12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9025-15B2-4203-91AC-8DE6F507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5E9-8316-45F1-B0E9-E44788B3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2FB-8879-4C21-88F4-6BB55115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D64-5619-4A1B-A82D-FCFF2F40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EF45-3F08-4A42-B9AB-C2AFB7E6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0CC9-3DA7-4047-8A11-B63755810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mons.wikimedia.org/wiki/File:Vologda_PTO_museum_74.jpg?uselang=ru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mons.wikimedia.org/wiki/File:1969.&#1040;&#1079;&#1072;&#1088;&#1086;&#1074;&#1072;.JPG?uselang=ru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7451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ворче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420640"/>
            <a:ext cx="8100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Художественная роспись по дерев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5373720"/>
            <a:ext cx="523260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и обучающиеся 9 б класса МБОУ «Богашевская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.А.И. Федорова», Томского рай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иков Павел, Голубицкая Маргар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охл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_4cdc49ba9bf0c" descr=""/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зен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200px-Vologda_PTO_museum_7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5573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ж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200px-1969.Азарова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1268280"/>
            <a:ext cx="4170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одец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4000680" cy="4295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43686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хов-майдан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5203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ор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3912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анк идей и предлож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2808360" cy="2724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2733480" cy="266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156360" y="1197000"/>
            <a:ext cx="2628720" cy="2663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39640" y="39337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924360" y="3933720"/>
            <a:ext cx="1571400" cy="2514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5435640" y="3933720"/>
            <a:ext cx="3543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зайн – анали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проведенного дизайн – анализа можно сделать вывод, что на  сегодняшний момент наиболее интересна Городецкая роспись и роспись в технике Хохл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2952720" cy="2230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161040" y="3716280"/>
            <a:ext cx="2606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ор материалов, инструментов и  приспособ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ревянные заготов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а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ли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ляный лак ПФ-28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кологическое обосн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 работе  использовались краски акриловые, кисти из натуральных волокон, деревянные разделочные доски, шкатулки, тарелки, лак. В  работе учитывались  экологические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зкая популярность и забывание народных промыслов как культурного наследия и особого вида декоративно-приклад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кономическое обосн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бестоимость = сумма всех затрат = 107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имость одной работы примерно составляет 71 руб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рынке такая  работа стоит около 130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пись по дереву — это очень интересное и увлекательное хоб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обретенные знания помогут в будущ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виды художественной росписи по дереву и выполнить изделия для ярма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виды художественной роспис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ть деревянные заготовки разделочных досок, тарелок, подносов, кухонных наб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исать в различных техниках заготов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ализация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ажа изделий на благотворительном  концерте «От сердца к сердцу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стория росписи дер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копки археологов говорят о том, что изобразительное искусство зародилось в глубокой древ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141720"/>
            <a:ext cx="39816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правления росписи по дере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411280" y="1125360"/>
            <a:ext cx="936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1125360"/>
            <a:ext cx="1152360" cy="158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2637000"/>
            <a:ext cx="29530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ди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2565360"/>
            <a:ext cx="273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рская (живопис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диционная развивалась в основном в деревнях на своей исторической родине. Ёе отличает простота, лаконичность, близость к народным корн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0072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ы с авторской росписью изготавливалась обычно в городах мастерами. Эти работы отличаются изяществом, продуманностью, профессионализмом и авторским прочтением тради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современным художественным промыслам росписи по дереву относятся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27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хлом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зенс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же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ец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хов-майданск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рск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03:10:16Z</dcterms:created>
  <dc:creator>Андрей</dc:creator>
  <dc:description/>
  <dc:language>en-US</dc:language>
  <cp:lastModifiedBy>Андрей</cp:lastModifiedBy>
  <dcterms:modified xsi:type="dcterms:W3CDTF">2015-02-03T16:46:45Z</dcterms:modified>
  <cp:revision>3</cp:revision>
  <dc:subject/>
  <dc:title>Творческий проект</dc:title>
</cp:coreProperties>
</file>