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3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D2FB-C50C-4BAC-A6E9-B5755BCA0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F125-CAAE-4BCE-B78D-5CDA09F62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10FE-7279-4EB7-9ECD-E164A8C32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7047-076B-42D0-B6F9-4E9D18813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B387-0187-4C92-B8AE-DF5F409EF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4FB1-D3D5-4064-894F-0A6DF2A45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5C28-4129-408D-9EB2-997CAD8A6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DEAC-0156-4B7C-BB8B-E7BB62E9C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7508-582A-427C-AEF6-FD0C58387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046E-298C-4DAC-961E-335298B55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D30A-77CC-42A0-AF83-8EF44E463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6CD3-6032-496E-845D-C3AD17489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AB4B4-5D15-436E-9D82-35E217CB35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commons.wikimedia.org/wiki/File:Vologda_PTO_museum_74.jpg?uselang=ru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commons.wikimedia.org/wiki/File:1969.&#1040;&#1079;&#1072;&#1088;&#1086;&#1074;&#1072;.JPG?uselang=ru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000" y="765000"/>
            <a:ext cx="745164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ворческий проек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4360" y="2420640"/>
            <a:ext cx="810072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«Художественная роспись по дереву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92360" y="5373720"/>
            <a:ext cx="5232600" cy="10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боту выполнили обучающиеся 9 б класса МБОУ «Богашевская СОШ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м.А.И. Федорова», Томского район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овиков Павел, Голубицкая Маргари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Хохло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image_4cdc49ba9bf0c" descr=""/>
          <p:cNvPicPr/>
          <p:nvPr/>
        </p:nvPicPr>
        <p:blipFill>
          <a:blip r:embed="rId2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езенск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200px-Vologda_PTO_museum_74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763640" y="1557360"/>
            <a:ext cx="6035760" cy="45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же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200px-1969.Азарова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771640" y="1268280"/>
            <a:ext cx="417060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ородецк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4859280" y="1484280"/>
            <a:ext cx="4000680" cy="42958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250920" y="1484280"/>
            <a:ext cx="4368600" cy="42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лхов-майданск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2050920" y="1413000"/>
            <a:ext cx="5203800" cy="45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горск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2268360" y="1557360"/>
            <a:ext cx="4391280" cy="45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Банк идей и предложе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539640" y="1197000"/>
            <a:ext cx="2808360" cy="27241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3419640" y="1197000"/>
            <a:ext cx="2733480" cy="26636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6156360" y="1197000"/>
            <a:ext cx="2628720" cy="26636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5"/>
          <a:stretch/>
        </p:blipFill>
        <p:spPr>
          <a:xfrm>
            <a:off x="539640" y="3933720"/>
            <a:ext cx="3353040" cy="25146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6"/>
          <a:stretch/>
        </p:blipFill>
        <p:spPr>
          <a:xfrm>
            <a:off x="3924360" y="3933720"/>
            <a:ext cx="1571400" cy="25146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7"/>
          <a:stretch/>
        </p:blipFill>
        <p:spPr>
          <a:xfrm>
            <a:off x="5435640" y="3933720"/>
            <a:ext cx="35431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изайн – анализ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з проведенного дизайн – анализа можно сделать вывод, что на  сегодняшний момент наиболее интересна Городецкая роспись и роспись в технике Хохло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340000" y="3860640"/>
            <a:ext cx="2952720" cy="22305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161040" y="3716280"/>
            <a:ext cx="260676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ыбор материалов, инструментов и  приспособл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Деревянные заготовк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рас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и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алит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Масляный лак ПФ-28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Экологическое обоснов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 работе  использовались краски акриловые, кисти из натуральных волокон, деревянные разделочные доски, шкатулки, тарелки, лак. В  работе учитывались  экологические вопрос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роблем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изкая популярность и забывание народных промыслов как культурного наследия и особого вида декоративно-прикладного искус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Экономическое обоснов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ебестоимость = сумма всех затрат = 1072,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тоимость одной работы примерно составляет 71 рубл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 рынке такая  работа стоит около 1300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оспись по дереву — это очень интересное и увлекательное хобб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обретенные знания помогут в будуще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Цель проект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зучить виды художественной росписи по дереву и выполнить изделия для ярмар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Задач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зучить виды художественной роспис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полнить деревянные заготовки разделочных досок, тарелок, подносов, кухонных набор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списать в различных техниках заготовк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еализация проект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8675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дажа изделий на благотворительном  концерте «От сердца к сердцу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История росписи дере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скопки археологов говорят о том, что изобразительное искусство зародилось в глубокой древност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643280" y="3141720"/>
            <a:ext cx="3981600" cy="35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Направления росписи по дерев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2411280" y="1125360"/>
            <a:ext cx="936720" cy="14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51640" y="1125360"/>
            <a:ext cx="1152360" cy="158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87280" y="2637000"/>
            <a:ext cx="2953080" cy="7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радицион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580000" y="2565360"/>
            <a:ext cx="273708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вторская (живописна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403848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радиционная развивалась в основном в деревнях на своей исторической родине. Ёе отличает простота, лаконичность, близость к народным корн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00720" y="620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боты с авторской росписью изготавливалась обычно в городах мастерами. Эти работы отличаются изяществом, продуманностью, профессионализмом и авторским прочтением традиц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 современным художественным промыслам росписи по дереву относятся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62728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охлом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зенск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жель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ородецк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лхов-майданска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горска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29T03:10:16Z</dcterms:created>
  <dc:creator>Андрей</dc:creator>
  <dc:description/>
  <dc:language>en-US</dc:language>
  <cp:lastModifiedBy>Андрей</cp:lastModifiedBy>
  <dcterms:modified xsi:type="dcterms:W3CDTF">2015-02-03T16:46:45Z</dcterms:modified>
  <cp:revision>3</cp:revision>
  <dc:subject/>
  <dc:title>Творческий проект</dc:title>
</cp:coreProperties>
</file>