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F4E-5B07-4A78-9A1B-4DCA172F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74DE-E867-4113-A8D1-1E73E67E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E15-E4F2-4DBC-8469-103EB619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956-792B-4A70-A3B4-25E03E9B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FD9C-3576-4064-83B8-B3FB7407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EA2-EF70-4356-8531-A0820239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C79-B5CA-4970-B11B-06A23215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485D-56D7-444D-8FFD-98EE6045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84A-B2AE-4816-8A0D-17285779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B00-2914-40E5-A7B6-C6FC7B63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8C2-6187-457A-866C-CF48830C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582-3CBD-4C49-8AE5-F7E09955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D52E-0E8C-46E0-BD37-0B63D60A2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: Высшая нерв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920" y="2707920"/>
            <a:ext cx="86421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: Дать понятие о рефлекторных основах высшей нервной деятельности человека; установить особенности высшей нервной деятельност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896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02160" y="476280"/>
            <a:ext cx="46418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16360" y="476280"/>
            <a:ext cx="4297320" cy="5986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43178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8000" y="3284640"/>
            <a:ext cx="4319640" cy="3024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4643280" cy="2076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572000" y="476280"/>
            <a:ext cx="4452840" cy="3024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568760" y="4076640"/>
            <a:ext cx="45752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4476600" cy="6165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189000"/>
            <a:ext cx="4321080" cy="2993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0400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 С. Ники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0" y="3716280"/>
            <a:ext cx="45720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4700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7200720" cy="1965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71640" y="0"/>
            <a:ext cx="7200720" cy="4700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971640" y="4724280"/>
            <a:ext cx="7200720" cy="1965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971640" y="0"/>
            <a:ext cx="7200720" cy="4700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971640" y="4724280"/>
            <a:ext cx="720072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0518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8928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684360" y="260280"/>
            <a:ext cx="104918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95640" y="115920"/>
            <a:ext cx="480348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330440" cy="6369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425448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11280" y="404640"/>
            <a:ext cx="45691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597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52920" y="0"/>
            <a:ext cx="459108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7:58:57Z</dcterms:created>
  <dc:creator>Silver</dc:creator>
  <dc:description/>
  <dc:language>en-US</dc:language>
  <cp:lastModifiedBy>МБОУ СОШ №1</cp:lastModifiedBy>
  <dcterms:modified xsi:type="dcterms:W3CDTF">2015-02-03T02:56:39Z</dcterms:modified>
  <cp:revision>3</cp:revision>
  <dc:subject/>
  <dc:title>Высшая нервная деятельность</dc:title>
</cp:coreProperties>
</file>