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7798-7174-414C-BECF-05AD26E3B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4743-AD08-400D-9A6B-56DFF569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0251-3FF4-4946-AE50-9F51671F1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6752-6E13-4455-8223-ED7074950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A2BA-0E9A-4575-8072-144DF0D5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3658-7BFF-459E-934C-4F0F42A71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CEC2-77EE-4A10-8E40-6703F6123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6735-8B26-41F1-9CA6-A171538A8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F33F-E186-4D1A-9AE2-41EFCF8E5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E789-6B98-4671-8AB2-96530039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C804-C326-4319-855F-63BFA730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1AD7-8057-43A4-A045-26DADFFB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7B556-72FE-4C38-B4C2-4532AE224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ема: Высшая нервная деяте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0920" y="2707920"/>
            <a:ext cx="864216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ль: Дать понятие о рефлекторных основах высшей нервной деятельности человека; установить особенности высшей нервной деятельности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896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502160" y="476280"/>
            <a:ext cx="464184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716360" y="476280"/>
            <a:ext cx="4297320" cy="5986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24000" y="549360"/>
            <a:ext cx="431784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08000" y="3284640"/>
            <a:ext cx="4319640" cy="3024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692280"/>
            <a:ext cx="4643280" cy="20764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572000" y="476280"/>
            <a:ext cx="4452840" cy="3024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568760" y="4076640"/>
            <a:ext cx="457524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4476600" cy="6165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0" y="189000"/>
            <a:ext cx="4321080" cy="29937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04000" y="3429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. С. Никит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572000" y="3716280"/>
            <a:ext cx="457200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7200720" cy="4700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71640" y="4724280"/>
            <a:ext cx="7200720" cy="1965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971640" y="0"/>
            <a:ext cx="7200720" cy="4700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971640" y="4724280"/>
            <a:ext cx="7200720" cy="1965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971640" y="0"/>
            <a:ext cx="7200720" cy="4700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971640" y="4724280"/>
            <a:ext cx="7200720" cy="19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05184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8000" y="476280"/>
            <a:ext cx="89280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684360" y="260280"/>
            <a:ext cx="1049184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195640" y="115920"/>
            <a:ext cx="480348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330440" cy="6369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716360" y="260280"/>
            <a:ext cx="4254480" cy="63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411280" y="404640"/>
            <a:ext cx="45691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6597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552920" y="0"/>
            <a:ext cx="459108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5T07:58:57Z</dcterms:created>
  <dc:creator>Silver</dc:creator>
  <dc:description/>
  <dc:language>en-US</dc:language>
  <cp:lastModifiedBy>МБОУ СОШ №1</cp:lastModifiedBy>
  <dcterms:modified xsi:type="dcterms:W3CDTF">2015-02-03T02:56:39Z</dcterms:modified>
  <cp:revision>3</cp:revision>
  <dc:subject/>
  <dc:title>Высшая нервная деятельность</dc:title>
</cp:coreProperties>
</file>