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4F1E-5D66-452F-A169-7E4EFB7F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64E2-B456-44FF-AE34-1D2ADBE1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ABAD-6A3B-4CB0-BAC9-C08B6C18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5107-7877-4AA0-A069-C76403B1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7D55-B765-45B9-947E-D51BC848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A578-A059-4703-BFFC-3E3A696B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8009-CC74-4E44-9710-AD61E11F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873E-E2C1-420C-8C7F-8C950BA9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A3E9-ED63-4BB6-89A7-D6DE523A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B7CA-87D6-401E-8F00-81A6FCE4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C35D-1539-4CC9-84B1-66885C50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B6AB-C5C1-4B61-9052-3E8616CA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CAA3-53EA-45EE-A775-6DF25CC245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Times New Roman"/>
              </a:rPr>
              <a:t>АФ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Æ</a:t>
            </a:r>
            <a:r>
              <a:rPr b="1" lang="ru-RU" sz="6000" spc="-1" strike="noStrike">
                <a:solidFill>
                  <a:srgbClr val="3333cc"/>
                </a:solidFill>
                <a:latin typeface="Times New Roman"/>
              </a:rPr>
              <a:t>ДЗЫ АФОНТ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12372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Зым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æ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Уалдз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æ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С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æ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р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Ф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æ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зз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æ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C:\WINDOWS\Application Data\Microsoft\Media Catalog\Downloaded Clips\cl78\j0300215.wmf"/>
          <p:cNvPicPr/>
          <p:nvPr/>
        </p:nvPicPr>
        <p:blipFill>
          <a:blip r:embed="rId1"/>
          <a:stretch/>
        </p:blipFill>
        <p:spPr>
          <a:xfrm>
            <a:off x="609480" y="1600200"/>
            <a:ext cx="1795680" cy="1590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WINDOWS\Application Data\Microsoft\Media Catalog\Downloaded Clips\cl0\NA01350_.wmf"/>
          <p:cNvPicPr/>
          <p:nvPr/>
        </p:nvPicPr>
        <p:blipFill>
          <a:blip r:embed="rId2"/>
          <a:stretch/>
        </p:blipFill>
        <p:spPr>
          <a:xfrm>
            <a:off x="6858000" y="5334120"/>
            <a:ext cx="1817640" cy="105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C:\WINDOWS\Application Data\Microsoft\Media Catalog\Downloaded Clips\cl64\j0250101.wmf"/>
          <p:cNvPicPr/>
          <p:nvPr/>
        </p:nvPicPr>
        <p:blipFill>
          <a:blip r:embed="rId3"/>
          <a:stretch/>
        </p:blipFill>
        <p:spPr>
          <a:xfrm>
            <a:off x="838080" y="4164120"/>
            <a:ext cx="1984320" cy="2693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Имя файла: NA02141_.wmf&#13;Ключевые слова: весна, гортензия древовидная, кусты ...&#13;Размер файла: 25 КБ"/>
          <p:cNvPicPr/>
          <p:nvPr/>
        </p:nvPicPr>
        <p:blipFill>
          <a:blip r:embed="rId4"/>
          <a:stretch/>
        </p:blipFill>
        <p:spPr>
          <a:xfrm>
            <a:off x="6477120" y="1768320"/>
            <a:ext cx="166032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Зим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январе, в январ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ого снегу на двор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нег - на крыше, на крылеч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лнце в небе голуб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ашем доме топят печк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ебо дым идет столб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. Марш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C:\WINDOWS\Application Data\Microsoft\Media Catalog\Downloaded Clips\cl76\j0296216.wmf"/>
          <p:cNvPicPr/>
          <p:nvPr/>
        </p:nvPicPr>
        <p:blipFill>
          <a:blip r:embed="rId1"/>
          <a:stretch/>
        </p:blipFill>
        <p:spPr>
          <a:xfrm>
            <a:off x="5181480" y="1981080"/>
            <a:ext cx="3810240" cy="37544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7241400" y="61722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Times New Roman"/>
              </a:rPr>
              <a:t>Весн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05520" y="2438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бирается медвед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возь лесной валежни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ли птицы песни пет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расцвел подснежни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. Марш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C:\WINDOWS\Application Data\Microsoft\Media Catalog\Downloaded Clips\cl31\j0122861.wmf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7241400" y="61722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Лет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лнце над просторны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ивами стои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одсолнух зёрн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ёрны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би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. Марш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C:\WINDOWS\Application Data\Microsoft\Media Catalog\Downloaded Clips\cl70\j0281948.wmf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3409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7241400" y="61722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33"/>
                </a:solidFill>
                <a:latin typeface="Times New Roman"/>
              </a:rPr>
              <a:t>Осен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1640" y="26668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сным утром сентябр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леб молотят сёл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чатся птицы за моря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открылась шко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. Марш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C:\WINDOWS\Application Data\Microsoft\Media Catalog\Downloaded Clips\cla6\j0415380.wmf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5593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7241400" y="61722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09:25:46Z</dcterms:created>
  <dc:creator>Пользователь</dc:creator>
  <dc:description/>
  <dc:language>en-US</dc:language>
  <cp:lastModifiedBy>kafedra</cp:lastModifiedBy>
  <dcterms:modified xsi:type="dcterms:W3CDTF">2010-04-20T10:14:38Z</dcterms:modified>
  <cp:revision>5</cp:revision>
  <dc:subject/>
  <dc:title>Презентация PowerPoint</dc:title>
</cp:coreProperties>
</file>