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AC1-BCF4-44FD-BC09-761603B9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6B7-4996-4970-90F2-3EA04FEC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B19-DA3A-43EB-9CDD-E02EF51D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7EB-4745-422F-B01D-64173569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3DE-AC8A-4E38-A063-FCC0FD14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B4E-D522-40F3-8595-FB714B30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D83-36A5-474E-BDC9-F4FBD67A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6A5-4858-434E-A22D-37B6229F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01E-90A3-4235-806A-3EAA488D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898-EC88-43A5-B0AD-925D06A9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60E-16B4-49E0-B536-75DA5EC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E88-3CA3-4255-8969-5D31BF27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A211-36B2-49F3-B944-F5460DA497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АФ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Æ</a:t>
            </a: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ДЗЫ АФОНТ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237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Зым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Уалдз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р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зз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:\WINDOWS\Application Data\Microsoft\Media Catalog\Downloaded Clips\cl78\j0300215.wmf"/>
          <p:cNvPicPr/>
          <p:nvPr/>
        </p:nvPicPr>
        <p:blipFill>
          <a:blip r:embed="rId1"/>
          <a:stretch/>
        </p:blipFill>
        <p:spPr>
          <a:xfrm>
            <a:off x="609480" y="1600200"/>
            <a:ext cx="1795680" cy="1590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WINDOWS\Application Data\Microsoft\Media Catalog\Downloaded Clips\cl0\NA01350_.wmf"/>
          <p:cNvPicPr/>
          <p:nvPr/>
        </p:nvPicPr>
        <p:blipFill>
          <a:blip r:embed="rId2"/>
          <a:stretch/>
        </p:blipFill>
        <p:spPr>
          <a:xfrm>
            <a:off x="6858000" y="5334120"/>
            <a:ext cx="1817640" cy="105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WINDOWS\Application Data\Microsoft\Media Catalog\Downloaded Clips\cl64\j0250101.wmf"/>
          <p:cNvPicPr/>
          <p:nvPr/>
        </p:nvPicPr>
        <p:blipFill>
          <a:blip r:embed="rId3"/>
          <a:stretch/>
        </p:blipFill>
        <p:spPr>
          <a:xfrm>
            <a:off x="838080" y="4164120"/>
            <a:ext cx="1984320" cy="269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Имя файла: NA02141_.wmf&#13;Ключевые слова: весна, гортензия древовидная, кусты ...&#13;Размер файла: 25 КБ"/>
          <p:cNvPicPr/>
          <p:nvPr/>
        </p:nvPicPr>
        <p:blipFill>
          <a:blip r:embed="rId4"/>
          <a:stretch/>
        </p:blipFill>
        <p:spPr>
          <a:xfrm>
            <a:off x="6477120" y="1768320"/>
            <a:ext cx="16603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Зим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WINDOWS\Application Data\Microsoft\Media Catalog\Downloaded Clips\cl76\j0296216.wmf"/>
          <p:cNvPicPr/>
          <p:nvPr/>
        </p:nvPicPr>
        <p:blipFill>
          <a:blip r:embed="rId1"/>
          <a:stretch/>
        </p:blipFill>
        <p:spPr>
          <a:xfrm>
            <a:off x="5181480" y="1981080"/>
            <a:ext cx="3810240" cy="3754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7241400" y="6172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Times New Roman"/>
              </a:rPr>
              <a:t>Весн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05520" y="243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ирается медвед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возь лесной валеж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ли птицы песни пе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расцвел подснеж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C:\WINDOWS\Application Data\Microsoft\Media Catalog\Downloaded Clips\cl31\j0122861.wmf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41400" y="6172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Лет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над простор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вами сто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одсолнух зёр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ёр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WINDOWS\Application Data\Microsoft\Media Catalog\Downloaded Clips\cl70\j0281948.wmf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409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7241400" y="6172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Times New Roman"/>
              </a:rPr>
              <a:t>Осен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сным утром сентябр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леб молотят сёл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чатся птицы за моря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открылась шко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C:\WINDOWS\Application Data\Microsoft\Media Catalog\Downloaded Clips\cla6\j0415380.wmf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7241400" y="6172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9:25:46Z</dcterms:created>
  <dc:creator>Пользователь</dc:creator>
  <dc:description/>
  <dc:language>en-US</dc:language>
  <cp:lastModifiedBy>kafedra</cp:lastModifiedBy>
  <dcterms:modified xsi:type="dcterms:W3CDTF">2010-04-20T10:14:38Z</dcterms:modified>
  <cp:revision>5</cp:revision>
  <dc:subject/>
  <dc:title>Презентация PowerPoint</dc:title>
</cp:coreProperties>
</file>