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F64-D69A-4772-AC11-6C8828B3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C29-5FDB-40A7-BFFD-878A8CB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09C-2D49-4331-A1D8-5B6D2298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ACC-2935-4FC5-A680-416DD732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D76C-37FA-4F16-9A29-AF4BC966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182D-F052-4D53-8B2E-9BFD2F7F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72DE-4EC4-4D84-B83B-4F757092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C78A-77E6-43B4-8550-9B26B54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5C86-0310-4DFD-A8C1-25574E1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D1B6-6CBF-425B-963B-6E4CF824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6ABB-F0C6-4D42-B912-F1100DD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428-81C4-432C-8A5D-99AD218D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A25B-EB9B-498D-85C0-4B1FD44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7CF-D9C9-41D6-AA30-3260BFB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D100-B8D4-4F4E-91F7-5377EFE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5B8-02FE-49F9-83B0-911D48B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02F3-13ED-49A0-BEB3-8F89E2CC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19A-D203-419B-9D00-B4A5DDBE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81D-F5E8-411C-B63A-5C14FC9A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654-951F-4C9D-9BE0-0C48CF26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C0B-4982-4E7B-B2EA-BC1FD6A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E17-CE53-4D78-A828-9F5752EA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1E3-67BE-470D-AB66-541F4289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4A1-D62D-4A3A-BF8A-BC506D3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c567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6666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46CA-5B48-429F-90FA-4FF0F636FB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c5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c567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6666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F95A-E4DB-4205-BFC4-90D7283B71F9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Я – гражданин России!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5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классный час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 лет Конституции Р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СОШ № 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ябликова Н.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8" descr="http://www.shkolnick.ru/products_pictures/Plakat_Rus_Kremlin%202.jpg"/>
          <p:cNvPicPr/>
          <p:nvPr/>
        </p:nvPicPr>
        <p:blipFill>
          <a:blip r:embed="rId1"/>
          <a:stretch/>
        </p:blipFill>
        <p:spPr>
          <a:xfrm>
            <a:off x="2484360" y="836640"/>
            <a:ext cx="3990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мволы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2" descr="http://rusmonet.narod.ru/_staty/img/st27-1.jpg"/>
          <p:cNvPicPr/>
          <p:nvPr/>
        </p:nvPicPr>
        <p:blipFill>
          <a:blip r:embed="rId1"/>
          <a:stretch/>
        </p:blipFill>
        <p:spPr>
          <a:xfrm>
            <a:off x="2268360" y="1773360"/>
            <a:ext cx="51372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мволы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http://www.uni-altai.ru/uploads/posts/2010-08/1282546449_post-38951-1213186583.jpg"/>
          <p:cNvPicPr/>
          <p:nvPr/>
        </p:nvPicPr>
        <p:blipFill>
          <a:blip r:embed="rId1"/>
          <a:stretch/>
        </p:blipFill>
        <p:spPr>
          <a:xfrm>
            <a:off x="1763640" y="1989000"/>
            <a:ext cx="547236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мволы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http://s.zakon.kz/Cache/040247/040247113.GIF"/>
          <p:cNvPicPr/>
          <p:nvPr/>
        </p:nvPicPr>
        <p:blipFill>
          <a:blip r:embed="rId1"/>
          <a:stretch/>
        </p:blipFill>
        <p:spPr>
          <a:xfrm>
            <a:off x="2411280" y="1773360"/>
            <a:ext cx="445788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http://fr.academic.ru/pictures/frwiki/78/Nizhny_Novgorod_View_from_Kanavinsky_bridge.JPG"/>
          <p:cNvPicPr/>
          <p:nvPr/>
        </p:nvPicPr>
        <p:blipFill>
          <a:blip r:embed="rId1"/>
          <a:stretch/>
        </p:blipFill>
        <p:spPr>
          <a:xfrm>
            <a:off x="755640" y="836640"/>
            <a:ext cx="7631280" cy="4876920"/>
          </a:xfrm>
          <a:prstGeom prst="rect">
            <a:avLst/>
          </a:prstGeom>
          <a:ln w="0">
            <a:noFill/>
          </a:ln>
        </p:spPr>
      </p:pic>
      <p:pic>
        <p:nvPicPr>
          <p:cNvPr id="99" name="уголок России.mp3" descr=""/>
          <p:cNvPicPr/>
          <p:nvPr/>
        </p:nvPicPr>
        <p:blipFill>
          <a:blip r:embed="rId2"/>
          <a:stretch/>
        </p:blipFill>
        <p:spPr>
          <a:xfrm>
            <a:off x="1243080" y="5072040"/>
            <a:ext cx="4762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985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http://900igr.net/datai/okruzhajuschij-mir/Poleznye-iskopaemye-Rossii/0006-004-Uralskie-gory.jpg"/>
          <p:cNvPicPr/>
          <p:nvPr/>
        </p:nvPicPr>
        <p:blipFill>
          <a:blip r:embed="rId1"/>
          <a:stretch/>
        </p:blipFill>
        <p:spPr>
          <a:xfrm>
            <a:off x="755640" y="692280"/>
            <a:ext cx="7537320" cy="5905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751120" y="3162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59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http://old.prodalit.ru/images/470000/465619.jpg"/>
          <p:cNvPicPr/>
          <p:nvPr/>
        </p:nvPicPr>
        <p:blipFill>
          <a:blip r:embed="rId2"/>
          <a:stretch/>
        </p:blipFill>
        <p:spPr>
          <a:xfrm>
            <a:off x="539640" y="549360"/>
            <a:ext cx="8209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6" descr="http://tnu.podelise.ru/pars_docs/refs/277/276270/276270_html_66690d13.jpg"/>
          <p:cNvPicPr/>
          <p:nvPr/>
        </p:nvPicPr>
        <p:blipFill>
          <a:blip r:embed="rId1"/>
          <a:stretch/>
        </p:blipFill>
        <p:spPr>
          <a:xfrm>
            <a:off x="324000" y="836640"/>
            <a:ext cx="83613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http://allnews.ya1.ru/images/rian2/2013-02/allnews.ya1.ru_3721796.jpg"/>
          <p:cNvPicPr/>
          <p:nvPr/>
        </p:nvPicPr>
        <p:blipFill>
          <a:blip r:embed="rId1"/>
          <a:stretch/>
        </p:blipFill>
        <p:spPr>
          <a:xfrm>
            <a:off x="684360" y="765000"/>
            <a:ext cx="763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stat16.privet.ru/lr/0b085cf2b5a4577448e2758b2e83abf9"/>
          <p:cNvPicPr/>
          <p:nvPr/>
        </p:nvPicPr>
        <p:blipFill>
          <a:blip r:embed="rId1"/>
          <a:stretch/>
        </p:blipFill>
        <p:spPr>
          <a:xfrm>
            <a:off x="1116000" y="620640"/>
            <a:ext cx="7319880" cy="5489640"/>
          </a:xfrm>
          <a:prstGeom prst="rect">
            <a:avLst/>
          </a:prstGeom>
          <a:ln w="0">
            <a:noFill/>
          </a:ln>
        </p:spPr>
      </p:pic>
      <p:pic>
        <p:nvPicPr>
          <p:cNvPr id="110" name="Александр Морозов - Нижегородская лирическая  (audiopoisk.com).mp3" descr=""/>
          <p:cNvPicPr/>
          <p:nvPr/>
        </p:nvPicPr>
        <p:blipFill>
          <a:blip r:embed="rId2"/>
          <a:stretch/>
        </p:blipFill>
        <p:spPr>
          <a:xfrm>
            <a:off x="1857240" y="55720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0638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http://www.tribuna-neo.ru/upload/iblock/56f/5_big.jpg"/>
          <p:cNvPicPr/>
          <p:nvPr/>
        </p:nvPicPr>
        <p:blipFill>
          <a:blip r:embed="rId1"/>
          <a:stretch/>
        </p:blipFill>
        <p:spPr>
          <a:xfrm>
            <a:off x="826920" y="62064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6" descr="http://www.spohelp.ru/photos/0003/0533/d_konst.jpg"/>
          <p:cNvPicPr/>
          <p:nvPr/>
        </p:nvPicPr>
        <p:blipFill>
          <a:blip r:embed="rId1"/>
          <a:stretch/>
        </p:blipFill>
        <p:spPr>
          <a:xfrm>
            <a:off x="468360" y="105264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6:36:47Z</dcterms:created>
  <dc:creator>User</dc:creator>
  <dc:description/>
  <dc:language>en-US</dc:language>
  <cp:lastModifiedBy>User</cp:lastModifiedBy>
  <dcterms:modified xsi:type="dcterms:W3CDTF">2015-02-03T14:32:16Z</dcterms:modified>
  <cp:revision>7</cp:revision>
  <dc:subject/>
  <dc:title>“Я – гражданин России!” (классный час 20 лет Конституции РФ)</dc:title>
</cp:coreProperties>
</file>