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5E5-BB35-49A9-9E55-364EC15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FCD-77A4-4B9F-A3CA-9E02CDB2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8B5-DF21-4C8E-9457-36D65CC5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F48-B53B-4330-94DF-14420641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68F-5BAC-4473-AFFD-C2B368C3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897C-9587-4427-9ED2-7988471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A8A-2E14-43B7-B2C1-A065BFE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161A-0710-42F0-A1E8-1AED3FF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A6F-262A-4D2E-86C7-770CD689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C40-9992-417B-AF7A-A2FFD9E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BA9A-F15C-4530-A3EC-65E920A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093-1659-432A-B77F-25E09D8A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5F6-F87A-4E27-9DC4-92A7060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0AE-E613-4CE2-828F-D98EF001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C3D-A23E-4FC6-93BB-BB322E7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EA8-DFE6-4453-887E-08900360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7F7-1E25-4636-8F23-F29602E3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7AD-6707-4719-A93F-C1FEC679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123-2A71-45C5-A527-B336DAED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895-404D-4FC1-8FD3-6C9DC55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E4A-79E3-4A1E-A01A-3E332FC3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8BA-ED72-42D8-BE3F-A11F13E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04D-E9C7-4E31-927E-5BA5C00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9B8-0962-48D8-B105-518FCE5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6D8-FF99-4F22-9E73-AF6367CBCF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c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c567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dc5b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c5674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dc5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6666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18E-0FB7-413A-AF0C-D8261D59C8AF}" type="slidenum">
              <a:rPr b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Я – гражданин России!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5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классный ча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 лет Конституции Р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СОШ № 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ябликова Н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8" descr="http://www.shkolnick.ru/products_pictures/Plakat_Rus_Kremlin%202.jpg"/>
          <p:cNvPicPr/>
          <p:nvPr/>
        </p:nvPicPr>
        <p:blipFill>
          <a:blip r:embed="rId1"/>
          <a:stretch/>
        </p:blipFill>
        <p:spPr>
          <a:xfrm>
            <a:off x="2484360" y="836640"/>
            <a:ext cx="3990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http://rusmonet.narod.ru/_staty/img/st27-1.jpg"/>
          <p:cNvPicPr/>
          <p:nvPr/>
        </p:nvPicPr>
        <p:blipFill>
          <a:blip r:embed="rId1"/>
          <a:stretch/>
        </p:blipFill>
        <p:spPr>
          <a:xfrm>
            <a:off x="2268360" y="1773360"/>
            <a:ext cx="513720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http://www.uni-altai.ru/uploads/posts/2010-08/1282546449_post-38951-1213186583.jpg"/>
          <p:cNvPicPr/>
          <p:nvPr/>
        </p:nvPicPr>
        <p:blipFill>
          <a:blip r:embed="rId1"/>
          <a:stretch/>
        </p:blipFill>
        <p:spPr>
          <a:xfrm>
            <a:off x="1763640" y="1989000"/>
            <a:ext cx="547236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мволы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http://s.zakon.kz/Cache/040247/040247113.GIF"/>
          <p:cNvPicPr/>
          <p:nvPr/>
        </p:nvPicPr>
        <p:blipFill>
          <a:blip r:embed="rId1"/>
          <a:stretch/>
        </p:blipFill>
        <p:spPr>
          <a:xfrm>
            <a:off x="2411280" y="1773360"/>
            <a:ext cx="44578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http://fr.academic.ru/pictures/frwiki/78/Nizhny_Novgorod_View_from_Kanavinsky_bridge.JPG"/>
          <p:cNvPicPr/>
          <p:nvPr/>
        </p:nvPicPr>
        <p:blipFill>
          <a:blip r:embed="rId1"/>
          <a:stretch/>
        </p:blipFill>
        <p:spPr>
          <a:xfrm>
            <a:off x="755640" y="836640"/>
            <a:ext cx="7631280" cy="4876920"/>
          </a:xfrm>
          <a:prstGeom prst="rect">
            <a:avLst/>
          </a:prstGeom>
          <a:ln w="0">
            <a:noFill/>
          </a:ln>
        </p:spPr>
      </p:pic>
      <p:pic>
        <p:nvPicPr>
          <p:cNvPr id="99" name="уголок России.mp3" descr=""/>
          <p:cNvPicPr/>
          <p:nvPr/>
        </p:nvPicPr>
        <p:blipFill>
          <a:blip r:embed="rId2"/>
          <a:stretch/>
        </p:blipFill>
        <p:spPr>
          <a:xfrm>
            <a:off x="1243080" y="5072040"/>
            <a:ext cx="476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985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http://900igr.net/datai/okruzhajuschij-mir/Poleznye-iskopaemye-Rossii/0006-004-Uralskie-gory.jpg"/>
          <p:cNvPicPr/>
          <p:nvPr/>
        </p:nvPicPr>
        <p:blipFill>
          <a:blip r:embed="rId1"/>
          <a:stretch/>
        </p:blipFill>
        <p:spPr>
          <a:xfrm>
            <a:off x="755640" y="692280"/>
            <a:ext cx="7537320" cy="5905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751120" y="3162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5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http://old.prodalit.ru/images/470000/465619.jpg"/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6" descr="http://tnu.podelise.ru/pars_docs/refs/277/276270/276270_html_66690d13.jpg"/>
          <p:cNvPicPr/>
          <p:nvPr/>
        </p:nvPicPr>
        <p:blipFill>
          <a:blip r:embed="rId1"/>
          <a:stretch/>
        </p:blipFill>
        <p:spPr>
          <a:xfrm>
            <a:off x="324000" y="836640"/>
            <a:ext cx="83613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http://allnews.ya1.ru/images/rian2/2013-02/allnews.ya1.ru_3721796.jpg"/>
          <p:cNvPicPr/>
          <p:nvPr/>
        </p:nvPicPr>
        <p:blipFill>
          <a:blip r:embed="rId1"/>
          <a:stretch/>
        </p:blipFill>
        <p:spPr>
          <a:xfrm>
            <a:off x="684360" y="76500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stat16.privet.ru/lr/0b085cf2b5a4577448e2758b2e83abf9"/>
          <p:cNvPicPr/>
          <p:nvPr/>
        </p:nvPicPr>
        <p:blipFill>
          <a:blip r:embed="rId1"/>
          <a:stretch/>
        </p:blipFill>
        <p:spPr>
          <a:xfrm>
            <a:off x="1116000" y="620640"/>
            <a:ext cx="7319880" cy="5489640"/>
          </a:xfrm>
          <a:prstGeom prst="rect">
            <a:avLst/>
          </a:prstGeom>
          <a:ln w="0">
            <a:noFill/>
          </a:ln>
        </p:spPr>
      </p:pic>
      <p:pic>
        <p:nvPicPr>
          <p:cNvPr id="110" name="Александр Морозов - Нижегородская лирическая  (audiopoisk.com).mp3" descr=""/>
          <p:cNvPicPr/>
          <p:nvPr/>
        </p:nvPicPr>
        <p:blipFill>
          <a:blip r:embed="rId2"/>
          <a:stretch/>
        </p:blipFill>
        <p:spPr>
          <a:xfrm>
            <a:off x="1857240" y="55720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0638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http://www.tribuna-neo.ru/upload/iblock/56f/5_big.jpg"/>
          <p:cNvPicPr/>
          <p:nvPr/>
        </p:nvPicPr>
        <p:blipFill>
          <a:blip r:embed="rId1"/>
          <a:stretch/>
        </p:blipFill>
        <p:spPr>
          <a:xfrm>
            <a:off x="826920" y="620640"/>
            <a:ext cx="7632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9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c567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6" descr="http://www.spohelp.ru/photos/0003/0533/d_konst.jpg"/>
          <p:cNvPicPr/>
          <p:nvPr/>
        </p:nvPicPr>
        <p:blipFill>
          <a:blip r:embed="rId1"/>
          <a:stretch/>
        </p:blipFill>
        <p:spPr>
          <a:xfrm>
            <a:off x="468360" y="105264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6:36:47Z</dcterms:created>
  <dc:creator>User</dc:creator>
  <dc:description/>
  <dc:language>en-US</dc:language>
  <cp:lastModifiedBy>User</cp:lastModifiedBy>
  <dcterms:modified xsi:type="dcterms:W3CDTF">2015-02-03T14:32:16Z</dcterms:modified>
  <cp:revision>7</cp:revision>
  <dc:subject/>
  <dc:title>“Я – гражданин России!” (классный час 20 лет Конституции РФ)</dc:title>
</cp:coreProperties>
</file>