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9E3-24F2-4813-8370-6FA977D9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EEC-A4AF-4D6B-8590-F0A99C42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238-96E0-45E8-AD4A-FE9F45F8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795-1347-4DC1-BF78-52C5930D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A70B-B9FC-48C4-9FC0-856A07E8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DA6A-9E1A-475C-B754-3E0AA6F9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DCD2-D790-4C4B-ABFB-7A2E7AEF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CF53-B229-4396-9C5B-7A91EA3E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AD97-71BC-4EAD-AC7B-1B31761F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6F37-9601-42C1-9B83-CDD16695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45A1-CCDD-4AA2-BAC0-AE32F0B5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BD89-1725-46CA-AE27-4CB4895B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F18B-4032-439E-BEBC-6815DCE8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2CA8-82EB-4A8A-B097-BADFB077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E9F3-E0E8-469C-9218-E68F7962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5A99-9CB5-4153-9C00-D978DE45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4459-7A62-490C-9975-2CFBC3BF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F44D2-B207-4F0E-86AE-F2E4BAE0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BAC49-B9B7-4B6D-89F0-57852687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4C44B-6CCC-4257-9F2B-E7CAC032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7F76F-F3BD-4C06-91CB-7CDCFA45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9E3E9-18A6-4E86-9D3F-95ADE033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A337-F1AD-4BB7-AA0B-C8BE42C0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E6B16-E7A8-49BB-9FA6-97A856E6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82BFE-3535-4F55-A4DA-083E511E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2566F-62C5-4AE1-8AC7-F35F8075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E1107-C0D1-4309-8367-87D2B8CB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BE7DF-6859-4046-85E1-91689D44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6763E-0737-4AEA-9E91-480FA086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B8949-43C3-4519-8A80-2BEEEAEE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32F08-8055-4623-A56E-599AF575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8A94E-BC15-4D69-A2F8-46727B56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15750-C189-4B30-BFA1-E99F1595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D29-6498-4EEE-A658-91634896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E6B34-B45D-4C7C-AABC-36F52A16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DF7F8-AA17-47E9-B378-80D008BA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FCF23-FBFB-4916-97B0-67190E2F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8228D-5F2B-48D8-8E7C-B515D533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BE000-CC75-4309-AFB7-E988FEC0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276C0-AA83-49CC-BE68-9A83E184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C6079-FEB0-43D6-A317-61C3C527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B1BB4-A22D-4A9F-9207-79AA5182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F5981-E78D-4A78-AF70-91CA7DA7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65BAC-BAEA-4DB2-BD63-948C364B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8EF6-DE5A-48CF-8C7B-688EE866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89242-EB00-4D34-A34B-976F28AC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B4768-65C8-4214-BBA1-5B355137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9D4A3-6E5F-4670-B7BE-0E0802D1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37045-4EE5-4B11-A897-65D456EE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343E3-625F-421E-9148-800F1C18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AB7D2-1D72-4D1C-A3B3-906CEC36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D732D-03E4-4991-89FC-623C5ED1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9A6B1-4A78-4059-9F67-AB578D85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718CD-6281-497B-861A-ED92DA8F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002A2-A1DB-4803-9DCD-6701E84C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1514-CA49-4EFA-B5D9-EDFE6693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94189-883B-4F37-80FB-B2D6AD64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5EB2F7-26AC-45B3-B407-05B82013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142D36-8334-4036-B66F-B619092F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9435DC-67A8-424F-A1A3-0D0889FA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FADA6E-3B83-4832-807A-02240E78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A2458C-593B-49B9-BDE3-BC86A1E5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091D79-464E-4B20-91AE-86E43B01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BFEA6D-8F0C-4802-9E5C-98B1808A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E95FBC-7DC5-45DF-AC34-8C480C0E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1F5058-5044-4773-A39C-2919B0EF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362-1318-4A89-BAAE-A1DB8A72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71E102-68DE-4A44-B2ED-D7937953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8B3B47-DCC3-4706-8180-822C34B9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51560D-3103-4378-8172-FA978062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2C5A6-3844-48DC-83A5-CF92E629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4C054-9384-427C-89E5-E0FC6ED8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4F24D-B65E-4D59-9CC1-DC95EC19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6F962-A155-48B9-81FC-51EA0E5C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D5BA9-A6F0-41A4-9381-ADCA3F26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F7F86-9F14-4606-A518-DDB9418E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3E592-7568-43D5-9EA5-B967E607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2595-3675-4A71-B682-2D543CB5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247A9-43C9-4699-B2AD-20CE762C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E8CED-61AE-48BE-8019-CBCE6677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F0E02-58ED-4B60-AAEA-D289E304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020F1-3287-4A9E-AE23-6F73CE38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FBA30-F254-4C15-B47C-0B844C42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26A75-7F79-419A-8543-F60565DA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A53E6-819A-4E29-836A-8740ED21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B606E-CDA4-4129-A866-D3F36B3A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4F5B5-EDB1-43AC-BE46-FF8729BB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A6F7E-B805-4871-9B03-F6666D10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46B5-B08B-4104-A1D4-BC7C4D97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84870-B6B6-45F4-917E-FCF8D85E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80534-4555-485C-8CF5-A5D10C8F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ECEBD-1DC7-4905-9B05-41DC63AA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AD758-60D8-4CFF-8862-225D84AA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BEBBF-539B-4F39-936F-069F8C91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3AEEC-0F93-4E00-BE59-FC184D1F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974DE-B93D-46A7-99CC-3167AB21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85D1-B541-4B07-8089-A98309D968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6EAF-3D36-4D95-A5CD-AE62C7FF21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48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A0A0-0333-4E0A-8FC9-A07503F3E3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3503-D94D-48A7-98D6-D785AA411E3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4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4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6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7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9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0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92DD-563A-4F96-B646-410D904BF2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47EF-EFE9-412D-91D9-A8335D90D4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9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CC2B-C1FC-49EF-B061-677597547A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4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4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384B-F6AF-4B67-9E17-D074D4D1DF5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4"/>
          <p:cNvSpPr/>
          <p:nvPr/>
        </p:nvSpPr>
        <p:spPr>
          <a:xfrm>
            <a:off x="971640" y="1221840"/>
            <a:ext cx="6897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Семинар – практикум для преподавателей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«Понятие психического здоровья  и  влияние ег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на педагогическую деятельность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Прямоугольник 4"/>
          <p:cNvSpPr/>
          <p:nvPr/>
        </p:nvSpPr>
        <p:spPr>
          <a:xfrm>
            <a:off x="4724280" y="537372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ольцева Елена Алексе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48664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Эффекты саморегуляци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успокоения (устранение эмоциональной напряженности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восстановления (ослабление проявлений томления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активизации (повышение психофизиологической реактивности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631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пособы саморегуляци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мех, улыбка, юмор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мышления о хорошем, приятно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личные движения типа потягивания, расслабления мышц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сматривание цветов в помещении, пейзажа за окном, фотографий, других приятных или дорогих вещ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ысленное обращение к высшим силам (Богу, Вселенной, великой идее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купание» (реальное или мысленное) в солнечных лучах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дыхание свежего воздух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тение стих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казывание похвалы, комплиментов кому-либо просто та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WordArt 4"/>
          <p:cNvSpPr txBox="1"/>
          <p:nvPr/>
        </p:nvSpPr>
        <p:spPr>
          <a:xfrm>
            <a:off x="611280" y="1079640"/>
            <a:ext cx="8053200" cy="490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НЕРГИЯ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А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ОДРОСТЬ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362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Rounded MT Bold"/>
              </a:rPr>
              <a:t>Психическое здоровье</a:t>
            </a:r>
            <a:r>
              <a:rPr b="0" lang="ru-RU" sz="4400" spc="-1" strike="noStrike">
                <a:solidFill>
                  <a:srgbClr val="ffffff"/>
                </a:solidFill>
                <a:latin typeface="Arial Rounded MT Bold"/>
              </a:rPr>
              <a:t> –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 Rounded MT Bold"/>
              </a:rPr>
              <a:t>состояние, способствующе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 Rounded MT Bold"/>
              </a:rPr>
              <a:t>наиболее полном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 Rounded MT Bold"/>
              </a:rPr>
              <a:t>физическому, умственному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 Rounded MT Bold"/>
              </a:rPr>
              <a:t>и эмоциональному развитию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 Rounded MT Bold"/>
              </a:rPr>
              <a:t>человека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 Rounded MT Bold"/>
              </a:rPr>
              <a:t>Петровский А.П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сихическое здоровье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— 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баланс различных психических свойств и процессов; баланс между умением отдать  и взять от других, быть одному и быть среди людей, любви к себе и любви к другим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А.Б. Холмогорова, Н.Г. Гаранян, 1999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сихическое здоровь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—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ояние равновесия между человеком и внешним миром, адекватность его реакций на общественные факторы (социальную среду), а также на физические, биологические и психические явления; соответствие реакции силе и частоте внешних раздражителей; гармония между человеком и окружающими, согласованность представлений об объективной реальности у данного человека с представлениями других людей; критический подход к любым обстоятельствам жизн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Ю.Б. Тарнавский, 1990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Психическое здоровье</a:t>
            </a: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состояние равновесия различных психических свойств и процессов, умение ими владеть, адекватно использовать и развивать, а также отсутствие каких бы то ни было «болезненных» симптомов, благодаря чему человек может гармонично функционировать в социуме.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(Н.В. Сократов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16"/>
          <p:cNvSpPr/>
          <p:nvPr/>
        </p:nvSpPr>
        <p:spPr>
          <a:xfrm>
            <a:off x="755640" y="260280"/>
            <a:ext cx="777708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91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Модель психологически здоровой ли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4"/>
          <p:cNvGrpSpPr/>
          <p:nvPr/>
        </p:nvGrpSpPr>
        <p:grpSpPr>
          <a:xfrm>
            <a:off x="0" y="1514520"/>
            <a:ext cx="9144000" cy="5343480"/>
            <a:chOff x="0" y="1514520"/>
            <a:chExt cx="9144000" cy="5343480"/>
          </a:xfrm>
        </p:grpSpPr>
        <p:sp>
          <p:nvSpPr>
            <p:cNvPr id="500" name="AutoShape 5"/>
            <p:cNvSpPr/>
            <p:nvPr/>
          </p:nvSpPr>
          <p:spPr>
            <a:xfrm>
              <a:off x="0" y="1514520"/>
              <a:ext cx="9144000" cy="534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6"/>
            <p:cNvSpPr/>
            <p:nvPr/>
          </p:nvSpPr>
          <p:spPr>
            <a:xfrm>
              <a:off x="222840" y="2048400"/>
              <a:ext cx="2564640" cy="2137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6600"/>
                  </a:solidFill>
                  <a:latin typeface="Arial"/>
                </a:rPr>
                <a:t>1.</a:t>
              </a:r>
              <a:r>
                <a:rPr b="1" lang="ru-RU" sz="2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6600"/>
                  </a:solidFill>
                  <a:latin typeface="Arial"/>
                </a:rPr>
                <a:t>Самопонимание и принятие себ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Rectangle 7"/>
            <p:cNvSpPr/>
            <p:nvPr/>
          </p:nvSpPr>
          <p:spPr>
            <a:xfrm>
              <a:off x="3233880" y="2048400"/>
              <a:ext cx="2787840" cy="2137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6600"/>
                  </a:solidFill>
                  <a:latin typeface="Arial"/>
                </a:rPr>
                <a:t>2. Принятие ответственности за свою жизнь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Rectangle 8"/>
            <p:cNvSpPr/>
            <p:nvPr/>
          </p:nvSpPr>
          <p:spPr>
            <a:xfrm>
              <a:off x="6467760" y="2048400"/>
              <a:ext cx="2453040" cy="2137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6600"/>
                  </a:solidFill>
                  <a:latin typeface="Arial"/>
                </a:rPr>
                <a:t>3. Умение жить в настоящем времен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9"/>
            <p:cNvSpPr/>
            <p:nvPr/>
          </p:nvSpPr>
          <p:spPr>
            <a:xfrm>
              <a:off x="2007000" y="4586760"/>
              <a:ext cx="2230200" cy="18698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6600"/>
                  </a:solidFill>
                  <a:latin typeface="Arial"/>
                </a:rPr>
                <a:t>4. Стремление к улучшению своей деятельност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10"/>
            <p:cNvSpPr/>
            <p:nvPr/>
          </p:nvSpPr>
          <p:spPr>
            <a:xfrm>
              <a:off x="5018040" y="4586760"/>
              <a:ext cx="2229840" cy="18698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6600"/>
                  </a:solidFill>
                  <a:latin typeface="Arial"/>
                </a:rPr>
                <a:t>5. Способность к пониманию и принятию других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11"/>
            <p:cNvSpPr/>
            <p:nvPr/>
          </p:nvSpPr>
          <p:spPr>
            <a:xfrm>
              <a:off x="3010680" y="1514520"/>
              <a:ext cx="0" cy="3072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12"/>
            <p:cNvSpPr/>
            <p:nvPr/>
          </p:nvSpPr>
          <p:spPr>
            <a:xfrm>
              <a:off x="6244560" y="1514520"/>
              <a:ext cx="1080" cy="3072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13"/>
            <p:cNvSpPr/>
            <p:nvPr/>
          </p:nvSpPr>
          <p:spPr>
            <a:xfrm>
              <a:off x="7359840" y="1514520"/>
              <a:ext cx="557640" cy="533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14"/>
            <p:cNvSpPr/>
            <p:nvPr/>
          </p:nvSpPr>
          <p:spPr>
            <a:xfrm>
              <a:off x="4572000" y="1514520"/>
              <a:ext cx="0" cy="533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0" name="Line 15"/>
          <p:cNvSpPr/>
          <p:nvPr/>
        </p:nvSpPr>
        <p:spPr>
          <a:xfrm flipH="1">
            <a:off x="1476000" y="1268280"/>
            <a:ext cx="647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Экспресси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пособность «оживлять» подлинные эмоции. Она способствует проявлению нестандартности, творчества, инициативности, способности легко устанавливать эмоциональный контакт, улавливать изменения в ситуации и, соответственно, менять стратегию своего педагогического воздейств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1182600" y="333000"/>
            <a:ext cx="7772400" cy="57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Эмпатия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ключает в себя отражение и понимание эмоционального состояния другого человека, активное, помогающее поведение. Педагог, обладающий эмпатией, никогда не допустит педагогическую бестактность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6310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аморегуляция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управление своим психоэмоциональным состоянием, которое достигается путем воздействия человека на самого себя с помощью слов, мысленных образов, управления мышечным тонусом и дыхани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07:08:46Z</dcterms:created>
  <dc:creator>ПЕДАГОГ-ПСИХОЛОГ</dc:creator>
  <dc:description/>
  <dc:language>en-US</dc:language>
  <cp:lastModifiedBy>Viktor</cp:lastModifiedBy>
  <dcterms:modified xsi:type="dcterms:W3CDTF">2012-01-19T17:11:54Z</dcterms:modified>
  <cp:revision>5</cp:revision>
  <dc:subject/>
  <dc:title>Слайд 1</dc:title>
</cp:coreProperties>
</file>