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8A6-E3EA-4723-8382-6E6F94C1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375-61F6-48B4-8BEB-EDECA5EE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371-4BF6-474C-97D7-E151DC64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0C8-54F0-42F4-92B5-22059C0D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BD8D-7639-461A-AF32-90196F05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76F0-67B5-4E7E-BE9C-30D434B3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22DB-31FC-4F75-8ECD-C0DC3DBE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C92C-2754-44FE-8DD3-ECF161EE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0A51-3624-4FCC-9B2E-E59B24A0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6BE8-9A8E-4A80-8E58-4C90FC3F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6FC0-C803-4E97-8945-889BA922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936-353A-4C0F-BAFD-D3ACE87B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4128-EDBD-4DD8-857C-548A41A4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B4E7-FC3F-419A-A720-542EE958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C2C1-5D80-48BE-9CDC-618976EC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6A92-114C-47AD-A41B-D86FFCE6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6C01-9B4C-48FB-A666-471171A4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BF6A-64F3-40AE-B4F2-A2519DA3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7120-947D-489F-BAEE-C0C1E169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F93E-4FC2-4797-BC3A-CCC8E00B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A1BE-27D8-48B7-A656-F2843C83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9CD7-756B-4798-AA5B-C4D19C7F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152-A4CB-49A6-9354-996CE825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2A24-BE46-431D-9B3C-B88E9F6C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CACB-4760-4F59-AECF-49C7D39C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92A2-339D-4EDD-9D8B-9D9F9102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6C4E-B385-4C47-84E5-BB68895B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2FA3-F210-4015-A840-4534096C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4B08-E714-4DCC-8FD8-6BA79A28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A130-D6AF-468E-BEFB-348F281E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68517-55BB-4164-A032-B4B426FE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3910-DD44-47D1-9C0A-530F113E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D29D-6C0A-4FB9-BAF5-D8122655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F1E-7FB2-49D1-9935-764C5C7A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B827-1751-483E-BD4D-5CA41F02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AA17A-1290-4896-A9FE-DCE670D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4F65-61C2-4EF1-8FE4-341BF400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BD19-D3F1-414C-A147-FB69C64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2DCF-E543-4E1F-8FD3-3101D07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A9F8-21FA-41C7-94F7-320E61A4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4CDB-FB2B-4836-9F7C-EC78A327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2DFE-1528-4FA3-8BD4-3F32B3DE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9BFC4-D9A3-4468-A6C9-8C94ABAB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88A02-1666-416C-809A-00E60BF9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ABB-1A6B-41D9-9CCB-56F33688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529C6-3147-441D-9A88-E8C25EE7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8EAFE-EE3A-4C3C-B342-74DDA492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6E17C-5DCD-488C-A449-755A5008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DB4D0-CBB6-4139-A16B-F48176C0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53E7C-39CF-4485-BC66-D1475561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DD974-80F5-47A7-913E-118447F5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F9492-F7BB-44E3-9CF9-681F4CC0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1B187-C68C-487B-823E-4D80251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BED97-C73B-493B-90FF-B705AFCF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7615-4983-454D-A1F7-46E06B71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490-E32B-47B9-9260-7F0DB490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90A1-A667-44A5-A6D8-9CF40A41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42416-51D0-4423-AC00-CCE99C15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FD03E-67A1-45B5-978D-B3F5CD7F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D6F62-FE01-43C2-B02B-6710C341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F2C47-5488-41C0-A21D-2D67C08B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1E4BD-D6E5-4B5F-9BE4-E4207054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ED99B-8EA5-4701-890B-A74BE8D5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87D91-CC7B-4CB3-A617-0382D11A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A6417-7191-44AE-BD11-871885D2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2302D0-C8DD-4550-8A9B-2D53E86C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64D-F3FF-4E91-B67F-052080D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B5DC9-39EF-4AF3-8F9E-FAF0A1F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922E4-1254-426A-AE97-20EFCE96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2291C-0EC1-49EB-8D4D-E1C59C2F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C855-0945-4EA9-99E4-0B9AC933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8DE2F-444B-4210-B695-EE63869D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E8F3C-0B1C-4B54-8085-F9DE45B2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7FA9-DA61-4AFE-9C8D-2E39881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74F99-5292-446E-89CC-8ADBBA67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38491-614B-4F8F-98DB-EF5AD91F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21017-D194-48B1-8A48-EC6B7D1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672-6FD4-4BE7-8587-09E73315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AE2D9-1A1B-4028-95F2-21DD36A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3E1E-445E-4782-A729-A617056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2664-3381-456F-AEB6-31CADB3F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7311A-9BD4-4ED9-8C77-22329B53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FD2E-2E6B-4016-A1E2-638E10E1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3700-B972-4176-A589-E240187E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4EA05-1028-4926-9C6B-BFB16DB5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1A51D-C389-4629-892A-151B36A9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CCBBB-1168-4701-AC92-5D7F130B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9152F-6F4E-49F2-8966-0C8FE81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DDE-B751-45CC-8C79-522F7DF1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68380-1C36-4BCD-A74B-AB95C4C1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C9426-439A-4738-B442-0DA3AB5B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A8F02-8348-4946-8B10-16F616ED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A6173-314C-4A7F-80D5-98916C1B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AFA80-EA82-41CA-9EF6-1D71FD9E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723DF-3974-4AA9-82A1-95810197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CC36B-36BF-47E1-9946-E1DF7648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C695-4D6F-4791-A754-308839839C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2C06-3148-4E76-A368-7D377C8ED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AE55-1C4C-4A8F-9FC7-82A6B175E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E5AB-6A2E-42FD-A797-747D9BE4389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4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7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0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E6B1-6B1A-4D3F-B26D-731CA19A9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CF6-5D5A-4F06-8187-30AE3384D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BB7E-BADF-41E0-9046-26D689310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621-1A66-4B9C-8120-D2F100D54EA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971640" y="1221840"/>
            <a:ext cx="6897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еминар – практикум для преподавателей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Понятие психического здоровья  и  влияние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а педагогическую деятельность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4724280" y="537372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ольцева Елена Алекс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8664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ффекты саморегуляц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спокоения (устранение эмоциональной напряженности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восстановления (ослабление проявлений томления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активизации (повышение психофизиологической реактивности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631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особы саморегуля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х, улыбка, юмо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мышления о хорошем, приятн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ные движения типа потягивания, расслабления мыш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матривание цветов в помещении, пейзажа за окном, фотографий, других приятных или дорогих вещ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ысленное обращение к высшим силам (Богу, Вселенной, великой иде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упание» (реальное или мысленное) в солнечных луча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дыхание свежего воздух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ение сти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казывание похвалы, комплиментов кому-либо просто та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WordArt 4"/>
          <p:cNvSpPr txBox="1"/>
          <p:nvPr/>
        </p:nvSpPr>
        <p:spPr>
          <a:xfrm>
            <a:off x="611280" y="1079640"/>
            <a:ext cx="8053200" cy="490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НЕРГИ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А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ОДРОСТЬ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Rounded MT Bold"/>
              </a:rPr>
              <a:t>Психическое здоровье</a:t>
            </a:r>
            <a:r>
              <a:rPr b="0" lang="ru-RU" sz="4400" spc="-1" strike="noStrike">
                <a:solidFill>
                  <a:srgbClr val="ffffff"/>
                </a:solidFill>
                <a:latin typeface="Arial Rounded MT Bold"/>
              </a:rPr>
              <a:t>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состояние, способствующе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наиболее полн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физическому, умственному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и эмоциональному развитию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человек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 Rounded MT Bold"/>
              </a:rPr>
              <a:t>Петровский А.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сихическое здоровь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баланс различных психических свойств и процессов; баланс между умением отдать  и взять от других, быть одному и быть среди людей, любви к себе и любви к другим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А.Б. Холмогорова, Н.Г. Гаранян, 1999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сихическое здоровь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равновесия между человеком и внешним миром, адекватность его реакций на общественные факторы (социальную среду), а также на физические, биологические и психические явления; соответствие реакции силе и частоте внешних раздражителей; гармония между человеком и окружающими, согласованность представлений об объективной реальности у данного человека с представлениями других людей; критический подход к любым обстоятельствам жизн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Ю.Б. Тарнавский, 19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сихическое здоровье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состояние равновесия различных психических свойств и процессов, умение ими владеть, адекватно использовать и развивать, а также отсутствие каких бы то ни было «болезненных» симптомов, благодаря чему человек может гармонично функционировать в социуме.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(Н.В. Сократов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6"/>
          <p:cNvSpPr/>
          <p:nvPr/>
        </p:nvSpPr>
        <p:spPr>
          <a:xfrm>
            <a:off x="755640" y="260280"/>
            <a:ext cx="777708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одель психологически здоровой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0" y="1514520"/>
            <a:ext cx="9144000" cy="5343480"/>
            <a:chOff x="0" y="1514520"/>
            <a:chExt cx="9144000" cy="5343480"/>
          </a:xfrm>
        </p:grpSpPr>
        <p:sp>
          <p:nvSpPr>
            <p:cNvPr id="500" name="AutoShape 5"/>
            <p:cNvSpPr/>
            <p:nvPr/>
          </p:nvSpPr>
          <p:spPr>
            <a:xfrm>
              <a:off x="0" y="1514520"/>
              <a:ext cx="9144000" cy="53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6"/>
            <p:cNvSpPr/>
            <p:nvPr/>
          </p:nvSpPr>
          <p:spPr>
            <a:xfrm>
              <a:off x="222840" y="2048400"/>
              <a:ext cx="2564640" cy="2137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1.</a:t>
              </a:r>
              <a:r>
                <a:rPr b="1" lang="ru-RU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Самопонимание и принятие себ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3233880" y="2048400"/>
              <a:ext cx="2787840" cy="2137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2. Принятие ответственности за свою жизнь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8"/>
            <p:cNvSpPr/>
            <p:nvPr/>
          </p:nvSpPr>
          <p:spPr>
            <a:xfrm>
              <a:off x="6467760" y="2048400"/>
              <a:ext cx="2453040" cy="2137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3. Умение жить в настоящем времен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9"/>
            <p:cNvSpPr/>
            <p:nvPr/>
          </p:nvSpPr>
          <p:spPr>
            <a:xfrm>
              <a:off x="2007000" y="4586760"/>
              <a:ext cx="2230200" cy="1869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4. Стремление к улучшению своей деятельност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0"/>
            <p:cNvSpPr/>
            <p:nvPr/>
          </p:nvSpPr>
          <p:spPr>
            <a:xfrm>
              <a:off x="5018040" y="4586760"/>
              <a:ext cx="2229840" cy="1869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6600"/>
                  </a:solidFill>
                  <a:latin typeface="Arial"/>
                </a:rPr>
                <a:t>5. Способность к пониманию и принятию других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11"/>
            <p:cNvSpPr/>
            <p:nvPr/>
          </p:nvSpPr>
          <p:spPr>
            <a:xfrm>
              <a:off x="3010680" y="1514520"/>
              <a:ext cx="0" cy="307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6244560" y="1514520"/>
              <a:ext cx="1080" cy="307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>
              <a:off x="7359840" y="1514520"/>
              <a:ext cx="557640" cy="53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4"/>
            <p:cNvSpPr/>
            <p:nvPr/>
          </p:nvSpPr>
          <p:spPr>
            <a:xfrm>
              <a:off x="4572000" y="1514520"/>
              <a:ext cx="0" cy="53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Line 15"/>
          <p:cNvSpPr/>
          <p:nvPr/>
        </p:nvSpPr>
        <p:spPr>
          <a:xfrm flipH="1">
            <a:off x="1476000" y="1268280"/>
            <a:ext cx="647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Экспресси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пособность «оживлять» подлинные эмоции. Она способствует проявлению нестандартности, творчества, инициативности, способности легко устанавливать эмоциональный контакт, улавливать изменения в ситуации и, соответственно, менять стратегию своего педагогического воз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182600" y="333000"/>
            <a:ext cx="7772400" cy="57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Эмпатия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ключает в себя отражение и понимание эмоционального состояния другого человека, активное, помогающее поведение. Педагог, обладающий эмпатией, никогда не допустит педагогическую бестактность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6310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аморегуляци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управление своим психоэмоциональным состоянием, которое достигается путем воздействия человека на самого себя с помощью слов, мысленных образов, управления мышечным тонусом и дыхани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7:08:46Z</dcterms:created>
  <dc:creator>ПЕДАГОГ-ПСИХОЛОГ</dc:creator>
  <dc:description/>
  <dc:language>en-US</dc:language>
  <cp:lastModifiedBy>Viktor</cp:lastModifiedBy>
  <dcterms:modified xsi:type="dcterms:W3CDTF">2012-01-19T17:11:54Z</dcterms:modified>
  <cp:revision>5</cp:revision>
  <dc:subject/>
  <dc:title>Слайд 1</dc:title>
</cp:coreProperties>
</file>