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5E9-1780-422F-A13D-EB4DF1BA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01A-FA20-4515-AA94-2EF28A3C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843E-AE4D-4B5E-AAFE-C456A65F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714-C829-48ED-BDD6-D5CACF71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C61D-55DA-464A-93BB-7B8641BB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E66B-1104-4FF0-ADA4-CDB09427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2436-F420-4555-BB4A-1C157F2C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21D-3333-4D77-A385-2BC516EA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3E33-198A-4DD6-BDB0-47BBA8FA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3C8B-0775-4E6C-AC95-C9537A39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D856-1D4B-4891-8791-4FE8633D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EDB-B0F5-4D37-AA89-1A122579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823A-FFF5-4F88-A0B3-4F53A51FC5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\Desktop\жи ши презентация\99014004_large_01 - копия.jpg"/>
          <p:cNvPicPr/>
          <p:nvPr/>
        </p:nvPicPr>
        <p:blipFill>
          <a:blip r:embed="rId1"/>
          <a:stretch/>
        </p:blipFill>
        <p:spPr>
          <a:xfrm>
            <a:off x="1785960" y="357120"/>
            <a:ext cx="57862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9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и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и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и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а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и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 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и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285920" y="785520"/>
            <a:ext cx="64008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короговорка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680" y="1571760"/>
            <a:ext cx="82864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НРАВИЛСЯ                   УРОК-ПУТЕШЕСТВИЕ –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ТО-ТО НЕ ПОНЯЛИ –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РОК-ПУТЕШЕСТВИЕ НЕ ПОНРАВИЛСЯ СОВСЕМ -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680" y="285480"/>
            <a:ext cx="7772400" cy="10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сим ёлочк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вал 6"/>
          <p:cNvSpPr/>
          <p:nvPr/>
        </p:nvSpPr>
        <p:spPr>
          <a:xfrm>
            <a:off x="6286680" y="2500200"/>
            <a:ext cx="571320" cy="571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7"/>
          <p:cNvSpPr/>
          <p:nvPr/>
        </p:nvSpPr>
        <p:spPr>
          <a:xfrm>
            <a:off x="6732720" y="5097600"/>
            <a:ext cx="571320" cy="571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8"/>
          <p:cNvSpPr/>
          <p:nvPr/>
        </p:nvSpPr>
        <p:spPr>
          <a:xfrm>
            <a:off x="7572240" y="342900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928760" y="5000760"/>
            <a:ext cx="39150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ань – Коленовской школы № 2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гатикова Нелли Васильевн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айте загад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1320" y="1643040"/>
            <a:ext cx="77864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ьются белые пушин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14920" y="2642760"/>
            <a:ext cx="38577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   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.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71320" y="26427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бристы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85920" y="2642760"/>
            <a:ext cx="11430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Admin\Desktop\жи ши презентация\81085852_4663906_transport1 - копия.png"/>
          <p:cNvPicPr/>
          <p:nvPr/>
        </p:nvPicPr>
        <p:blipFill>
          <a:blip r:embed="rId1"/>
          <a:stretch/>
        </p:blipFill>
        <p:spPr>
          <a:xfrm>
            <a:off x="4929120" y="642960"/>
            <a:ext cx="3676680" cy="2867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Users\Admin\Desktop\жи ши презентация\8701_html_m5f5a55be.gif"/>
          <p:cNvPicPr/>
          <p:nvPr/>
        </p:nvPicPr>
        <p:blipFill>
          <a:blip r:embed="rId2"/>
          <a:stretch/>
        </p:blipFill>
        <p:spPr>
          <a:xfrm>
            <a:off x="500040" y="214200"/>
            <a:ext cx="4176720" cy="327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Users\Admin\Desktop\жи ши презентация\81085852_4663906_transport1 - копия (2).png"/>
          <p:cNvPicPr/>
          <p:nvPr/>
        </p:nvPicPr>
        <p:blipFill>
          <a:blip r:embed="rId3"/>
          <a:stretch/>
        </p:blipFill>
        <p:spPr>
          <a:xfrm>
            <a:off x="642960" y="4071960"/>
            <a:ext cx="3267000" cy="2314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min\Desktop\жи ши презентация\81085852_4663906_transport1 - копия (3).png"/>
          <p:cNvPicPr/>
          <p:nvPr/>
        </p:nvPicPr>
        <p:blipFill>
          <a:blip r:embed="rId4"/>
          <a:stretch/>
        </p:blipFill>
        <p:spPr>
          <a:xfrm>
            <a:off x="4929120" y="4286160"/>
            <a:ext cx="35719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33865E-006 C 0.06893 2.33865E-006 0.125 0.05598 0.125 0.12491 C 0.125 0.19408 0.06893 0.25006 -4.16667E-006 0.25006 C -0.06892 0.25006 -0.125 0.19408 -0.125 0.12491 C -0.125 0.05598 -0.06892 2.33865E-006 -4.16667E-006 2.33865E-006 Z">
                                      <p:cBhvr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Admin\Desktop\жи ши презентация\2705270.jpg"/>
          <p:cNvPicPr/>
          <p:nvPr/>
        </p:nvPicPr>
        <p:blipFill>
          <a:blip r:embed="rId1"/>
          <a:stretch/>
        </p:blipFill>
        <p:spPr>
          <a:xfrm>
            <a:off x="857160" y="1428840"/>
            <a:ext cx="3143520" cy="459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Admin\Desktop\жи ши презентация\665340.jpg"/>
          <p:cNvPicPr/>
          <p:nvPr/>
        </p:nvPicPr>
        <p:blipFill>
          <a:blip r:embed="rId2"/>
          <a:stretch/>
        </p:blipFill>
        <p:spPr>
          <a:xfrm>
            <a:off x="4857840" y="1428840"/>
            <a:ext cx="3114720" cy="4572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Users\Admin\Desktop\жи ши презентация\9117.jpg"/>
          <p:cNvPicPr/>
          <p:nvPr/>
        </p:nvPicPr>
        <p:blipFill>
          <a:blip r:embed="rId1"/>
          <a:stretch/>
        </p:blipFill>
        <p:spPr>
          <a:xfrm>
            <a:off x="357120" y="571680"/>
            <a:ext cx="8358120" cy="5622840"/>
          </a:xfrm>
          <a:prstGeom prst="rect">
            <a:avLst/>
          </a:prstGeom>
          <a:ln w="0">
            <a:noFill/>
          </a:ln>
        </p:spPr>
      </p:pic>
      <p:pic>
        <p:nvPicPr>
          <p:cNvPr id="55" name="Музыка Из Мультфильмов - Кот Леопольд - Кручу, Кручу, Кручу Педали Кручу [с сайта www.ololo.fm].mp3" descr=""/>
          <p:cNvPicPr/>
          <p:nvPr/>
        </p:nvPicPr>
        <p:blipFill>
          <a:blip r:embed="rId2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44321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Users\Admin\Desktop\жи ши презентация\1289927389990094775 - копия.jpg"/>
          <p:cNvPicPr/>
          <p:nvPr/>
        </p:nvPicPr>
        <p:blipFill>
          <a:blip r:embed="rId1"/>
          <a:stretch/>
        </p:blipFill>
        <p:spPr>
          <a:xfrm>
            <a:off x="1143000" y="1285920"/>
            <a:ext cx="6215040" cy="54021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 на картинку и назовите слова с шипящими на кон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C:\Users\Admin\Desktop\жи ши презентация\07zhi - копия.jpg"/>
          <p:cNvPicPr/>
          <p:nvPr/>
        </p:nvPicPr>
        <p:blipFill>
          <a:blip r:embed="rId1"/>
          <a:stretch/>
        </p:blipFill>
        <p:spPr>
          <a:xfrm>
            <a:off x="6429240" y="2214720"/>
            <a:ext cx="2333880" cy="279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C:\Users\Admin\Desktop\жи ши презентация\07zhi - копия - копия.jpg"/>
          <p:cNvPicPr/>
          <p:nvPr/>
        </p:nvPicPr>
        <p:blipFill>
          <a:blip r:embed="rId2"/>
          <a:stretch/>
        </p:blipFill>
        <p:spPr>
          <a:xfrm>
            <a:off x="428760" y="2214720"/>
            <a:ext cx="565920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557208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Ж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Заголовок 7"/>
          <p:cNvSpPr/>
          <p:nvPr/>
        </p:nvSpPr>
        <p:spPr>
          <a:xfrm>
            <a:off x="857160" y="2000160"/>
            <a:ext cx="535788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Р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Ш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  ЕР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Ш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7"/>
          <p:cNvSpPr/>
          <p:nvPr/>
        </p:nvSpPr>
        <p:spPr>
          <a:xfrm>
            <a:off x="285840" y="3357720"/>
            <a:ext cx="807228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И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  СТРИ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Ж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7"/>
          <p:cNvSpPr/>
          <p:nvPr/>
        </p:nvSpPr>
        <p:spPr>
          <a:xfrm>
            <a:off x="571680" y="5000760"/>
            <a:ext cx="77151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ЛА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Ш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ЛА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Заголовок 7"/>
          <p:cNvSpPr/>
          <p:nvPr/>
        </p:nvSpPr>
        <p:spPr>
          <a:xfrm>
            <a:off x="4929120" y="571680"/>
            <a:ext cx="187164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7"/>
          <p:cNvSpPr/>
          <p:nvPr/>
        </p:nvSpPr>
        <p:spPr>
          <a:xfrm>
            <a:off x="4786200" y="2000160"/>
            <a:ext cx="22320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7"/>
          <p:cNvSpPr/>
          <p:nvPr/>
        </p:nvSpPr>
        <p:spPr>
          <a:xfrm>
            <a:off x="4572000" y="3429000"/>
            <a:ext cx="30956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7"/>
          <p:cNvSpPr/>
          <p:nvPr/>
        </p:nvSpPr>
        <p:spPr>
          <a:xfrm>
            <a:off x="4429080" y="5000760"/>
            <a:ext cx="36720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vtobus.mp3" descr=""/>
          <p:cNvPicPr/>
          <p:nvPr/>
        </p:nvPicPr>
        <p:blipFill>
          <a:blip r:embed="rId1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5" descr=""/>
          <p:cNvPicPr/>
          <p:nvPr/>
        </p:nvPicPr>
        <p:blipFill>
          <a:blip r:embed="rId2"/>
          <a:stretch/>
        </p:blipFill>
        <p:spPr>
          <a:xfrm>
            <a:off x="781200" y="-30240"/>
            <a:ext cx="7581600" cy="1432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Users\Admin\Desktop\жи ши презентация\uKERIuENAS4b - копия.jpg"/>
          <p:cNvPicPr/>
          <p:nvPr/>
        </p:nvPicPr>
        <p:blipFill>
          <a:blip r:embed="rId3"/>
          <a:stretch/>
        </p:blipFill>
        <p:spPr>
          <a:xfrm>
            <a:off x="1214280" y="1357200"/>
            <a:ext cx="657252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79432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1T15:52:43Z</dcterms:created>
  <dc:creator>Admin</dc:creator>
  <dc:description/>
  <dc:language>en-US</dc:language>
  <cp:lastModifiedBy>Admin</cp:lastModifiedBy>
  <dcterms:modified xsi:type="dcterms:W3CDTF">2014-12-22T17:23:21Z</dcterms:modified>
  <cp:revision>29</cp:revision>
  <dc:subject/>
  <dc:title>Слайд 1</dc:title>
</cp:coreProperties>
</file>