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4759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73320" y="763200"/>
            <a:ext cx="522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478D-805D-4C6A-A418-90ABFF45E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30F5B-10A3-44A2-9904-2975577A8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7E023-7C32-48E2-B024-4D87F75E96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5D892-D0EE-4EF7-989C-5432D78CF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4ACC-B77B-4EA5-827E-7910345E35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94287-F616-46DE-ADE7-73BF11E71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CB9D-629E-49E8-9E02-6D1B5FA38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8054A-1C10-45F7-ABAC-F790532FC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1F7C-7CB7-4AF7-9897-8A66BBF277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CBFAD-FA9A-4F98-BD2A-C6A57FFF92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2AD5B-529E-4F4F-B47D-F51F6153DA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566-990E-45FC-A389-0B43D26E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437400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6DA-4F21-4142-805E-2D326E13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248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1D3-AA1F-404B-A90B-24A307FC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944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9652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944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9652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07E-79B1-405E-9817-73DEBF3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3DD-C132-49F6-940C-87DFADF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10D-C109-46B0-9344-D7B9B95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0E4-D88D-4A0C-8E27-B411F93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AAC-078B-40AA-9197-51916D2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301320"/>
            <a:ext cx="9426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CFC-B94B-418C-BBF1-79AA4F66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0C3-FBDD-45D0-B537-8BC709B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248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D12-F10B-452A-A21E-F79366E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A69-E9EB-429B-9F2E-C94305A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886440"/>
            <a:ext cx="244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4160" y="6886440"/>
            <a:ext cx="3319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10320" y="6886440"/>
            <a:ext cx="2438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512B11-CAD4-4685-81D1-D5E69D863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66905" TargetMode="External"/><Relationship Id="rId2" Type="http://schemas.openxmlformats.org/officeDocument/2006/relationships/hyperlink" Target="http://images.yandex.ru/yandsearch" TargetMode="External"/><Relationship Id="rId3" Type="http://schemas.openxmlformats.org/officeDocument/2006/relationships/hyperlink" Target="http://bezdietu.ru/milk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7080" y="7174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«Напиток</a:t>
            </a:r>
            <a:br>
              <a:rPr sz="4400"/>
            </a:b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                     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114800" y="2879640"/>
            <a:ext cx="5986440" cy="4500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0" y="4851360"/>
            <a:ext cx="4867200" cy="2428920"/>
          </a:xfrm>
          <a:prstGeom prst="wedgeRoundRectCallout">
            <a:avLst>
              <a:gd name="adj1" fmla="val 83944"/>
              <a:gd name="adj2" fmla="val -37402"/>
              <a:gd name="adj3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о-исследовательская рабо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ка 6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КОУ Дудкинской СО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еметьева Владисл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Дунаева.Е.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7080" y="0"/>
            <a:ext cx="94280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Исследуем состав мо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735600" y="1619280"/>
            <a:ext cx="28069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333440" y="3990960"/>
          <a:ext cx="7410600" cy="2108160"/>
        </p:xfrm>
        <a:graphic>
          <a:graphicData uri="http://schemas.openxmlformats.org/drawingml/2006/table">
            <a:tbl>
              <a:tblPr/>
              <a:tblGrid>
                <a:gridCol w="1851120"/>
                <a:gridCol w="1855800"/>
                <a:gridCol w="1851120"/>
                <a:gridCol w="1852560"/>
              </a:tblGrid>
              <a:tr h="917640"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машнее свеж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Амурск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Фермерск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машний молочный продукт       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молока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менил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приобрело бледно-голубо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приобрело бледно-голубо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молока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менил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34"/>
          <p:cNvSpPr/>
          <p:nvPr/>
        </p:nvSpPr>
        <p:spPr>
          <a:xfrm>
            <a:off x="500400" y="6440040"/>
            <a:ext cx="75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машнем молоке витамина А больше, чем в покуп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покупное молоко проходит обработку – кипячение, в результ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го теряются витами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933480" y="1270800"/>
            <a:ext cx="5238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Опы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ить, есть ли в молоке витамин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опы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добавили в пробы молока хлорид железа 3  и наблюдали за реак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3016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60520" y="3240000"/>
            <a:ext cx="916776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актическая часть нашего исследования показала, что почти все вещества находятся как в домашнем, так и магазинном мол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4700b8"/>
                </a:solidFill>
                <a:latin typeface="Arial"/>
              </a:rPr>
              <a:t>Итак, гипотеза подтверждена: если дети будут употреблять в пищу молоко и молочные продукты, они будут расти расти крепкими и здоровы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49160" y="1260360"/>
            <a:ext cx="88455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рез анкетирование мы выявили, что основная часть учащихся Поярковской средней школы № 2 любят молоко, молочные продукты и блюда из н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84080" y="2376360"/>
            <a:ext cx="9318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 состав молока входят необходимые нашему организму  полезные вещества. Оно укрепляет кости, зубы, в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000" y="345600"/>
            <a:ext cx="94280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122480" y="1440000"/>
            <a:ext cx="73245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estival.1september.ru/articles/566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74600" y="4319640"/>
            <a:ext cx="80931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Леокум Аркадий. Детская энциклопедия «Скажи мне, почему?..»/ Авторизованный перевод Я. И А.Агуреевых.- М.: Джулия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22480" y="5759280"/>
            <a:ext cx="8383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Энциклопедия «Что такое. Кто такой»: В 3 томах. Т.2. – М.: Педагогика-Пресс, 1993, с..261 – 2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22480" y="1979640"/>
            <a:ext cx="804528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</a:t>
            </a:r>
            <a:r>
              <a:rPr b="0" lang="ru-RU" sz="3200" spc="-1" strike="noStrike">
                <a:solidFill>
                  <a:srgbClr val="4700b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bezdietu.ru/milk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Arial"/>
              </a:rPr>
              <a:t>http://ekoferma.at.ua/publ/produkti/o_polze_moloka/1-1-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8680" y="539640"/>
            <a:ext cx="9399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Цели и 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1.Провести исследования и попытаться найти ответ                 на вопрос: «Почему молоко называют напитком жизни?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2.Найти и проанализировать интересные факты                     о молоке , выяснить какие виды молока бывают.    3.Собрать данные о составе мол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4.Опытным путём определить жирность молока в домашни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5.Научиться самому и помочь другим читать этикетки товаров и попробовать стать грамотным покуп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85880" y="365040"/>
            <a:ext cx="8756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Методы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зучение литературн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ведение экспери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следуем состав молока и выясним, к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локо полез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ясним, почему надо «дружить» с 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489560" y="5040360"/>
            <a:ext cx="56131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735600" y="539640"/>
            <a:ext cx="31816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60520" y="5219640"/>
            <a:ext cx="935496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c2300"/>
                </a:solidFill>
                <a:latin typeface="Arial"/>
              </a:rPr>
              <a:t>Гипотеза:</a:t>
            </a:r>
            <a:r>
              <a:rPr b="0" lang="ru-RU" sz="28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 человек пьёт молоко и ест молочные  продукты, то его организм разв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74760" y="900000"/>
            <a:ext cx="46782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Благодаря материнскому мол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младенцы в первые месяц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ормально растут и развиваю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е потребляя ничего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Этот факт служ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прекрасным доказательством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что молоко является полноценны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езаменимым продуктом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1200" y="3489480"/>
            <a:ext cx="49132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О пользе молока говорит тот фак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что выпивая 0,5 литра молока в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Организм получает все необходимые ему питатель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763640" y="360360"/>
            <a:ext cx="21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Факт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3060720"/>
            <a:ext cx="21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Факт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309600" y="2565360"/>
            <a:ext cx="749160" cy="39592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 flipH="1">
            <a:off x="9167040" y="2879640"/>
            <a:ext cx="934920" cy="378000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_600_600_90_18433455192013148015.jpg"/>
          <p:cNvPicPr/>
          <p:nvPr/>
        </p:nvPicPr>
        <p:blipFill>
          <a:blip r:embed="rId1"/>
          <a:stretch/>
        </p:blipFill>
        <p:spPr>
          <a:xfrm>
            <a:off x="5524560" y="422280"/>
            <a:ext cx="39290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3016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По страницам литератур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49160" y="1690560"/>
            <a:ext cx="922356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кон века люди высоко ценили целебные свойства молока. Они называли его «соком жизни», «эликсиром жизн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менитый врач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Гиппокр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молоко лекарством,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Авиц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тверждал, что молоко – это лучшая пища для людей, академик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Пав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молоко пищей, приготовленной самой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49160" y="4680000"/>
            <a:ext cx="2057400" cy="27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90880" y="4660920"/>
            <a:ext cx="2095560" cy="271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296120" y="4660920"/>
            <a:ext cx="23954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306000"/>
            <a:ext cx="9428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Легенды </a:t>
            </a:r>
            <a:br>
              <a:rPr sz="4400"/>
            </a:b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                         о мол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80920" y="1779480"/>
            <a:ext cx="467856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06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самое раннее упоминание о молоке находится в Библии. В ней есть много ссылок на молоко. *  Авель, сын Адама, пас овец и, вероятно, пил молоко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Библии в предсказании Иакова, которое относится к 1700 году до н.э., написано, что зубы Иуды станут белыми от мол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Земля Ханаанская была «землей молока и меда»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Старинная легенда гласит, что громовержец Зевс ,был вскормлен молоком божественной козы Амалфеи из её же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173640" y="2055960"/>
            <a:ext cx="36846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360" y="345600"/>
            <a:ext cx="95788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44794"/>
                </a:solidFill>
                <a:latin typeface="Arial"/>
              </a:rPr>
              <a:t>Виды молока:</a:t>
            </a:r>
            <a:br>
              <a:rPr sz="4000"/>
            </a:br>
            <a:r>
              <a:rPr b="0" lang="ru-RU" sz="4000" spc="-1" strike="noStrike">
                <a:solidFill>
                  <a:srgbClr val="944794"/>
                </a:solidFill>
                <a:latin typeface="Arial"/>
              </a:rPr>
              <a:t>Козье молоко.   Овечье моло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13s.jpg"/>
          <p:cNvPicPr/>
          <p:nvPr/>
        </p:nvPicPr>
        <p:blipFill>
          <a:blip r:embed="rId1"/>
          <a:stretch/>
        </p:blipFill>
        <p:spPr>
          <a:xfrm>
            <a:off x="601560" y="1922400"/>
            <a:ext cx="4384800" cy="4429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32230.jpg"/>
          <p:cNvPicPr/>
          <p:nvPr/>
        </p:nvPicPr>
        <p:blipFill>
          <a:blip r:embed="rId2"/>
          <a:stretch/>
        </p:blipFill>
        <p:spPr>
          <a:xfrm>
            <a:off x="5238720" y="1922400"/>
            <a:ext cx="485136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е молоко   и    я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fobos_bos.jpg"/>
          <p:cNvPicPr/>
          <p:nvPr/>
        </p:nvPicPr>
        <p:blipFill>
          <a:blip r:embed="rId1"/>
          <a:stretch/>
        </p:blipFill>
        <p:spPr>
          <a:xfrm>
            <a:off x="5089680" y="1487520"/>
            <a:ext cx="5200560" cy="4224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п.jpg"/>
          <p:cNvPicPr/>
          <p:nvPr/>
        </p:nvPicPr>
        <p:blipFill>
          <a:blip r:embed="rId2"/>
          <a:stretch/>
        </p:blipFill>
        <p:spPr>
          <a:xfrm>
            <a:off x="463680" y="1146240"/>
            <a:ext cx="49924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25:34Z</dcterms:created>
  <dc:creator/>
  <dc:description/>
  <dc:language>en-US</dc:language>
  <cp:lastModifiedBy>дудкинская СОШ</cp:lastModifiedBy>
  <dcterms:modified xsi:type="dcterms:W3CDTF">2013-04-02T10:26:52Z</dcterms:modified>
  <cp:revision>11</cp:revision>
  <dc:subject/>
  <dc:title>Всем даёт здоровье молоко коровье</dc:title>
</cp:coreProperties>
</file>