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4759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273320" y="763200"/>
            <a:ext cx="522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F0841-1E29-4657-8670-EF11DEF94E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CDB63-CF64-45D3-ABE3-8718BF4FAB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8927C-7CD8-4222-94A8-00E1E0227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7910-2DFD-4E7A-836B-F95C30B36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ED5C0-9420-4216-A5AB-01AE38486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6AF70-115D-46EE-B081-6BD9C36A1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424CF-DD90-4025-9B75-503173B4B1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23D79-652E-4E50-A0F3-A4E2EB005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1B1A9-1F24-4D7E-808C-1DC21DED2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52946-1353-45DD-918B-6F1879AF75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93C53-FDFC-407A-B76D-0F54BD40CF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73320" y="763560"/>
            <a:ext cx="522576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5C2-D4C7-4CC8-9B3F-2FC6B8FD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9426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4374000"/>
            <a:ext cx="9426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205-CE50-4892-AC99-93C40AC7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248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BA9-A9D1-46C9-B4C9-1841497A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9440" y="176832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96520" y="176832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437400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9440" y="437400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96520" y="4374000"/>
            <a:ext cx="3035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811-1513-4929-8610-1C919DB4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768320"/>
            <a:ext cx="9426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BBC-302F-4CAF-8793-804306B9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9426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AB8-8AF9-43F7-B836-537F0A7C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317-3180-47C3-BCB2-903328A0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E79-5B59-4A88-A1FD-244B303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301320"/>
            <a:ext cx="9426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484-64C8-4A92-BC7E-2C1C6A2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F97-373B-4A96-A7DC-2CA2FC4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2480" y="437400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740-C6F1-4864-A23A-FFCC284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2480" y="1768320"/>
            <a:ext cx="46000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4374000"/>
            <a:ext cx="9426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AF4-4D1D-40E7-9485-A3AC9EF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0" y="1768320"/>
            <a:ext cx="9426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2360" y="6886440"/>
            <a:ext cx="244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4160" y="6886440"/>
            <a:ext cx="3319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10320" y="6886440"/>
            <a:ext cx="2438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4FA7C7-61CA-4D60-8777-8B8C4CEDF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566905" TargetMode="External"/><Relationship Id="rId2" Type="http://schemas.openxmlformats.org/officeDocument/2006/relationships/hyperlink" Target="http://images.yandex.ru/yandsearch" TargetMode="External"/><Relationship Id="rId3" Type="http://schemas.openxmlformats.org/officeDocument/2006/relationships/hyperlink" Target="http://bezdietu.ru/milk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7080" y="717480"/>
            <a:ext cx="942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700b8"/>
                </a:solidFill>
                <a:latin typeface="Arial"/>
              </a:rPr>
              <a:t>«Напиток</a:t>
            </a:r>
            <a:br>
              <a:rPr sz="4400"/>
            </a:br>
            <a:r>
              <a:rPr b="1" lang="ru-RU" sz="4400" spc="-1" strike="noStrike">
                <a:solidFill>
                  <a:srgbClr val="4700b8"/>
                </a:solidFill>
                <a:latin typeface="Arial"/>
              </a:rPr>
              <a:t>                     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114800" y="2879640"/>
            <a:ext cx="5986440" cy="45007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0" y="4851360"/>
            <a:ext cx="4867200" cy="2428920"/>
          </a:xfrm>
          <a:prstGeom prst="wedgeRoundRectCallout">
            <a:avLst>
              <a:gd name="adj1" fmla="val 83944"/>
              <a:gd name="adj2" fmla="val -37402"/>
              <a:gd name="adj3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о-исследовательская рабо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ка 6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КОУ Дудкинской СО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ереметьева Владисл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итель: Дунаева.Е.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7080" y="0"/>
            <a:ext cx="942804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4794"/>
                </a:solidFill>
                <a:latin typeface="Arial"/>
              </a:rPr>
              <a:t>Исследуем состав мо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735600" y="1619280"/>
            <a:ext cx="28069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333440" y="3990960"/>
          <a:ext cx="7410600" cy="2108160"/>
        </p:xfrm>
        <a:graphic>
          <a:graphicData uri="http://schemas.openxmlformats.org/drawingml/2006/table">
            <a:tbl>
              <a:tblPr/>
              <a:tblGrid>
                <a:gridCol w="1851120"/>
                <a:gridCol w="1855800"/>
                <a:gridCol w="1851120"/>
                <a:gridCol w="1852560"/>
              </a:tblGrid>
              <a:tr h="917640"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машнее свеж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Амурск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Фермерск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машний молочный продукт        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молока 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зменил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приобрело бледно-голубо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приобрело бледно-голубой 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0" rIns="936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молока </a:t>
                      </a:r>
                      <a:r>
                        <a:rPr b="0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зменил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34"/>
          <p:cNvSpPr/>
          <p:nvPr/>
        </p:nvSpPr>
        <p:spPr>
          <a:xfrm>
            <a:off x="500400" y="6440040"/>
            <a:ext cx="75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омашнем молоке витамина А больше, чем в покупн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покупное молоко проходит обработку – кипячение, в результ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ого теряются витами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933480" y="1270800"/>
            <a:ext cx="52387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Опы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ить, есть ли в молоке витамин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 опы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добавили в пробы молока хлорид железа 3  и наблюдали за реак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301680"/>
            <a:ext cx="942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4794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60520" y="3240000"/>
            <a:ext cx="916776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актическая часть нашего исследования показала, что почти все вещества находятся как в домашнем, так и магазинном мол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4700b8"/>
                </a:solidFill>
                <a:latin typeface="Arial"/>
              </a:rPr>
              <a:t>Итак, гипотеза подтверждена: если дети будут употреблять в пищу молоко и молочные продукты, они будут расти расти крепкими и здоровы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49160" y="1260360"/>
            <a:ext cx="88455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рез анкетирование мы выявили, что основная часть учащихся Поярковской средней школы № 2 любят молоко, молочные продукты и блюда из н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84080" y="2376360"/>
            <a:ext cx="9318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 состав молока входят необходимые нашему организму  полезные вещества. Оно укрепляет кости, зубы, вол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000" y="345600"/>
            <a:ext cx="94280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b4794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122480" y="1440000"/>
            <a:ext cx="73245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estival.1september.ru/articles/566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74600" y="4319640"/>
            <a:ext cx="80931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Леокум Аркадий. Детская энциклопедия «Скажи мне, почему?..»/ Авторизованный перевод Я. И А.Агуреевых.- М.: Джулия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22480" y="5759280"/>
            <a:ext cx="83833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</a:rPr>
              <a:t>Энциклопедия «Что такое. Кто такой»: В 3 томах. Т.2. – М.: Педагогика-Пресс, 1993, с..261 – 2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122480" y="1979640"/>
            <a:ext cx="804528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mages.yandex.ru/yandsearch</a:t>
            </a:r>
            <a:r>
              <a:rPr b="0" lang="ru-RU" sz="3200" spc="-1" strike="noStrike">
                <a:solidFill>
                  <a:srgbClr val="4700b8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bezdietu.ru/milk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700b8"/>
                </a:solidFill>
                <a:latin typeface="Arial"/>
              </a:rPr>
              <a:t>http://ekoferma.at.ua/publ/produkti/o_polze_moloka/1-1-0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28680" y="539640"/>
            <a:ext cx="9399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Цели и 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1.Провести исследования и попытаться найти ответ                 на вопрос: «Почему молоко называют напитком жизни?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2.Найти и проанализировать интересные факты                     о молоке , выяснить какие виды молока бывают.    3.Собрать данные о составе мол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4.Опытным путём определить жирность молока в домашни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5.Научиться самому и помочь другим читать этикетки товаров и попробовать стать грамотным покуп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785880" y="365040"/>
            <a:ext cx="8756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Методы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зучение литературных ист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ведение экспери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сследуем состав молока и выясним, к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локо полез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ыясним, почему надо «дружить» с мол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489560" y="5040360"/>
            <a:ext cx="56131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735600" y="539640"/>
            <a:ext cx="31816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60520" y="5219640"/>
            <a:ext cx="935496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c2300"/>
                </a:solidFill>
                <a:latin typeface="Arial"/>
              </a:rPr>
              <a:t>Гипотеза:</a:t>
            </a:r>
            <a:r>
              <a:rPr b="0" lang="ru-RU" sz="28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 человек пьёт молоко и ест молочные  продукты, то его организм разв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уч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74760" y="900000"/>
            <a:ext cx="46782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Благодаря материнскому мол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младенцы в первые месяцы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нормально растут и развиваю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не потребляя ничего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Этот факт служ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прекрасным доказательством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что молоко является полноценны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c8526"/>
                </a:solidFill>
                <a:latin typeface="Arial"/>
              </a:rPr>
              <a:t>незаменимым продуктом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1200" y="3489480"/>
            <a:ext cx="49132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ae00"/>
                </a:solidFill>
                <a:latin typeface="Arial"/>
              </a:rPr>
              <a:t>О пользе молока говорит тот фак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ae00"/>
                </a:solidFill>
                <a:latin typeface="Arial"/>
              </a:rPr>
              <a:t>что выпивая 0,5 литра молока в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ae00"/>
                </a:solidFill>
                <a:latin typeface="Arial"/>
              </a:rPr>
              <a:t>Организм получает все необходимые ему питатель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763640" y="360360"/>
            <a:ext cx="21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Arial"/>
              </a:rPr>
              <a:t>Факт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3060720"/>
            <a:ext cx="216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Arial"/>
              </a:rPr>
              <a:t>Факт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309600" y="2565360"/>
            <a:ext cx="749160" cy="39592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 flipH="1">
            <a:off x="9167040" y="2879640"/>
            <a:ext cx="934920" cy="378000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_600_600_90_18433455192013148015.jpg"/>
          <p:cNvPicPr/>
          <p:nvPr/>
        </p:nvPicPr>
        <p:blipFill>
          <a:blip r:embed="rId1"/>
          <a:stretch/>
        </p:blipFill>
        <p:spPr>
          <a:xfrm>
            <a:off x="5524560" y="422280"/>
            <a:ext cx="392904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301680"/>
            <a:ext cx="942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44794"/>
                </a:solidFill>
                <a:latin typeface="Arial"/>
              </a:rPr>
              <a:t>По страницам литературных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49160" y="1690560"/>
            <a:ext cx="922356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кон века люди высоко ценили целебные свойства молока. Они называли его «соком жизни», «эликсиром жизн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менитый врач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</a:rPr>
              <a:t>Гиппокр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л молоко лекарством,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</a:rPr>
              <a:t>Авиц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тверждал, что молоко – это лучшая пища для людей, академик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</a:rPr>
              <a:t>Пав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л молоко пищей, приготовленной самой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49160" y="4680000"/>
            <a:ext cx="2057400" cy="27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90880" y="4660920"/>
            <a:ext cx="2095560" cy="271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296120" y="4660920"/>
            <a:ext cx="23954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306000"/>
            <a:ext cx="9428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44794"/>
                </a:solidFill>
                <a:latin typeface="Arial"/>
              </a:rPr>
              <a:t>Легенды </a:t>
            </a:r>
            <a:br>
              <a:rPr sz="4400"/>
            </a:br>
            <a:r>
              <a:rPr b="0" lang="ru-RU" sz="4400" spc="-1" strike="noStrike">
                <a:solidFill>
                  <a:srgbClr val="944794"/>
                </a:solidFill>
                <a:latin typeface="Arial"/>
              </a:rPr>
              <a:t>                         о мол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80920" y="1779480"/>
            <a:ext cx="467856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0600" bIns="450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ывается, что самое раннее упоминание о молоке находится в Библии. В ней есть много ссылок на молоко. *  Авель, сын Адама, пас овец и, вероятно, пил молоко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 Библии в предсказании Иакова, которое относится к 1700 году до н.э., написано, что зубы Иуды станут белыми от мол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Земля Ханаанская была «землей молока и меда»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Старинная легенда гласит, что громовержец Зевс ,был вскормлен молоком божественной козы Амалфеи из её же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173640" y="2055960"/>
            <a:ext cx="368460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360" y="345600"/>
            <a:ext cx="95788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44794"/>
                </a:solidFill>
                <a:latin typeface="Arial"/>
              </a:rPr>
              <a:t>Виды молока:</a:t>
            </a:r>
            <a:br>
              <a:rPr sz="4000"/>
            </a:br>
            <a:r>
              <a:rPr b="0" lang="ru-RU" sz="4000" spc="-1" strike="noStrike">
                <a:solidFill>
                  <a:srgbClr val="944794"/>
                </a:solidFill>
                <a:latin typeface="Arial"/>
              </a:rPr>
              <a:t>Козье молоко.   Овечье моло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13s.jpg"/>
          <p:cNvPicPr/>
          <p:nvPr/>
        </p:nvPicPr>
        <p:blipFill>
          <a:blip r:embed="rId1"/>
          <a:stretch/>
        </p:blipFill>
        <p:spPr>
          <a:xfrm>
            <a:off x="601560" y="1922400"/>
            <a:ext cx="4384800" cy="4429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32230.jpg"/>
          <p:cNvPicPr/>
          <p:nvPr/>
        </p:nvPicPr>
        <p:blipFill>
          <a:blip r:embed="rId2"/>
          <a:stretch/>
        </p:blipFill>
        <p:spPr>
          <a:xfrm>
            <a:off x="5238720" y="1922400"/>
            <a:ext cx="485136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2000" y="301320"/>
            <a:ext cx="9426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блюжье молоко   и    я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fobos_bos.jpg"/>
          <p:cNvPicPr/>
          <p:nvPr/>
        </p:nvPicPr>
        <p:blipFill>
          <a:blip r:embed="rId1"/>
          <a:stretch/>
        </p:blipFill>
        <p:spPr>
          <a:xfrm>
            <a:off x="5089680" y="1487520"/>
            <a:ext cx="5200560" cy="4224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п.jpg"/>
          <p:cNvPicPr/>
          <p:nvPr/>
        </p:nvPicPr>
        <p:blipFill>
          <a:blip r:embed="rId2"/>
          <a:stretch/>
        </p:blipFill>
        <p:spPr>
          <a:xfrm>
            <a:off x="463680" y="1146240"/>
            <a:ext cx="49924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25:34Z</dcterms:created>
  <dc:creator/>
  <dc:description/>
  <dc:language>en-US</dc:language>
  <cp:lastModifiedBy>дудкинская СОШ</cp:lastModifiedBy>
  <dcterms:modified xsi:type="dcterms:W3CDTF">2013-04-02T10:26:52Z</dcterms:modified>
  <cp:revision>11</cp:revision>
  <dc:subject/>
  <dc:title>Всем даёт здоровье молоко коровье</dc:title>
</cp:coreProperties>
</file>