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39.jpeg" ContentType="image/jpeg"/>
  <Override PartName="/ppt/media/image8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45C-1173-4751-B722-F6ABD0FF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646-7FE3-4AF2-AEAE-DBDE6E7E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316-683B-4104-8B19-62802F4D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6FB-3E78-4174-9F9B-E5AC284C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4AA5-3949-4160-B736-B63497F2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1225-E8AD-4786-B637-816D00EC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21ED-9F13-4716-A035-F8CFA98F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45D4-AE43-4685-A767-8433EBA8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870B-CCB5-40B0-8E8C-3C106F6E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1C09-91A7-4733-8C9E-0B84A4F8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86B4-41BF-4C3A-9A4D-257946D0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C7A-3576-43B5-AA41-4D179FB6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6C28-7A30-45E5-BB26-23FD1AFB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8A2D-7AF1-4665-A676-69BC05C8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FD37-8E74-4C64-92BA-5AEB5802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D9F3-80DD-4FBA-A7CD-21E27857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1B36-BAF0-4B37-ABCF-3A1E97E3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CF81F-1811-4417-A015-CC2752D5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49B5-22F6-4FE2-AB20-0515C573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A0C6-7D31-4A58-8B81-5CE55058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974A-94FF-47A9-BDA0-B7968FD3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55B45-0825-4C63-BE8B-358CDD26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376-9634-4343-9ED2-1AA892FA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BDFC-D85F-4C65-AC43-4144C878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2842-1952-4FB6-9D73-6C1EB51D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5722-E7F8-4325-AD81-C714B30F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6D193-08BC-46FD-B274-58F9A3C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E83E9-60DE-4141-9999-88E8D290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863A-B2BD-4AE7-9F68-7A7CBA12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0F6A-B476-42F5-A1F5-8AC6523A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6A06-05F6-43F4-9FFE-A13C1942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0242-9434-4B22-AB80-8CB4D613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AF22D-EADD-46EB-94C0-30B49C5E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EE1-5A2F-47A5-BD32-94B86372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E5A1-D3D1-4F7C-8C32-B17F441B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E4617-8F2E-4202-ACC2-C9D08E86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F39F9-10B9-40A5-BA87-2E41EFA6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8E082-0670-4E7A-9EBA-5BE84FF5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FEC7E-0E2B-4757-B397-C2185CAA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9F5EF-5FFB-4BA2-BBF3-DA233A40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AF5A5-BEA3-4021-BD67-B908F55A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027F-31C7-4863-9882-C79D5238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E37B6-5F6F-43E9-867A-CBD24753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37D-E908-4732-AEB8-F911C4C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7E9-53D1-4593-8EA8-065565A4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333-C533-4D60-AC1B-F51A2618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C0F-A29A-4254-9CA4-AC0B368B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7FE-628B-4607-87CB-124A5B9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2669-A1F5-49D1-A055-C0A428D90B2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540A-AB39-418A-9D70-47CD5550547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4400-F62E-45EB-94ED-3616200B820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B1B6-83E6-43CF-AC89-EEFA64E1160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454200" y="4813200"/>
            <a:ext cx="2022120" cy="980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to know  custom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1262160" y="1749600"/>
            <a:ext cx="7851600" cy="205416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3"/>
          <p:cNvSpPr/>
          <p:nvPr/>
        </p:nvSpPr>
        <p:spPr>
          <a:xfrm>
            <a:off x="395280" y="4221000"/>
            <a:ext cx="2448000" cy="1546560"/>
          </a:xfrm>
          <a:prstGeom prst="cloudCallout">
            <a:avLst>
              <a:gd name="adj1" fmla="val -3564"/>
              <a:gd name="adj2" fmla="val 29981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79280" y="189000"/>
            <a:ext cx="2448000" cy="1330200"/>
          </a:xfrm>
          <a:prstGeom prst="cloudCallout">
            <a:avLst>
              <a:gd name="adj1" fmla="val -3564"/>
              <a:gd name="adj2" fmla="val 26731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6300720" y="4292640"/>
            <a:ext cx="2448000" cy="1800360"/>
          </a:xfrm>
          <a:prstGeom prst="cloudCallout">
            <a:avLst>
              <a:gd name="adj1" fmla="val -3564"/>
              <a:gd name="adj2" fmla="val 6703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AutoShape 6"/>
          <p:cNvSpPr/>
          <p:nvPr/>
        </p:nvSpPr>
        <p:spPr>
          <a:xfrm rot="16976400">
            <a:off x="7119720" y="1944360"/>
            <a:ext cx="1871640" cy="2163600"/>
          </a:xfrm>
          <a:prstGeom prst="cloudCallout">
            <a:avLst>
              <a:gd name="adj1" fmla="val -25393"/>
              <a:gd name="adj2" fmla="val -16925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 rot="21457800">
            <a:off x="17640" y="1953720"/>
            <a:ext cx="2016000" cy="1871640"/>
          </a:xfrm>
          <a:prstGeom prst="cloudCallout">
            <a:avLst>
              <a:gd name="adj1" fmla="val 6379"/>
              <a:gd name="adj2" fmla="val 453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3348000" y="404640"/>
            <a:ext cx="2448000" cy="1467000"/>
          </a:xfrm>
          <a:prstGeom prst="cloudCallout">
            <a:avLst>
              <a:gd name="adj1" fmla="val -3564"/>
              <a:gd name="adj2" fmla="val -8009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6372360" y="333360"/>
            <a:ext cx="2447640" cy="1330200"/>
          </a:xfrm>
          <a:prstGeom prst="cloudCallout">
            <a:avLst>
              <a:gd name="adj1" fmla="val -3564"/>
              <a:gd name="adj2" fmla="val 26731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11"/>
          <p:cNvSpPr/>
          <p:nvPr/>
        </p:nvSpPr>
        <p:spPr>
          <a:xfrm flipH="1" rot="18991200">
            <a:off x="2668320" y="3832200"/>
            <a:ext cx="1025280" cy="339840"/>
          </a:xfrm>
          <a:prstGeom prst="rightArrow">
            <a:avLst>
              <a:gd name="adj1" fmla="val 50000"/>
              <a:gd name="adj2" fmla="val 75424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12"/>
          <p:cNvSpPr/>
          <p:nvPr/>
        </p:nvSpPr>
        <p:spPr>
          <a:xfrm flipH="1" rot="12928800">
            <a:off x="5782680" y="3811320"/>
            <a:ext cx="1019160" cy="314280"/>
          </a:xfrm>
          <a:prstGeom prst="rightArrow">
            <a:avLst>
              <a:gd name="adj1" fmla="val 50000"/>
              <a:gd name="adj2" fmla="val 81071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3"/>
          <p:cNvSpPr/>
          <p:nvPr/>
        </p:nvSpPr>
        <p:spPr>
          <a:xfrm flipH="1" rot="16200000">
            <a:off x="4372200" y="3843360"/>
            <a:ext cx="828720" cy="431640"/>
          </a:xfrm>
          <a:prstGeom prst="rightArrow">
            <a:avLst>
              <a:gd name="adj1" fmla="val 50000"/>
              <a:gd name="adj2" fmla="val 47998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AutoShape 14"/>
          <p:cNvSpPr/>
          <p:nvPr/>
        </p:nvSpPr>
        <p:spPr>
          <a:xfrm flipH="1" rot="2625600">
            <a:off x="2499120" y="1861920"/>
            <a:ext cx="1001880" cy="349200"/>
          </a:xfrm>
          <a:prstGeom prst="rightArrow">
            <a:avLst>
              <a:gd name="adj1" fmla="val 50000"/>
              <a:gd name="adj2" fmla="val 72378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15"/>
          <p:cNvSpPr/>
          <p:nvPr/>
        </p:nvSpPr>
        <p:spPr>
          <a:xfrm flipH="1" rot="5496600">
            <a:off x="4459320" y="2029320"/>
            <a:ext cx="649440" cy="428400"/>
          </a:xfrm>
          <a:prstGeom prst="rightArrow">
            <a:avLst>
              <a:gd name="adj1" fmla="val 50000"/>
              <a:gd name="adj2" fmla="val 37899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AutoShape 16"/>
          <p:cNvSpPr/>
          <p:nvPr/>
        </p:nvSpPr>
        <p:spPr>
          <a:xfrm flipH="1" rot="7861800">
            <a:off x="5843520" y="1945440"/>
            <a:ext cx="812880" cy="338040"/>
          </a:xfrm>
          <a:prstGeom prst="rightArrow">
            <a:avLst>
              <a:gd name="adj1" fmla="val 50000"/>
              <a:gd name="adj2" fmla="val 6011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540720" y="66816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meet peo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492360" y="9079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visit new pla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372360" y="7365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practice  Englis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79280" y="22431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learn more about  it’s culture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61128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enjoy sigh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7524720" y="23922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take par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the  festiv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6902280" y="4653000"/>
            <a:ext cx="145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learn more about the  cou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600360" cy="2430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752720" cy="3168720"/>
          </a:xfrm>
          <a:prstGeom prst="rect">
            <a:avLst/>
          </a:prstGeom>
          <a:ln w="0">
            <a:noFill/>
          </a:ln>
        </p:spPr>
      </p:pic>
      <p:sp>
        <p:nvSpPr>
          <p:cNvPr id="271" name="WordArt 4"/>
          <p:cNvSpPr txBox="1"/>
          <p:nvPr/>
        </p:nvSpPr>
        <p:spPr>
          <a:xfrm>
            <a:off x="468360" y="260280"/>
            <a:ext cx="410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BORIGI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72" name="Picture 8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4066920" cy="2874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"/>
          <p:cNvPicPr/>
          <p:nvPr/>
        </p:nvPicPr>
        <p:blipFill>
          <a:blip r:embed="rId4"/>
          <a:stretch/>
        </p:blipFill>
        <p:spPr>
          <a:xfrm>
            <a:off x="6588000" y="2852640"/>
            <a:ext cx="2440080" cy="388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"/>
          <p:cNvPicPr/>
          <p:nvPr/>
        </p:nvPicPr>
        <p:blipFill>
          <a:blip r:embed="rId5"/>
          <a:stretch/>
        </p:blipFill>
        <p:spPr>
          <a:xfrm>
            <a:off x="3708360" y="2708280"/>
            <a:ext cx="2735280" cy="201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>
            <a:off x="4427640" y="5013360"/>
            <a:ext cx="2016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3"/>
          <p:cNvSpPr/>
          <p:nvPr/>
        </p:nvSpPr>
        <p:spPr>
          <a:xfrm>
            <a:off x="468360" y="476280"/>
            <a:ext cx="7775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79ca"/>
                </a:solidFill>
                <a:latin typeface="Tahoma"/>
              </a:rPr>
              <a:t>The local wild animal which is in the emblem of Austral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8d11"/>
                </a:solidFill>
                <a:latin typeface="Tahoma"/>
              </a:rPr>
              <a:t>The capital of Austral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79ca"/>
                </a:solidFill>
                <a:latin typeface="Tahoma"/>
              </a:rPr>
              <a:t>A kind of water sport which gives you an opportunity to see underwater worl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8d11"/>
                </a:solidFill>
                <a:latin typeface="Tahoma"/>
              </a:rPr>
              <a:t>Local people of Austral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79ca"/>
                </a:solidFill>
                <a:latin typeface="Tahoma"/>
              </a:rPr>
              <a:t>There are six  of them in Australian fla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79ca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11"/>
          <p:cNvSpPr txBox="1"/>
          <p:nvPr/>
        </p:nvSpPr>
        <p:spPr>
          <a:xfrm>
            <a:off x="190440" y="4946760"/>
            <a:ext cx="864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KANGAROOLAND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4"/>
          <p:cNvSpPr txBox="1"/>
          <p:nvPr/>
        </p:nvSpPr>
        <p:spPr>
          <a:xfrm>
            <a:off x="1366920" y="2852640"/>
            <a:ext cx="64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 LUCKY  COUNTRY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5"/>
          <p:cNvSpPr txBox="1"/>
          <p:nvPr/>
        </p:nvSpPr>
        <p:spPr>
          <a:xfrm>
            <a:off x="179280" y="333360"/>
            <a:ext cx="878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 UPSIDE  DOWN  WORLD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4"/>
          <p:cNvSpPr txBox="1"/>
          <p:nvPr/>
        </p:nvSpPr>
        <p:spPr>
          <a:xfrm>
            <a:off x="3276720" y="260280"/>
            <a:ext cx="547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AUSTRAL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240" name="Picture 6" descr="MCj04380610000[1]"/>
          <p:cNvPicPr/>
          <p:nvPr/>
        </p:nvPicPr>
        <p:blipFill>
          <a:blip r:embed="rId1"/>
          <a:stretch/>
        </p:blipFill>
        <p:spPr>
          <a:xfrm>
            <a:off x="0" y="260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"/>
          <p:cNvPicPr/>
          <p:nvPr/>
        </p:nvPicPr>
        <p:blipFill>
          <a:blip r:embed="rId2"/>
          <a:stretch/>
        </p:blipFill>
        <p:spPr>
          <a:xfrm>
            <a:off x="2916360" y="2205000"/>
            <a:ext cx="6095880" cy="446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2" descr="MPj04022560000[1]"/>
          <p:cNvPicPr/>
          <p:nvPr/>
        </p:nvPicPr>
        <p:blipFill>
          <a:blip r:embed="rId3"/>
          <a:stretch/>
        </p:blipFill>
        <p:spPr>
          <a:xfrm>
            <a:off x="395280" y="3284640"/>
            <a:ext cx="208116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912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"/>
          <p:cNvSpPr/>
          <p:nvPr/>
        </p:nvSpPr>
        <p:spPr>
          <a:xfrm>
            <a:off x="755640" y="836640"/>
            <a:ext cx="588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 is the world’s largest island and its smallest contin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e67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324000" y="333360"/>
            <a:ext cx="84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ymbols of Austral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4290840" y="936720"/>
            <a:ext cx="4484880" cy="2935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179280" y="3871800"/>
            <a:ext cx="54007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95280" y="836640"/>
            <a:ext cx="3827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Tahoma"/>
              </a:rPr>
              <a:t>The capital of Australia is Canberra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7" descr="C:\Users\Зиннатуллина\Desktop\post-110649-1254557250.jpg"/>
          <p:cNvPicPr/>
          <p:nvPr/>
        </p:nvPicPr>
        <p:blipFill>
          <a:blip r:embed="rId1"/>
          <a:stretch/>
        </p:blipFill>
        <p:spPr>
          <a:xfrm>
            <a:off x="3924360" y="40464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Users\Зиннатуллина\Desktop\hotel_115.jpg"/>
          <p:cNvPicPr/>
          <p:nvPr/>
        </p:nvPicPr>
        <p:blipFill>
          <a:blip r:embed="rId2"/>
          <a:stretch/>
        </p:blipFill>
        <p:spPr>
          <a:xfrm>
            <a:off x="324000" y="3141720"/>
            <a:ext cx="5192640" cy="33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07640" y="256680"/>
            <a:ext cx="3970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en-US" sz="2800" spc="-1" strike="noStrike">
                <a:solidFill>
                  <a:srgbClr val="404040"/>
                </a:solidFill>
                <a:latin typeface="Trebuchet MS"/>
              </a:rPr>
              <a:t>There are 5 big cities in Australia: Sydney, Melbourne, Adelaide, Perth and Brisba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4" descr="biblio"/>
          <p:cNvPicPr/>
          <p:nvPr/>
        </p:nvPicPr>
        <p:blipFill>
          <a:blip r:embed="rId1"/>
          <a:stretch/>
        </p:blipFill>
        <p:spPr>
          <a:xfrm>
            <a:off x="4284720" y="1406520"/>
            <a:ext cx="2241360" cy="1538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dom"/>
          <p:cNvPicPr/>
          <p:nvPr/>
        </p:nvPicPr>
        <p:blipFill>
          <a:blip r:embed="rId2"/>
          <a:stretch/>
        </p:blipFill>
        <p:spPr>
          <a:xfrm>
            <a:off x="5508720" y="4365720"/>
            <a:ext cx="2879640" cy="1912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sydney"/>
          <p:cNvPicPr/>
          <p:nvPr/>
        </p:nvPicPr>
        <p:blipFill>
          <a:blip r:embed="rId3"/>
          <a:stretch/>
        </p:blipFill>
        <p:spPr>
          <a:xfrm>
            <a:off x="6426360" y="257040"/>
            <a:ext cx="2339640" cy="1708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zdanie"/>
          <p:cNvPicPr/>
          <p:nvPr/>
        </p:nvPicPr>
        <p:blipFill>
          <a:blip r:embed="rId4"/>
          <a:stretch/>
        </p:blipFill>
        <p:spPr>
          <a:xfrm>
            <a:off x="611280" y="4076640"/>
            <a:ext cx="2457360" cy="1919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sydney_night"/>
          <p:cNvPicPr/>
          <p:nvPr/>
        </p:nvPicPr>
        <p:blipFill>
          <a:blip r:embed="rId5"/>
          <a:stretch/>
        </p:blipFill>
        <p:spPr>
          <a:xfrm>
            <a:off x="2268360" y="2508120"/>
            <a:ext cx="2448000" cy="19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230040" y="2004840"/>
            <a:ext cx="4557960" cy="2503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2"/>
          <a:stretch/>
        </p:blipFill>
        <p:spPr>
          <a:xfrm>
            <a:off x="4716360" y="103320"/>
            <a:ext cx="4176720" cy="242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3"/>
          <a:stretch/>
        </p:blipFill>
        <p:spPr>
          <a:xfrm>
            <a:off x="210960" y="115920"/>
            <a:ext cx="4577040" cy="2408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"/>
          <p:cNvPicPr/>
          <p:nvPr/>
        </p:nvPicPr>
        <p:blipFill>
          <a:blip r:embed="rId4"/>
          <a:stretch/>
        </p:blipFill>
        <p:spPr>
          <a:xfrm>
            <a:off x="4716360" y="2205000"/>
            <a:ext cx="4176720" cy="2820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5"/>
          <a:stretch/>
        </p:blipFill>
        <p:spPr>
          <a:xfrm>
            <a:off x="230040" y="4508640"/>
            <a:ext cx="4486320" cy="2319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"/>
          <p:cNvPicPr/>
          <p:nvPr/>
        </p:nvPicPr>
        <p:blipFill>
          <a:blip r:embed="rId6"/>
          <a:stretch/>
        </p:blipFill>
        <p:spPr>
          <a:xfrm>
            <a:off x="4716360" y="4732200"/>
            <a:ext cx="4176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3" descr=""/>
          <p:cNvPicPr/>
          <p:nvPr/>
        </p:nvPicPr>
        <p:blipFill>
          <a:blip r:embed="rId1"/>
          <a:stretch/>
        </p:blipFill>
        <p:spPr>
          <a:xfrm>
            <a:off x="179280" y="263520"/>
            <a:ext cx="4032360" cy="3560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"/>
          <p:cNvPicPr/>
          <p:nvPr/>
        </p:nvPicPr>
        <p:blipFill>
          <a:blip r:embed="rId2"/>
          <a:stretch/>
        </p:blipFill>
        <p:spPr>
          <a:xfrm>
            <a:off x="4427640" y="4508640"/>
            <a:ext cx="1515960" cy="2349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108000" y="3933720"/>
            <a:ext cx="4025880" cy="2678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6012000" y="2637000"/>
            <a:ext cx="3052800" cy="396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/>
          <a:stretch/>
        </p:blipFill>
        <p:spPr>
          <a:xfrm>
            <a:off x="5651640" y="-20520"/>
            <a:ext cx="2376360" cy="3240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6"/>
          <a:stretch/>
        </p:blipFill>
        <p:spPr>
          <a:xfrm>
            <a:off x="3059280" y="2236680"/>
            <a:ext cx="30970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7:30:35Z</dcterms:created>
  <dc:creator>Надежда</dc:creator>
  <dc:description/>
  <dc:language>en-US</dc:language>
  <cp:lastModifiedBy>Зиннатуллина</cp:lastModifiedBy>
  <dcterms:modified xsi:type="dcterms:W3CDTF">2013-04-23T21:13:51Z</dcterms:modified>
  <cp:revision>18</cp:revision>
  <dc:subject/>
  <dc:title>Слайд 1</dc:title>
</cp:coreProperties>
</file>