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EF9-10ED-4CF9-A32F-330CE376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2F2-1910-4BF7-B261-920EFDA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963-7226-47AF-AF6E-6E66901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56A-F4D7-4B26-B7E8-287AA0F6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9E0A-A221-4480-8594-C527468D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DA9A-13DE-435E-A082-FD2940AB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F0D-830B-42E2-823E-9C6232A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C03-D280-40E1-BF3D-5E378485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3B1C-B13E-410E-B108-F1BF94E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403E-9967-46B6-AA13-0C72439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818-27E3-42CA-8B26-6D25B31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935-B1D9-4E18-BCE0-D88B47C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971B-74D1-47C9-A090-E9786B7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5EE-BB51-461D-A4BC-62A693F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F7F-B6E7-4F3F-A4E9-3287455A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EC6-E2B4-4DB1-9092-1152A9C6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DE18-6170-4C5C-AD4F-66F5BD9C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7B34-C7E4-4E8F-8590-FE277F56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1DC5-076C-494E-9327-35737AA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0C9B-6A28-4494-BB4A-4EA4C346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D08D-DA74-4E9B-891D-42B1094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A885-E5C0-46D8-89CD-2BE90F3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C99-1598-41F8-BF5A-D59DA32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84D5-87EA-4966-9515-C341646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9132-3C2B-4C32-8646-D2669B7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4F22-A432-42CE-B3A4-2992720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240A-B1D0-43C6-BB69-F0E20F5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6495-9836-4BC8-8763-E2865BF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0707-11C2-43D8-A827-FE615621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BDED-AAAF-4EDE-8571-5FACE489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1F4E-6A9D-4228-818A-1AC0B8EB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3FC2-F46B-4180-96DE-4675676F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BC33-9338-4CF1-A1AD-7BCF84E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1BF-B9F7-4133-B282-7932A09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9D43-AE82-4F8B-844B-EECA385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E4D0-0C49-4B2A-88B0-875B786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B3FA-9940-4EBC-9183-F650B84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B339-65C7-43F3-8852-D54679D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FBB3-1E25-4794-B3AB-AA01BBA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C7CD-655E-428F-8B39-5D6B1D3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12BD-FC57-4CB8-ACF9-7BD8625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5025-BE9A-40ED-AD93-49FFC7D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791F-CCFF-42B2-A318-99E73DCE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48B-DF78-4915-A255-E778FB5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E78-90E7-4459-8759-A25D094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6FF-3247-46A5-BE86-23291DA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A50-A5E7-40EE-8668-DB264F1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B84-F3A6-4D5E-BBF5-080EADFE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4D95-2642-426A-81DE-6E205D43C5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A28-D85E-41E1-8CD6-5432D0B30C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E4E8-D589-40ED-A51F-6D62C4C99C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ECF-E847-48DA-8A6F-276BFF94034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54200" y="4813200"/>
            <a:ext cx="2022120" cy="980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o know  custo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262160" y="1749600"/>
            <a:ext cx="7851600" cy="20541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3"/>
          <p:cNvSpPr/>
          <p:nvPr/>
        </p:nvSpPr>
        <p:spPr>
          <a:xfrm>
            <a:off x="395280" y="4221000"/>
            <a:ext cx="2448000" cy="1546560"/>
          </a:xfrm>
          <a:prstGeom prst="cloudCallout">
            <a:avLst>
              <a:gd name="adj1" fmla="val -3564"/>
              <a:gd name="adj2" fmla="val 2998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79280" y="189000"/>
            <a:ext cx="2448000" cy="1330200"/>
          </a:xfrm>
          <a:prstGeom prst="cloudCallout">
            <a:avLst>
              <a:gd name="adj1" fmla="val -3564"/>
              <a:gd name="adj2" fmla="val 2673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300720" y="4292640"/>
            <a:ext cx="2448000" cy="1800360"/>
          </a:xfrm>
          <a:prstGeom prst="cloudCallout">
            <a:avLst>
              <a:gd name="adj1" fmla="val -3564"/>
              <a:gd name="adj2" fmla="val 6703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 rot="16976400">
            <a:off x="7119720" y="1944360"/>
            <a:ext cx="1871640" cy="2163600"/>
          </a:xfrm>
          <a:prstGeom prst="cloudCallout">
            <a:avLst>
              <a:gd name="adj1" fmla="val -25393"/>
              <a:gd name="adj2" fmla="val -16925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 rot="21457800">
            <a:off x="17640" y="1953720"/>
            <a:ext cx="2016000" cy="1871640"/>
          </a:xfrm>
          <a:prstGeom prst="cloudCallout">
            <a:avLst>
              <a:gd name="adj1" fmla="val 6379"/>
              <a:gd name="adj2" fmla="val 453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3348000" y="404640"/>
            <a:ext cx="2448000" cy="1467000"/>
          </a:xfrm>
          <a:prstGeom prst="cloudCallout">
            <a:avLst>
              <a:gd name="adj1" fmla="val -3564"/>
              <a:gd name="adj2" fmla="val -8009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372360" y="333360"/>
            <a:ext cx="2447640" cy="1330200"/>
          </a:xfrm>
          <a:prstGeom prst="cloudCallout">
            <a:avLst>
              <a:gd name="adj1" fmla="val -3564"/>
              <a:gd name="adj2" fmla="val 2673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11"/>
          <p:cNvSpPr/>
          <p:nvPr/>
        </p:nvSpPr>
        <p:spPr>
          <a:xfrm flipH="1" rot="18991200">
            <a:off x="2668320" y="3832200"/>
            <a:ext cx="1025280" cy="339840"/>
          </a:xfrm>
          <a:prstGeom prst="rightArrow">
            <a:avLst>
              <a:gd name="adj1" fmla="val 50000"/>
              <a:gd name="adj2" fmla="val 75424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12"/>
          <p:cNvSpPr/>
          <p:nvPr/>
        </p:nvSpPr>
        <p:spPr>
          <a:xfrm flipH="1" rot="12928800">
            <a:off x="5782680" y="3811320"/>
            <a:ext cx="1019160" cy="314280"/>
          </a:xfrm>
          <a:prstGeom prst="rightArrow">
            <a:avLst>
              <a:gd name="adj1" fmla="val 50000"/>
              <a:gd name="adj2" fmla="val 8107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3"/>
          <p:cNvSpPr/>
          <p:nvPr/>
        </p:nvSpPr>
        <p:spPr>
          <a:xfrm flipH="1" rot="16200000">
            <a:off x="4372200" y="3843360"/>
            <a:ext cx="828720" cy="431640"/>
          </a:xfrm>
          <a:prstGeom prst="rightArrow">
            <a:avLst>
              <a:gd name="adj1" fmla="val 50000"/>
              <a:gd name="adj2" fmla="val 47998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14"/>
          <p:cNvSpPr/>
          <p:nvPr/>
        </p:nvSpPr>
        <p:spPr>
          <a:xfrm flipH="1" rot="2625600">
            <a:off x="2499120" y="1861920"/>
            <a:ext cx="1001880" cy="349200"/>
          </a:xfrm>
          <a:prstGeom prst="rightArrow">
            <a:avLst>
              <a:gd name="adj1" fmla="val 50000"/>
              <a:gd name="adj2" fmla="val 72378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15"/>
          <p:cNvSpPr/>
          <p:nvPr/>
        </p:nvSpPr>
        <p:spPr>
          <a:xfrm flipH="1" rot="5496600">
            <a:off x="4459320" y="2029320"/>
            <a:ext cx="649440" cy="428400"/>
          </a:xfrm>
          <a:prstGeom prst="rightArrow">
            <a:avLst>
              <a:gd name="adj1" fmla="val 50000"/>
              <a:gd name="adj2" fmla="val 37899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16"/>
          <p:cNvSpPr/>
          <p:nvPr/>
        </p:nvSpPr>
        <p:spPr>
          <a:xfrm flipH="1" rot="7861800">
            <a:off x="5843520" y="1945440"/>
            <a:ext cx="812880" cy="338040"/>
          </a:xfrm>
          <a:prstGeom prst="rightArrow">
            <a:avLst>
              <a:gd name="adj1" fmla="val 50000"/>
              <a:gd name="adj2" fmla="val 6011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40720" y="6681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meet peo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492360" y="907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visit new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72360" y="7365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practice  Englis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79280" y="22431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learn more about  it’s culture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61128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enjoy sigh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7524720" y="23922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take par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the  festiv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902280" y="4653000"/>
            <a:ext cx="14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learn more about the  cou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600360" cy="243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752720" cy="31687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4"/>
          <p:cNvSpPr txBox="1"/>
          <p:nvPr/>
        </p:nvSpPr>
        <p:spPr>
          <a:xfrm>
            <a:off x="468360" y="260280"/>
            <a:ext cx="41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BORIG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2" name="Picture 8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066920" cy="2874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4"/>
          <a:stretch/>
        </p:blipFill>
        <p:spPr>
          <a:xfrm>
            <a:off x="6588000" y="2852640"/>
            <a:ext cx="2440080" cy="388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5"/>
          <a:stretch/>
        </p:blipFill>
        <p:spPr>
          <a:xfrm>
            <a:off x="3708360" y="2708280"/>
            <a:ext cx="2735280" cy="201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>
            <a:off x="4427640" y="5013360"/>
            <a:ext cx="201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468360" y="476280"/>
            <a:ext cx="77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The local wild animal which is in the emblem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Tahoma"/>
              </a:rPr>
              <a:t>The capital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A kind of water sport which gives you an opportunity to see underwater worl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Tahoma"/>
              </a:rPr>
              <a:t>Local people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There are six  of them in Australian fla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79ca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11"/>
          <p:cNvSpPr txBox="1"/>
          <p:nvPr/>
        </p:nvSpPr>
        <p:spPr>
          <a:xfrm>
            <a:off x="190440" y="4946760"/>
            <a:ext cx="864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ANGAROOLAN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4"/>
          <p:cNvSpPr txBox="1"/>
          <p:nvPr/>
        </p:nvSpPr>
        <p:spPr>
          <a:xfrm>
            <a:off x="1366920" y="2852640"/>
            <a:ext cx="64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LUCKY  COUNTRY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5"/>
          <p:cNvSpPr txBox="1"/>
          <p:nvPr/>
        </p:nvSpPr>
        <p:spPr>
          <a:xfrm>
            <a:off x="179280" y="333360"/>
            <a:ext cx="878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UPSIDE  DOWN  WORL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3276720" y="260280"/>
            <a:ext cx="547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AUSTRA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40" name="Picture 6" descr="MCj04380610000[1]"/>
          <p:cNvPicPr/>
          <p:nvPr/>
        </p:nvPicPr>
        <p:blipFill>
          <a:blip r:embed="rId1"/>
          <a:stretch/>
        </p:blipFill>
        <p:spPr>
          <a:xfrm>
            <a:off x="0" y="260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6095880" cy="44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MPj04022560000[1]"/>
          <p:cNvPicPr/>
          <p:nvPr/>
        </p:nvPicPr>
        <p:blipFill>
          <a:blip r:embed="rId3"/>
          <a:stretch/>
        </p:blipFill>
        <p:spPr>
          <a:xfrm>
            <a:off x="395280" y="3284640"/>
            <a:ext cx="208116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91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755640" y="8366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 is the world’s largest island and its smallest contin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24000" y="333360"/>
            <a:ext cx="84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ymbols of Austral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4290840" y="936720"/>
            <a:ext cx="4484880" cy="2935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79280" y="3871800"/>
            <a:ext cx="5400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5280" y="836640"/>
            <a:ext cx="3827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Tahoma"/>
              </a:rPr>
              <a:t>The capital of Australia is Canberra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7" descr="C:\Users\Зиннатуллина\Desktop\post-110649-1254557250.jpg"/>
          <p:cNvPicPr/>
          <p:nvPr/>
        </p:nvPicPr>
        <p:blipFill>
          <a:blip r:embed="rId1"/>
          <a:stretch/>
        </p:blipFill>
        <p:spPr>
          <a:xfrm>
            <a:off x="3924360" y="40464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Users\Зиннатуллина\Desktop\hotel_115.jpg"/>
          <p:cNvPicPr/>
          <p:nvPr/>
        </p:nvPicPr>
        <p:blipFill>
          <a:blip r:embed="rId2"/>
          <a:stretch/>
        </p:blipFill>
        <p:spPr>
          <a:xfrm>
            <a:off x="324000" y="3141720"/>
            <a:ext cx="5192640" cy="33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7640" y="25668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here are 5 big cities in Australia: Sydney, Melbourne, Adelaide, Perth and Brisba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4" descr="biblio"/>
          <p:cNvPicPr/>
          <p:nvPr/>
        </p:nvPicPr>
        <p:blipFill>
          <a:blip r:embed="rId1"/>
          <a:stretch/>
        </p:blipFill>
        <p:spPr>
          <a:xfrm>
            <a:off x="4284720" y="1406520"/>
            <a:ext cx="2241360" cy="1538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om"/>
          <p:cNvPicPr/>
          <p:nvPr/>
        </p:nvPicPr>
        <p:blipFill>
          <a:blip r:embed="rId2"/>
          <a:stretch/>
        </p:blipFill>
        <p:spPr>
          <a:xfrm>
            <a:off x="5508720" y="4365720"/>
            <a:ext cx="2879640" cy="1912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sydney"/>
          <p:cNvPicPr/>
          <p:nvPr/>
        </p:nvPicPr>
        <p:blipFill>
          <a:blip r:embed="rId3"/>
          <a:stretch/>
        </p:blipFill>
        <p:spPr>
          <a:xfrm>
            <a:off x="6426360" y="257040"/>
            <a:ext cx="233964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zdanie"/>
          <p:cNvPicPr/>
          <p:nvPr/>
        </p:nvPicPr>
        <p:blipFill>
          <a:blip r:embed="rId4"/>
          <a:stretch/>
        </p:blipFill>
        <p:spPr>
          <a:xfrm>
            <a:off x="611280" y="4076640"/>
            <a:ext cx="2457360" cy="1919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sydney_night"/>
          <p:cNvPicPr/>
          <p:nvPr/>
        </p:nvPicPr>
        <p:blipFill>
          <a:blip r:embed="rId5"/>
          <a:stretch/>
        </p:blipFill>
        <p:spPr>
          <a:xfrm>
            <a:off x="2268360" y="2508120"/>
            <a:ext cx="244800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230040" y="2004840"/>
            <a:ext cx="4557960" cy="2503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4716360" y="103320"/>
            <a:ext cx="4176720" cy="242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3"/>
          <a:stretch/>
        </p:blipFill>
        <p:spPr>
          <a:xfrm>
            <a:off x="210960" y="115920"/>
            <a:ext cx="4577040" cy="2408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4176720" cy="282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5"/>
          <a:stretch/>
        </p:blipFill>
        <p:spPr>
          <a:xfrm>
            <a:off x="230040" y="4508640"/>
            <a:ext cx="4486320" cy="2319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6"/>
          <a:stretch/>
        </p:blipFill>
        <p:spPr>
          <a:xfrm>
            <a:off x="4716360" y="4732200"/>
            <a:ext cx="4176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3" descr=""/>
          <p:cNvPicPr/>
          <p:nvPr/>
        </p:nvPicPr>
        <p:blipFill>
          <a:blip r:embed="rId1"/>
          <a:stretch/>
        </p:blipFill>
        <p:spPr>
          <a:xfrm>
            <a:off x="179280" y="263520"/>
            <a:ext cx="4032360" cy="3560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"/>
          <p:cNvPicPr/>
          <p:nvPr/>
        </p:nvPicPr>
        <p:blipFill>
          <a:blip r:embed="rId2"/>
          <a:stretch/>
        </p:blipFill>
        <p:spPr>
          <a:xfrm>
            <a:off x="4427640" y="4508640"/>
            <a:ext cx="1515960" cy="234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108000" y="3933720"/>
            <a:ext cx="4025880" cy="2678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6012000" y="2637000"/>
            <a:ext cx="3052800" cy="396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>
            <a:off x="5651640" y="-2052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/>
          <a:stretch/>
        </p:blipFill>
        <p:spPr>
          <a:xfrm>
            <a:off x="3059280" y="2236680"/>
            <a:ext cx="30970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30:35Z</dcterms:created>
  <dc:creator>Надежда</dc:creator>
  <dc:description/>
  <dc:language>en-US</dc:language>
  <cp:lastModifiedBy>Зиннатуллина</cp:lastModifiedBy>
  <dcterms:modified xsi:type="dcterms:W3CDTF">2013-04-23T21:13:51Z</dcterms:modified>
  <cp:revision>18</cp:revision>
  <dc:subject/>
  <dc:title>Слайд 1</dc:title>
</cp:coreProperties>
</file>