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94A-49C9-480E-A786-263D8FBC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CEA-D495-4EEF-9C99-F20B44D5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010-8CCD-4E60-B70F-B4759BCF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2FE-0BAB-400D-BD9E-BBAE715A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9CF1-60E5-4520-9FB9-4424290D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E67A-10B0-40A0-A2BF-820BDBF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1FD0-E5BB-496B-8B0F-C9798632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3520-ECC4-437D-99C7-17D506FC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01F-39B7-4DDE-969F-C4DA05E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A84F-2E7E-49F7-982A-655EE596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4E49-5C62-4BE1-8894-6473C740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A3B-7D53-404F-839C-78C6475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DEA1-59CA-4761-86FC-8FCB4BF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69C3-EDB1-450F-82D7-D32A578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8CA0-67AB-43B3-A7B9-9F12DEF9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694C-3236-4949-8C12-D246EB3B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733-8D0F-45B7-82B2-DC335938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238-6826-43AD-99DA-1344DAC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002-DA99-48B2-8EF6-71EF48E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068-1BC2-49C9-A242-0981A3A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0D5-3D68-40CA-BC31-4AA7D1F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26B-DD77-47CC-8547-CE18EA7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A08-6D0B-4418-A051-4FB72CC6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7DD-9DE8-4410-A59A-DAFD846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FokinaLida.75@mail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28A-3F57-49ED-93F9-6B6DAB36D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C:\Documents and Settings\Admin\Рабочий стол\новые фоны\ПДД\08122f069db8.jpg"/>
          <p:cNvPicPr/>
          <p:nvPr/>
        </p:nvPicPr>
        <p:blipFill>
          <a:blip r:embed="rId3"/>
          <a:stretch/>
        </p:blipFill>
        <p:spPr>
          <a:xfrm>
            <a:off x="357120" y="4973760"/>
            <a:ext cx="1428840" cy="15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\Рабочий стол\новые фоны\ПДД\08122f069db8.jpg"/>
          <p:cNvPicPr/>
          <p:nvPr/>
        </p:nvPicPr>
        <p:blipFill>
          <a:blip r:embed="rId3"/>
          <a:stretch/>
        </p:blipFill>
        <p:spPr>
          <a:xfrm>
            <a:off x="357120" y="4973760"/>
            <a:ext cx="1428840" cy="150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3952-D1EF-4FFA-B286-DAC3694E6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stltd.com/img/katalog/33/62_4.gif" TargetMode="External"/><Relationship Id="rId2" Type="http://schemas.openxmlformats.org/officeDocument/2006/relationships/hyperlink" Target="http://www.2x2tv.ru/uploads/avatar/7e792f3e113f5d1c08fd39bc686ed6f7.gif" TargetMode="External"/><Relationship Id="rId3" Type="http://schemas.openxmlformats.org/officeDocument/2006/relationships/hyperlink" Target="mailto:FokinaLida.75@mail.ru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85880"/>
            <a:ext cx="82072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Окружающий мир 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072040" y="515772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921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7. Что означают знаки треугольной формы в красной рамк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76000" y="2349000"/>
            <a:ext cx="7281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решают совершать какие-то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общают о том, что находится впере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упреждают о возможной опа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692360" y="371628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"/>
          <p:cNvSpPr/>
          <p:nvPr/>
        </p:nvSpPr>
        <p:spPr>
          <a:xfrm>
            <a:off x="1692360" y="4797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5"/>
          <p:cNvSpPr/>
          <p:nvPr/>
        </p:nvSpPr>
        <p:spPr>
          <a:xfrm>
            <a:off x="1692360" y="242100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8. Что означают знаки круглой формы в красной рамк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6000" y="2276640"/>
            <a:ext cx="721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решают совершать какие-то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прещают совершать какие-то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упреждают о возможной опа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763640" y="364500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"/>
          <p:cNvSpPr/>
          <p:nvPr/>
        </p:nvSpPr>
        <p:spPr>
          <a:xfrm>
            <a:off x="1692360" y="4797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9214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9. Как называется этот зна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76000" y="2565000"/>
            <a:ext cx="7210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шеход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дзем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зем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1692360" y="335772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4"/>
          <p:cNvSpPr/>
          <p:nvPr/>
        </p:nvSpPr>
        <p:spPr>
          <a:xfrm>
            <a:off x="1692360" y="4005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Компас\Pictures\62_4.gif"/>
          <p:cNvPicPr/>
          <p:nvPr/>
        </p:nvPicPr>
        <p:blipFill>
          <a:blip r:embed="rId1"/>
          <a:stretch/>
        </p:blipFill>
        <p:spPr>
          <a:xfrm>
            <a:off x="6732720" y="1341360"/>
            <a:ext cx="17492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6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10. Как называется этот зна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6000" y="2565360"/>
            <a:ext cx="721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ние транспорта запреще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ижение на велосипедах запреще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763640" y="393372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4"/>
          <p:cNvSpPr/>
          <p:nvPr/>
        </p:nvSpPr>
        <p:spPr>
          <a:xfrm>
            <a:off x="1763640" y="508464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Компас\Pictures\7e792f3e113f5d1c08fd39bc686ed6f7.gif"/>
          <p:cNvPicPr/>
          <p:nvPr/>
        </p:nvPicPr>
        <p:blipFill>
          <a:blip r:embed="rId1"/>
          <a:stretch/>
        </p:blipFill>
        <p:spPr>
          <a:xfrm>
            <a:off x="6516720" y="105264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alibri"/>
              </a:rPr>
              <a:t>Ключ к ответам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71680" y="157176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644364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Равнобедренный треугольник 9"/>
          <p:cNvSpPr/>
          <p:nvPr/>
        </p:nvSpPr>
        <p:spPr>
          <a:xfrm>
            <a:off x="1692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"/>
          <p:cNvSpPr/>
          <p:nvPr/>
        </p:nvSpPr>
        <p:spPr>
          <a:xfrm>
            <a:off x="3995640" y="1916280"/>
            <a:ext cx="7923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Равнобедренный треугольник 20"/>
          <p:cNvSpPr/>
          <p:nvPr/>
        </p:nvSpPr>
        <p:spPr>
          <a:xfrm>
            <a:off x="5148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авнобедренный треугольник 21"/>
          <p:cNvSpPr/>
          <p:nvPr/>
        </p:nvSpPr>
        <p:spPr>
          <a:xfrm>
            <a:off x="284328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2"/>
          <p:cNvSpPr/>
          <p:nvPr/>
        </p:nvSpPr>
        <p:spPr>
          <a:xfrm>
            <a:off x="1763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4"/>
          <p:cNvSpPr/>
          <p:nvPr/>
        </p:nvSpPr>
        <p:spPr>
          <a:xfrm>
            <a:off x="2843280" y="3213000"/>
            <a:ext cx="79200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6"/>
          <p:cNvSpPr/>
          <p:nvPr/>
        </p:nvSpPr>
        <p:spPr>
          <a:xfrm>
            <a:off x="5219640" y="3213000"/>
            <a:ext cx="79236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5"/>
          <p:cNvSpPr/>
          <p:nvPr/>
        </p:nvSpPr>
        <p:spPr>
          <a:xfrm>
            <a:off x="4140360" y="3213000"/>
            <a:ext cx="6426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7"/>
          <p:cNvSpPr/>
          <p:nvPr/>
        </p:nvSpPr>
        <p:spPr>
          <a:xfrm>
            <a:off x="6443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спользуем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6000" y="1268280"/>
            <a:ext cx="7210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омирова Е. М. Тесты по предмету «Окружающий мир»: 2 класс. М.: Издательство «Экзамен»,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stltd.com/img/katalog/33/62_4.g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2x2tv.ru/uploads/avatar/7e792f3e113f5d1c08fd39bc686ed6f7.g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5364000" y="515772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okinaLida.75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24000" y="1268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Тест по те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«Берегись автомобиля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1403280" y="1341360"/>
            <a:ext cx="75265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 геометрическую фигуру (или фигуры)      ,       ,      , соответствующую ваш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й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492360" y="400536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4140360" y="4005360"/>
            <a:ext cx="42840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5"/>
          <p:cNvSpPr/>
          <p:nvPr/>
        </p:nvSpPr>
        <p:spPr>
          <a:xfrm>
            <a:off x="4859280" y="400536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1"/>
          <p:cNvSpPr/>
          <p:nvPr/>
        </p:nvSpPr>
        <p:spPr>
          <a:xfrm>
            <a:off x="611280" y="765000"/>
            <a:ext cx="799308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1.Какой сигнал светофора запрещает движени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1476360" y="242100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ый сиг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ёлтый сиг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елёный сиг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1619280" y="3213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"/>
          <p:cNvSpPr/>
          <p:nvPr/>
        </p:nvSpPr>
        <p:spPr>
          <a:xfrm>
            <a:off x="1619280" y="3860640"/>
            <a:ext cx="42876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5"/>
          <p:cNvSpPr/>
          <p:nvPr/>
        </p:nvSpPr>
        <p:spPr>
          <a:xfrm>
            <a:off x="1619280" y="25653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7993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 Что должен делать пешеход при зелёном сигнале светофора для автотранспорт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47280" y="2924280"/>
            <a:ext cx="721044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о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товиться к движ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ходить улиц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763640" y="371628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4"/>
          <p:cNvSpPr/>
          <p:nvPr/>
        </p:nvSpPr>
        <p:spPr>
          <a:xfrm>
            <a:off x="1692360" y="436572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5"/>
          <p:cNvSpPr/>
          <p:nvPr/>
        </p:nvSpPr>
        <p:spPr>
          <a:xfrm>
            <a:off x="1763640" y="299736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799308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3. Какой переход является самым безопасны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3280" y="2492280"/>
            <a:ext cx="7283520" cy="25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светофо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«зебр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зем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1692360" y="328464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1692360" y="386064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внобедренный треугольник 5"/>
          <p:cNvSpPr/>
          <p:nvPr/>
        </p:nvSpPr>
        <p:spPr>
          <a:xfrm>
            <a:off x="1692360" y="2565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06472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4. Куда надо посмотреть сначала при переходе улиц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7280" y="256536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ле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ра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перё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763640" y="335772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4"/>
          <p:cNvSpPr/>
          <p:nvPr/>
        </p:nvSpPr>
        <p:spPr>
          <a:xfrm>
            <a:off x="1692360" y="393372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5. Какое транспортное средство надо обходить сперед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47280" y="256536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оллей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амва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вто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1835280" y="328464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4"/>
          <p:cNvSpPr/>
          <p:nvPr/>
        </p:nvSpPr>
        <p:spPr>
          <a:xfrm>
            <a:off x="1763640" y="393372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внобедренный треугольник 5"/>
          <p:cNvSpPr/>
          <p:nvPr/>
        </p:nvSpPr>
        <p:spPr>
          <a:xfrm>
            <a:off x="1763640" y="263700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064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6. Закончи определение: «Вымощенная или покрытая асфальтом проезжая часть улицы – это …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76000" y="2421000"/>
            <a:ext cx="72104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стов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ч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763640" y="3860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"/>
          <p:cNvSpPr/>
          <p:nvPr/>
        </p:nvSpPr>
        <p:spPr>
          <a:xfrm>
            <a:off x="1763640" y="443700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5"/>
          <p:cNvSpPr/>
          <p:nvPr/>
        </p:nvSpPr>
        <p:spPr>
          <a:xfrm>
            <a:off x="1692360" y="314172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4:06:12Z</dcterms:created>
  <dc:creator>Компас</dc:creator>
  <dc:description/>
  <dc:language>en-US</dc:language>
  <cp:lastModifiedBy>Компас</cp:lastModifiedBy>
  <dcterms:modified xsi:type="dcterms:W3CDTF">2011-01-27T14:44:01Z</dcterms:modified>
  <cp:revision>8</cp:revision>
  <dc:subject/>
  <dc:title>Окружающий мир  2 класс</dc:title>
</cp:coreProperties>
</file>