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3D3-96FF-4FEC-ADB1-7056EC54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A3C-D3E9-4FB5-9C74-0DE0B0C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A05-86DC-4A4F-A840-0122DF98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27E-203A-406F-B19D-ACF61CBE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90AB-FEB1-49A0-8C7B-DFD1566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A735-0403-46DD-9CE7-647621E1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EBF4-24D3-4789-BAD3-BF12BAD1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796D-331C-45EA-B12A-C492A196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8AB-6567-4F93-83E0-98D0755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2466-1001-4D57-9071-0598371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2FE-E01A-4BF1-8889-0767852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FDB-2BDB-4D59-B6E0-F396E1E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1872-6AF7-4F4F-B2CF-00BBA20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0FF-1EF9-4283-BBAE-1A4B2DB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0FD9-93D9-4979-9CF4-1F99B483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2C0C-0E33-49C8-A5EC-B5DE4F72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1645-D1C1-4703-86B9-9E60B70E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ED8-68AB-4041-AF28-DC8C5A5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A5F-EA9D-4AA8-9717-1FDC21E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F1C-C62B-4F6D-BC3D-10CB3C8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C65-48AA-4E6F-9D47-A3E499E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D6A-CC94-409A-B72A-051780A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024-8D68-4848-8C4B-349C49F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010-2D82-4AFC-A8FE-0AB92F0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576D-8E47-4A30-BD15-DA324F865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Documents and Settings\Admin\Рабочий стол\новые фоны\ПДД\08122f069db8.jpg"/>
          <p:cNvPicPr/>
          <p:nvPr/>
        </p:nvPicPr>
        <p:blipFill>
          <a:blip r:embed="rId3"/>
          <a:stretch/>
        </p:blipFill>
        <p:spPr>
          <a:xfrm>
            <a:off x="357120" y="4973760"/>
            <a:ext cx="1428840" cy="15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Рабочий стол\новые фоны\ПДД\08122f069db8.jpg"/>
          <p:cNvPicPr/>
          <p:nvPr/>
        </p:nvPicPr>
        <p:blipFill>
          <a:blip r:embed="rId3"/>
          <a:stretch/>
        </p:blipFill>
        <p:spPr>
          <a:xfrm>
            <a:off x="357120" y="4973760"/>
            <a:ext cx="1428840" cy="150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805E-CA23-4CCC-827E-76C0909F3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stltd.com/img/katalog/33/62_4.gif" TargetMode="External"/><Relationship Id="rId2" Type="http://schemas.openxmlformats.org/officeDocument/2006/relationships/hyperlink" Target="http://www.2x2tv.ru/uploads/avatar/7e792f3e113f5d1c08fd39bc686ed6f7.gif" TargetMode="External"/><Relationship Id="rId3" Type="http://schemas.openxmlformats.org/officeDocument/2006/relationships/hyperlink" Target="mailto:FokinaLida.75@mail.ru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85880"/>
            <a:ext cx="82072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Окружающий мир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072040" y="515772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21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7. Что означают знаки треугольной формы в красной рам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76000" y="2349000"/>
            <a:ext cx="7281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реш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общают о том, что находится впер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упреждают о возможной 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692360" y="371628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1692360" y="4797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5"/>
          <p:cNvSpPr/>
          <p:nvPr/>
        </p:nvSpPr>
        <p:spPr>
          <a:xfrm>
            <a:off x="1692360" y="242100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8. Что означают знаки круглой формы в красной рам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000" y="227664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реш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рещ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упреждают о возможной 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763640" y="364500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"/>
          <p:cNvSpPr/>
          <p:nvPr/>
        </p:nvSpPr>
        <p:spPr>
          <a:xfrm>
            <a:off x="1692360" y="4797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9214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9. Как называется этот зна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000" y="2565000"/>
            <a:ext cx="7210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692360" y="3357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4"/>
          <p:cNvSpPr/>
          <p:nvPr/>
        </p:nvSpPr>
        <p:spPr>
          <a:xfrm>
            <a:off x="1692360" y="4005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Компас\Pictures\62_4.gif"/>
          <p:cNvPicPr/>
          <p:nvPr/>
        </p:nvPicPr>
        <p:blipFill>
          <a:blip r:embed="rId1"/>
          <a:stretch/>
        </p:blipFill>
        <p:spPr>
          <a:xfrm>
            <a:off x="6732720" y="1341360"/>
            <a:ext cx="17492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10. Как называется этот зна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6000" y="2565360"/>
            <a:ext cx="721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транспорта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763640" y="39337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1763640" y="508464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Компас\Pictures\7e792f3e113f5d1c08fd39bc686ed6f7.gif"/>
          <p:cNvPicPr/>
          <p:nvPr/>
        </p:nvPicPr>
        <p:blipFill>
          <a:blip r:embed="rId1"/>
          <a:stretch/>
        </p:blipFill>
        <p:spPr>
          <a:xfrm>
            <a:off x="6516720" y="105264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alibri"/>
              </a:rPr>
              <a:t>Ключ к ответам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1680" y="157176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644364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9"/>
          <p:cNvSpPr/>
          <p:nvPr/>
        </p:nvSpPr>
        <p:spPr>
          <a:xfrm>
            <a:off x="1692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"/>
          <p:cNvSpPr/>
          <p:nvPr/>
        </p:nvSpPr>
        <p:spPr>
          <a:xfrm>
            <a:off x="3995640" y="1916280"/>
            <a:ext cx="7923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20"/>
          <p:cNvSpPr/>
          <p:nvPr/>
        </p:nvSpPr>
        <p:spPr>
          <a:xfrm>
            <a:off x="5148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21"/>
          <p:cNvSpPr/>
          <p:nvPr/>
        </p:nvSpPr>
        <p:spPr>
          <a:xfrm>
            <a:off x="284328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>
            <a:off x="1763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4"/>
          <p:cNvSpPr/>
          <p:nvPr/>
        </p:nvSpPr>
        <p:spPr>
          <a:xfrm>
            <a:off x="2843280" y="3213000"/>
            <a:ext cx="79200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6"/>
          <p:cNvSpPr/>
          <p:nvPr/>
        </p:nvSpPr>
        <p:spPr>
          <a:xfrm>
            <a:off x="5219640" y="3213000"/>
            <a:ext cx="79236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4140360" y="3213000"/>
            <a:ext cx="6426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7"/>
          <p:cNvSpPr/>
          <p:nvPr/>
        </p:nvSpPr>
        <p:spPr>
          <a:xfrm>
            <a:off x="6443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6000" y="1268280"/>
            <a:ext cx="721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омирова Е. М. Тесты по предмету «Окружающий мир»: 2 класс. М.: Издательство «Экзамен»,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stltd.com/img/katalog/33/62_4.g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2x2tv.ru/uploads/avatar/7e792f3e113f5d1c08fd39bc686ed6f7.g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5364000" y="515772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okinaLida.75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24000" y="1268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«Берегись автомобиля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1403280" y="1341360"/>
            <a:ext cx="7526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,       ,      ,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492360" y="40053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4140360" y="4005360"/>
            <a:ext cx="4284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5"/>
          <p:cNvSpPr/>
          <p:nvPr/>
        </p:nvSpPr>
        <p:spPr>
          <a:xfrm>
            <a:off x="4859280" y="4005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1"/>
          <p:cNvSpPr/>
          <p:nvPr/>
        </p:nvSpPr>
        <p:spPr>
          <a:xfrm>
            <a:off x="611280" y="765000"/>
            <a:ext cx="79930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1.Какой сигнал светофора запрещает движени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ёлт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елён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993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 Что должен делать пешеход при зелёном сигнале светофора для автотранспорт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47280" y="2924280"/>
            <a:ext cx="72104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о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товиться к движ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ходить ули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763640" y="371628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1692360" y="4365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5"/>
          <p:cNvSpPr/>
          <p:nvPr/>
        </p:nvSpPr>
        <p:spPr>
          <a:xfrm>
            <a:off x="1763640" y="2997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799308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3. Какой переход является самым безопасны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3280" y="2492280"/>
            <a:ext cx="728352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ветофо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«зебр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1692360" y="328464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1692360" y="386064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5"/>
          <p:cNvSpPr/>
          <p:nvPr/>
        </p:nvSpPr>
        <p:spPr>
          <a:xfrm>
            <a:off x="1692360" y="2565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4. Куда надо посмотреть сначала при переходе улиц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л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перё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763640" y="3357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5. Какое транспортное средство надо обходить сперед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оллей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амв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вто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835280" y="328464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1763640" y="393372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5"/>
          <p:cNvSpPr/>
          <p:nvPr/>
        </p:nvSpPr>
        <p:spPr>
          <a:xfrm>
            <a:off x="1763640" y="263700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64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6. Закончи определение: «Вымощенная или покрытая асфальтом проезжая часть улицы – это …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76000" y="2421000"/>
            <a:ext cx="72104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стов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ч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763640" y="3860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"/>
          <p:cNvSpPr/>
          <p:nvPr/>
        </p:nvSpPr>
        <p:spPr>
          <a:xfrm>
            <a:off x="1763640" y="443700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5"/>
          <p:cNvSpPr/>
          <p:nvPr/>
        </p:nvSpPr>
        <p:spPr>
          <a:xfrm>
            <a:off x="1692360" y="314172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4:06:12Z</dcterms:created>
  <dc:creator>Компас</dc:creator>
  <dc:description/>
  <dc:language>en-US</dc:language>
  <cp:lastModifiedBy>Компас</cp:lastModifiedBy>
  <dcterms:modified xsi:type="dcterms:W3CDTF">2011-01-27T14:44:01Z</dcterms:modified>
  <cp:revision>8</cp:revision>
  <dc:subject/>
  <dc:title>Окружающий мир  2 класс</dc:title>
</cp:coreProperties>
</file>