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0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4.jpeg" ContentType="image/jpeg"/>
  <Override PartName="/ppt/media/image24.jpeg" ContentType="image/jpeg"/>
  <Override PartName="/ppt/media/image19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media/image17.jpeg" ContentType="image/jpe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A3C78-3231-4AB5-9F4F-382A7768A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116C7-BD85-4D9F-80E1-D51378472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06AA7-5C1C-4396-A856-5DED211CA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957CC-88FB-4B0D-859C-C98AAAA12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6AA6A-FEA0-4F47-95DE-7890FF5AD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A1158-6988-49F4-8FB6-9797FD25E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2C7D5-8B69-4888-A88A-5513CC855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2E17D-805D-46C7-9E62-3E3E54C98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10CD7-6050-4438-98CA-B783FC35F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36427-CA0A-46B8-9B83-0C1EC0939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E38A3-0875-41A2-8F4B-09BB60FB4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6447A-70B4-449D-B9D7-BE977B837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C5341-1B4E-4E32-AC7D-B21E04352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E649B-B2C4-4A8A-8F70-E5C5A079D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6AC98-18A8-475E-9F16-1BD4B9E31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C7AF1-4EF1-44BC-89F9-370D95416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29484-CCCE-418C-B8B4-439DF0EB1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060B6-DEF4-4437-A81E-92CF06E77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FA1DC-32F3-4FE1-BC54-1BB5B3C0D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B5D18-7A5E-4305-B82A-B82F6C4CD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BDFB9-830F-4ECC-A201-FC6819B6B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2EE5E-B92D-4CD9-A220-CA7093253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1411D-273D-4210-9B41-F6B154D66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07D93-506C-43EF-8806-07FB7AC25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60C87-8BFC-49F2-8953-A2952322C53D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E27F3-B98B-4C1B-A8B7-B9D09EF5F6A3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png"/><Relationship Id="rId7" Type="http://schemas.openxmlformats.org/officeDocument/2006/relationships/image" Target="../media/image9.jpeg"/><Relationship Id="rId8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2030040"/>
            <a:ext cx="9144000" cy="208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r>
              <a:rPr b="1" lang="en-US" sz="5800" spc="-1" strike="noStrike">
                <a:solidFill>
                  <a:srgbClr val="ffffff"/>
                </a:solidFill>
                <a:latin typeface="Times New Roman"/>
              </a:rPr>
              <a:t>БИТВА ПОД МОСКВОЙ</a:t>
            </a:r>
            <a:br>
              <a:rPr sz="6000"/>
            </a:br>
            <a:endParaRPr b="0" lang="en-US" sz="5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-173160" y="4065120"/>
            <a:ext cx="856944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6840" y="5876640"/>
            <a:ext cx="843588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entury Schoolbook"/>
              </a:rPr>
              <a:t>Комсомольцы вносят деньги в фонд обороны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8" name="Picture 3" descr="BA60B143"/>
          <p:cNvPicPr/>
          <p:nvPr/>
        </p:nvPicPr>
        <p:blipFill>
          <a:blip r:embed="rId1"/>
          <a:stretch/>
        </p:blipFill>
        <p:spPr>
          <a:xfrm>
            <a:off x="539640" y="0"/>
            <a:ext cx="8353440" cy="56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57200" y="6092640"/>
            <a:ext cx="8229600" cy="43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entury Schoolbook"/>
              </a:rPr>
              <a:t>Бронепоезд, построенный на средства москвиче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" name="Picture 4" descr="DDD403B1"/>
          <p:cNvPicPr/>
          <p:nvPr/>
        </p:nvPicPr>
        <p:blipFill>
          <a:blip r:embed="rId1"/>
          <a:stretch/>
        </p:blipFill>
        <p:spPr>
          <a:xfrm>
            <a:off x="393840" y="301680"/>
            <a:ext cx="8437320" cy="53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8604360" y="6199200"/>
            <a:ext cx="71280" cy="1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ffffff"/>
              </a:solidFill>
              <a:latin typeface="Century Schoolbook"/>
            </a:endParaRPr>
          </a:p>
        </p:txBody>
      </p:sp>
      <p:pic>
        <p:nvPicPr>
          <p:cNvPr id="122" name="Picture 3" descr="954A7F49"/>
          <p:cNvPicPr/>
          <p:nvPr/>
        </p:nvPicPr>
        <p:blipFill>
          <a:blip r:embed="rId1"/>
          <a:stretch/>
        </p:blipFill>
        <p:spPr>
          <a:xfrm>
            <a:off x="2050920" y="0"/>
            <a:ext cx="4962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57200" y="609300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entury Schoolbook"/>
              </a:rPr>
              <a:t>Москвичи на строительстве оборонительных рубеже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4" name="Picture 4" descr="C9C682FB"/>
          <p:cNvPicPr/>
          <p:nvPr/>
        </p:nvPicPr>
        <p:blipFill>
          <a:blip r:embed="rId1"/>
          <a:stretch/>
        </p:blipFill>
        <p:spPr>
          <a:xfrm>
            <a:off x="1763640" y="0"/>
            <a:ext cx="5129280" cy="609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57200" y="60210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entury Schoolbook"/>
              </a:rPr>
              <a:t>Москва готова к оборон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6" name="Picture 4" descr="315E8BB3"/>
          <p:cNvPicPr/>
          <p:nvPr/>
        </p:nvPicPr>
        <p:blipFill>
          <a:blip r:embed="rId1"/>
          <a:stretch/>
        </p:blipFill>
        <p:spPr>
          <a:xfrm>
            <a:off x="393840" y="328680"/>
            <a:ext cx="8397720" cy="52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57200" y="616572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entury Schoolbook"/>
              </a:rPr>
              <a:t>Закамуфлированное здание Большого театр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8" name="Picture 4" descr="EBDE7A77"/>
          <p:cNvPicPr/>
          <p:nvPr/>
        </p:nvPicPr>
        <p:blipFill>
          <a:blip r:embed="rId1"/>
          <a:stretch/>
        </p:blipFill>
        <p:spPr>
          <a:xfrm>
            <a:off x="507960" y="452520"/>
            <a:ext cx="8101080" cy="486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20840" y="5959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Schoolbook"/>
              </a:rPr>
              <a:t>Противотанковые ежи на улицах Москвы</a:t>
            </a:r>
            <a:endParaRPr b="0" lang="en-US" sz="2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0" name="Picture 4" descr="У Дорогомиловской заставы"/>
          <p:cNvPicPr/>
          <p:nvPr/>
        </p:nvPicPr>
        <p:blipFill>
          <a:blip r:embed="rId1"/>
          <a:stretch/>
        </p:blipFill>
        <p:spPr>
          <a:xfrm>
            <a:off x="474840" y="417600"/>
            <a:ext cx="7976880" cy="57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-360" y="6237360"/>
            <a:ext cx="8675640" cy="62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entury Schoolbook"/>
              </a:rPr>
              <a:t>Отражение ночного налета вражеских бомбардировщиков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2" name="Picture 4" descr="2503029D"/>
          <p:cNvPicPr/>
          <p:nvPr/>
        </p:nvPicPr>
        <p:blipFill>
          <a:blip r:embed="rId1"/>
          <a:stretch/>
        </p:blipFill>
        <p:spPr>
          <a:xfrm>
            <a:off x="254160" y="330120"/>
            <a:ext cx="8565840" cy="546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7200" y="616572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entury Schoolbook"/>
              </a:rPr>
              <a:t>Станция метро «Маяковская» во время воздушной тревог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Picture 4" descr="35DFF339"/>
          <p:cNvPicPr/>
          <p:nvPr/>
        </p:nvPicPr>
        <p:blipFill>
          <a:blip r:embed="rId1"/>
          <a:stretch/>
        </p:blipFill>
        <p:spPr>
          <a:xfrm>
            <a:off x="2452680" y="0"/>
            <a:ext cx="4805280" cy="61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7200" y="6165720"/>
            <a:ext cx="8229600" cy="4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entury Schoolbook"/>
              </a:rPr>
              <a:t>Аэростаты заграждени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6" name="Picture 4" descr="BF2011C1"/>
          <p:cNvPicPr/>
          <p:nvPr/>
        </p:nvPicPr>
        <p:blipFill>
          <a:blip r:embed="rId1"/>
          <a:stretch/>
        </p:blipFill>
        <p:spPr>
          <a:xfrm>
            <a:off x="284040" y="379440"/>
            <a:ext cx="8523360" cy="50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Этапы битвы за Москву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оборонительные сражения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30 сентября-2 ноября 1941г. - первый этап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15-16 ноября – 5 декабря 1941г.- второй этап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Контрнаступление советских войск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5 декабря 1941г.- 20 апреля 1942 год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457200" y="6237000"/>
            <a:ext cx="8229600" cy="43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entury Schoolbook"/>
              </a:rPr>
              <a:t>Москва военна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8" name="Picture 4" descr="5FD172AF"/>
          <p:cNvPicPr/>
          <p:nvPr/>
        </p:nvPicPr>
        <p:blipFill>
          <a:blip r:embed="rId1"/>
          <a:stretch/>
        </p:blipFill>
        <p:spPr>
          <a:xfrm>
            <a:off x="336600" y="349200"/>
            <a:ext cx="8510400" cy="547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09680" y="598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Century Schoolbook"/>
              </a:rPr>
              <a:t>Немецкие солдаты во время наступления</a:t>
            </a:r>
            <a:endParaRPr b="0" lang="en-US" sz="2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649440" y="360360"/>
            <a:ext cx="7902360" cy="576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71520" y="5873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Немецкая армия на подступах к Москве.</a:t>
            </a:r>
            <a:endParaRPr b="0" lang="en-US" sz="2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81160" y="307800"/>
            <a:ext cx="8637480" cy="575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4"/>
          <p:cNvSpPr/>
          <p:nvPr/>
        </p:nvSpPr>
        <p:spPr>
          <a:xfrm>
            <a:off x="468360" y="115920"/>
            <a:ext cx="8156520" cy="2887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Операция «ТАЙФУН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Picture 15" descr="02"/>
          <p:cNvPicPr/>
          <p:nvPr/>
        </p:nvPicPr>
        <p:blipFill>
          <a:blip r:embed="rId1"/>
          <a:stretch/>
        </p:blipFill>
        <p:spPr>
          <a:xfrm>
            <a:off x="179280" y="765000"/>
            <a:ext cx="4546800" cy="5950080"/>
          </a:xfrm>
          <a:prstGeom prst="rect">
            <a:avLst/>
          </a:prstGeom>
          <a:ln w="19080">
            <a:solidFill>
              <a:srgbClr val="0066ff"/>
            </a:solidFill>
            <a:miter/>
          </a:ln>
        </p:spPr>
      </p:pic>
      <p:pic>
        <p:nvPicPr>
          <p:cNvPr id="97" name="Picture 17" descr="генерал-полковник Федор фон Бок в 1939 году"/>
          <p:cNvPicPr/>
          <p:nvPr/>
        </p:nvPicPr>
        <p:blipFill>
          <a:blip r:embed="rId2"/>
          <a:srcRect l="0" t="0" r="4812" b="0"/>
          <a:stretch/>
        </p:blipFill>
        <p:spPr>
          <a:xfrm>
            <a:off x="5003640" y="907920"/>
            <a:ext cx="1260720" cy="18003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98" name="Picture 18" descr="200px-Guenther_von_Kluge_portrait"/>
          <p:cNvPicPr/>
          <p:nvPr/>
        </p:nvPicPr>
        <p:blipFill>
          <a:blip r:embed="rId3"/>
          <a:stretch/>
        </p:blipFill>
        <p:spPr>
          <a:xfrm>
            <a:off x="6372360" y="907920"/>
            <a:ext cx="1225440" cy="18003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99" name="Picture 20" descr="Konev_ivan"/>
          <p:cNvPicPr/>
          <p:nvPr/>
        </p:nvPicPr>
        <p:blipFill>
          <a:blip r:embed="rId4"/>
          <a:stretch/>
        </p:blipFill>
        <p:spPr>
          <a:xfrm>
            <a:off x="5003640" y="4869000"/>
            <a:ext cx="1268640" cy="17287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00" name="Picture 21" descr="Буденный"/>
          <p:cNvPicPr/>
          <p:nvPr/>
        </p:nvPicPr>
        <p:blipFill>
          <a:blip r:embed="rId5"/>
          <a:stretch/>
        </p:blipFill>
        <p:spPr>
          <a:xfrm>
            <a:off x="7812000" y="4869000"/>
            <a:ext cx="1190880" cy="17049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01" name="Picture 22" descr="Georgi_Zhukov_in_1940"/>
          <p:cNvPicPr/>
          <p:nvPr/>
        </p:nvPicPr>
        <p:blipFill>
          <a:blip r:embed="rId6"/>
          <a:stretch/>
        </p:blipFill>
        <p:spPr>
          <a:xfrm>
            <a:off x="6372360" y="4869000"/>
            <a:ext cx="1373040" cy="17161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02" name="Text Box 23"/>
          <p:cNvSpPr/>
          <p:nvPr/>
        </p:nvSpPr>
        <p:spPr>
          <a:xfrm>
            <a:off x="5016600" y="3890880"/>
            <a:ext cx="1224000" cy="12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Генерал И.С.Конев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командующий Западным фронтом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24"/>
          <p:cNvSpPr/>
          <p:nvPr/>
        </p:nvSpPr>
        <p:spPr>
          <a:xfrm>
            <a:off x="6384960" y="3952800"/>
            <a:ext cx="1368360" cy="11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ЖУКОВ Г.К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Командующий Западным фронтом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 Box 25"/>
          <p:cNvSpPr/>
          <p:nvPr/>
        </p:nvSpPr>
        <p:spPr>
          <a:xfrm>
            <a:off x="7740720" y="3963960"/>
            <a:ext cx="1403280" cy="11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Буденный С.М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командующий Резервным фронтом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26"/>
          <p:cNvSpPr/>
          <p:nvPr/>
        </p:nvSpPr>
        <p:spPr>
          <a:xfrm>
            <a:off x="6372360" y="2708280"/>
            <a:ext cx="1224000" cy="12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фон Клюге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командующий            4  танковой армие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27"/>
          <p:cNvSpPr/>
          <p:nvPr/>
        </p:nvSpPr>
        <p:spPr>
          <a:xfrm>
            <a:off x="5003640" y="2708280"/>
            <a:ext cx="122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Ф.фон Бок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– командующий группой армий «ЦЕНТР»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28"/>
          <p:cNvSpPr/>
          <p:nvPr/>
        </p:nvSpPr>
        <p:spPr>
          <a:xfrm>
            <a:off x="7740720" y="2708280"/>
            <a:ext cx="12240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Г. Гудериан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командующий          2- танковой армие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Picture 29" descr="Хайнц Вильгельм Гудериан"/>
          <p:cNvPicPr/>
          <p:nvPr/>
        </p:nvPicPr>
        <p:blipFill>
          <a:blip r:embed="rId7"/>
          <a:srcRect l="48081" t="0" r="0" b="3313"/>
          <a:stretch/>
        </p:blipFill>
        <p:spPr>
          <a:xfrm>
            <a:off x="7740720" y="907920"/>
            <a:ext cx="1274760" cy="18003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44600" y="571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Century Schoolbook"/>
              </a:rPr>
              <a:t>Советская армия обороняет Москву.</a:t>
            </a:r>
            <a:endParaRPr b="0" lang="en-US" sz="2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84320" y="477720"/>
            <a:ext cx="8791560" cy="509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7880" y="571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Century Schoolbook"/>
              </a:rPr>
              <a:t>Противотанковая артиллерия на страже Москвы</a:t>
            </a:r>
            <a:endParaRPr b="0" lang="en-US" sz="2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036800" y="227160"/>
            <a:ext cx="7075440" cy="554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44600" y="6200640"/>
            <a:ext cx="8229600" cy="4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entury Schoolbook"/>
              </a:rPr>
              <a:t>Рабочие завода записываются в народное ополчение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Picture 3" descr="BAD265AD"/>
          <p:cNvPicPr/>
          <p:nvPr/>
        </p:nvPicPr>
        <p:blipFill>
          <a:blip r:embed="rId1"/>
          <a:stretch/>
        </p:blipFill>
        <p:spPr>
          <a:xfrm>
            <a:off x="393840" y="378000"/>
            <a:ext cx="8313480" cy="531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57200" y="616572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entury Schoolbook"/>
              </a:rPr>
              <a:t>Призывники перед отправкой на фронт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6" name="Picture 3" descr="BAFDA93F"/>
          <p:cNvPicPr/>
          <p:nvPr/>
        </p:nvPicPr>
        <p:blipFill>
          <a:blip r:embed="rId1"/>
          <a:stretch/>
        </p:blipFill>
        <p:spPr>
          <a:xfrm>
            <a:off x="225360" y="290520"/>
            <a:ext cx="8736120" cy="589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31T23:58:31Z</dcterms:created>
  <dc:creator>User</dc:creator>
  <dc:description/>
  <dc:language>en-US</dc:language>
  <cp:lastModifiedBy>ГОУ СОШ №71</cp:lastModifiedBy>
  <dcterms:modified xsi:type="dcterms:W3CDTF">2011-10-17T13:18:53Z</dcterms:modified>
  <cp:revision>12</cp:revision>
  <dc:subject/>
  <dc:title>Слайд 1</dc:title>
</cp:coreProperties>
</file>