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178-5470-4F39-896C-EF20C7FD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53C-B9CA-4442-B6B1-6E13959F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44E-6D62-415D-9DB4-1986FFBC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192-CFE7-409B-9DD4-95291097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31D5-AC5E-48FA-9F2B-B71E5407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A755-BDAA-4DD3-9F22-82CFD323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C5F8-699F-4460-84E6-F2B776B5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9A56-000A-482A-93D6-9B01E516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4C22-9B18-413B-B7F2-2729C94F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8C49-874B-432E-95C2-3916ABC2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6B3E-5FB6-45A3-B83C-108C682C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EF6-19BF-4C96-807A-4CADBBB8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669F-D7A5-45B3-9D63-3E2717B9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5C6E-B04D-4B36-B56F-C7739A16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2CE1-A1E9-419D-86C4-C3908C86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40EB-C7E4-4EF9-ABB5-AA061B33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9B0F-41B4-4F06-9728-9FEE2B4B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EDC-19B5-4CA6-BD84-86E4A758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E7D-495E-4248-BA1E-F6188DA7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037-2948-486A-89A6-12DE07D8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606-B210-4D17-9AEF-1E711584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CD0-FE93-4AD9-90D3-298D4D0B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CBA-8873-4037-91ED-B0F037DB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334-6A58-4F2E-A166-0E1422C8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6866-C751-41C8-9BCF-D299F51DFE9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424A-F1AD-41B2-96C3-B22DAB5527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300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5800" spc="-1" strike="noStrike">
                <a:solidFill>
                  <a:srgbClr val="ffffff"/>
                </a:solidFill>
                <a:latin typeface="Times New Roman"/>
              </a:rPr>
              <a:t>БИТВА ПОД МОСКВОЙ</a:t>
            </a:r>
            <a:br>
              <a:rPr sz="6000"/>
            </a:br>
            <a:endParaRPr b="0" lang="en-US" sz="5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-173160" y="40651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5876640"/>
            <a:ext cx="84358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Комсомольцы вносят деньги в фонд оборо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BA60B143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092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Бронепоезд, построенный на средства москвич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DDD403B1"/>
          <p:cNvPicPr/>
          <p:nvPr/>
        </p:nvPicPr>
        <p:blipFill>
          <a:blip r:embed="rId1"/>
          <a:stretch/>
        </p:blipFill>
        <p:spPr>
          <a:xfrm>
            <a:off x="393840" y="301680"/>
            <a:ext cx="843732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604360" y="6199200"/>
            <a:ext cx="7128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22" name="Picture 3" descr="954A7F49"/>
          <p:cNvPicPr/>
          <p:nvPr/>
        </p:nvPicPr>
        <p:blipFill>
          <a:blip r:embed="rId1"/>
          <a:stretch/>
        </p:blipFill>
        <p:spPr>
          <a:xfrm>
            <a:off x="2050920" y="0"/>
            <a:ext cx="49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093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Москвичи на строительстве оборонительных рубеж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C9C682FB"/>
          <p:cNvPicPr/>
          <p:nvPr/>
        </p:nvPicPr>
        <p:blipFill>
          <a:blip r:embed="rId1"/>
          <a:stretch/>
        </p:blipFill>
        <p:spPr>
          <a:xfrm>
            <a:off x="1763640" y="0"/>
            <a:ext cx="51292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Москва готова к оборо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315E8BB3"/>
          <p:cNvPicPr/>
          <p:nvPr/>
        </p:nvPicPr>
        <p:blipFill>
          <a:blip r:embed="rId1"/>
          <a:stretch/>
        </p:blipFill>
        <p:spPr>
          <a:xfrm>
            <a:off x="393840" y="328680"/>
            <a:ext cx="839772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1657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Закамуфлированное здание Большого теат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EBDE7A77"/>
          <p:cNvPicPr/>
          <p:nvPr/>
        </p:nvPicPr>
        <p:blipFill>
          <a:blip r:embed="rId1"/>
          <a:stretch/>
        </p:blipFill>
        <p:spPr>
          <a:xfrm>
            <a:off x="507960" y="452520"/>
            <a:ext cx="81010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0840" y="595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Противотанковые ежи на улицах Москвы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4" descr="У Дорогомиловской заставы"/>
          <p:cNvPicPr/>
          <p:nvPr/>
        </p:nvPicPr>
        <p:blipFill>
          <a:blip r:embed="rId1"/>
          <a:stretch/>
        </p:blipFill>
        <p:spPr>
          <a:xfrm>
            <a:off x="474840" y="417600"/>
            <a:ext cx="797688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6237360"/>
            <a:ext cx="86756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Отражение ночного налета вражеских бомбардировщ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2503029D"/>
          <p:cNvPicPr/>
          <p:nvPr/>
        </p:nvPicPr>
        <p:blipFill>
          <a:blip r:embed="rId1"/>
          <a:stretch/>
        </p:blipFill>
        <p:spPr>
          <a:xfrm>
            <a:off x="254160" y="330120"/>
            <a:ext cx="856584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1657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Станция метро «Маяковская» во время воздушной тревог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35DFF339"/>
          <p:cNvPicPr/>
          <p:nvPr/>
        </p:nvPicPr>
        <p:blipFill>
          <a:blip r:embed="rId1"/>
          <a:stretch/>
        </p:blipFill>
        <p:spPr>
          <a:xfrm>
            <a:off x="2452680" y="0"/>
            <a:ext cx="48052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16572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Аэростаты заграж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BF2011C1"/>
          <p:cNvPicPr/>
          <p:nvPr/>
        </p:nvPicPr>
        <p:blipFill>
          <a:blip r:embed="rId1"/>
          <a:stretch/>
        </p:blipFill>
        <p:spPr>
          <a:xfrm>
            <a:off x="284040" y="379440"/>
            <a:ext cx="85233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Этапы битвы за Москв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оборонительные сра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 сентября-2 ноября 1941г. - первы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5-16 ноября – 5 декабря 1941г.- 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Контрнаступление советских войс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 декабря 1941г.- 20 апреля 1942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6237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Москва воен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5FD172AF"/>
          <p:cNvPicPr/>
          <p:nvPr/>
        </p:nvPicPr>
        <p:blipFill>
          <a:blip r:embed="rId1"/>
          <a:stretch/>
        </p:blipFill>
        <p:spPr>
          <a:xfrm>
            <a:off x="336600" y="349200"/>
            <a:ext cx="85104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9680" y="598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entury Schoolbook"/>
              </a:rPr>
              <a:t>Немецкие солдаты во время наступления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9440" y="360360"/>
            <a:ext cx="79023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1520" y="587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Немецкая армия на подступах к Москве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1160" y="307800"/>
            <a:ext cx="863748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68360" y="115920"/>
            <a:ext cx="8156520" cy="288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ерация «ТАЙФУН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5" descr="02"/>
          <p:cNvPicPr/>
          <p:nvPr/>
        </p:nvPicPr>
        <p:blipFill>
          <a:blip r:embed="rId1"/>
          <a:stretch/>
        </p:blipFill>
        <p:spPr>
          <a:xfrm>
            <a:off x="179280" y="765000"/>
            <a:ext cx="4546800" cy="5950080"/>
          </a:xfrm>
          <a:prstGeom prst="rect">
            <a:avLst/>
          </a:prstGeom>
          <a:ln w="19080">
            <a:solidFill>
              <a:srgbClr val="0066ff"/>
            </a:solidFill>
            <a:miter/>
          </a:ln>
        </p:spPr>
      </p:pic>
      <p:pic>
        <p:nvPicPr>
          <p:cNvPr id="97" name="Picture 17" descr="генерал-полковник Федор фон Бок в 1939 году"/>
          <p:cNvPicPr/>
          <p:nvPr/>
        </p:nvPicPr>
        <p:blipFill>
          <a:blip r:embed="rId2"/>
          <a:srcRect l="0" t="0" r="4812" b="0"/>
          <a:stretch/>
        </p:blipFill>
        <p:spPr>
          <a:xfrm>
            <a:off x="5003640" y="907920"/>
            <a:ext cx="126072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8" name="Picture 18" descr="200px-Guenther_von_Kluge_portrait"/>
          <p:cNvPicPr/>
          <p:nvPr/>
        </p:nvPicPr>
        <p:blipFill>
          <a:blip r:embed="rId3"/>
          <a:stretch/>
        </p:blipFill>
        <p:spPr>
          <a:xfrm>
            <a:off x="6372360" y="907920"/>
            <a:ext cx="122544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" name="Picture 20" descr="Konev_ivan"/>
          <p:cNvPicPr/>
          <p:nvPr/>
        </p:nvPicPr>
        <p:blipFill>
          <a:blip r:embed="rId4"/>
          <a:stretch/>
        </p:blipFill>
        <p:spPr>
          <a:xfrm>
            <a:off x="5003640" y="4869000"/>
            <a:ext cx="1268640" cy="172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0" name="Picture 21" descr="Буденный"/>
          <p:cNvPicPr/>
          <p:nvPr/>
        </p:nvPicPr>
        <p:blipFill>
          <a:blip r:embed="rId5"/>
          <a:stretch/>
        </p:blipFill>
        <p:spPr>
          <a:xfrm>
            <a:off x="7812000" y="4869000"/>
            <a:ext cx="1190880" cy="1704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Picture 22" descr="Georgi_Zhukov_in_1940"/>
          <p:cNvPicPr/>
          <p:nvPr/>
        </p:nvPicPr>
        <p:blipFill>
          <a:blip r:embed="rId6"/>
          <a:stretch/>
        </p:blipFill>
        <p:spPr>
          <a:xfrm>
            <a:off x="6372360" y="4869000"/>
            <a:ext cx="1373040" cy="171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2" name="Text Box 23"/>
          <p:cNvSpPr/>
          <p:nvPr/>
        </p:nvSpPr>
        <p:spPr>
          <a:xfrm>
            <a:off x="5016600" y="3890880"/>
            <a:ext cx="12240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енерал И.С.Конев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командующий Западным фрон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6384960" y="3952800"/>
            <a:ext cx="136836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ЖУКОВ Г.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Командующий Западным фрон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7740720" y="3963960"/>
            <a:ext cx="140328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уденный С.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командующий Резервным фрон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6372360" y="2708280"/>
            <a:ext cx="12240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н Клюг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командующий            4  танковой арми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003640" y="270828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.фон Бок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– командующий группой армий «ЦЕНТР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7740720" y="2708280"/>
            <a:ext cx="12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. Гудериан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командующий          2- танковой арми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9" descr="Хайнц Вильгельм Гудериан"/>
          <p:cNvPicPr/>
          <p:nvPr/>
        </p:nvPicPr>
        <p:blipFill>
          <a:blip r:embed="rId7"/>
          <a:srcRect l="48081" t="0" r="0" b="3313"/>
          <a:stretch/>
        </p:blipFill>
        <p:spPr>
          <a:xfrm>
            <a:off x="7740720" y="907920"/>
            <a:ext cx="127476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6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entury Schoolbook"/>
              </a:rPr>
              <a:t>Советская армия обороняет Москву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4320" y="477720"/>
            <a:ext cx="87915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7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entury Schoolbook"/>
              </a:rPr>
              <a:t>Противотанковая артиллерия на страже Москвы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36800" y="227160"/>
            <a:ext cx="707544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44600" y="620064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Рабочие завода записываются в народное ополч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3" descr="BAD265AD"/>
          <p:cNvPicPr/>
          <p:nvPr/>
        </p:nvPicPr>
        <p:blipFill>
          <a:blip r:embed="rId1"/>
          <a:stretch/>
        </p:blipFill>
        <p:spPr>
          <a:xfrm>
            <a:off x="393840" y="378000"/>
            <a:ext cx="83134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1657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Призывники перед отправкой на фрон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3" descr="BAFDA93F"/>
          <p:cNvPicPr/>
          <p:nvPr/>
        </p:nvPicPr>
        <p:blipFill>
          <a:blip r:embed="rId1"/>
          <a:stretch/>
        </p:blipFill>
        <p:spPr>
          <a:xfrm>
            <a:off x="225360" y="290520"/>
            <a:ext cx="873612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23:58:31Z</dcterms:created>
  <dc:creator>User</dc:creator>
  <dc:description/>
  <dc:language>en-US</dc:language>
  <cp:lastModifiedBy>ГОУ СОШ №71</cp:lastModifiedBy>
  <dcterms:modified xsi:type="dcterms:W3CDTF">2011-10-17T13:18:53Z</dcterms:modified>
  <cp:revision>12</cp:revision>
  <dc:subject/>
  <dc:title>Слайд 1</dc:title>
</cp:coreProperties>
</file>