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AA3-70AE-4DB2-96C5-1E914EDE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BF5-2457-4044-91B9-A2EBD8A6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429-B245-4C03-BF1C-66C27BA1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3F9-4013-4978-90B1-C59C2BE9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1A39-8BF8-49BB-B062-8DC7978D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77ED-FD0B-4BAA-B4FD-EE3FF90F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B107-F532-4742-9F86-9394B5ED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6EB6-A605-4148-9E9A-08B77D5C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35B4-3941-40B6-BA70-5ACF2A98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1A7E-0036-494D-89D2-F2A21FDD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FF1D-0E0D-44DA-8417-475FFE2B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766-B0E7-4829-99A3-12494BF2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1CBD-1C90-46D6-95FD-6F9DEDA9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3E81-3667-4347-8A0C-A955EF6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DEBF-B6B0-489F-BF21-A87A7FFF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DEF0-EC0F-47AB-94AF-6E9C73A5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C335-1531-45C2-BD6F-E0E34553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A3E-D8D2-4C4C-9DCE-C2D05E17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522-7627-4E44-A8F5-A849C2AB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03B-AB16-4BB6-8E0D-DB65A838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1C3-2465-45B6-95FF-511DBEB2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08B-09EE-489B-BCE8-79DC3B44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A26-93B7-404D-BFBC-BE05436B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3A8-C580-470F-A8B1-A96421B2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1F73-4329-4DF0-890E-2A705BC3B25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B090-E40F-4CBB-A4D2-CF827758C55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2786040" y="21420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Дорожные знаки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Прямоугольник 5"/>
          <p:cNvSpPr/>
          <p:nvPr/>
        </p:nvSpPr>
        <p:spPr>
          <a:xfrm>
            <a:off x="4572000" y="3857760"/>
            <a:ext cx="457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83b47"/>
                </a:solidFill>
                <a:latin typeface="Verdana"/>
              </a:rPr>
              <a:t>Разработал учитель начальных классов :Дудич Оксана Петровн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83b47"/>
                </a:solidFill>
                <a:latin typeface="Verdana"/>
              </a:rPr>
              <a:t>МКОУ Тамтачетская СОШ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6" descr="C:\Users\123\Desktop\фото\27563.jpg"/>
          <p:cNvPicPr/>
          <p:nvPr/>
        </p:nvPicPr>
        <p:blipFill>
          <a:blip r:embed="rId1"/>
          <a:stretch/>
        </p:blipFill>
        <p:spPr>
          <a:xfrm>
            <a:off x="0" y="2214720"/>
            <a:ext cx="42861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icon"/>
          <p:cNvPicPr/>
          <p:nvPr/>
        </p:nvPicPr>
        <p:blipFill>
          <a:blip r:embed="rId1"/>
          <a:stretch/>
        </p:blipFill>
        <p:spPr>
          <a:xfrm>
            <a:off x="324000" y="1557360"/>
            <a:ext cx="8489880" cy="5111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55640" y="333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Дорога, мощенная камне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8699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qingdao11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gat161-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318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44557_40552"/>
          <p:cNvPicPr/>
          <p:nvPr/>
        </p:nvPicPr>
        <p:blipFill>
          <a:blip r:embed="rId2"/>
          <a:stretch/>
        </p:blipFill>
        <p:spPr>
          <a:xfrm>
            <a:off x="250920" y="3444840"/>
            <a:ext cx="48258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14061_1234965207_full"/>
          <p:cNvPicPr/>
          <p:nvPr/>
        </p:nvPicPr>
        <p:blipFill>
          <a:blip r:embed="rId1"/>
          <a:stretch/>
        </p:blipFill>
        <p:spPr>
          <a:xfrm>
            <a:off x="1403280" y="260280"/>
            <a:ext cx="6193080" cy="41054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32000" y="4437000"/>
            <a:ext cx="662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769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Француз Жан Кюньо создал первый парово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имел скорость 4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img_ten" descr="http://media.meta.ua/files/pic/0/6/26/TkyUUhAEKN.jpg?id=400077"/>
          <p:cNvPicPr/>
          <p:nvPr/>
        </p:nvPicPr>
        <p:blipFill>
          <a:blip r:embed="rId1"/>
          <a:stretch/>
        </p:blipFill>
        <p:spPr>
          <a:xfrm>
            <a:off x="2195640" y="54936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0" y="501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042920" y="4005360"/>
            <a:ext cx="7058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85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емецкий изобретатель Карл Бенц создал автомобиль с бензиновым мотором – мотоколяск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а двигалась со скоростью 20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main14"/>
          <p:cNvPicPr/>
          <p:nvPr/>
        </p:nvPicPr>
        <p:blipFill>
          <a:blip r:embed="rId1"/>
          <a:stretch/>
        </p:blipFill>
        <p:spPr>
          <a:xfrm>
            <a:off x="1332000" y="404640"/>
            <a:ext cx="6291000" cy="37450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971640" y="4292640"/>
            <a:ext cx="748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96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Умельцы Евгений Яковлев и Петр Фреде построили первый русски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передвигался со скоростью 22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b45504595360"/>
          <p:cNvPicPr/>
          <p:nvPr/>
        </p:nvPicPr>
        <p:blipFill>
          <a:blip r:embed="rId1"/>
          <a:stretch/>
        </p:blipFill>
        <p:spPr>
          <a:xfrm>
            <a:off x="1692360" y="2924280"/>
            <a:ext cx="5719680" cy="3600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00000" y="404640"/>
            <a:ext cx="7488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 1909 года на улицах и дорогах стали появляться первые дорожные знаки. Они помогали регулировать движение транспорта и пешеход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дин знак означал целую фразу – дорожный сигн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упрежд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2484360" y="191628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упреждают водителя 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 приближении к опасному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частку доро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WordArt 5"/>
          <p:cNvSpPr txBox="1"/>
          <p:nvPr/>
        </p:nvSpPr>
        <p:spPr>
          <a:xfrm>
            <a:off x="2987640" y="4724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й тре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812960" cy="1608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1800000" cy="1596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6948360" y="1628640"/>
            <a:ext cx="1727280" cy="153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72728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2195640" y="692280"/>
            <a:ext cx="504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ещ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2771640" y="1773360"/>
            <a:ext cx="367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Что-либо запрещают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водителю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2987640" y="472428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е или синие кру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1741680" cy="1741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741320" cy="174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3"/>
          <a:stretch/>
        </p:blipFill>
        <p:spPr>
          <a:xfrm>
            <a:off x="7020000" y="1623960"/>
            <a:ext cx="1695240" cy="166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4"/>
          <a:stretch/>
        </p:blipFill>
        <p:spPr>
          <a:xfrm>
            <a:off x="7093080" y="422100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403280" y="40464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Тайшет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4" descr="C:\Users\123\Desktop\фото\702.jpg"/>
          <p:cNvPicPr/>
          <p:nvPr/>
        </p:nvPicPr>
        <p:blipFill>
          <a:blip r:embed="rId1"/>
          <a:stretch/>
        </p:blipFill>
        <p:spPr>
          <a:xfrm>
            <a:off x="762120" y="1768320"/>
            <a:ext cx="738180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писыв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4140360" y="1557360"/>
            <a:ext cx="396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писывают направлени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движ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4427640" y="3789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4932360" y="458136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е круги 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белым рисунком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1979640" y="14986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2"/>
          <a:stretch/>
        </p:blipFill>
        <p:spPr>
          <a:xfrm>
            <a:off x="2050920" y="4724280"/>
            <a:ext cx="1656000" cy="1650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167004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124000" y="69228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онно-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3"/>
          <p:cNvSpPr txBox="1"/>
          <p:nvPr/>
        </p:nvSpPr>
        <p:spPr>
          <a:xfrm>
            <a:off x="2700360" y="4797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2050920" y="5373720"/>
            <a:ext cx="54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ольшинство - синий прямо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или квадрат с 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1598760" cy="1598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1454040" cy="1454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379520" cy="1944720"/>
          </a:xfrm>
          <a:prstGeom prst="rect">
            <a:avLst/>
          </a:prstGeom>
          <a:ln w="0">
            <a:noFill/>
          </a:ln>
        </p:spPr>
      </p:pic>
      <p:sp>
        <p:nvSpPr>
          <p:cNvPr id="230" name="WordArt 9"/>
          <p:cNvSpPr txBox="1"/>
          <p:nvPr/>
        </p:nvSpPr>
        <p:spPr>
          <a:xfrm>
            <a:off x="1835280" y="1700280"/>
            <a:ext cx="547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о нахожд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ешеходного переход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становки автобус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2195640" y="69228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ки сервиса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WordArt 3"/>
          <p:cNvSpPr txBox="1"/>
          <p:nvPr/>
        </p:nvSpPr>
        <p:spPr>
          <a:xfrm>
            <a:off x="2700360" y="429264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2843280" y="508464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й прямоугольник с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692360" y="1413000"/>
            <a:ext cx="6119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а отдых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лечения, питания, ремонт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1608120" y="2276640"/>
            <a:ext cx="1249560" cy="1771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3995640" y="2276640"/>
            <a:ext cx="1219320" cy="1726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200240" cy="16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00000" y="1484280"/>
            <a:ext cx="7631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1. Предупрежд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2. Запрещ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3. Предписыв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4. Информационно-указательны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5. Знаки сервиса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9" name="WordArt 3"/>
          <p:cNvSpPr txBox="1"/>
          <p:nvPr/>
        </p:nvSpPr>
        <p:spPr>
          <a:xfrm>
            <a:off x="468360" y="404640"/>
            <a:ext cx="8391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дорожные знаки делятся на группы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395280" y="1052640"/>
            <a:ext cx="82072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лучайных знаков не существует. Все они придуманы для пользы дела. 30 лет назад было всего полсотни знаков. А сегодня их больше 100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орожные знаки яркие и видны уже издал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адача дорожного знака в том и состоит, чтобы своевременно информировать водителя об опасности и условиях дви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gibdd_auto"/>
          <p:cNvPicPr/>
          <p:nvPr/>
        </p:nvPicPr>
        <p:blipFill>
          <a:blip r:embed="rId1"/>
          <a:stretch/>
        </p:blipFill>
        <p:spPr>
          <a:xfrm>
            <a:off x="4067280" y="2708280"/>
            <a:ext cx="4792680" cy="3809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324000" y="476280"/>
            <a:ext cx="554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Г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государствен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И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инспек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Б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безопас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дорожног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- дви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539640" y="404640"/>
            <a:ext cx="75614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Авария – это бед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т нас с вами тоже зависит, произойдет на дороге авария или нет. Все мы – и водители, и пешеходы – участники дорожного движения. И поэтому должны соблюдать правила, действующие на дорог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4" name="Picture 5" descr="dscn4797"/>
          <p:cNvPicPr/>
          <p:nvPr/>
        </p:nvPicPr>
        <p:blipFill>
          <a:blip r:embed="rId1"/>
          <a:stretch/>
        </p:blipFill>
        <p:spPr>
          <a:xfrm>
            <a:off x="1908000" y="2708280"/>
            <a:ext cx="4969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kidz033"/>
          <p:cNvPicPr/>
          <p:nvPr/>
        </p:nvPicPr>
        <p:blipFill>
          <a:blip r:embed="rId1"/>
          <a:stretch/>
        </p:blipFill>
        <p:spPr>
          <a:xfrm>
            <a:off x="5076720" y="620640"/>
            <a:ext cx="3591000" cy="4953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179280" y="476280"/>
            <a:ext cx="46800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Очень важная наука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равила движени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И должны их соблюдать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Все без исключения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Знание правил дорожного движения – это показатель культуры челове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Будьте дисциплинированны на улице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Желаю вам безопасных дорог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Где может ходить пешеход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о мостов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По шосс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) По тротуар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На какой сигнал светофора можно переходить дорогу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На крас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На зелё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Куда надо посмотреть сначала, переходя улицу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Нале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Напра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перё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наземный переход, отмеченный на асфальте белыми полосам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55640" y="2852280"/>
            <a:ext cx="30956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) Олен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Зеб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Лошад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едущего в автобусе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управляющего транспортным средством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2565000"/>
            <a:ext cx="598644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5:56Z</dcterms:created>
  <dc:creator>Иришка</dc:creator>
  <dc:description/>
  <dc:language>en-US</dc:language>
  <cp:lastModifiedBy>123</cp:lastModifiedBy>
  <dcterms:modified xsi:type="dcterms:W3CDTF">2015-02-04T14:02:35Z</dcterms:modified>
  <cp:revision>10</cp:revision>
  <dc:subject/>
  <dc:title>Слайд 1</dc:title>
</cp:coreProperties>
</file>