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31.jpeg" ContentType="image/jpeg"/>
  <Override PartName="/ppt/media/image5.jpeg" ContentType="image/jpeg"/>
  <Override PartName="/ppt/media/image8.jpeg" ContentType="image/jpeg"/>
  <Override PartName="/ppt/media/image13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AAB1-E28A-4FA3-9399-8B1D2CF8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C18D-6B38-46A0-AECD-1DFF5258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80DD-7E7C-4173-B8C3-F60DB024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BAAE-D977-4FA9-85B5-65903118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1114-C33F-402D-9FE4-88018012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1AA2-45E4-4845-A4D3-2691F44C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94E3-626B-459D-AAFB-68001438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735C-048C-4829-B57F-6F14E7FF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9BCE-258E-47FF-B5ED-95011EDB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1F40-8EC3-4CBD-A098-4FBA4CDA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715A-7B0A-46EC-A4F2-E0350135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2A55-353F-4649-887C-0EE6A5CF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2279-9DC3-4F41-A665-D64B7087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D095-5BDE-4181-8818-FEA99C8E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413A-4FDC-455A-AF53-35B678AB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6743-E8A8-4D4C-8970-CFDD8C56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76E5-E655-4E80-87F5-EF809A6E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EDD-3B08-4340-9839-2B343171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71ED-6E2B-4CF2-A7B0-B6A52391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0F8-AFEA-4845-B9FA-808AADFB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16CD-AD6D-430D-AE89-38D424A2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6AE-4031-438B-B4E3-1AF639EB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FF6F-30FE-40B7-BA39-598BD171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4AA8-DC41-4A9F-96DF-BB82C92B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C6C7-3712-41F3-A85C-924BC435A88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0120"/>
              <a:ext cx="3621240" cy="6132240"/>
              <a:chOff x="5409360" y="60120"/>
              <a:chExt cx="3621240" cy="6132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5600"/>
                <a:ext cx="211500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804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8984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1760"/>
                <a:ext cx="388800" cy="551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88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5200"/>
              <a:ext cx="892800" cy="825840"/>
              <a:chOff x="5650560" y="29520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400" y="469800"/>
                <a:ext cx="30528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920" y="39492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400" y="5259960"/>
              <a:ext cx="1059480" cy="830880"/>
              <a:chOff x="968400" y="525996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624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160"/>
                <a:ext cx="448920" cy="127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5DF3-7951-4C9D-92DA-2FEA6ED4652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5"/>
          <p:cNvSpPr/>
          <p:nvPr/>
        </p:nvSpPr>
        <p:spPr>
          <a:xfrm>
            <a:off x="2786040" y="21420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«Дорожные знаки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Прямоугольник 5"/>
          <p:cNvSpPr/>
          <p:nvPr/>
        </p:nvSpPr>
        <p:spPr>
          <a:xfrm>
            <a:off x="4572000" y="3857760"/>
            <a:ext cx="4572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83b47"/>
                </a:solidFill>
                <a:latin typeface="Verdana"/>
              </a:rPr>
              <a:t>Разработал учитель начальных классов :Дудич Оксана Петровн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83b47"/>
                </a:solidFill>
                <a:latin typeface="Verdana"/>
              </a:rPr>
              <a:t>МКОУ Тамтачетская СОШ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6" descr="C:\Users\123\Desktop\фото\27563.jpg"/>
          <p:cNvPicPr/>
          <p:nvPr/>
        </p:nvPicPr>
        <p:blipFill>
          <a:blip r:embed="rId1"/>
          <a:stretch/>
        </p:blipFill>
        <p:spPr>
          <a:xfrm>
            <a:off x="0" y="2214720"/>
            <a:ext cx="42861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icon"/>
          <p:cNvPicPr/>
          <p:nvPr/>
        </p:nvPicPr>
        <p:blipFill>
          <a:blip r:embed="rId1"/>
          <a:stretch/>
        </p:blipFill>
        <p:spPr>
          <a:xfrm>
            <a:off x="324000" y="1557360"/>
            <a:ext cx="8489880" cy="51116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755640" y="333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Дорога, мощенная камне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86994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qingdao11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gat161-1"/>
          <p:cNvPicPr/>
          <p:nvPr/>
        </p:nvPicPr>
        <p:blipFill>
          <a:blip r:embed="rId1"/>
          <a:stretch/>
        </p:blipFill>
        <p:spPr>
          <a:xfrm>
            <a:off x="4356000" y="189000"/>
            <a:ext cx="4587840" cy="3189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44557_40552"/>
          <p:cNvPicPr/>
          <p:nvPr/>
        </p:nvPicPr>
        <p:blipFill>
          <a:blip r:embed="rId2"/>
          <a:stretch/>
        </p:blipFill>
        <p:spPr>
          <a:xfrm>
            <a:off x="250920" y="3444840"/>
            <a:ext cx="482580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14061_1234965207_full"/>
          <p:cNvPicPr/>
          <p:nvPr/>
        </p:nvPicPr>
        <p:blipFill>
          <a:blip r:embed="rId1"/>
          <a:stretch/>
        </p:blipFill>
        <p:spPr>
          <a:xfrm>
            <a:off x="1403280" y="260280"/>
            <a:ext cx="6193080" cy="41054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332000" y="4437000"/>
            <a:ext cx="662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769 го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Француз Жан Кюньо создал первый паровой автомобил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н имел скорость 4 км/ч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img_ten" descr="http://media.meta.ua/files/pic/0/6/26/TkyUUhAEKN.jpg?id=400077"/>
          <p:cNvPicPr/>
          <p:nvPr/>
        </p:nvPicPr>
        <p:blipFill>
          <a:blip r:embed="rId1"/>
          <a:stretch/>
        </p:blipFill>
        <p:spPr>
          <a:xfrm>
            <a:off x="2195640" y="549360"/>
            <a:ext cx="4762440" cy="31813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0" y="501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042920" y="4005360"/>
            <a:ext cx="7058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885 го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Немецкий изобретатель Карл Бенц создал автомобиль с бензиновым мотором – мотоколяск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на двигалась со скоростью 20 км/ч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main14"/>
          <p:cNvPicPr/>
          <p:nvPr/>
        </p:nvPicPr>
        <p:blipFill>
          <a:blip r:embed="rId1"/>
          <a:stretch/>
        </p:blipFill>
        <p:spPr>
          <a:xfrm>
            <a:off x="1332000" y="404640"/>
            <a:ext cx="6291000" cy="37450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971640" y="4292640"/>
            <a:ext cx="7488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896 го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Умельцы Евгений Яковлев и Петр Фреде построили первый русский автомобил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н передвигался со скоростью 22 км/ч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b45504595360"/>
          <p:cNvPicPr/>
          <p:nvPr/>
        </p:nvPicPr>
        <p:blipFill>
          <a:blip r:embed="rId1"/>
          <a:stretch/>
        </p:blipFill>
        <p:spPr>
          <a:xfrm>
            <a:off x="1692360" y="2924280"/>
            <a:ext cx="5719680" cy="36003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900000" y="404640"/>
            <a:ext cx="7488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 1909 года на улицах и дорогах стали появляться первые дорожные знаки. Они помогали регулировать движение транспорта и пешеход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дин знак означал целую фразу – дорожный сигна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2050920" y="692280"/>
            <a:ext cx="529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упрежд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WordArt 3"/>
          <p:cNvSpPr txBox="1"/>
          <p:nvPr/>
        </p:nvSpPr>
        <p:spPr>
          <a:xfrm>
            <a:off x="2484360" y="1916280"/>
            <a:ext cx="417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Предупреждают водителя 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о приближении к опасному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участку дорог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2700360" y="4005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" name="WordArt 5"/>
          <p:cNvSpPr txBox="1"/>
          <p:nvPr/>
        </p:nvSpPr>
        <p:spPr>
          <a:xfrm>
            <a:off x="2987640" y="4724280"/>
            <a:ext cx="331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белый треугольник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 красной каймой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1812960" cy="1608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1800000" cy="1596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"/>
          <p:cNvPicPr/>
          <p:nvPr/>
        </p:nvPicPr>
        <p:blipFill>
          <a:blip r:embed="rId3"/>
          <a:stretch/>
        </p:blipFill>
        <p:spPr>
          <a:xfrm>
            <a:off x="6948360" y="1628640"/>
            <a:ext cx="1727280" cy="1532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/>
          <p:cNvPicPr/>
          <p:nvPr/>
        </p:nvPicPr>
        <p:blipFill>
          <a:blip r:embed="rId4"/>
          <a:stretch/>
        </p:blipFill>
        <p:spPr>
          <a:xfrm>
            <a:off x="6948360" y="4292640"/>
            <a:ext cx="1727280" cy="15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2195640" y="692280"/>
            <a:ext cx="5040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ещ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WordArt 3"/>
          <p:cNvSpPr txBox="1"/>
          <p:nvPr/>
        </p:nvSpPr>
        <p:spPr>
          <a:xfrm>
            <a:off x="2771640" y="1773360"/>
            <a:ext cx="367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Что-либо запрещают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водителю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2700360" y="4005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WordArt 5"/>
          <p:cNvSpPr txBox="1"/>
          <p:nvPr/>
        </p:nvSpPr>
        <p:spPr>
          <a:xfrm>
            <a:off x="2987640" y="4724280"/>
            <a:ext cx="352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белые или синие круг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 красной каймой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1741680" cy="1741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1741320" cy="1741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"/>
          <p:cNvPicPr/>
          <p:nvPr/>
        </p:nvPicPr>
        <p:blipFill>
          <a:blip r:embed="rId3"/>
          <a:stretch/>
        </p:blipFill>
        <p:spPr>
          <a:xfrm>
            <a:off x="7020000" y="1623960"/>
            <a:ext cx="1695240" cy="1663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"/>
          <p:cNvPicPr/>
          <p:nvPr/>
        </p:nvPicPr>
        <p:blipFill>
          <a:blip r:embed="rId4"/>
          <a:stretch/>
        </p:blipFill>
        <p:spPr>
          <a:xfrm>
            <a:off x="7093080" y="422100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1403280" y="40464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Тайшет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4" descr="C:\Users\123\Desktop\фото\702.jpg"/>
          <p:cNvPicPr/>
          <p:nvPr/>
        </p:nvPicPr>
        <p:blipFill>
          <a:blip r:embed="rId1"/>
          <a:stretch/>
        </p:blipFill>
        <p:spPr>
          <a:xfrm>
            <a:off x="762120" y="1768320"/>
            <a:ext cx="738180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2050920" y="692280"/>
            <a:ext cx="529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писыв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8" name="WordArt 3"/>
          <p:cNvSpPr txBox="1"/>
          <p:nvPr/>
        </p:nvSpPr>
        <p:spPr>
          <a:xfrm>
            <a:off x="4140360" y="1557360"/>
            <a:ext cx="396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Предписывают направление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движения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19" name="WordArt 4"/>
          <p:cNvSpPr txBox="1"/>
          <p:nvPr/>
        </p:nvSpPr>
        <p:spPr>
          <a:xfrm>
            <a:off x="4427640" y="3789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WordArt 5"/>
          <p:cNvSpPr txBox="1"/>
          <p:nvPr/>
        </p:nvSpPr>
        <p:spPr>
          <a:xfrm>
            <a:off x="4932360" y="4581360"/>
            <a:ext cx="29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иние круги </a:t>
            </a:r>
            <a:endParaRPr b="1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 белым рисунком</a:t>
            </a:r>
            <a:endParaRPr b="1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1979640" y="14986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2"/>
          <a:stretch/>
        </p:blipFill>
        <p:spPr>
          <a:xfrm>
            <a:off x="2050920" y="4724280"/>
            <a:ext cx="1656000" cy="1650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/>
          <p:cNvPicPr/>
          <p:nvPr/>
        </p:nvPicPr>
        <p:blipFill>
          <a:blip r:embed="rId3"/>
          <a:stretch/>
        </p:blipFill>
        <p:spPr>
          <a:xfrm>
            <a:off x="324000" y="3068640"/>
            <a:ext cx="1670040" cy="16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2"/>
          <p:cNvSpPr txBox="1"/>
          <p:nvPr/>
        </p:nvSpPr>
        <p:spPr>
          <a:xfrm>
            <a:off x="2124000" y="692280"/>
            <a:ext cx="511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формационно-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казательны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5" name="WordArt 3"/>
          <p:cNvSpPr txBox="1"/>
          <p:nvPr/>
        </p:nvSpPr>
        <p:spPr>
          <a:xfrm>
            <a:off x="2700360" y="479736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6" name="WordArt 4"/>
          <p:cNvSpPr txBox="1"/>
          <p:nvPr/>
        </p:nvSpPr>
        <p:spPr>
          <a:xfrm>
            <a:off x="2050920" y="5373720"/>
            <a:ext cx="5473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большинство - синий прямоугольник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или квадрат с рисунком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1598760" cy="1598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2"/>
          <a:stretch/>
        </p:blipFill>
        <p:spPr>
          <a:xfrm>
            <a:off x="4067280" y="2924280"/>
            <a:ext cx="1454040" cy="1454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379520" cy="1944720"/>
          </a:xfrm>
          <a:prstGeom prst="rect">
            <a:avLst/>
          </a:prstGeom>
          <a:ln w="0">
            <a:noFill/>
          </a:ln>
        </p:spPr>
      </p:pic>
      <p:sp>
        <p:nvSpPr>
          <p:cNvPr id="230" name="WordArt 9"/>
          <p:cNvSpPr txBox="1"/>
          <p:nvPr/>
        </p:nvSpPr>
        <p:spPr>
          <a:xfrm>
            <a:off x="1835280" y="1700280"/>
            <a:ext cx="5473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Указывают место нахождения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пешеходного перехода,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остановки автобуса и т.д.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2"/>
          <p:cNvSpPr txBox="1"/>
          <p:nvPr/>
        </p:nvSpPr>
        <p:spPr>
          <a:xfrm>
            <a:off x="2195640" y="692280"/>
            <a:ext cx="496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ки сервиса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WordArt 3"/>
          <p:cNvSpPr txBox="1"/>
          <p:nvPr/>
        </p:nvSpPr>
        <p:spPr>
          <a:xfrm>
            <a:off x="2700360" y="4292640"/>
            <a:ext cx="3933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3" name="WordArt 4"/>
          <p:cNvSpPr txBox="1"/>
          <p:nvPr/>
        </p:nvSpPr>
        <p:spPr>
          <a:xfrm>
            <a:off x="2843280" y="5084640"/>
            <a:ext cx="36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синий прямоугольник с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рисунком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1692360" y="1413000"/>
            <a:ext cx="6119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Указывают места отдыха,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лечения, питания, ремонта и т.д.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/>
          <a:stretch/>
        </p:blipFill>
        <p:spPr>
          <a:xfrm>
            <a:off x="1608120" y="2276640"/>
            <a:ext cx="1249560" cy="1771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2"/>
          <a:stretch/>
        </p:blipFill>
        <p:spPr>
          <a:xfrm>
            <a:off x="3995640" y="2276640"/>
            <a:ext cx="1219320" cy="1726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3"/>
          <a:stretch/>
        </p:blipFill>
        <p:spPr>
          <a:xfrm>
            <a:off x="6300720" y="2276640"/>
            <a:ext cx="1200240" cy="169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900000" y="1484280"/>
            <a:ext cx="7631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1. Предупреждающие 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2. Запрещающие 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3. Предписывающие 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4. Информационно-указательные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знаки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99"/>
                  </a:solidFill>
                  <a:miter/>
                </a:ln>
                <a:solidFill>
                  <a:srgbClr val="006699"/>
                </a:solidFill>
                <a:latin typeface="Arial"/>
              </a:rPr>
              <a:t>5. Знаки сервиса</a:t>
            </a:r>
            <a:endParaRPr b="0" lang="en-US" sz="1800" spc="1" strike="noStrike">
              <a:ln w="9360">
                <a:solidFill>
                  <a:srgbClr val="006699"/>
                </a:solidFill>
                <a:miter/>
              </a:ln>
              <a:solidFill>
                <a:srgbClr val="006699"/>
              </a:solidFill>
              <a:latin typeface="Arial"/>
              <a:ea typeface="Arial"/>
            </a:endParaRPr>
          </a:p>
        </p:txBody>
      </p:sp>
      <p:sp>
        <p:nvSpPr>
          <p:cNvPr id="239" name="WordArt 3"/>
          <p:cNvSpPr txBox="1"/>
          <p:nvPr/>
        </p:nvSpPr>
        <p:spPr>
          <a:xfrm>
            <a:off x="468360" y="404640"/>
            <a:ext cx="8391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 дорожные знаки делятся на группы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395280" y="1052640"/>
            <a:ext cx="820728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лучайных знаков не существует. Все они придуманы для пользы дела. 30 лет назад было всего полсотни знаков. А сегодня их больше 100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Дорожные знаки яркие и видны уже издале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Задача дорожного знака в том и состоит, чтобы своевременно информировать водителя об опасности и условиях движ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gibdd_auto"/>
          <p:cNvPicPr/>
          <p:nvPr/>
        </p:nvPicPr>
        <p:blipFill>
          <a:blip r:embed="rId1"/>
          <a:stretch/>
        </p:blipFill>
        <p:spPr>
          <a:xfrm>
            <a:off x="4067280" y="2708280"/>
            <a:ext cx="4792680" cy="38098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324000" y="476280"/>
            <a:ext cx="5543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Г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государственна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И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инспекц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Б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безопасно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Д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– дорожного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Д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- движ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539640" y="404640"/>
            <a:ext cx="75614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Авария – это беда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От нас с вами тоже зависит, произойдет на дороге авария или нет. Все мы – и водители, и пешеходы – участники дорожного движения. И поэтому должны соблюдать правила, действующие на дорог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4" name="Picture 5" descr="dscn4797"/>
          <p:cNvPicPr/>
          <p:nvPr/>
        </p:nvPicPr>
        <p:blipFill>
          <a:blip r:embed="rId1"/>
          <a:stretch/>
        </p:blipFill>
        <p:spPr>
          <a:xfrm>
            <a:off x="1908000" y="2708280"/>
            <a:ext cx="4969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kidz033"/>
          <p:cNvPicPr/>
          <p:nvPr/>
        </p:nvPicPr>
        <p:blipFill>
          <a:blip r:embed="rId1"/>
          <a:stretch/>
        </p:blipFill>
        <p:spPr>
          <a:xfrm>
            <a:off x="5076720" y="620640"/>
            <a:ext cx="3591000" cy="49532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"/>
          <p:cNvSpPr/>
          <p:nvPr/>
        </p:nvSpPr>
        <p:spPr>
          <a:xfrm>
            <a:off x="179280" y="476280"/>
            <a:ext cx="46800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Очень важная наука –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Правила движения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И должны их соблюдать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Все без исключения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Знание правил дорожного движения – это показатель культуры человек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6379"/>
                </a:solidFill>
                <a:latin typeface="Verdana"/>
              </a:rPr>
              <a:t>Будьте дисциплинированны на улице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637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d6379"/>
                </a:solidFill>
                <a:latin typeface="Verdana"/>
              </a:rPr>
              <a:t>Желаю вам безопасных дорог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637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d6379"/>
                </a:solidFill>
                <a:latin typeface="Verdana"/>
              </a:rPr>
              <a:t>Где может ходить пешеход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) По мостово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) По шосс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Д) По тротуар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На какой сигнал светофора можно переходить дорогу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На крас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) На зелё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6379"/>
                </a:solidFill>
                <a:latin typeface="Verdana"/>
              </a:rPr>
              <a:t>Куда надо посмотреть сначала, переходя улицу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) Налев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) Направ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Вперёд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440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Как называют наземный переход, отмеченный на асфальте белыми полосам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55640" y="2852280"/>
            <a:ext cx="309564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) Олен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) Зебр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) Лошад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7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Как называют человека, едущего в автобусе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00000" y="2125800"/>
            <a:ext cx="598644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) Пешеход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Водите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) Пассажи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7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d6379"/>
                </a:solidFill>
                <a:latin typeface="Verdana"/>
              </a:rPr>
              <a:t>Как называют человека, управляющего транспортным средством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0000" y="2565000"/>
            <a:ext cx="598644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) Пешеход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) Водите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) Пассажи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Безымянный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8:25:56Z</dcterms:created>
  <dc:creator>Иришка</dc:creator>
  <dc:description/>
  <dc:language>en-US</dc:language>
  <cp:lastModifiedBy>123</cp:lastModifiedBy>
  <dcterms:modified xsi:type="dcterms:W3CDTF">2015-02-04T14:02:35Z</dcterms:modified>
  <cp:revision>10</cp:revision>
  <dc:subject/>
  <dc:title>Слайд 1</dc:title>
</cp:coreProperties>
</file>