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png" ContentType="image/png"/>
  <Override PartName="/ppt/media/image4.jpeg" ContentType="image/jpeg"/>
  <Override PartName="/ppt/media/image25.png" ContentType="image/png"/>
  <Override PartName="/ppt/media/image31.jpeg" ContentType="image/jpeg"/>
  <Override PartName="/ppt/media/image5.jpeg" ContentType="image/jpeg"/>
  <Override PartName="/ppt/media/image8.jpeg" ContentType="image/jpeg"/>
  <Override PartName="/ppt/media/image13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0E53-AFA6-4A69-A468-F08C8B7DC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7BDF-23B1-4FAE-9119-B29B3E3A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F3DF-4944-4AFA-B700-154AA1B54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13AC-7C3A-4D73-8F13-744ED8590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31F9-D110-417A-B882-3F0F1D88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A563-2E64-48E4-B619-A2A3DE4B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2555-E554-4A86-98C9-EAE3A345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B349-CCA5-45DE-98BF-46BAC0C4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56B9-B7F2-4607-BF51-31358085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FB83-4622-4F6D-AC29-C09D7DE7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84A9-2F73-4EB9-93A0-045EE911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297F-6C0F-4A7C-9DF3-90C8E19D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E4EE-E588-4DD2-84B6-D1E100B3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DD5F-1920-4462-A8E6-4A3FAAD1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5B1A-E9FD-4BA3-97E4-37F0215D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4663-5B1C-4449-8BB7-04F0B6D5F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BA71-7946-4EEF-8256-4F6AD330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D5B9-30E2-49D9-BD6A-28EBD1A5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A735-D5D5-492F-BF55-32E5FFFB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F371-A3F9-4CFA-8F04-51236133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5014-7E48-461F-A511-7A97B48F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A010-7794-4E84-BE70-1BEDB34B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09F7-6E5E-43B9-A5A0-92D0C3F6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C056-BCCF-4660-8FA7-17A8C06A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86A2-40E2-4D43-BE91-13ED3BB311E2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0120"/>
              <a:ext cx="3621240" cy="6132240"/>
              <a:chOff x="5409360" y="60120"/>
              <a:chExt cx="3621240" cy="61322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5600"/>
                <a:ext cx="211500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804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880" y="2589840"/>
                <a:ext cx="43956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71760"/>
                <a:ext cx="388800" cy="551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988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0560" y="295200"/>
              <a:ext cx="892800" cy="825840"/>
              <a:chOff x="5650560" y="29520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2160" y="79020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1400" y="469800"/>
                <a:ext cx="30528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920" y="39492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400" y="5259960"/>
              <a:ext cx="1059480" cy="830880"/>
              <a:chOff x="968400" y="5259960"/>
              <a:chExt cx="105948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492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624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4160"/>
                <a:ext cx="448920" cy="127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4960"/>
              <a:ext cx="1690200" cy="1146600"/>
              <a:chOff x="375840" y="44496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344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860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232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3960" y="3712320"/>
              <a:ext cx="1155600" cy="1607760"/>
              <a:chOff x="738396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868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940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196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15E1-3CB5-4293-819E-706A8B8D46DC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5"/>
          <p:cNvSpPr/>
          <p:nvPr/>
        </p:nvSpPr>
        <p:spPr>
          <a:xfrm>
            <a:off x="2786040" y="21420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«Дорожные знаки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Прямоугольник 5"/>
          <p:cNvSpPr/>
          <p:nvPr/>
        </p:nvSpPr>
        <p:spPr>
          <a:xfrm>
            <a:off x="4572000" y="3857760"/>
            <a:ext cx="4572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83b47"/>
                </a:solidFill>
                <a:latin typeface="Verdana"/>
              </a:rPr>
              <a:t>Разработал учитель начальных классов :Дудич Оксана Петровна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83b47"/>
                </a:solidFill>
                <a:latin typeface="Verdana"/>
              </a:rPr>
              <a:t>МКОУ Тамтачетская СОШ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6" descr="C:\Users\123\Desktop\фото\27563.jpg"/>
          <p:cNvPicPr/>
          <p:nvPr/>
        </p:nvPicPr>
        <p:blipFill>
          <a:blip r:embed="rId1"/>
          <a:stretch/>
        </p:blipFill>
        <p:spPr>
          <a:xfrm>
            <a:off x="0" y="2214720"/>
            <a:ext cx="42861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icon"/>
          <p:cNvPicPr/>
          <p:nvPr/>
        </p:nvPicPr>
        <p:blipFill>
          <a:blip r:embed="rId1"/>
          <a:stretch/>
        </p:blipFill>
        <p:spPr>
          <a:xfrm>
            <a:off x="324000" y="1557360"/>
            <a:ext cx="8489880" cy="51116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755640" y="33336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Дорога, мощенная камне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86994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qingdao11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gat161-1"/>
          <p:cNvPicPr/>
          <p:nvPr/>
        </p:nvPicPr>
        <p:blipFill>
          <a:blip r:embed="rId1"/>
          <a:stretch/>
        </p:blipFill>
        <p:spPr>
          <a:xfrm>
            <a:off x="4356000" y="189000"/>
            <a:ext cx="4587840" cy="3189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44557_40552"/>
          <p:cNvPicPr/>
          <p:nvPr/>
        </p:nvPicPr>
        <p:blipFill>
          <a:blip r:embed="rId2"/>
          <a:stretch/>
        </p:blipFill>
        <p:spPr>
          <a:xfrm>
            <a:off x="250920" y="3444840"/>
            <a:ext cx="482580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14061_1234965207_full"/>
          <p:cNvPicPr/>
          <p:nvPr/>
        </p:nvPicPr>
        <p:blipFill>
          <a:blip r:embed="rId1"/>
          <a:stretch/>
        </p:blipFill>
        <p:spPr>
          <a:xfrm>
            <a:off x="1403280" y="260280"/>
            <a:ext cx="6193080" cy="41054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332000" y="4437000"/>
            <a:ext cx="6624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1769 год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Француз Жан Кюньо создал первый паровой автомобил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Он имел скорость 4 км/ч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4" name="img_ten" descr="http://media.meta.ua/files/pic/0/6/26/TkyUUhAEKN.jpg?id=400077"/>
          <p:cNvPicPr/>
          <p:nvPr/>
        </p:nvPicPr>
        <p:blipFill>
          <a:blip r:embed="rId1"/>
          <a:stretch/>
        </p:blipFill>
        <p:spPr>
          <a:xfrm>
            <a:off x="2195640" y="549360"/>
            <a:ext cx="4762440" cy="318132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5"/>
          <p:cNvSpPr/>
          <p:nvPr/>
        </p:nvSpPr>
        <p:spPr>
          <a:xfrm>
            <a:off x="0" y="501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042920" y="4005360"/>
            <a:ext cx="7058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1885 год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Немецкий изобретатель Карл Бенц создал автомобиль с бензиновым мотором – мотоколяску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Она двигалась со скоростью 20 км/ч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main14"/>
          <p:cNvPicPr/>
          <p:nvPr/>
        </p:nvPicPr>
        <p:blipFill>
          <a:blip r:embed="rId1"/>
          <a:stretch/>
        </p:blipFill>
        <p:spPr>
          <a:xfrm>
            <a:off x="1332000" y="404640"/>
            <a:ext cx="6291000" cy="37450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971640" y="4292640"/>
            <a:ext cx="7488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1896 год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Умельцы Евгений Яковлев и Петр Фреде построили первый русский автомобил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Он передвигался со скоростью 22 км/ч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b45504595360"/>
          <p:cNvPicPr/>
          <p:nvPr/>
        </p:nvPicPr>
        <p:blipFill>
          <a:blip r:embed="rId1"/>
          <a:stretch/>
        </p:blipFill>
        <p:spPr>
          <a:xfrm>
            <a:off x="1692360" y="2924280"/>
            <a:ext cx="5719680" cy="36003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900000" y="404640"/>
            <a:ext cx="74883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С 1909 года на улицах и дорогах стали появляться первые дорожные знаки. Они помогали регулировать движение транспорта и пешехода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Один знак означал целую фразу – дорожный сигна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2"/>
          <p:cNvSpPr txBox="1"/>
          <p:nvPr/>
        </p:nvSpPr>
        <p:spPr>
          <a:xfrm>
            <a:off x="2050920" y="692280"/>
            <a:ext cx="5295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упреждающие знаки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" name="WordArt 3"/>
          <p:cNvSpPr txBox="1"/>
          <p:nvPr/>
        </p:nvSpPr>
        <p:spPr>
          <a:xfrm>
            <a:off x="2484360" y="1916280"/>
            <a:ext cx="417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Предупреждают водителя 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о приближении к опасному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участку дороги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sp>
        <p:nvSpPr>
          <p:cNvPr id="203" name="WordArt 4"/>
          <p:cNvSpPr txBox="1"/>
          <p:nvPr/>
        </p:nvSpPr>
        <p:spPr>
          <a:xfrm>
            <a:off x="2700360" y="4005360"/>
            <a:ext cx="3933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" name="WordArt 5"/>
          <p:cNvSpPr txBox="1"/>
          <p:nvPr/>
        </p:nvSpPr>
        <p:spPr>
          <a:xfrm>
            <a:off x="2987640" y="4724280"/>
            <a:ext cx="331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белый треугольник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с красной каймой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pic>
        <p:nvPicPr>
          <p:cNvPr id="205" name="Picture 6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1812960" cy="1608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2"/>
          <a:stretch/>
        </p:blipFill>
        <p:spPr>
          <a:xfrm>
            <a:off x="468360" y="4365720"/>
            <a:ext cx="1800000" cy="1596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"/>
          <p:cNvPicPr/>
          <p:nvPr/>
        </p:nvPicPr>
        <p:blipFill>
          <a:blip r:embed="rId3"/>
          <a:stretch/>
        </p:blipFill>
        <p:spPr>
          <a:xfrm>
            <a:off x="6948360" y="1628640"/>
            <a:ext cx="1727280" cy="1532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"/>
          <p:cNvPicPr/>
          <p:nvPr/>
        </p:nvPicPr>
        <p:blipFill>
          <a:blip r:embed="rId4"/>
          <a:stretch/>
        </p:blipFill>
        <p:spPr>
          <a:xfrm>
            <a:off x="6948360" y="4292640"/>
            <a:ext cx="1727280" cy="15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2"/>
          <p:cNvSpPr txBox="1"/>
          <p:nvPr/>
        </p:nvSpPr>
        <p:spPr>
          <a:xfrm>
            <a:off x="2195640" y="692280"/>
            <a:ext cx="5040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рещающие знаки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0" name="WordArt 3"/>
          <p:cNvSpPr txBox="1"/>
          <p:nvPr/>
        </p:nvSpPr>
        <p:spPr>
          <a:xfrm>
            <a:off x="2771640" y="1773360"/>
            <a:ext cx="3673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Что-либо запрещают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водителю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sp>
        <p:nvSpPr>
          <p:cNvPr id="211" name="WordArt 4"/>
          <p:cNvSpPr txBox="1"/>
          <p:nvPr/>
        </p:nvSpPr>
        <p:spPr>
          <a:xfrm>
            <a:off x="2700360" y="4005360"/>
            <a:ext cx="3933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2" name="WordArt 5"/>
          <p:cNvSpPr txBox="1"/>
          <p:nvPr/>
        </p:nvSpPr>
        <p:spPr>
          <a:xfrm>
            <a:off x="2987640" y="4724280"/>
            <a:ext cx="3529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белые или синие круги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с красной каймой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1741680" cy="1741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611280" y="4292640"/>
            <a:ext cx="1741320" cy="1741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"/>
          <p:cNvPicPr/>
          <p:nvPr/>
        </p:nvPicPr>
        <p:blipFill>
          <a:blip r:embed="rId3"/>
          <a:stretch/>
        </p:blipFill>
        <p:spPr>
          <a:xfrm>
            <a:off x="7020000" y="1623960"/>
            <a:ext cx="1695240" cy="1663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"/>
          <p:cNvPicPr/>
          <p:nvPr/>
        </p:nvPicPr>
        <p:blipFill>
          <a:blip r:embed="rId4"/>
          <a:stretch/>
        </p:blipFill>
        <p:spPr>
          <a:xfrm>
            <a:off x="7093080" y="422100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5"/>
          <p:cNvSpPr/>
          <p:nvPr/>
        </p:nvSpPr>
        <p:spPr>
          <a:xfrm>
            <a:off x="1403280" y="404640"/>
            <a:ext cx="66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99"/>
                </a:solidFill>
                <a:latin typeface="Verdana"/>
              </a:rPr>
              <a:t>Тайшет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Picture 4" descr="C:\Users\123\Desktop\фото\702.jpg"/>
          <p:cNvPicPr/>
          <p:nvPr/>
        </p:nvPicPr>
        <p:blipFill>
          <a:blip r:embed="rId1"/>
          <a:stretch/>
        </p:blipFill>
        <p:spPr>
          <a:xfrm>
            <a:off x="762120" y="1768320"/>
            <a:ext cx="7381800" cy="45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2"/>
          <p:cNvSpPr txBox="1"/>
          <p:nvPr/>
        </p:nvSpPr>
        <p:spPr>
          <a:xfrm>
            <a:off x="2050920" y="692280"/>
            <a:ext cx="5295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писывающие знаки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8" name="WordArt 3"/>
          <p:cNvSpPr txBox="1"/>
          <p:nvPr/>
        </p:nvSpPr>
        <p:spPr>
          <a:xfrm>
            <a:off x="4140360" y="1557360"/>
            <a:ext cx="396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Предписывают направление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движения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sp>
        <p:nvSpPr>
          <p:cNvPr id="219" name="WordArt 4"/>
          <p:cNvSpPr txBox="1"/>
          <p:nvPr/>
        </p:nvSpPr>
        <p:spPr>
          <a:xfrm>
            <a:off x="4427640" y="3789360"/>
            <a:ext cx="3933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0" name="WordArt 5"/>
          <p:cNvSpPr txBox="1"/>
          <p:nvPr/>
        </p:nvSpPr>
        <p:spPr>
          <a:xfrm>
            <a:off x="4932360" y="4581360"/>
            <a:ext cx="295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Синие круги </a:t>
            </a:r>
            <a:endParaRPr b="1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с белым рисунком</a:t>
            </a:r>
            <a:endParaRPr b="1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1"/>
          <a:stretch/>
        </p:blipFill>
        <p:spPr>
          <a:xfrm>
            <a:off x="1979640" y="149868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"/>
          <p:cNvPicPr/>
          <p:nvPr/>
        </p:nvPicPr>
        <p:blipFill>
          <a:blip r:embed="rId2"/>
          <a:stretch/>
        </p:blipFill>
        <p:spPr>
          <a:xfrm>
            <a:off x="2050920" y="4724280"/>
            <a:ext cx="1656000" cy="1650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"/>
          <p:cNvPicPr/>
          <p:nvPr/>
        </p:nvPicPr>
        <p:blipFill>
          <a:blip r:embed="rId3"/>
          <a:stretch/>
        </p:blipFill>
        <p:spPr>
          <a:xfrm>
            <a:off x="324000" y="3068640"/>
            <a:ext cx="1670040" cy="16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2"/>
          <p:cNvSpPr txBox="1"/>
          <p:nvPr/>
        </p:nvSpPr>
        <p:spPr>
          <a:xfrm>
            <a:off x="2124000" y="692280"/>
            <a:ext cx="5112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формационно-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казательные знаки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5" name="WordArt 3"/>
          <p:cNvSpPr txBox="1"/>
          <p:nvPr/>
        </p:nvSpPr>
        <p:spPr>
          <a:xfrm>
            <a:off x="2700360" y="4797360"/>
            <a:ext cx="3933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6" name="WordArt 4"/>
          <p:cNvSpPr txBox="1"/>
          <p:nvPr/>
        </p:nvSpPr>
        <p:spPr>
          <a:xfrm>
            <a:off x="2050920" y="5373720"/>
            <a:ext cx="5473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большинство - синий прямоугольник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или квадрат с рисунком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1598760" cy="15987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"/>
          <p:cNvPicPr/>
          <p:nvPr/>
        </p:nvPicPr>
        <p:blipFill>
          <a:blip r:embed="rId2"/>
          <a:stretch/>
        </p:blipFill>
        <p:spPr>
          <a:xfrm>
            <a:off x="4067280" y="2924280"/>
            <a:ext cx="1454040" cy="1454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"/>
          <p:cNvPicPr/>
          <p:nvPr/>
        </p:nvPicPr>
        <p:blipFill>
          <a:blip r:embed="rId3"/>
          <a:stretch/>
        </p:blipFill>
        <p:spPr>
          <a:xfrm>
            <a:off x="6948360" y="2852640"/>
            <a:ext cx="1379520" cy="1944720"/>
          </a:xfrm>
          <a:prstGeom prst="rect">
            <a:avLst/>
          </a:prstGeom>
          <a:ln w="0">
            <a:noFill/>
          </a:ln>
        </p:spPr>
      </p:pic>
      <p:sp>
        <p:nvSpPr>
          <p:cNvPr id="230" name="WordArt 9"/>
          <p:cNvSpPr txBox="1"/>
          <p:nvPr/>
        </p:nvSpPr>
        <p:spPr>
          <a:xfrm>
            <a:off x="1835280" y="1700280"/>
            <a:ext cx="5473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Указывают место нахождения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пешеходного перехода,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остановки автобуса и т.д.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2"/>
          <p:cNvSpPr txBox="1"/>
          <p:nvPr/>
        </p:nvSpPr>
        <p:spPr>
          <a:xfrm>
            <a:off x="2195640" y="692280"/>
            <a:ext cx="496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наки сервиса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2" name="WordArt 3"/>
          <p:cNvSpPr txBox="1"/>
          <p:nvPr/>
        </p:nvSpPr>
        <p:spPr>
          <a:xfrm>
            <a:off x="2700360" y="4292640"/>
            <a:ext cx="3933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3" name="WordArt 4"/>
          <p:cNvSpPr txBox="1"/>
          <p:nvPr/>
        </p:nvSpPr>
        <p:spPr>
          <a:xfrm>
            <a:off x="2843280" y="5084640"/>
            <a:ext cx="367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синий прямоугольник с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рисунком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1692360" y="1413000"/>
            <a:ext cx="6119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Указывают места отдыха,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лечения, питания, ремонта и т.д.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pic>
        <p:nvPicPr>
          <p:cNvPr id="235" name="Picture 6" descr=""/>
          <p:cNvPicPr/>
          <p:nvPr/>
        </p:nvPicPr>
        <p:blipFill>
          <a:blip r:embed="rId1"/>
          <a:stretch/>
        </p:blipFill>
        <p:spPr>
          <a:xfrm>
            <a:off x="1608120" y="2276640"/>
            <a:ext cx="1249560" cy="1771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"/>
          <p:cNvPicPr/>
          <p:nvPr/>
        </p:nvPicPr>
        <p:blipFill>
          <a:blip r:embed="rId2"/>
          <a:stretch/>
        </p:blipFill>
        <p:spPr>
          <a:xfrm>
            <a:off x="3995640" y="2276640"/>
            <a:ext cx="1219320" cy="1726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"/>
          <p:cNvPicPr/>
          <p:nvPr/>
        </p:nvPicPr>
        <p:blipFill>
          <a:blip r:embed="rId3"/>
          <a:stretch/>
        </p:blipFill>
        <p:spPr>
          <a:xfrm>
            <a:off x="6300720" y="2276640"/>
            <a:ext cx="1200240" cy="169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2"/>
          <p:cNvSpPr txBox="1"/>
          <p:nvPr/>
        </p:nvSpPr>
        <p:spPr>
          <a:xfrm>
            <a:off x="900000" y="1484280"/>
            <a:ext cx="7631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1. Предупреждающие знаки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2. Запрещающие знаки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3. Предписывающие знаки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4. Информационно-указательные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знаки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5. Знаки сервиса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sp>
        <p:nvSpPr>
          <p:cNvPr id="239" name="WordArt 3"/>
          <p:cNvSpPr txBox="1"/>
          <p:nvPr/>
        </p:nvSpPr>
        <p:spPr>
          <a:xfrm>
            <a:off x="468360" y="404640"/>
            <a:ext cx="8391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е дорожные знаки делятся на группы: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395280" y="1052640"/>
            <a:ext cx="820728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лучайных знаков не существует. Все они придуманы для пользы дела. 30 лет назад было всего полсотни знаков. А сегодня их больше 100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Дорожные знаки яркие и видны уже издалек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Задача дорожного знака в том и состоит, чтобы своевременно информировать водителя об опасности и условиях движен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gibdd_auto"/>
          <p:cNvPicPr/>
          <p:nvPr/>
        </p:nvPicPr>
        <p:blipFill>
          <a:blip r:embed="rId1"/>
          <a:stretch/>
        </p:blipFill>
        <p:spPr>
          <a:xfrm>
            <a:off x="4067280" y="2708280"/>
            <a:ext cx="4792680" cy="38098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324000" y="476280"/>
            <a:ext cx="55432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Г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– государственна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И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– инспекц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Б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– безопасност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Д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– дорожного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Д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- движе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4"/>
          <p:cNvSpPr/>
          <p:nvPr/>
        </p:nvSpPr>
        <p:spPr>
          <a:xfrm>
            <a:off x="539640" y="404640"/>
            <a:ext cx="756144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Авария – это беда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От нас с вами тоже зависит, произойдет на дороге авария или нет. Все мы – и водители, и пешеходы – участники дорожного движения. И поэтому должны соблюдать правила, действующие на дорог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4" name="Picture 5" descr="dscn4797"/>
          <p:cNvPicPr/>
          <p:nvPr/>
        </p:nvPicPr>
        <p:blipFill>
          <a:blip r:embed="rId1"/>
          <a:stretch/>
        </p:blipFill>
        <p:spPr>
          <a:xfrm>
            <a:off x="1908000" y="2708280"/>
            <a:ext cx="49690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kidz033"/>
          <p:cNvPicPr/>
          <p:nvPr/>
        </p:nvPicPr>
        <p:blipFill>
          <a:blip r:embed="rId1"/>
          <a:stretch/>
        </p:blipFill>
        <p:spPr>
          <a:xfrm>
            <a:off x="5076720" y="620640"/>
            <a:ext cx="3591000" cy="49532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5"/>
          <p:cNvSpPr/>
          <p:nvPr/>
        </p:nvSpPr>
        <p:spPr>
          <a:xfrm>
            <a:off x="179280" y="476280"/>
            <a:ext cx="468000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Очень важная наука –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Правила движения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И должны их соблюдать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Все без исключения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Знание правил дорожного движения – это показатель культуры человек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6379"/>
                </a:solidFill>
                <a:latin typeface="Verdana"/>
              </a:rPr>
              <a:t>Будьте дисциплинированны на улице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6379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d6379"/>
                </a:solidFill>
                <a:latin typeface="Verdana"/>
              </a:rPr>
              <a:t>Желаю вам безопасных дорог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d637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d6379"/>
                </a:solidFill>
                <a:latin typeface="Verdana"/>
              </a:rPr>
              <a:t>Где может ходить пешеход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700000" y="2125800"/>
            <a:ext cx="598644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Р) По мостово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О) По шоссе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Д) По тротуару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На какой сигнал светофора можно переходить дорогу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700000" y="2125800"/>
            <a:ext cx="598644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) На крас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О) На зелё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6379"/>
                </a:solidFill>
                <a:latin typeface="Verdana"/>
              </a:rPr>
              <a:t>Куда надо посмотреть сначала, переходя улицу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700000" y="2125800"/>
            <a:ext cx="598644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Р) Налев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А) Направ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) Вперёд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440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Как называют наземный переход, отмеченный на асфальте белыми полосами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55640" y="2852280"/>
            <a:ext cx="309564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В) Олен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О) Зебр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) Лошад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f7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Как называют человека, едущего в автобусе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700000" y="2125800"/>
            <a:ext cx="598644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А) Пешеход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) Водител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) Пассажир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f7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Как называют человека, управляющего транспортным средством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00000" y="2565000"/>
            <a:ext cx="598644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Р) Пешеход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А) Водител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) Пассажир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Безымянный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8:25:56Z</dcterms:created>
  <dc:creator>Иришка</dc:creator>
  <dc:description/>
  <dc:language>en-US</dc:language>
  <cp:lastModifiedBy>123</cp:lastModifiedBy>
  <dcterms:modified xsi:type="dcterms:W3CDTF">2015-02-04T14:02:35Z</dcterms:modified>
  <cp:revision>10</cp:revision>
  <dc:subject/>
  <dc:title>Слайд 1</dc:title>
</cp:coreProperties>
</file>