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23A-A37F-4231-BD07-20AEE0B0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5906-31C3-41ED-87E0-4A68A17F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04C6-FE88-4685-9A5B-9BD22869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FE9F-8E37-4151-87BC-129B79EA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093C-1E5E-468D-BE2D-28FED1EB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2741-81A7-407F-85BF-2EC6A6ED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AC05-2D1C-4B7A-98C2-686804DA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FCEB-2A55-42BE-9B43-9903B2EE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B171-5616-476A-87DF-169AEFA3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2B17-AF3F-45AD-B40C-9C6397CF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7730-10B9-4BF9-869B-C510F45C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5E1C-29E7-4DD7-9811-24400D30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1221-AE58-4702-9C5D-2FED2828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5403-2623-43F2-9397-A1BE847F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3A10-B31A-4AA9-96CB-E4ED4680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11DD-1442-4089-95E7-D116984C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1179-956D-4813-94F9-E03E78A6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7483-EB79-4135-9A4D-A61C5971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186-F02F-4CBD-90EA-7BF21384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1C1-A600-4FEB-88A0-CDEA07E9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2AA-334F-47B0-AE22-3F3C7C51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CED-6537-46CB-864A-30B07319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CD88-5183-4C8B-9693-D80AC6D8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E362-90C7-4CF2-9812-ECC0B8B6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9C1A-4B95-4F8E-82C1-147A6439BF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EDEE-6507-4FA1-A5A5-6AF6C4FE0F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3840" y="1989000"/>
            <a:ext cx="889632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24000" y="115920"/>
            <a:ext cx="7993080" cy="17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ROSSWOR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06520" y="1919160"/>
          <a:ext cx="6821280" cy="3556080"/>
        </p:xfrm>
        <a:graphic>
          <a:graphicData uri="http://schemas.openxmlformats.org/drawingml/2006/table">
            <a:tbl>
              <a:tblPr/>
              <a:tblGrid>
                <a:gridCol w="911880"/>
                <a:gridCol w="842760"/>
                <a:gridCol w="845280"/>
                <a:gridCol w="844200"/>
                <a:gridCol w="843840"/>
                <a:gridCol w="845640"/>
                <a:gridCol w="842400"/>
                <a:gridCol w="845280"/>
              </a:tblGrid>
              <a:tr h="904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85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11280" y="1916280"/>
          <a:ext cx="3600720" cy="449712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u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m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z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u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i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60" name="Picture 49" descr=""/>
          <p:cNvPicPr/>
          <p:nvPr/>
        </p:nvPicPr>
        <p:blipFill>
          <a:blip r:embed="rId1"/>
          <a:stretch/>
        </p:blipFill>
        <p:spPr>
          <a:xfrm rot="20883600">
            <a:off x="250560" y="1483920"/>
            <a:ext cx="1800000" cy="2160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8" descr=""/>
          <p:cNvPicPr/>
          <p:nvPr/>
        </p:nvPicPr>
        <p:blipFill>
          <a:blip r:embed="rId2"/>
          <a:stretch/>
        </p:blipFill>
        <p:spPr>
          <a:xfrm rot="1225800">
            <a:off x="6443280" y="1844280"/>
            <a:ext cx="1800360" cy="1970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"/>
          <p:cNvPicPr/>
          <p:nvPr/>
        </p:nvPicPr>
        <p:blipFill>
          <a:blip r:embed="rId3"/>
          <a:stretch/>
        </p:blipFill>
        <p:spPr>
          <a:xfrm>
            <a:off x="6372360" y="4941720"/>
            <a:ext cx="1592280" cy="165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3" descr=""/>
          <p:cNvPicPr/>
          <p:nvPr/>
        </p:nvPicPr>
        <p:blipFill>
          <a:blip r:embed="rId4"/>
          <a:stretch/>
        </p:blipFill>
        <p:spPr>
          <a:xfrm>
            <a:off x="684360" y="4941720"/>
            <a:ext cx="1469880" cy="1643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5"/>
          <a:stretch/>
        </p:blipFill>
        <p:spPr>
          <a:xfrm rot="1159200">
            <a:off x="7885080" y="3860640"/>
            <a:ext cx="1028880" cy="1224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"/>
          <p:cNvPicPr/>
          <p:nvPr/>
        </p:nvPicPr>
        <p:blipFill>
          <a:blip r:embed="rId6"/>
          <a:stretch/>
        </p:blipFill>
        <p:spPr>
          <a:xfrm rot="20708400">
            <a:off x="0" y="3860640"/>
            <a:ext cx="1082520" cy="1187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755640" y="0"/>
            <a:ext cx="74772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station "Mix up"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0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771640" y="1989000"/>
          <a:ext cx="3618000" cy="4497120"/>
        </p:xfrm>
        <a:graphic>
          <a:graphicData uri="http://schemas.openxmlformats.org/drawingml/2006/table">
            <a:tbl>
              <a:tblPr/>
              <a:tblGrid>
                <a:gridCol w="1809720"/>
                <a:gridCol w="18082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u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m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z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i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u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69" name="Picture 49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2376720" cy="244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" descr=""/>
          <p:cNvPicPr/>
          <p:nvPr/>
        </p:nvPicPr>
        <p:blipFill>
          <a:blip r:embed="rId2"/>
          <a:stretch/>
        </p:blipFill>
        <p:spPr>
          <a:xfrm>
            <a:off x="6588000" y="2133720"/>
            <a:ext cx="235908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eec94"/>
                </a:solidFill>
                <a:latin typeface="Times New Roman"/>
              </a:rPr>
              <a:t>The 3</a:t>
            </a:r>
            <a:r>
              <a:rPr b="1" lang="en-US" sz="4600" spc="-1" strike="noStrike" baseline="30000">
                <a:solidFill>
                  <a:srgbClr val="feec94"/>
                </a:solidFill>
                <a:latin typeface="Times New Roman"/>
              </a:rPr>
              <a:t>rd</a:t>
            </a:r>
            <a:r>
              <a:rPr b="1" lang="en-US" sz="4600" spc="-1" strike="noStrike">
                <a:solidFill>
                  <a:srgbClr val="feec94"/>
                </a:solidFill>
                <a:latin typeface="Times New Roman"/>
              </a:rPr>
              <a:t> station</a:t>
            </a:r>
            <a:r>
              <a:rPr b="1" lang="ru-RU" sz="4600" spc="-1" strike="noStrike">
                <a:solidFill>
                  <a:srgbClr val="feec94"/>
                </a:solidFill>
                <a:latin typeface="Times New Roman"/>
              </a:rPr>
              <a:t> «</a:t>
            </a:r>
            <a:r>
              <a:rPr b="1" lang="en-US" sz="4600" spc="-1" strike="noStrike">
                <a:solidFill>
                  <a:srgbClr val="feec94"/>
                </a:solidFill>
                <a:latin typeface="Times New Roman"/>
              </a:rPr>
              <a:t>put on a letter</a:t>
            </a:r>
            <a:r>
              <a:rPr b="1" lang="ru-RU" sz="4600" spc="-1" strike="noStrike">
                <a:solidFill>
                  <a:srgbClr val="feec94"/>
                </a:solidFill>
                <a:latin typeface="Times New Roman"/>
              </a:rPr>
              <a:t>»</a:t>
            </a:r>
            <a:endParaRPr b="1" lang="en-US" sz="4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ce cre.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.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.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iz.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me.e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eec94"/>
                </a:solidFill>
                <a:latin typeface="Times New Roman"/>
              </a:rPr>
              <a:t>The 4</a:t>
            </a:r>
            <a:r>
              <a:rPr b="1" lang="en-US" sz="4200" spc="-1" strike="noStrike" baseline="30000">
                <a:solidFill>
                  <a:srgbClr val="feec94"/>
                </a:solidFill>
                <a:latin typeface="Times New Roman"/>
              </a:rPr>
              <a:t>th</a:t>
            </a:r>
            <a:r>
              <a:rPr b="1" lang="en-US" sz="4200" spc="-1" strike="noStrike">
                <a:solidFill>
                  <a:srgbClr val="feec94"/>
                </a:solidFill>
                <a:latin typeface="Times New Roman"/>
              </a:rPr>
              <a:t> station</a:t>
            </a:r>
            <a:r>
              <a:rPr b="1" lang="ru-RU" sz="4200" spc="-1" strike="noStrike">
                <a:solidFill>
                  <a:srgbClr val="feec94"/>
                </a:solidFill>
                <a:latin typeface="Times New Roman"/>
              </a:rPr>
              <a:t> «</a:t>
            </a:r>
            <a:r>
              <a:rPr b="1" lang="en-US" sz="4200" spc="-1" strike="noStrike">
                <a:solidFill>
                  <a:srgbClr val="feec94"/>
                </a:solidFill>
                <a:latin typeface="Times New Roman"/>
              </a:rPr>
              <a:t>Sandwich station</a:t>
            </a:r>
            <a:r>
              <a:rPr b="1" lang="ru-RU" sz="4200" spc="-1" strike="noStrike">
                <a:solidFill>
                  <a:srgbClr val="feec94"/>
                </a:solidFill>
                <a:latin typeface="Times New Roman"/>
              </a:rPr>
              <a:t>»</a:t>
            </a:r>
            <a:endParaRPr b="1" lang="en-US" sz="4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4176720" cy="648000"/>
          </a:xfrm>
          <a:prstGeom prst="rect">
            <a:avLst/>
          </a:prstGeom>
          <a:noFill/>
          <a:ln w="9360">
            <a:solidFill>
              <a:srgbClr val="bb5f0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you sandwiche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58920" y="1125000"/>
            <a:ext cx="4033800" cy="2303640"/>
          </a:xfrm>
          <a:prstGeom prst="rect">
            <a:avLst/>
          </a:prstGeom>
          <a:noFill/>
          <a:ln w="9360">
            <a:solidFill>
              <a:srgbClr val="bb5f0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ndwiches can be made using lots of different types of bread-sliced white, brown bread, rolls, etc. The principle is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принцип в основном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3500280"/>
            <a:ext cx="4321080" cy="936720"/>
          </a:xfrm>
          <a:prstGeom prst="rect">
            <a:avLst/>
          </a:prstGeom>
          <a:noFill/>
          <a:ln w="9360">
            <a:solidFill>
              <a:srgbClr val="bb5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o you need to make them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3500280"/>
            <a:ext cx="4038480" cy="2349720"/>
          </a:xfrm>
          <a:prstGeom prst="rect">
            <a:avLst/>
          </a:prstGeom>
          <a:noFill/>
          <a:ln w="9360">
            <a:solidFill>
              <a:srgbClr val="bb5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bu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cheese, saus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h your hands before you start making the sandwich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16" descr=""/>
          <p:cNvPicPr/>
          <p:nvPr/>
        </p:nvPicPr>
        <p:blipFill>
          <a:blip r:embed="rId1"/>
          <a:srcRect l="416" t="0" r="0" b="21934"/>
          <a:stretch/>
        </p:blipFill>
        <p:spPr>
          <a:xfrm>
            <a:off x="324000" y="4481640"/>
            <a:ext cx="2062080" cy="2376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5" descr=""/>
          <p:cNvPicPr/>
          <p:nvPr/>
        </p:nvPicPr>
        <p:blipFill>
          <a:blip r:embed="rId2"/>
          <a:stretch/>
        </p:blipFill>
        <p:spPr>
          <a:xfrm>
            <a:off x="2484360" y="5300640"/>
            <a:ext cx="165600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195640" y="189000"/>
            <a:ext cx="460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"/>
              </a:rPr>
              <a:t>ВЫВОДЫ: </a:t>
            </a:r>
            <a:endParaRPr b="1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1844640"/>
            <a:ext cx="882000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так, закончив соревнование и приехав в город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доровь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можно сказа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 Мы обобщили изученный лексический материал по теме «Еда и Здоровье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 Повторили конструкции “Would you like”, “I would like”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 Учились строить связное высказывание на английском языке на уровне предложений, коротких рассказ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9680" y="1916280"/>
            <a:ext cx="8896320" cy="4752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4000" y="115920"/>
            <a:ext cx="7993080" cy="17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ROSSWOR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449360" y="2133720"/>
          <a:ext cx="7104240" cy="4120920"/>
        </p:xfrm>
        <a:graphic>
          <a:graphicData uri="http://schemas.openxmlformats.org/drawingml/2006/table">
            <a:tbl>
              <a:tblPr/>
              <a:tblGrid>
                <a:gridCol w="949320"/>
                <a:gridCol w="878040"/>
                <a:gridCol w="882360"/>
                <a:gridCol w="878040"/>
                <a:gridCol w="876240"/>
                <a:gridCol w="881280"/>
                <a:gridCol w="877680"/>
                <a:gridCol w="881280"/>
              </a:tblGrid>
              <a:tr h="1036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036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71440" y="252360"/>
            <a:ext cx="8601120" cy="6353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50920" y="836640"/>
            <a:ext cx="849780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F O O 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05360" cy="43131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172360" y="4220640"/>
            <a:ext cx="163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908840" y="3933360"/>
            <a:ext cx="69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9280" y="333360"/>
            <a:ext cx="8640720" cy="61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OOD and HEALT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ke                                  Ice c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 rot="20224800">
            <a:off x="539280" y="1125000"/>
            <a:ext cx="1724040" cy="2206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 rot="1306200">
            <a:off x="5289120" y="1141200"/>
            <a:ext cx="1800360" cy="2205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3"/>
          <a:stretch/>
        </p:blipFill>
        <p:spPr>
          <a:xfrm rot="20156400">
            <a:off x="826920" y="4292640"/>
            <a:ext cx="1819440" cy="2232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1280" y="3573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                                     Bu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"/>
          <p:cNvPicPr/>
          <p:nvPr/>
        </p:nvPicPr>
        <p:blipFill>
          <a:blip r:embed="rId4"/>
          <a:stretch/>
        </p:blipFill>
        <p:spPr>
          <a:xfrm rot="1113600">
            <a:off x="5287680" y="4387320"/>
            <a:ext cx="1800000" cy="2160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2" descr=""/>
          <p:cNvPicPr/>
          <p:nvPr/>
        </p:nvPicPr>
        <p:blipFill>
          <a:blip r:embed="rId5"/>
          <a:stretch/>
        </p:blipFill>
        <p:spPr>
          <a:xfrm>
            <a:off x="2916360" y="2924280"/>
            <a:ext cx="1726920" cy="2017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627280" y="213372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dwich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Sausage                 Tea                 Omelete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Picture 25" descr=""/>
          <p:cNvPicPr/>
          <p:nvPr/>
        </p:nvPicPr>
        <p:blipFill>
          <a:blip r:embed="rId1"/>
          <a:stretch/>
        </p:blipFill>
        <p:spPr>
          <a:xfrm rot="20638800">
            <a:off x="468360" y="1483920"/>
            <a:ext cx="1898640" cy="223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1" descr=""/>
          <p:cNvPicPr/>
          <p:nvPr/>
        </p:nvPicPr>
        <p:blipFill>
          <a:blip r:embed="rId2"/>
          <a:stretch/>
        </p:blipFill>
        <p:spPr>
          <a:xfrm rot="1608000">
            <a:off x="6659640" y="162828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0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2087640" cy="230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73200" y="49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Cheese                Pizza                         C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37" descr=""/>
          <p:cNvPicPr/>
          <p:nvPr/>
        </p:nvPicPr>
        <p:blipFill>
          <a:blip r:embed="rId4"/>
          <a:stretch/>
        </p:blipFill>
        <p:spPr>
          <a:xfrm>
            <a:off x="6227640" y="4437000"/>
            <a:ext cx="1973520" cy="223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"/>
          <p:cNvPicPr/>
          <p:nvPr/>
        </p:nvPicPr>
        <p:blipFill>
          <a:blip r:embed="rId5"/>
          <a:stretch/>
        </p:blipFill>
        <p:spPr>
          <a:xfrm>
            <a:off x="3203640" y="1484280"/>
            <a:ext cx="2089080" cy="1943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"/>
          <p:cNvPicPr/>
          <p:nvPr/>
        </p:nvPicPr>
        <p:blipFill>
          <a:blip r:embed="rId6"/>
          <a:stretch/>
        </p:blipFill>
        <p:spPr>
          <a:xfrm>
            <a:off x="3492360" y="4365720"/>
            <a:ext cx="20876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es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eople in England eat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andwich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chpochma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ot dog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eople in England drink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ffe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e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u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nglish tea is very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of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il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tro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68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68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6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55800" y="189000"/>
            <a:ext cx="8153280" cy="62388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934480" y="259920"/>
            <a:ext cx="209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4941720"/>
            <a:ext cx="6622920" cy="17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HEALTH - C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11280" y="549360"/>
            <a:ext cx="532908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ravelling to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 rot="5400000">
            <a:off x="502560" y="2457360"/>
            <a:ext cx="136836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Times New Roman"/>
              </a:rPr>
              <a:t>The 1</a:t>
            </a:r>
            <a:r>
              <a:rPr b="0" lang="en-US" sz="4800" spc="-1" strike="noStrike" baseline="30000">
                <a:solidFill>
                  <a:srgbClr val="feec94"/>
                </a:solidFill>
                <a:latin typeface="Times New Roman"/>
              </a:rPr>
              <a:t>st</a:t>
            </a:r>
            <a:r>
              <a:rPr b="0" lang="en-US" sz="4800" spc="-1" strike="noStrike">
                <a:solidFill>
                  <a:srgbClr val="feec94"/>
                </a:solidFill>
                <a:latin typeface="Times New Roman"/>
              </a:rPr>
              <a:t> station </a:t>
            </a:r>
            <a:r>
              <a:rPr b="0" lang="ru-RU" sz="4800" spc="-1" strike="noStrike">
                <a:solidFill>
                  <a:srgbClr val="feec94"/>
                </a:solidFill>
                <a:latin typeface="Times New Roman"/>
              </a:rPr>
              <a:t>«</a:t>
            </a:r>
            <a:r>
              <a:rPr b="0" lang="en-US" sz="4800" spc="-1" strike="noStrike">
                <a:solidFill>
                  <a:srgbClr val="feec94"/>
                </a:solidFill>
                <a:latin typeface="Times New Roman"/>
              </a:rPr>
              <a:t>a clever child</a:t>
            </a:r>
            <a:r>
              <a:rPr b="0" lang="ru-RU" sz="4800" spc="-1" strike="noStrike">
                <a:solidFill>
                  <a:srgbClr val="feec94"/>
                </a:solidFill>
                <a:latin typeface="Times New Roman"/>
              </a:rPr>
              <a:t>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ndwi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e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us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04:44:38Z</dcterms:created>
  <dc:creator>Пользователь</dc:creator>
  <dc:description/>
  <dc:language>en-US</dc:language>
  <cp:lastModifiedBy>ILNAR</cp:lastModifiedBy>
  <dcterms:modified xsi:type="dcterms:W3CDTF">2009-02-09T23:02:33Z</dcterms:modified>
  <cp:revision>62</cp:revision>
  <dc:subject/>
  <dc:title>Слайд 1</dc:title>
</cp:coreProperties>
</file>