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C09-EF25-408E-8E5F-51AF9C4D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D45-9C30-4510-A0E4-434F66F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115-7DC7-4AB7-93B9-A42F7D67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642-564F-4677-9949-232FA7BA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6E80-9D99-4D4F-A176-91E6B1BA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8000-DB35-465B-B3E0-A5B3439D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D15-3B8F-46DC-B469-786A3C5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4986-E090-44D7-95A8-9461948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6FE-834A-4BDD-A97E-63D9239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6058-C309-4951-9511-F2DA8FD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E84-7375-4EB6-825B-D5142F3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EF4-D72A-4967-8CAD-63675B84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ADFF-8C7A-4AC4-B0DE-904D1614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38E9-5ACD-4E59-9929-94B2251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814-C89D-41A0-9E3E-3E2D5CD5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A27-DD41-4825-BEF5-76E2F25E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0F6E-D86D-412F-B7BA-3D54AFB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92E-A5F0-4437-9C6C-A1D78402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CDE-05DE-43FD-B339-32A3A86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83A-538E-4F80-85F5-48BF13B0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D2A-BC76-4FE0-9DEB-F357214A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C1F-E8D8-4318-8CA7-3975329F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735-FD3F-4EC2-A911-3BFE9FB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B2F-0E02-4AB9-BCC9-6D1E371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88B-765A-48B0-8C5E-AF0FC8FF6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79F-809C-4BE5-A038-E59DB9817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3840" y="1989000"/>
            <a:ext cx="889632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24000" y="115920"/>
            <a:ext cx="799308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ROSSWO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06520" y="1919160"/>
          <a:ext cx="6821280" cy="3556080"/>
        </p:xfrm>
        <a:graphic>
          <a:graphicData uri="http://schemas.openxmlformats.org/drawingml/2006/table">
            <a:tbl>
              <a:tblPr/>
              <a:tblGrid>
                <a:gridCol w="911880"/>
                <a:gridCol w="842760"/>
                <a:gridCol w="845280"/>
                <a:gridCol w="844200"/>
                <a:gridCol w="843840"/>
                <a:gridCol w="845640"/>
                <a:gridCol w="842400"/>
                <a:gridCol w="845280"/>
              </a:tblGrid>
              <a:tr h="90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8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11280" y="1916280"/>
          <a:ext cx="3600720" cy="44971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9" descr=""/>
          <p:cNvPicPr/>
          <p:nvPr/>
        </p:nvPicPr>
        <p:blipFill>
          <a:blip r:embed="rId1"/>
          <a:stretch/>
        </p:blipFill>
        <p:spPr>
          <a:xfrm rot="20883600">
            <a:off x="250560" y="148392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8" descr=""/>
          <p:cNvPicPr/>
          <p:nvPr/>
        </p:nvPicPr>
        <p:blipFill>
          <a:blip r:embed="rId2"/>
          <a:stretch/>
        </p:blipFill>
        <p:spPr>
          <a:xfrm rot="1225800">
            <a:off x="6443280" y="1844280"/>
            <a:ext cx="1800360" cy="197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592280" cy="165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3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1469880" cy="164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5"/>
          <a:stretch/>
        </p:blipFill>
        <p:spPr>
          <a:xfrm rot="1159200">
            <a:off x="7885080" y="3860640"/>
            <a:ext cx="1028880" cy="12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 rot="20708400">
            <a:off x="0" y="3860640"/>
            <a:ext cx="1082520" cy="11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55640" y="0"/>
            <a:ext cx="7477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tion "Mix up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771640" y="1989000"/>
          <a:ext cx="3618000" cy="4497120"/>
        </p:xfrm>
        <a:graphic>
          <a:graphicData uri="http://schemas.openxmlformats.org/drawingml/2006/table">
            <a:tbl>
              <a:tblPr/>
              <a:tblGrid>
                <a:gridCol w="1809720"/>
                <a:gridCol w="18082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9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376720" cy="244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359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The 3</a:t>
            </a:r>
            <a:r>
              <a:rPr b="1" lang="en-US" sz="4600" spc="-1" strike="noStrike" baseline="30000">
                <a:solidFill>
                  <a:srgbClr val="feec94"/>
                </a:solidFill>
                <a:latin typeface="Times New Roman"/>
              </a:rPr>
              <a:t>rd</a:t>
            </a: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 station</a:t>
            </a:r>
            <a:r>
              <a:rPr b="1" lang="ru-RU" sz="4600" spc="-1" strike="noStrike">
                <a:solidFill>
                  <a:srgbClr val="feec94"/>
                </a:solidFill>
                <a:latin typeface="Times New Roman"/>
              </a:rPr>
              <a:t> «</a:t>
            </a: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put on a letter</a:t>
            </a:r>
            <a:r>
              <a:rPr b="1" lang="ru-RU" sz="46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e cre.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.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.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z.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me.e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The 4</a:t>
            </a:r>
            <a:r>
              <a:rPr b="1" lang="en-US" sz="42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 station</a:t>
            </a:r>
            <a:r>
              <a:rPr b="1" lang="ru-RU" sz="4200" spc="-1" strike="noStrike">
                <a:solidFill>
                  <a:srgbClr val="feec94"/>
                </a:solidFill>
                <a:latin typeface="Times New Roman"/>
              </a:rPr>
              <a:t> «</a:t>
            </a: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Sandwich station</a:t>
            </a:r>
            <a:r>
              <a:rPr b="1" lang="ru-RU" sz="42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176720" cy="64800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sandwiche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8920" y="1125000"/>
            <a:ext cx="4033800" cy="230364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dwiches can be made using lots of different types of bread-sliced white, brown bread, rolls, etc. The principle is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ринцип в основном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500280"/>
            <a:ext cx="4321080" cy="93672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need to make the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500280"/>
            <a:ext cx="4038480" cy="234972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bu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heese, sa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 your hands before you start making the sandwi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6" descr=""/>
          <p:cNvPicPr/>
          <p:nvPr/>
        </p:nvPicPr>
        <p:blipFill>
          <a:blip r:embed="rId1"/>
          <a:srcRect l="416" t="0" r="0" b="21934"/>
          <a:stretch/>
        </p:blipFill>
        <p:spPr>
          <a:xfrm>
            <a:off x="324000" y="4481640"/>
            <a:ext cx="2062080" cy="23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"/>
          <p:cNvPicPr/>
          <p:nvPr/>
        </p:nvPicPr>
        <p:blipFill>
          <a:blip r:embed="rId2"/>
          <a:stretch/>
        </p:blipFill>
        <p:spPr>
          <a:xfrm>
            <a:off x="2484360" y="5300640"/>
            <a:ext cx="1656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195640" y="18900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ВЫВОДЫ: 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844640"/>
            <a:ext cx="8820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так, закончив соревнование и приехав в гор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жно сказ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 Мы обобщили изученный лексический материал по теме «Еда и Здоровь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 Повторили конструкции “Would you like”, “I would like”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 Учились строить связное высказывание на английском языке на уровне предложений, коротких рассказ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9680" y="1916280"/>
            <a:ext cx="8896320" cy="475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15920"/>
            <a:ext cx="799308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ROSSWO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49360" y="2133720"/>
          <a:ext cx="7104240" cy="4120920"/>
        </p:xfrm>
        <a:graphic>
          <a:graphicData uri="http://schemas.openxmlformats.org/drawingml/2006/table">
            <a:tbl>
              <a:tblPr/>
              <a:tblGrid>
                <a:gridCol w="949320"/>
                <a:gridCol w="878040"/>
                <a:gridCol w="882360"/>
                <a:gridCol w="878040"/>
                <a:gridCol w="876240"/>
                <a:gridCol w="881280"/>
                <a:gridCol w="877680"/>
                <a:gridCol w="88128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1440" y="252360"/>
            <a:ext cx="8601120" cy="635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50920" y="836640"/>
            <a:ext cx="849780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F O O 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05360" cy="4313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172360" y="4220640"/>
            <a:ext cx="163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908840" y="3933360"/>
            <a:ext cx="6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333360"/>
            <a:ext cx="864072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OD and HEALT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ke                                  Ice c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 rot="20224800">
            <a:off x="539280" y="1125000"/>
            <a:ext cx="1724040" cy="220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 rot="1306200">
            <a:off x="5289120" y="1141200"/>
            <a:ext cx="1800360" cy="220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 rot="20156400">
            <a:off x="826920" y="4292640"/>
            <a:ext cx="181944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35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                                    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4"/>
          <a:stretch/>
        </p:blipFill>
        <p:spPr>
          <a:xfrm rot="1113600">
            <a:off x="5287680" y="438732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"/>
          <p:cNvPicPr/>
          <p:nvPr/>
        </p:nvPicPr>
        <p:blipFill>
          <a:blip r:embed="rId5"/>
          <a:stretch/>
        </p:blipFill>
        <p:spPr>
          <a:xfrm>
            <a:off x="2916360" y="2924280"/>
            <a:ext cx="1726920" cy="201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627280" y="2133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wich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ausage                 Tea                 Omelet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1"/>
          <a:stretch/>
        </p:blipFill>
        <p:spPr>
          <a:xfrm rot="20638800">
            <a:off x="468360" y="1483920"/>
            <a:ext cx="1898640" cy="22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"/>
          <p:cNvPicPr/>
          <p:nvPr/>
        </p:nvPicPr>
        <p:blipFill>
          <a:blip r:embed="rId2"/>
          <a:stretch/>
        </p:blipFill>
        <p:spPr>
          <a:xfrm rot="1608000">
            <a:off x="6659640" y="162828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2087640" cy="23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3200" y="49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Cheese                Pizza                        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7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1973520" cy="22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"/>
          <p:cNvPicPr/>
          <p:nvPr/>
        </p:nvPicPr>
        <p:blipFill>
          <a:blip r:embed="rId5"/>
          <a:stretch/>
        </p:blipFill>
        <p:spPr>
          <a:xfrm>
            <a:off x="3203640" y="1484280"/>
            <a:ext cx="208908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3492360" y="4365720"/>
            <a:ext cx="2087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eople in England eat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ndwich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chpochma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t dog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eople in England drink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glish tea is ver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f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l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55800" y="189000"/>
            <a:ext cx="8153280" cy="6238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934480" y="259920"/>
            <a:ext cx="20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4941720"/>
            <a:ext cx="66229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HEALTH - 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1280" y="549360"/>
            <a:ext cx="53290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ravelling to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5400000">
            <a:off x="502560" y="2457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The 1</a:t>
            </a:r>
            <a:r>
              <a:rPr b="0" lang="en-US" sz="48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 station </a:t>
            </a: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a clever child</a:t>
            </a: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ndwi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u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4:44:38Z</dcterms:created>
  <dc:creator>Пользователь</dc:creator>
  <dc:description/>
  <dc:language>en-US</dc:language>
  <cp:lastModifiedBy>ILNAR</cp:lastModifiedBy>
  <dcterms:modified xsi:type="dcterms:W3CDTF">2009-02-09T23:02:33Z</dcterms:modified>
  <cp:revision>62</cp:revision>
  <dc:subject/>
  <dc:title>Слайд 1</dc:title>
</cp:coreProperties>
</file>