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13.jpeg" ContentType="image/jpeg"/>
  <Override PartName="/ppt/media/image30.jpeg" ContentType="image/jpeg"/>
  <Override PartName="/ppt/media/image31.png" ContentType="image/png"/>
  <Override PartName="/ppt/media/image8.jpeg" ContentType="image/jpeg"/>
  <Override PartName="/ppt/media/image38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3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9.jpeg" ContentType="image/jpeg"/>
  <Override PartName="/ppt/media/image1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3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995-6104-4CAF-859D-3D352975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BED-E11B-4700-ACD7-AE3C71C4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8B7CA-2CB8-479B-AFE4-E711DB78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0B05D-146A-4595-BC9F-EA6EF4F2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F90C5-F2DC-439C-B90C-61F2E64D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46542-7155-4E7A-B501-DF0C1D4F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09355-5276-4064-A390-216AF0B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43E12-C46C-4D80-AED4-C45E8669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B2821-8621-4189-A4AC-21A13E11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FEA69-02D3-43F0-B497-44967F12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5DDE8-0F26-498D-BC9D-C25055C3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4E7-7A91-409F-A71F-E7EBA803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F8E-D18E-4AA6-A825-963E75F9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C0B9-7396-409C-AE5A-F5CF015A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0600-901C-4948-B607-4976EA70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15FB-1DF1-4190-8C73-D7476753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4E52-1902-4575-AD13-C9B4C6D4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6106-F2DA-4470-8729-8BAE1B8A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EE1B-2024-45D8-BADD-0B65D268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6412-6EC9-451F-9DB6-A9A2A078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2AC-635F-48B1-A12B-80F1663E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A442-8D52-4B20-916F-D355EAA2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4121-713E-43D5-B511-C2EC580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F69A-BC82-4DCA-95CA-A5662024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AFBC-0654-49DA-A7F3-1ED08D52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C975-1446-4D09-8CB4-E89A3A89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21EF-7C2C-43B2-A9AC-91D6E811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4CBE-8E03-4485-850F-E155DA64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EA451-B9AD-4AF1-9701-A3147BB5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EB8A-3836-4565-ADB0-1C97E804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0174-AACC-41C0-B8B8-DAFA38B6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D3C-738C-4EAC-89EC-D2447722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E298-2456-4B70-A95B-363D7851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96E85-5643-45A2-8B18-7F1EB821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9B7D6-80F7-4FD0-AD25-0BBD2972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4D5B-B446-4677-A2A0-56FE8110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D49D3-A9D4-46E0-9AD4-994FF26C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F740-DF52-4C62-A67B-838C381E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194D3-F680-41AD-A6A8-FA476169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2230-D4C3-4F20-AFE5-53DBAA75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C160F-353E-4CF2-8462-F721A0BF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D667E-CA23-4234-ACF2-60AC2062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BD3-B656-4A9B-94D0-79F62173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4300-DBDB-4E5F-A180-CE55D59E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2E6C-092F-4431-A09D-F698B01C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960C-CCEF-4AF5-A6FE-542BA6F0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C9781-8300-4085-8922-0AEA5DE2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E9017-D0D5-4FAE-8F7E-4F68CB0D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E9FD9-721B-4E9B-8598-CAE82648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81A1-7BF1-4189-94E3-BA4A9ECE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2000-01C0-4042-B27E-DC8D71B6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0193-EAA7-4E7B-8C66-6B67FF92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033D7-71E5-4792-AB06-6255A4CB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15A-7D10-4EC5-A770-76FB64AF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F8177-4176-49EA-BE21-E94ABEBE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D60F-368D-4953-903D-39463C37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D465A-4095-44C9-857A-2A0144A5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27F8-9DE7-46AC-B42A-6C52522D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7F421-85BA-4CF8-858E-9C7221B1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42DEB-828D-481C-B39A-5AF4B0DF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9567F-4DCF-41F7-A3AA-DB17D5A6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C5AD7-C2E4-42BD-84CA-0A2D3391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3F1FA-5F5D-4F80-A2DD-6BAD7953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50228-9E07-492F-A71B-F1032A9C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79A-7C7E-45A0-855C-7166ED18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0EFDA-8F55-4993-8DAA-FE56C64F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54ECA-8885-4908-BE48-59735AB8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D719-F269-4C68-BA07-9208FD4C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9815A-03E4-48EA-857D-5701DCC4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D638F-9B69-4420-92D0-2B25A98F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B3CE9-164C-4398-AED3-3DE8226C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9C941-94E2-4C83-8448-BEF8A60A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6FAD1-D830-476A-AECA-1AE50E21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ED5B0-B767-4090-A3D0-B519492F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AE0A5-9FA5-4116-82B0-449C0C22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C0E-CC9E-4518-AD03-E43E850B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0136E-3056-4C04-AC77-A2195474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2F767-C08E-4A12-A86E-30E7ED15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29B39-A164-492D-B9FE-DAF6854B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E3C3B-51BC-44CD-B6C3-FD804C34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91877-CCC5-4BCC-91C0-C9910355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BE41A-A17D-4C8A-8B3B-1473B63D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64B92-3DA4-469F-8772-9DEFBDFB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E81D5-F70A-42F2-8295-58FDED4E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23566-4FDF-44ED-AC66-785A7CDC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8AE6B-50F5-40B9-9836-AA775799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0E0-E87B-4D38-A5DF-79D22BE3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EFDEF-98DD-4CD5-ACC2-E62C7870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4EDA5-D0EB-4269-9DC0-4234A08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72C5F-830D-4960-A311-EC56F6E1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0A0C9-666B-42D6-96E3-2230B8C2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ABB74-708E-4370-AC67-9FF52B87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B0E82-65B8-41AD-976C-76913757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02118-1763-4B8A-88F1-8A86A73B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AAD21-D4E3-432D-9C07-6AEF0540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DBFF1-BB33-4CD0-BDA0-F19EA395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3B054-3EF0-41C6-A82F-4FF8BA55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0DB-7A47-4FB0-BEB7-94FE027B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09AFA-593E-4527-932D-3BE31024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A531A-2D3B-469E-9AEF-ACDACE3C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6F9FF-F58D-4FEF-AD87-488A87CA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062A5-DE8F-4A04-8B16-344B342F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AB014-E101-4ED6-85B4-15BF1E1D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A87B1-F9F7-4F05-8E4C-2524E925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FF5F2-6FFE-4C4C-BD64-86862137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D413D-3D5F-4682-9407-DE7D7ED5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60D10-E426-4DF1-B267-8CD839CB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EB490-B74E-484C-B2F7-0EAE8830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DEAC-563B-4D86-B073-7B6A19F9A2C8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F247-332D-463A-B36C-25392FB4DE31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D692-E04A-4C22-B92D-7282D7CFB9A6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ADB2-EB06-4E9E-BEA4-79D83EB6718B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892A-C5C0-4FBF-A0B0-6C8C731BB2EE}" type="slidenum"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1C56-66DE-4DE9-9384-6C6371C24D8F}" type="slidenum"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A02D-1F4E-4147-B7B5-A4B0E9BC0594}" type="slidenum"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F2D3-37F0-4A21-AE9B-2098986B1B3E}" type="slidenum"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77CE-4673-4823-BDBC-3705DB519683}" type="slidenum"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2"/>
          <a:stretch/>
        </p:blipFill>
        <p:spPr>
          <a:xfrm>
            <a:off x="122400" y="1968480"/>
            <a:ext cx="8667720" cy="1324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63640" y="4292280"/>
            <a:ext cx="35607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МБОУ «Средняя школа №3»</a:t>
            </a:r>
            <a:endParaRPr b="0" lang="en-US" sz="22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г.Когалыма</a:t>
            </a:r>
            <a:endParaRPr b="0" lang="en-US" sz="22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11 класс «А»</a:t>
            </a:r>
            <a:endParaRPr b="0" lang="en-US" sz="22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4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Содержимое 3" descr="IMG_3757.JPG"/>
          <p:cNvPicPr/>
          <p:nvPr/>
        </p:nvPicPr>
        <p:blipFill>
          <a:blip r:embed="rId3"/>
          <a:stretch/>
        </p:blipFill>
        <p:spPr>
          <a:xfrm>
            <a:off x="304920" y="1773360"/>
            <a:ext cx="4190760" cy="4319640"/>
          </a:xfrm>
          <a:prstGeom prst="rect">
            <a:avLst/>
          </a:prstGeom>
          <a:ln w="0">
            <a:noFill/>
          </a:ln>
        </p:spPr>
      </p:pic>
      <p:pic>
        <p:nvPicPr>
          <p:cNvPr id="420" name="Содержимое 6" descr="IMG_3761.JPG"/>
          <p:cNvPicPr/>
          <p:nvPr/>
        </p:nvPicPr>
        <p:blipFill>
          <a:blip r:embed="rId4"/>
          <a:stretch/>
        </p:blipFill>
        <p:spPr>
          <a:xfrm>
            <a:off x="4356000" y="1440000"/>
            <a:ext cx="44704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4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3" descr="IMG_3747.JPG"/>
          <p:cNvPicPr/>
          <p:nvPr/>
        </p:nvPicPr>
        <p:blipFill>
          <a:blip r:embed="rId3"/>
          <a:stretch/>
        </p:blipFill>
        <p:spPr>
          <a:xfrm>
            <a:off x="900000" y="1125360"/>
            <a:ext cx="3584520" cy="537876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6" descr="IMG_3751.JPG"/>
          <p:cNvPicPr/>
          <p:nvPr/>
        </p:nvPicPr>
        <p:blipFill>
          <a:blip r:embed="rId4"/>
          <a:stretch/>
        </p:blipFill>
        <p:spPr>
          <a:xfrm>
            <a:off x="4284720" y="1052640"/>
            <a:ext cx="4614840" cy="307656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7" descr="IMG_3749.JPG"/>
          <p:cNvPicPr/>
          <p:nvPr/>
        </p:nvPicPr>
        <p:blipFill>
          <a:blip r:embed="rId5"/>
          <a:stretch/>
        </p:blipFill>
        <p:spPr>
          <a:xfrm>
            <a:off x="4859280" y="3621240"/>
            <a:ext cx="4284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8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3" descr="IMG_3777.JPG"/>
          <p:cNvPicPr/>
          <p:nvPr/>
        </p:nvPicPr>
        <p:blipFill>
          <a:blip r:embed="rId3"/>
          <a:stretch/>
        </p:blipFill>
        <p:spPr>
          <a:xfrm>
            <a:off x="250920" y="1700280"/>
            <a:ext cx="5659200" cy="3773520"/>
          </a:xfrm>
          <a:prstGeom prst="rect">
            <a:avLst/>
          </a:prstGeom>
          <a:ln w="0">
            <a:noFill/>
          </a:ln>
        </p:spPr>
      </p:pic>
      <p:pic>
        <p:nvPicPr>
          <p:cNvPr id="427" name="Содержимое 10" descr="IMG_3789.JPG"/>
          <p:cNvPicPr/>
          <p:nvPr/>
        </p:nvPicPr>
        <p:blipFill>
          <a:blip r:embed="rId4"/>
          <a:stretch/>
        </p:blipFill>
        <p:spPr>
          <a:xfrm>
            <a:off x="3851280" y="3141720"/>
            <a:ext cx="50403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6242040" y="268200"/>
            <a:ext cx="2451240" cy="2951280"/>
          </a:xfrm>
          <a:prstGeom prst="rect">
            <a:avLst/>
          </a:prstGeom>
          <a:ln w="0">
            <a:noFill/>
          </a:ln>
        </p:spPr>
      </p:pic>
      <p:pic>
        <p:nvPicPr>
          <p:cNvPr id="429" name="Содержимое 3" descr="IMG_3798.JPG"/>
          <p:cNvPicPr/>
          <p:nvPr/>
        </p:nvPicPr>
        <p:blipFill>
          <a:blip r:embed="rId3"/>
          <a:stretch/>
        </p:blipFill>
        <p:spPr>
          <a:xfrm>
            <a:off x="0" y="3852720"/>
            <a:ext cx="3887640" cy="30052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5" descr="IMG_3803.JPG"/>
          <p:cNvPicPr/>
          <p:nvPr/>
        </p:nvPicPr>
        <p:blipFill>
          <a:blip r:embed="rId4"/>
          <a:stretch/>
        </p:blipFill>
        <p:spPr>
          <a:xfrm>
            <a:off x="0" y="0"/>
            <a:ext cx="6438960" cy="429264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IMG_3801.JPG"/>
          <p:cNvPicPr/>
          <p:nvPr/>
        </p:nvPicPr>
        <p:blipFill>
          <a:blip r:embed="rId5"/>
          <a:stretch/>
        </p:blipFill>
        <p:spPr>
          <a:xfrm>
            <a:off x="3795840" y="3292560"/>
            <a:ext cx="5348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Содержимое 3" descr="IMG_38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3" name="TextBox 5"/>
          <p:cNvGrpSpPr/>
          <p:nvPr/>
        </p:nvGrpSpPr>
        <p:grpSpPr>
          <a:xfrm>
            <a:off x="109440" y="334800"/>
            <a:ext cx="5280120" cy="860760"/>
            <a:chOff x="109440" y="334800"/>
            <a:chExt cx="5280120" cy="860760"/>
          </a:xfrm>
        </p:grpSpPr>
        <p:pic>
          <p:nvPicPr>
            <p:cNvPr id="434" name="TextBox 5" descr=""/>
            <p:cNvPicPr/>
            <p:nvPr/>
          </p:nvPicPr>
          <p:blipFill>
            <a:blip r:embed="rId3"/>
            <a:stretch/>
          </p:blipFill>
          <p:spPr>
            <a:xfrm>
              <a:off x="109440" y="334800"/>
              <a:ext cx="5280120" cy="8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50920" y="404640"/>
              <a:ext cx="504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cf059"/>
                  </a:solidFill>
                  <a:latin typeface="Franklin Gothic Book"/>
                </a:rPr>
                <a:t>В кабинете зам.директора ООО «Хлебозавод» Хаманаевой Х.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Содержимое 3" descr="IMG_38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Заголовок 1" descr=""/>
          <p:cNvPicPr/>
          <p:nvPr/>
        </p:nvPicPr>
        <p:blipFill>
          <a:blip r:embed="rId3"/>
          <a:stretch/>
        </p:blipFill>
        <p:spPr>
          <a:xfrm>
            <a:off x="2236680" y="5626080"/>
            <a:ext cx="67788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458200" cy="454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4320"/>
                </a:solidFill>
                <a:latin typeface="Franklin Gothic Book"/>
              </a:rPr>
              <a:t>Цель экскурсии: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Посещение предприятий города, с целью создания газетных статей о предприятиях и профессиях г.Когалыма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4320"/>
                </a:solidFill>
                <a:latin typeface="Franklin Gothic Book"/>
              </a:rPr>
              <a:t>План: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1. Прибытие на хлебозавод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2. Встреча с представителем руководства завода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3. Экскурсия по цехам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4.Вопросы учащихся рабочим завода и представителю руководства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5. Подведение итогов экскурсии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E:\хлебозавод\IMG_384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788000" y="5732640"/>
            <a:ext cx="4356000" cy="1125360"/>
          </a:xfrm>
          <a:prstGeom prst="rect">
            <a:avLst/>
          </a:prstGeom>
          <a:gradFill rotWithShape="0">
            <a:gsLst>
              <a:gs pos="0">
                <a:srgbClr val="ffe3c5"/>
              </a:gs>
              <a:gs pos="100000">
                <a:srgbClr val="ffb23a"/>
              </a:gs>
            </a:gsLst>
            <a:lin ang="5400000"/>
          </a:gradFill>
          <a:ln w="10080">
            <a:solidFill>
              <a:srgbClr val="f3a447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b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Franklin Gothic Book"/>
              </a:rPr>
              <a:t>10.00 </a:t>
            </a:r>
            <a:endParaRPr b="0" lang="en-US" sz="25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Franklin Gothic Book"/>
              </a:rPr>
              <a:t>Прибыли на хлебозавод</a:t>
            </a:r>
            <a:endParaRPr b="0" lang="en-US" sz="25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3" descr=""/>
          <p:cNvPicPr/>
          <p:nvPr/>
        </p:nvPicPr>
        <p:blipFill>
          <a:blip r:embed="rId2"/>
          <a:stretch/>
        </p:blipFill>
        <p:spPr>
          <a:xfrm>
            <a:off x="298440" y="347760"/>
            <a:ext cx="8736120" cy="129852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6" descr="IMG_3825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84360" y="2276640"/>
            <a:ext cx="4190760" cy="3097080"/>
          </a:xfrm>
          <a:prstGeom prst="rect">
            <a:avLst/>
          </a:prstGeom>
          <a:ln w="0">
            <a:noFill/>
          </a:ln>
        </p:spPr>
      </p:pic>
      <p:pic>
        <p:nvPicPr>
          <p:cNvPr id="406" name="Содержимое 7" descr="IMG_3834.JPG"/>
          <p:cNvPicPr/>
          <p:nvPr/>
        </p:nvPicPr>
        <p:blipFill>
          <a:blip r:embed="rId4"/>
          <a:stretch/>
        </p:blipFill>
        <p:spPr>
          <a:xfrm>
            <a:off x="5148360" y="1413000"/>
            <a:ext cx="338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Содержимое 3" descr="IMG_3827.JPG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408" name="Заголовок 1" descr=""/>
          <p:cNvPicPr/>
          <p:nvPr/>
        </p:nvPicPr>
        <p:blipFill>
          <a:blip r:embed="rId3"/>
          <a:stretch/>
        </p:blipFill>
        <p:spPr>
          <a:xfrm>
            <a:off x="-165240" y="6119640"/>
            <a:ext cx="399420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195120" y="-6480"/>
            <a:ext cx="8436240" cy="130500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3" descr="IMG_3766.JPG"/>
          <p:cNvPicPr/>
          <p:nvPr/>
        </p:nvPicPr>
        <p:blipFill>
          <a:blip r:embed="rId3"/>
          <a:stretch/>
        </p:blipFill>
        <p:spPr>
          <a:xfrm>
            <a:off x="826920" y="1413000"/>
            <a:ext cx="73598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4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3" descr="IMG_3739.JPG"/>
          <p:cNvPicPr/>
          <p:nvPr/>
        </p:nvPicPr>
        <p:blipFill>
          <a:blip r:embed="rId3"/>
          <a:stretch/>
        </p:blipFill>
        <p:spPr>
          <a:xfrm>
            <a:off x="304920" y="1773360"/>
            <a:ext cx="4190760" cy="4392360"/>
          </a:xfrm>
          <a:prstGeom prst="rect">
            <a:avLst/>
          </a:prstGeom>
          <a:ln w="0">
            <a:noFill/>
          </a:ln>
        </p:spPr>
      </p:pic>
      <p:pic>
        <p:nvPicPr>
          <p:cNvPr id="413" name="Содержимое 6" descr="IMG_3740.JPG"/>
          <p:cNvPicPr/>
          <p:nvPr/>
        </p:nvPicPr>
        <p:blipFill>
          <a:blip r:embed="rId4"/>
          <a:stretch/>
        </p:blipFill>
        <p:spPr>
          <a:xfrm>
            <a:off x="4140360" y="1773360"/>
            <a:ext cx="5003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5" descr="IMG_3733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826920" y="1413000"/>
            <a:ext cx="743112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3" descr="IMG_3730.JPG"/>
          <p:cNvPicPr/>
          <p:nvPr/>
        </p:nvPicPr>
        <p:blipFill>
          <a:blip r:embed="rId3"/>
          <a:stretch/>
        </p:blipFill>
        <p:spPr>
          <a:xfrm>
            <a:off x="1254240" y="155412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6:26:10Z</dcterms:created>
  <dc:creator>Анастасия Кимпицкая</dc:creator>
  <dc:description/>
  <dc:language>en-US</dc:language>
  <cp:lastModifiedBy>Пользователь</cp:lastModifiedBy>
  <dcterms:modified xsi:type="dcterms:W3CDTF">2015-02-04T16:56:01Z</dcterms:modified>
  <cp:revision>17</cp:revision>
  <dc:subject/>
  <dc:title>Слайд 1</dc:title>
</cp:coreProperties>
</file>