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8.jpeg" ContentType="image/jpeg"/>
  <Override PartName="/ppt/media/image38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3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F57-2D11-4265-A192-459462A4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D82-3B34-4CC2-A090-EF0E75BE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3EC4C-2290-477F-A829-AC9D122E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79D5D-B468-40BE-A9B6-2DD86B9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DED44-89D9-4903-A8F2-0A9C72D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00FE-4461-47D7-B48C-8174C77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D5B2-D738-41A7-A77E-BFFE974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4609E-6D08-4202-8CC8-7C835C1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682B-25B5-4F72-954E-D3F1C5C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D684-D004-4407-BDF6-97A9542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114A2-08BB-4ABB-960D-BFC0FE2E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A7A-065F-453A-94F4-0A3B8D04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969-B599-4AF8-86AE-5F986830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9D02-6FEE-404B-8C06-9D9A51DA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C38-1540-4AEE-8DF9-43739B0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B59-CF2C-4247-8873-EBAC3C5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31C-A6CE-4816-A005-9804D811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0368-4DC4-45BB-9111-18B69EE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E93-FD6E-462A-8D46-BFCC8E9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8B8D-76E5-49AD-A0D1-419507B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837-CD10-4B46-828D-3E55BD15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0AE-51EB-487B-94F9-1C9C580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DCC2-AE14-43D1-B2E6-DF9DD33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605-6216-46ED-A53D-FE70AAD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0912-964D-4B11-A10E-0DFB7577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22C6-1AB6-44FC-BA22-66132E64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3FA8-72D5-4C76-BEA2-109B1C44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274B-7D50-419A-BF57-B990A1FD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D5AB-AFBF-4F35-853B-6466B92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35C5-EE79-41BF-A31D-C685E068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AEAE-7003-4A22-8B68-1B0078C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9C1-936F-468B-B695-453A716B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B561-D869-4EE9-9465-202FDA9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8487-3858-42FB-A25B-46F8EA6A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21F1-43C7-469A-B1BD-F987BD2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F635-E466-4683-993A-46A81ED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94B8-B1CB-456C-B4E8-56F6DF29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7AD4-5D08-4127-98AA-F4A08144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71EB-8BFF-4631-AFD9-C0D18C57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ABBE-0362-4707-922C-9A369866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F3E5-CB5A-4E75-9C2A-A431CA7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2F3AB-E6D2-40F5-86C2-9F44CDA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C59-28D8-4277-BC49-138361AE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8467-9FDB-4593-9EA3-84A7F55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679E-A228-4FC7-B731-9F6B6C2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DEFF-BDAE-44AE-9FF5-6A6F3E7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A45E-42AD-4787-8AD0-B02A70F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C31E-F066-4952-A4A6-B5EB1D1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39D7-840B-4ECC-BCD0-7A135C0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DF42-8570-4EC9-8C51-A9552D46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1632-B1D2-4607-B414-0E42D621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8A77-1E93-4D7A-ACA0-6542A58B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56C2-B2FF-4321-8720-B382E703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F4D-F054-47C0-AEDB-5D978B7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41B7-B678-4237-B899-2E5FCEA1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F26A-6257-496C-B1BD-A82CA78B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A514-BF1C-4C11-88C8-EFC0B7C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5D6B-FF7B-4AC5-AF30-9ED6F2EC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0A5D-C593-4473-8AC5-8F41689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8C49-CA87-434C-8DAA-E78FA3F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3BF7-9CF6-4C95-8801-8BC2E92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5F5A-8417-4A1D-920A-B49707A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5E5C-976F-4F97-9733-7DAF1FB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DAB9-828F-44A2-93AD-F24D7F92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5A8-5DB4-4FCC-A264-E12BD864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09D6C-9AA0-499E-8028-C1E59CA4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270F-3FE2-482D-8E66-148598A7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FFDB-24F7-40F6-8657-4AF6F02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74C2-6CBA-4BE2-8B40-5BBE777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FD9C-A5AE-4ECC-AED2-9D216D14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4E18E-239A-455A-88F8-BD5C1B3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CCEB-BE6D-4DFA-AAB4-8FF3EBE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17EE-3226-41FF-9A80-7D8DBBE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B01E-09B9-4C35-A160-6B5D70F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CDFE2-E0B5-4533-8715-2FF9353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7EA-4927-47D8-81AA-DF87B70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AF7B-E943-4F82-B4B4-BCCFC584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36FAC-2792-4519-9C2E-13894F4A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919A-81EC-4EE6-B327-68661C5B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1229-68B4-4D00-8302-F5988215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050D4-3146-4060-B2C3-FC685C9A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9C59-7AF0-48D9-B5A3-50D134A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81D8C-367C-4D5C-8B5A-B9947264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D674-30F0-4497-A646-F9D80268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9798-F30A-4FF8-AD51-57C671B8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6EB3-D030-4216-A247-26426A08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37F-5121-46D1-A4C9-4D5A268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24FE-1FEB-4806-BB92-6934703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8BC1-4426-4DF9-9B6C-D746F67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0B5F-AFC3-473F-8FAF-F15F80E4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8725-D642-48BD-B2BA-8BFFF54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3A10-C15F-46E6-89C7-5BEB17FB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9A32-080D-45C8-902F-C586330C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AF8D1-63F4-43E7-8CCF-7772B745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19E1-2321-46AA-BF67-0E1078CE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B87FA-1744-4CA1-A613-14B08B7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67E7-1EE5-4658-A440-9D16D025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056-373F-4CB8-85FB-3EDF51D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C4252-0CD0-41DB-8016-A953479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B4F4-BA6B-4066-BC74-C0167D6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8065E-25F2-49B9-906A-50D13E2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B727-3009-46FC-B132-A297175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CE3F-7A31-46EC-AE67-00C10633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94CB-3948-4F5E-B575-A6F8F9A7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1A59-AD44-421D-9085-4AC5CC0E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48D8-5CE0-450F-A7EB-FFEBCC5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2E8E-C304-45ED-9A7E-254F5E7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12DEC-C458-43C3-8B0E-0C15869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366-905E-4B5F-A370-6653FA8DC0F6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6D5-ACA6-4F0B-9E1A-F4CC9A59D7C6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76AF-3C52-4676-9993-448171E05FAC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E27-AE5A-405A-8A91-7DC3E9FC3B39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79D4-44AD-4323-97A8-5CCFACB1DDAD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A9D8-358C-47FC-86C1-174E3329D73E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E0EA-7F69-4A68-8028-F5AF94E0DDDF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341-8464-4292-9A3C-C5D2F1EAB45F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B76-C901-455A-B206-B98BCC46AFA9}" type="slidenum">
              <a:rPr b="0" lang="ru-RU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2"/>
          <a:stretch/>
        </p:blipFill>
        <p:spPr>
          <a:xfrm>
            <a:off x="122400" y="1968480"/>
            <a:ext cx="8667720" cy="1324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63640" y="4292280"/>
            <a:ext cx="35607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МБОУ «Средняя школа №3»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г.Когалыма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11 класс «А»</a:t>
            </a:r>
            <a:endParaRPr b="0" lang="en-US" sz="2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3" descr="IMG_3757.JPG"/>
          <p:cNvPicPr/>
          <p:nvPr/>
        </p:nvPicPr>
        <p:blipFill>
          <a:blip r:embed="rId3"/>
          <a:stretch/>
        </p:blipFill>
        <p:spPr>
          <a:xfrm>
            <a:off x="304920" y="1773360"/>
            <a:ext cx="4190760" cy="431964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6" descr="IMG_3761.JPG"/>
          <p:cNvPicPr/>
          <p:nvPr/>
        </p:nvPicPr>
        <p:blipFill>
          <a:blip r:embed="rId4"/>
          <a:stretch/>
        </p:blipFill>
        <p:spPr>
          <a:xfrm>
            <a:off x="4356000" y="1440000"/>
            <a:ext cx="44704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4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3" descr="IMG_3747.JPG"/>
          <p:cNvPicPr/>
          <p:nvPr/>
        </p:nvPicPr>
        <p:blipFill>
          <a:blip r:embed="rId3"/>
          <a:stretch/>
        </p:blipFill>
        <p:spPr>
          <a:xfrm>
            <a:off x="900000" y="1125360"/>
            <a:ext cx="3584520" cy="537876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6" descr="IMG_3751.JPG"/>
          <p:cNvPicPr/>
          <p:nvPr/>
        </p:nvPicPr>
        <p:blipFill>
          <a:blip r:embed="rId4"/>
          <a:stretch/>
        </p:blipFill>
        <p:spPr>
          <a:xfrm>
            <a:off x="4284720" y="1052640"/>
            <a:ext cx="4614840" cy="307656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7" descr="IMG_3749.JPG"/>
          <p:cNvPicPr/>
          <p:nvPr/>
        </p:nvPicPr>
        <p:blipFill>
          <a:blip r:embed="rId5"/>
          <a:stretch/>
        </p:blipFill>
        <p:spPr>
          <a:xfrm>
            <a:off x="4859280" y="362124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8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IMG_3777.JPG"/>
          <p:cNvPicPr/>
          <p:nvPr/>
        </p:nvPicPr>
        <p:blipFill>
          <a:blip r:embed="rId3"/>
          <a:stretch/>
        </p:blipFill>
        <p:spPr>
          <a:xfrm>
            <a:off x="250920" y="1700280"/>
            <a:ext cx="5659200" cy="377352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10" descr="IMG_3789.JPG"/>
          <p:cNvPicPr/>
          <p:nvPr/>
        </p:nvPicPr>
        <p:blipFill>
          <a:blip r:embed="rId4"/>
          <a:stretch/>
        </p:blipFill>
        <p:spPr>
          <a:xfrm>
            <a:off x="3851280" y="3141720"/>
            <a:ext cx="5040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6242040" y="268200"/>
            <a:ext cx="2451240" cy="295128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IMG_3798.JPG"/>
          <p:cNvPicPr/>
          <p:nvPr/>
        </p:nvPicPr>
        <p:blipFill>
          <a:blip r:embed="rId3"/>
          <a:stretch/>
        </p:blipFill>
        <p:spPr>
          <a:xfrm>
            <a:off x="0" y="3852720"/>
            <a:ext cx="3887640" cy="30052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IMG_3803.JPG"/>
          <p:cNvPicPr/>
          <p:nvPr/>
        </p:nvPicPr>
        <p:blipFill>
          <a:blip r:embed="rId4"/>
          <a:stretch/>
        </p:blipFill>
        <p:spPr>
          <a:xfrm>
            <a:off x="0" y="0"/>
            <a:ext cx="6438960" cy="42926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IMG_3801.JPG"/>
          <p:cNvPicPr/>
          <p:nvPr/>
        </p:nvPicPr>
        <p:blipFill>
          <a:blip r:embed="rId5"/>
          <a:stretch/>
        </p:blipFill>
        <p:spPr>
          <a:xfrm>
            <a:off x="3795840" y="3292560"/>
            <a:ext cx="5348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IMG_38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3" name="TextBox 5"/>
          <p:cNvGrpSpPr/>
          <p:nvPr/>
        </p:nvGrpSpPr>
        <p:grpSpPr>
          <a:xfrm>
            <a:off x="109440" y="334800"/>
            <a:ext cx="5280120" cy="860760"/>
            <a:chOff x="109440" y="334800"/>
            <a:chExt cx="5280120" cy="860760"/>
          </a:xfrm>
        </p:grpSpPr>
        <p:pic>
          <p:nvPicPr>
            <p:cNvPr id="434" name="TextBox 5" descr=""/>
            <p:cNvPicPr/>
            <p:nvPr/>
          </p:nvPicPr>
          <p:blipFill>
            <a:blip r:embed="rId3"/>
            <a:stretch/>
          </p:blipFill>
          <p:spPr>
            <a:xfrm>
              <a:off x="109440" y="334800"/>
              <a:ext cx="528012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50920" y="404640"/>
              <a:ext cx="504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cf059"/>
                  </a:solidFill>
                  <a:latin typeface="Franklin Gothic Book"/>
                </a:rPr>
                <a:t>В кабинете зам.директора ООО «Хлебозавод» Хаманаевой Х.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Содержимое 3" descr="IMG_38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3"/>
          <a:stretch/>
        </p:blipFill>
        <p:spPr>
          <a:xfrm>
            <a:off x="2236680" y="5626080"/>
            <a:ext cx="67788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23640" y="981000"/>
            <a:ext cx="8458200" cy="454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4320"/>
                </a:solidFill>
                <a:latin typeface="Franklin Gothic Book"/>
              </a:rPr>
              <a:t>Цель экскурсии: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Посещение предприятий города, с целью создания газетных статей о предприятиях и профессиях г.Когалым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4320"/>
                </a:solidFill>
                <a:latin typeface="Franklin Gothic Book"/>
              </a:rPr>
              <a:t>План: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1. Прибытие на хлебозавод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2. Встреча с представителем руководства завод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3. Экскурсия по цехам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4.Вопросы учащихся рабочим завода и представителю руководств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4320"/>
                </a:solidFill>
                <a:latin typeface="Franklin Gothic Book"/>
              </a:rPr>
              <a:t>5. Подведение итогов экскурсии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E:\хлебозавод\IMG_38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788000" y="5732640"/>
            <a:ext cx="4356000" cy="1125360"/>
          </a:xfrm>
          <a:prstGeom prst="rect">
            <a:avLst/>
          </a:prstGeom>
          <a:gradFill rotWithShape="0">
            <a:gsLst>
              <a:gs pos="0">
                <a:srgbClr val="ffe3c5"/>
              </a:gs>
              <a:gs pos="100000">
                <a:srgbClr val="ffb23a"/>
              </a:gs>
            </a:gsLst>
            <a:lin ang="5400000"/>
          </a:gradFill>
          <a:ln w="10080">
            <a:solidFill>
              <a:srgbClr val="f3a447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b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Franklin Gothic Book"/>
              </a:rPr>
              <a:t>10.00 </a:t>
            </a:r>
            <a:endParaRPr b="0" lang="en-US" sz="25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Franklin Gothic Book"/>
              </a:rPr>
              <a:t>Прибыли на хлебозавод</a:t>
            </a:r>
            <a:endParaRPr b="0" lang="en-US" sz="25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3" descr=""/>
          <p:cNvPicPr/>
          <p:nvPr/>
        </p:nvPicPr>
        <p:blipFill>
          <a:blip r:embed="rId2"/>
          <a:stretch/>
        </p:blipFill>
        <p:spPr>
          <a:xfrm>
            <a:off x="298440" y="347760"/>
            <a:ext cx="8736120" cy="129852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6" descr="IMG_3825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4360" y="2276640"/>
            <a:ext cx="4190760" cy="309708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7" descr="IMG_3834.JPG"/>
          <p:cNvPicPr/>
          <p:nvPr/>
        </p:nvPicPr>
        <p:blipFill>
          <a:blip r:embed="rId4"/>
          <a:stretch/>
        </p:blipFill>
        <p:spPr>
          <a:xfrm>
            <a:off x="5148360" y="1413000"/>
            <a:ext cx="338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Содержимое 3" descr="IMG_3827.JPG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3"/>
          <a:stretch/>
        </p:blipFill>
        <p:spPr>
          <a:xfrm>
            <a:off x="-165240" y="6119640"/>
            <a:ext cx="3994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436240" cy="1305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3" descr="IMG_3766.JPG"/>
          <p:cNvPicPr/>
          <p:nvPr/>
        </p:nvPicPr>
        <p:blipFill>
          <a:blip r:embed="rId3"/>
          <a:stretch/>
        </p:blipFill>
        <p:spPr>
          <a:xfrm>
            <a:off x="826920" y="1413000"/>
            <a:ext cx="7359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4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3" descr="IMG_3739.JPG"/>
          <p:cNvPicPr/>
          <p:nvPr/>
        </p:nvPicPr>
        <p:blipFill>
          <a:blip r:embed="rId3"/>
          <a:stretch/>
        </p:blipFill>
        <p:spPr>
          <a:xfrm>
            <a:off x="304920" y="1773360"/>
            <a:ext cx="4190760" cy="4392360"/>
          </a:xfrm>
          <a:prstGeom prst="rect">
            <a:avLst/>
          </a:prstGeom>
          <a:ln w="0">
            <a:noFill/>
          </a:ln>
        </p:spPr>
      </p:pic>
      <p:pic>
        <p:nvPicPr>
          <p:cNvPr id="413" name="Содержимое 6" descr="IMG_3740.JPG"/>
          <p:cNvPicPr/>
          <p:nvPr/>
        </p:nvPicPr>
        <p:blipFill>
          <a:blip r:embed="rId4"/>
          <a:stretch/>
        </p:blipFill>
        <p:spPr>
          <a:xfrm>
            <a:off x="4140360" y="1773360"/>
            <a:ext cx="5003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5" descr="IMG_3733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826920" y="1413000"/>
            <a:ext cx="743112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IMG_3730.JPG"/>
          <p:cNvPicPr/>
          <p:nvPr/>
        </p:nvPicPr>
        <p:blipFill>
          <a:blip r:embed="rId3"/>
          <a:stretch/>
        </p:blipFill>
        <p:spPr>
          <a:xfrm>
            <a:off x="1254240" y="155412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6:26:10Z</dcterms:created>
  <dc:creator>Анастасия Кимпицкая</dc:creator>
  <dc:description/>
  <dc:language>en-US</dc:language>
  <cp:lastModifiedBy>Пользователь</cp:lastModifiedBy>
  <dcterms:modified xsi:type="dcterms:W3CDTF">2015-02-04T16:56:01Z</dcterms:modified>
  <cp:revision>17</cp:revision>
  <dc:subject/>
  <dc:title>Слайд 1</dc:title>
</cp:coreProperties>
</file>