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4603-688C-4585-9E96-CFEAF699C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FCA9-ED5C-4256-9DDB-479B40B1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FC57-CF91-417C-8ACA-90EBD9F5A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50DC-032C-4027-A1D9-DDC7AB440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637C6-776C-4224-99EA-909ADE3F5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397D4-2DE6-4DF9-90BB-1A7A2C92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D0FA-AD24-48D4-8FB6-02BFF606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9EEC-1F16-4AE1-8FDA-C092C92F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BBAF-9C74-4669-8DAF-93D13781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8AB1-8FF9-44FB-B3D1-8381BB03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5731-AFBE-4B6D-8C22-9E10C770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5398-350F-44C2-9A5C-58B777CE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09EB-6F17-4F73-8B7B-9E8169F5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80839-171C-42EC-B348-0A03B539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BDA7-FAA1-4B66-A75E-7A592E55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93AF-39E7-4425-92B9-99D431D9B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F4FA6-BB60-4745-A195-1AAC8D004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F2A8-261D-4337-8E8D-0A14E53D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EAB9-2A50-4E3C-B342-C5189EEA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D1DF-5460-4600-BFF4-44A4C714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EB55-0268-43B1-96CB-49068CC7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C2A8-0D15-483C-8DDA-BC390DA9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D8D0-F1AB-4CA0-B66C-521A9BA6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0B0D-83AD-42B2-A7D5-80844820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35E1-44DC-42CF-9513-53B272DD42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strtegic1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3219-2AF7-48F5-9F68-D57144448C41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86950"/>
                </a:solidFill>
                <a:latin typeface="Times New Roman"/>
              </a:rPr>
              <a:t>ФАЙЛЫ И ПАПКИ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4" name="AutoShape 15">
            <a:hlinkClick r:id="" action="ppaction://hlinkshowjump?jump=nextslide"/>
          </p:cNvPr>
          <p:cNvSpPr/>
          <p:nvPr/>
        </p:nvSpPr>
        <p:spPr>
          <a:xfrm>
            <a:off x="7848720" y="60958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2843280" y="3789360"/>
            <a:ext cx="51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вашкевич Наталья Михайло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читель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катег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КОУ СОШ д.Авдеев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удожского рай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спублики Карел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Действия над </a:t>
            </a:r>
            <a:br>
              <a:rPr sz="4400"/>
            </a:b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файлом и папкой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76360" y="198108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кры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мени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кры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дали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емести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пирова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еименова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Group 6"/>
          <p:cNvGrpSpPr/>
          <p:nvPr/>
        </p:nvGrpSpPr>
        <p:grpSpPr>
          <a:xfrm>
            <a:off x="7380360" y="6095880"/>
            <a:ext cx="1154160" cy="212760"/>
            <a:chOff x="7380360" y="6095880"/>
            <a:chExt cx="1154160" cy="212760"/>
          </a:xfrm>
        </p:grpSpPr>
        <p:sp>
          <p:nvSpPr>
            <p:cNvPr id="120" name="AutoShape 4">
              <a:hlinkClick r:id="" action="ppaction://hlinkshowjump?jump=previousslide"/>
            </p:cNvPr>
            <p:cNvSpPr/>
            <p:nvPr/>
          </p:nvSpPr>
          <p:spPr>
            <a:xfrm>
              <a:off x="7380360" y="6095880"/>
              <a:ext cx="378720" cy="212760"/>
            </a:xfrm>
            <a:custGeom>
              <a:avLst/>
              <a:gdLst>
                <a:gd name="textAreaLeft" fmla="*/ 13680 w 378720"/>
                <a:gd name="textAreaRight" fmla="*/ 365040 w 378720"/>
                <a:gd name="textAreaTop" fmla="*/ 13680 h 212760"/>
                <a:gd name="textAreaBottom" fmla="*/ 199080 h 212760"/>
              </a:gdLst>
              <a:ahLst/>
              <a:rect l="textAreaLeft" t="textAreaTop" r="textAreaRight" b="textAreaBottom"/>
              <a:pathLst>
                <a:path w="38420" h="21600">
                  <a:moveTo>
                    <a:pt x="0" y="0"/>
                  </a:moveTo>
                  <a:lnTo>
                    <a:pt x="38420" y="0"/>
                  </a:lnTo>
                  <a:lnTo>
                    <a:pt x="38420" y="21600"/>
                  </a:lnTo>
                  <a:lnTo>
                    <a:pt x="0" y="21600"/>
                  </a:lnTo>
                  <a:close/>
                </a:path>
                <a:path fill="lightenLess" w="38420" h="21600">
                  <a:moveTo>
                    <a:pt x="0" y="0"/>
                  </a:moveTo>
                  <a:lnTo>
                    <a:pt x="38420" y="0"/>
                  </a:lnTo>
                  <a:lnTo>
                    <a:pt x="37020" y="1400"/>
                  </a:lnTo>
                  <a:lnTo>
                    <a:pt x="1400" y="1400"/>
                  </a:lnTo>
                  <a:close/>
                </a:path>
                <a:path fill="darken" w="38420" h="21600">
                  <a:moveTo>
                    <a:pt x="38420" y="0"/>
                  </a:moveTo>
                  <a:lnTo>
                    <a:pt x="38420" y="21600"/>
                  </a:lnTo>
                  <a:lnTo>
                    <a:pt x="37020" y="20200"/>
                  </a:lnTo>
                  <a:lnTo>
                    <a:pt x="37020" y="1400"/>
                  </a:lnTo>
                  <a:close/>
                </a:path>
                <a:path fill="darkenLess" w="38420" h="21600">
                  <a:moveTo>
                    <a:pt x="3842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7020" y="20200"/>
                  </a:lnTo>
                  <a:close/>
                </a:path>
                <a:path fill="lighten" w="3842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8420" h="21600">
                  <a:moveTo>
                    <a:pt x="12204" y="10800"/>
                  </a:moveTo>
                  <a:lnTo>
                    <a:pt x="26217" y="3794"/>
                  </a:lnTo>
                  <a:lnTo>
                    <a:pt x="26217" y="17806"/>
                  </a:lnTo>
                  <a:close/>
                </a:path>
              </a:pathLst>
            </a:custGeom>
            <a:solidFill>
              <a:srgbClr val="727d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AutoShape 5">
              <a:hlinkClick r:id="" action="ppaction://hlinkshowjump?jump=nextslide"/>
            </p:cNvPr>
            <p:cNvSpPr/>
            <p:nvPr/>
          </p:nvSpPr>
          <p:spPr>
            <a:xfrm>
              <a:off x="8176320" y="6095880"/>
              <a:ext cx="358200" cy="212760"/>
            </a:xfrm>
            <a:custGeom>
              <a:avLst/>
              <a:gdLst>
                <a:gd name="textAreaLeft" fmla="*/ 13680 w 358200"/>
                <a:gd name="textAreaRight" fmla="*/ 344520 w 358200"/>
                <a:gd name="textAreaTop" fmla="*/ 13680 h 212760"/>
                <a:gd name="textAreaBottom" fmla="*/ 199080 h 212760"/>
              </a:gdLst>
              <a:ahLst/>
              <a:rect l="textAreaLeft" t="textAreaTop" r="textAreaRight" b="textAreaBottom"/>
              <a:pathLst>
                <a:path w="36341" h="21600">
                  <a:moveTo>
                    <a:pt x="0" y="0"/>
                  </a:moveTo>
                  <a:lnTo>
                    <a:pt x="36341" y="0"/>
                  </a:lnTo>
                  <a:lnTo>
                    <a:pt x="36341" y="21600"/>
                  </a:lnTo>
                  <a:lnTo>
                    <a:pt x="0" y="21600"/>
                  </a:lnTo>
                  <a:close/>
                </a:path>
                <a:path fill="lightenLess" w="36341" h="21600">
                  <a:moveTo>
                    <a:pt x="0" y="0"/>
                  </a:moveTo>
                  <a:lnTo>
                    <a:pt x="36341" y="0"/>
                  </a:lnTo>
                  <a:lnTo>
                    <a:pt x="34941" y="1400"/>
                  </a:lnTo>
                  <a:lnTo>
                    <a:pt x="1400" y="1400"/>
                  </a:lnTo>
                  <a:close/>
                </a:path>
                <a:path fill="darken" w="36341" h="21600">
                  <a:moveTo>
                    <a:pt x="36341" y="0"/>
                  </a:moveTo>
                  <a:lnTo>
                    <a:pt x="36341" y="21600"/>
                  </a:lnTo>
                  <a:lnTo>
                    <a:pt x="34941" y="20200"/>
                  </a:lnTo>
                  <a:lnTo>
                    <a:pt x="34941" y="1400"/>
                  </a:lnTo>
                  <a:close/>
                </a:path>
                <a:path fill="darkenLess" w="36341" h="21600">
                  <a:moveTo>
                    <a:pt x="3634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4941" y="20200"/>
                  </a:lnTo>
                  <a:close/>
                </a:path>
                <a:path fill="lighten" w="3634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6341" h="21600">
                  <a:moveTo>
                    <a:pt x="11164" y="3794"/>
                  </a:moveTo>
                  <a:lnTo>
                    <a:pt x="25177" y="10800"/>
                  </a:lnTo>
                  <a:lnTo>
                    <a:pt x="11164" y="17806"/>
                  </a:lnTo>
                  <a:close/>
                </a:path>
              </a:pathLst>
            </a:custGeom>
            <a:solidFill>
              <a:srgbClr val="727d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3300"/>
                </a:solidFill>
                <a:uFillTx/>
                <a:latin typeface="Times New Roman"/>
                <a:hlinkClick r:id="rId1" action="ppaction://hlinksldjump"/>
              </a:rPr>
              <a:t>Файл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14600" y="2438280"/>
            <a:ext cx="50292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поименованное место на диске для хранения информ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6">
            <a:hlinkClick r:id="" action="ppaction://hlinkshowjump?jump=previousslide"/>
          </p:cNvPr>
          <p:cNvSpPr/>
          <p:nvPr/>
        </p:nvSpPr>
        <p:spPr>
          <a:xfrm>
            <a:off x="6324480" y="6095880"/>
            <a:ext cx="725760" cy="304920"/>
          </a:xfrm>
          <a:custGeom>
            <a:avLst/>
            <a:gdLst>
              <a:gd name="textAreaLeft" fmla="*/ 19440 w 725760"/>
              <a:gd name="textAreaRight" fmla="*/ 706320 w 725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1376" h="21600">
                <a:moveTo>
                  <a:pt x="0" y="0"/>
                </a:moveTo>
                <a:lnTo>
                  <a:pt x="51376" y="0"/>
                </a:lnTo>
                <a:lnTo>
                  <a:pt x="51376" y="21600"/>
                </a:lnTo>
                <a:lnTo>
                  <a:pt x="0" y="21600"/>
                </a:lnTo>
                <a:close/>
              </a:path>
              <a:path fill="lightenLess" w="51376" h="21600">
                <a:moveTo>
                  <a:pt x="0" y="0"/>
                </a:moveTo>
                <a:lnTo>
                  <a:pt x="51376" y="0"/>
                </a:lnTo>
                <a:lnTo>
                  <a:pt x="49976" y="1400"/>
                </a:lnTo>
                <a:lnTo>
                  <a:pt x="1400" y="1400"/>
                </a:lnTo>
                <a:close/>
              </a:path>
              <a:path fill="darken" w="51376" h="21600">
                <a:moveTo>
                  <a:pt x="51376" y="0"/>
                </a:moveTo>
                <a:lnTo>
                  <a:pt x="51376" y="21600"/>
                </a:lnTo>
                <a:lnTo>
                  <a:pt x="49976" y="20200"/>
                </a:lnTo>
                <a:lnTo>
                  <a:pt x="49976" y="1400"/>
                </a:lnTo>
                <a:close/>
              </a:path>
              <a:path fill="darkenLess" w="51376" h="21600">
                <a:moveTo>
                  <a:pt x="51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76" y="20200"/>
                </a:lnTo>
                <a:close/>
              </a:path>
              <a:path fill="lighten" w="51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76" h="21600">
                <a:moveTo>
                  <a:pt x="18682" y="10800"/>
                </a:moveTo>
                <a:lnTo>
                  <a:pt x="32695" y="3794"/>
                </a:lnTo>
                <a:lnTo>
                  <a:pt x="32695" y="17806"/>
                </a:lnTo>
                <a:close/>
              </a:path>
            </a:pathLst>
          </a:cu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7">
            <a:hlinkClick r:id="" action="ppaction://hlinkshowjump?jump=nextslide"/>
          </p:cNvPr>
          <p:cNvSpPr/>
          <p:nvPr/>
        </p:nvSpPr>
        <p:spPr>
          <a:xfrm>
            <a:off x="7848720" y="60958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3300"/>
                </a:solidFill>
                <a:uFillTx/>
                <a:latin typeface="Times New Roman"/>
                <a:hlinkClick r:id="rId1" action="ppaction://hlinksldjump"/>
              </a:rPr>
              <a:t>Папка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05120" y="1980720"/>
            <a:ext cx="723888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поименованный объект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назначенный для объединения файлов и других папок в группы по какому-либо параметр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6">
            <a:hlinkClick r:id="" action="ppaction://hlinkshowjump?jump=previousslide"/>
          </p:cNvPr>
          <p:cNvSpPr/>
          <p:nvPr/>
        </p:nvSpPr>
        <p:spPr>
          <a:xfrm>
            <a:off x="6324480" y="6095880"/>
            <a:ext cx="725760" cy="304920"/>
          </a:xfrm>
          <a:custGeom>
            <a:avLst/>
            <a:gdLst>
              <a:gd name="textAreaLeft" fmla="*/ 19440 w 725760"/>
              <a:gd name="textAreaRight" fmla="*/ 706320 w 725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1376" h="21600">
                <a:moveTo>
                  <a:pt x="0" y="0"/>
                </a:moveTo>
                <a:lnTo>
                  <a:pt x="51376" y="0"/>
                </a:lnTo>
                <a:lnTo>
                  <a:pt x="51376" y="21600"/>
                </a:lnTo>
                <a:lnTo>
                  <a:pt x="0" y="21600"/>
                </a:lnTo>
                <a:close/>
              </a:path>
              <a:path fill="lightenLess" w="51376" h="21600">
                <a:moveTo>
                  <a:pt x="0" y="0"/>
                </a:moveTo>
                <a:lnTo>
                  <a:pt x="51376" y="0"/>
                </a:lnTo>
                <a:lnTo>
                  <a:pt x="49976" y="1400"/>
                </a:lnTo>
                <a:lnTo>
                  <a:pt x="1400" y="1400"/>
                </a:lnTo>
                <a:close/>
              </a:path>
              <a:path fill="darken" w="51376" h="21600">
                <a:moveTo>
                  <a:pt x="51376" y="0"/>
                </a:moveTo>
                <a:lnTo>
                  <a:pt x="51376" y="21600"/>
                </a:lnTo>
                <a:lnTo>
                  <a:pt x="49976" y="20200"/>
                </a:lnTo>
                <a:lnTo>
                  <a:pt x="49976" y="1400"/>
                </a:lnTo>
                <a:close/>
              </a:path>
              <a:path fill="darkenLess" w="51376" h="21600">
                <a:moveTo>
                  <a:pt x="51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76" y="20200"/>
                </a:lnTo>
                <a:close/>
              </a:path>
              <a:path fill="lighten" w="51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76" h="21600">
                <a:moveTo>
                  <a:pt x="18682" y="10800"/>
                </a:moveTo>
                <a:lnTo>
                  <a:pt x="32695" y="3794"/>
                </a:lnTo>
                <a:lnTo>
                  <a:pt x="32695" y="17806"/>
                </a:lnTo>
                <a:close/>
              </a:path>
            </a:pathLst>
          </a:cu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7">
            <a:hlinkClick r:id="" action="ppaction://hlinkshowjump?jump=nextslide"/>
          </p:cNvPr>
          <p:cNvSpPr/>
          <p:nvPr/>
        </p:nvSpPr>
        <p:spPr>
          <a:xfrm>
            <a:off x="7848720" y="60958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31640" y="1886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00"/>
                </a:solidFill>
                <a:latin typeface="Times New Roman"/>
              </a:rPr>
              <a:t>Файлы и папки</a:t>
            </a:r>
            <a:br>
              <a:rPr sz="4000"/>
            </a:br>
            <a:r>
              <a:rPr b="0" lang="ru-RU" sz="3200" spc="-1" strike="noStrike">
                <a:solidFill>
                  <a:srgbClr val="996600"/>
                </a:solidFill>
                <a:latin typeface="Times New Roman"/>
              </a:rPr>
              <a:t>(другая терминология)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76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КУМ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бъекты, содержащие ту или иную информацию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тексты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артинк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звук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иде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63640" y="1981080"/>
            <a:ext cx="3627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ОГРАМ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ПРИЛОЖЕНИ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лужат для обработки докумен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Файлы и папки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47280" y="1981080"/>
            <a:ext cx="355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раметр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я фай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ширение фай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ме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та и время созда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08360" y="1981080"/>
            <a:ext cx="3483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трибут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рхив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стем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лько для чт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рыт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тало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Group 7"/>
          <p:cNvGrpSpPr/>
          <p:nvPr/>
        </p:nvGrpSpPr>
        <p:grpSpPr>
          <a:xfrm>
            <a:off x="7596360" y="6381720"/>
            <a:ext cx="1080720" cy="216000"/>
            <a:chOff x="7596360" y="6381720"/>
            <a:chExt cx="1080720" cy="216000"/>
          </a:xfrm>
        </p:grpSpPr>
        <p:sp>
          <p:nvSpPr>
            <p:cNvPr id="101" name="AutoShape 4">
              <a:hlinkClick r:id="" action="ppaction://hlinkshowjump?jump=previousslide"/>
            </p:cNvPr>
            <p:cNvSpPr/>
            <p:nvPr/>
          </p:nvSpPr>
          <p:spPr>
            <a:xfrm>
              <a:off x="7596360" y="6381720"/>
              <a:ext cx="410040" cy="216000"/>
            </a:xfrm>
            <a:custGeom>
              <a:avLst/>
              <a:gdLst>
                <a:gd name="textAreaLeft" fmla="*/ 13680 w 410040"/>
                <a:gd name="textAreaRight" fmla="*/ 396360 w 410040"/>
                <a:gd name="textAreaTop" fmla="*/ 13680 h 216000"/>
                <a:gd name="textAreaBottom" fmla="*/ 202320 h 216000"/>
              </a:gdLst>
              <a:ahLst/>
              <a:rect l="textAreaLeft" t="textAreaTop" r="textAreaRight" b="textAreaBottom"/>
              <a:pathLst>
                <a:path w="40972" h="21600">
                  <a:moveTo>
                    <a:pt x="0" y="0"/>
                  </a:moveTo>
                  <a:lnTo>
                    <a:pt x="40972" y="0"/>
                  </a:lnTo>
                  <a:lnTo>
                    <a:pt x="40972" y="21600"/>
                  </a:lnTo>
                  <a:lnTo>
                    <a:pt x="0" y="21600"/>
                  </a:lnTo>
                  <a:close/>
                </a:path>
                <a:path fill="lightenLess" w="40972" h="21600">
                  <a:moveTo>
                    <a:pt x="0" y="0"/>
                  </a:moveTo>
                  <a:lnTo>
                    <a:pt x="40972" y="0"/>
                  </a:lnTo>
                  <a:lnTo>
                    <a:pt x="39572" y="1400"/>
                  </a:lnTo>
                  <a:lnTo>
                    <a:pt x="1400" y="1400"/>
                  </a:lnTo>
                  <a:close/>
                </a:path>
                <a:path fill="darken" w="40972" h="21600">
                  <a:moveTo>
                    <a:pt x="40972" y="0"/>
                  </a:moveTo>
                  <a:lnTo>
                    <a:pt x="40972" y="21600"/>
                  </a:lnTo>
                  <a:lnTo>
                    <a:pt x="39572" y="20200"/>
                  </a:lnTo>
                  <a:lnTo>
                    <a:pt x="39572" y="1400"/>
                  </a:lnTo>
                  <a:close/>
                </a:path>
                <a:path fill="darkenLess" w="40972" h="21600">
                  <a:moveTo>
                    <a:pt x="4097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9572" y="20200"/>
                  </a:lnTo>
                  <a:close/>
                </a:path>
                <a:path fill="lighten" w="4097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972" h="21600">
                  <a:moveTo>
                    <a:pt x="13479" y="10800"/>
                  </a:moveTo>
                  <a:lnTo>
                    <a:pt x="27492" y="3794"/>
                  </a:lnTo>
                  <a:lnTo>
                    <a:pt x="27492" y="17806"/>
                  </a:lnTo>
                  <a:close/>
                </a:path>
              </a:pathLst>
            </a:custGeom>
            <a:solidFill>
              <a:srgbClr val="727d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AutoShape 5">
              <a:hlinkClick r:id="" action="ppaction://hlinkshowjump?jump=nextslide"/>
            </p:cNvPr>
            <p:cNvSpPr/>
            <p:nvPr/>
          </p:nvSpPr>
          <p:spPr>
            <a:xfrm>
              <a:off x="8289360" y="6381720"/>
              <a:ext cx="387720" cy="216000"/>
            </a:xfrm>
            <a:custGeom>
              <a:avLst/>
              <a:gdLst>
                <a:gd name="textAreaLeft" fmla="*/ 13680 w 387720"/>
                <a:gd name="textAreaRight" fmla="*/ 374040 w 387720"/>
                <a:gd name="textAreaTop" fmla="*/ 13680 h 216000"/>
                <a:gd name="textAreaBottom" fmla="*/ 202320 h 216000"/>
              </a:gdLst>
              <a:ahLst/>
              <a:rect l="textAreaLeft" t="textAreaTop" r="textAreaRight" b="textAreaBottom"/>
              <a:pathLst>
                <a:path w="38743" h="21600">
                  <a:moveTo>
                    <a:pt x="0" y="0"/>
                  </a:moveTo>
                  <a:lnTo>
                    <a:pt x="38743" y="0"/>
                  </a:lnTo>
                  <a:lnTo>
                    <a:pt x="38743" y="21600"/>
                  </a:lnTo>
                  <a:lnTo>
                    <a:pt x="0" y="21600"/>
                  </a:lnTo>
                  <a:close/>
                </a:path>
                <a:path fill="lightenLess" w="38743" h="21600">
                  <a:moveTo>
                    <a:pt x="0" y="0"/>
                  </a:moveTo>
                  <a:lnTo>
                    <a:pt x="38743" y="0"/>
                  </a:lnTo>
                  <a:lnTo>
                    <a:pt x="37343" y="1400"/>
                  </a:lnTo>
                  <a:lnTo>
                    <a:pt x="1400" y="1400"/>
                  </a:lnTo>
                  <a:close/>
                </a:path>
                <a:path fill="darken" w="38743" h="21600">
                  <a:moveTo>
                    <a:pt x="38743" y="0"/>
                  </a:moveTo>
                  <a:lnTo>
                    <a:pt x="38743" y="21600"/>
                  </a:lnTo>
                  <a:lnTo>
                    <a:pt x="37343" y="20200"/>
                  </a:lnTo>
                  <a:lnTo>
                    <a:pt x="37343" y="1400"/>
                  </a:lnTo>
                  <a:close/>
                </a:path>
                <a:path fill="darkenLess" w="38743" h="21600">
                  <a:moveTo>
                    <a:pt x="3874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7343" y="20200"/>
                  </a:lnTo>
                  <a:close/>
                </a:path>
                <a:path fill="lighten" w="3874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8743" h="21600">
                  <a:moveTo>
                    <a:pt x="12365" y="3794"/>
                  </a:moveTo>
                  <a:lnTo>
                    <a:pt x="26378" y="10800"/>
                  </a:lnTo>
                  <a:lnTo>
                    <a:pt x="12365" y="17806"/>
                  </a:lnTo>
                  <a:close/>
                </a:path>
              </a:pathLst>
            </a:custGeom>
            <a:solidFill>
              <a:srgbClr val="727d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02920" y="54936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Типы файлов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02920" y="2133720"/>
            <a:ext cx="75884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чий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документы, которые создает пользователь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граммный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для работы О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рхивный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информация хранится в сжатом вид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ременный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для промежуточных результато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ужебный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настройк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6">
            <a:hlinkClick r:id="" action="ppaction://hlinkshowjump?jump=previousslide"/>
          </p:cNvPr>
          <p:cNvSpPr/>
          <p:nvPr/>
        </p:nvSpPr>
        <p:spPr>
          <a:xfrm>
            <a:off x="6324480" y="6095880"/>
            <a:ext cx="725760" cy="304920"/>
          </a:xfrm>
          <a:custGeom>
            <a:avLst/>
            <a:gdLst>
              <a:gd name="textAreaLeft" fmla="*/ 19440 w 725760"/>
              <a:gd name="textAreaRight" fmla="*/ 706320 w 725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1376" h="21600">
                <a:moveTo>
                  <a:pt x="0" y="0"/>
                </a:moveTo>
                <a:lnTo>
                  <a:pt x="51376" y="0"/>
                </a:lnTo>
                <a:lnTo>
                  <a:pt x="51376" y="21600"/>
                </a:lnTo>
                <a:lnTo>
                  <a:pt x="0" y="21600"/>
                </a:lnTo>
                <a:close/>
              </a:path>
              <a:path fill="lightenLess" w="51376" h="21600">
                <a:moveTo>
                  <a:pt x="0" y="0"/>
                </a:moveTo>
                <a:lnTo>
                  <a:pt x="51376" y="0"/>
                </a:lnTo>
                <a:lnTo>
                  <a:pt x="49976" y="1400"/>
                </a:lnTo>
                <a:lnTo>
                  <a:pt x="1400" y="1400"/>
                </a:lnTo>
                <a:close/>
              </a:path>
              <a:path fill="darken" w="51376" h="21600">
                <a:moveTo>
                  <a:pt x="51376" y="0"/>
                </a:moveTo>
                <a:lnTo>
                  <a:pt x="51376" y="21600"/>
                </a:lnTo>
                <a:lnTo>
                  <a:pt x="49976" y="20200"/>
                </a:lnTo>
                <a:lnTo>
                  <a:pt x="49976" y="1400"/>
                </a:lnTo>
                <a:close/>
              </a:path>
              <a:path fill="darkenLess" w="51376" h="21600">
                <a:moveTo>
                  <a:pt x="51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76" y="20200"/>
                </a:lnTo>
                <a:close/>
              </a:path>
              <a:path fill="lighten" w="51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76" h="21600">
                <a:moveTo>
                  <a:pt x="18682" y="10800"/>
                </a:moveTo>
                <a:lnTo>
                  <a:pt x="32695" y="3794"/>
                </a:lnTo>
                <a:lnTo>
                  <a:pt x="32695" y="17806"/>
                </a:lnTo>
                <a:close/>
              </a:path>
            </a:pathLst>
          </a:cu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7">
            <a:hlinkClick r:id="" action="ppaction://hlinkshowjump?jump=nextslide"/>
          </p:cNvPr>
          <p:cNvSpPr/>
          <p:nvPr/>
        </p:nvSpPr>
        <p:spPr>
          <a:xfrm>
            <a:off x="7848720" y="60958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00"/>
                </a:solidFill>
                <a:latin typeface="Times New Roman"/>
              </a:rPr>
              <a:t>Имя файла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240" y="1125000"/>
            <a:ext cx="762012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ное имя файла состоит из имени 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ширения, разделенных точко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a.txt, letter.gi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ОС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-DO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мя файла может содержать до 8 букв латинского алфавита, цифр и некоторых специальных символ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ОС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мя файла может содержать до 255 символов (можно использовать буквы русского алфавит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ерационная система соотносит файл по его расширению с программой, с помощью которой он может быть открыт для просмот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8">
            <a:hlinkClick r:id="" action="ppaction://hlinkshowjump?jump=previousslide"/>
          </p:cNvPr>
          <p:cNvSpPr/>
          <p:nvPr/>
        </p:nvSpPr>
        <p:spPr>
          <a:xfrm>
            <a:off x="6324480" y="6095880"/>
            <a:ext cx="725760" cy="304920"/>
          </a:xfrm>
          <a:custGeom>
            <a:avLst/>
            <a:gdLst>
              <a:gd name="textAreaLeft" fmla="*/ 19440 w 725760"/>
              <a:gd name="textAreaRight" fmla="*/ 706320 w 725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1376" h="21600">
                <a:moveTo>
                  <a:pt x="0" y="0"/>
                </a:moveTo>
                <a:lnTo>
                  <a:pt x="51376" y="0"/>
                </a:lnTo>
                <a:lnTo>
                  <a:pt x="51376" y="21600"/>
                </a:lnTo>
                <a:lnTo>
                  <a:pt x="0" y="21600"/>
                </a:lnTo>
                <a:close/>
              </a:path>
              <a:path fill="lightenLess" w="51376" h="21600">
                <a:moveTo>
                  <a:pt x="0" y="0"/>
                </a:moveTo>
                <a:lnTo>
                  <a:pt x="51376" y="0"/>
                </a:lnTo>
                <a:lnTo>
                  <a:pt x="49976" y="1400"/>
                </a:lnTo>
                <a:lnTo>
                  <a:pt x="1400" y="1400"/>
                </a:lnTo>
                <a:close/>
              </a:path>
              <a:path fill="darken" w="51376" h="21600">
                <a:moveTo>
                  <a:pt x="51376" y="0"/>
                </a:moveTo>
                <a:lnTo>
                  <a:pt x="51376" y="21600"/>
                </a:lnTo>
                <a:lnTo>
                  <a:pt x="49976" y="20200"/>
                </a:lnTo>
                <a:lnTo>
                  <a:pt x="49976" y="1400"/>
                </a:lnTo>
                <a:close/>
              </a:path>
              <a:path fill="darkenLess" w="51376" h="21600">
                <a:moveTo>
                  <a:pt x="51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76" y="20200"/>
                </a:lnTo>
                <a:close/>
              </a:path>
              <a:path fill="lighten" w="51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76" h="21600">
                <a:moveTo>
                  <a:pt x="18682" y="10800"/>
                </a:moveTo>
                <a:lnTo>
                  <a:pt x="32695" y="3794"/>
                </a:lnTo>
                <a:lnTo>
                  <a:pt x="32695" y="17806"/>
                </a:lnTo>
                <a:close/>
              </a:path>
            </a:pathLst>
          </a:cu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9">
            <a:hlinkClick r:id="" action="ppaction://hlinkshowjump?jump=nextslide"/>
          </p:cNvPr>
          <p:cNvSpPr/>
          <p:nvPr/>
        </p:nvSpPr>
        <p:spPr>
          <a:xfrm>
            <a:off x="7848720" y="60958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Имя файла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ное имя файла однозначно определяет местоположение любого файла на носител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о состоит из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ути к файл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включает имя устройства, систему каталогов, собственное имя файла и расширени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:\schools\info2006\index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Расширение файла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195640" y="1981080"/>
            <a:ext cx="67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кстовый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xt, do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абличны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рафический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f, bmp, jp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стемный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t, s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граммны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e, com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исполняемы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аниц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рхивный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j, rar, z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4">
            <a:hlinkClick r:id="" action="ppaction://hlinkshowjump?jump=previousslide"/>
          </p:cNvPr>
          <p:cNvSpPr/>
          <p:nvPr/>
        </p:nvSpPr>
        <p:spPr>
          <a:xfrm>
            <a:off x="6324480" y="6095880"/>
            <a:ext cx="725760" cy="304920"/>
          </a:xfrm>
          <a:custGeom>
            <a:avLst/>
            <a:gdLst>
              <a:gd name="textAreaLeft" fmla="*/ 19440 w 725760"/>
              <a:gd name="textAreaRight" fmla="*/ 706320 w 725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1376" h="21600">
                <a:moveTo>
                  <a:pt x="0" y="0"/>
                </a:moveTo>
                <a:lnTo>
                  <a:pt x="51376" y="0"/>
                </a:lnTo>
                <a:lnTo>
                  <a:pt x="51376" y="21600"/>
                </a:lnTo>
                <a:lnTo>
                  <a:pt x="0" y="21600"/>
                </a:lnTo>
                <a:close/>
              </a:path>
              <a:path fill="lightenLess" w="51376" h="21600">
                <a:moveTo>
                  <a:pt x="0" y="0"/>
                </a:moveTo>
                <a:lnTo>
                  <a:pt x="51376" y="0"/>
                </a:lnTo>
                <a:lnTo>
                  <a:pt x="49976" y="1400"/>
                </a:lnTo>
                <a:lnTo>
                  <a:pt x="1400" y="1400"/>
                </a:lnTo>
                <a:close/>
              </a:path>
              <a:path fill="darken" w="51376" h="21600">
                <a:moveTo>
                  <a:pt x="51376" y="0"/>
                </a:moveTo>
                <a:lnTo>
                  <a:pt x="51376" y="21600"/>
                </a:lnTo>
                <a:lnTo>
                  <a:pt x="49976" y="20200"/>
                </a:lnTo>
                <a:lnTo>
                  <a:pt x="49976" y="1400"/>
                </a:lnTo>
                <a:close/>
              </a:path>
              <a:path fill="darkenLess" w="51376" h="21600">
                <a:moveTo>
                  <a:pt x="51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76" y="20200"/>
                </a:lnTo>
                <a:close/>
              </a:path>
              <a:path fill="lighten" w="51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76" h="21600">
                <a:moveTo>
                  <a:pt x="18682" y="10800"/>
                </a:moveTo>
                <a:lnTo>
                  <a:pt x="32695" y="3794"/>
                </a:lnTo>
                <a:lnTo>
                  <a:pt x="32695" y="17806"/>
                </a:lnTo>
                <a:close/>
              </a:path>
            </a:pathLst>
          </a:cu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5">
            <a:hlinkClick r:id="" action="ppaction://hlinkshowjump?jump=nextslide"/>
          </p:cNvPr>
          <p:cNvSpPr/>
          <p:nvPr/>
        </p:nvSpPr>
        <p:spPr>
          <a:xfrm>
            <a:off x="7848720" y="60958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18:49:05Z</dcterms:created>
  <dc:creator>Valya</dc:creator>
  <dc:description/>
  <dc:language>en-US</dc:language>
  <cp:lastModifiedBy>Admin</cp:lastModifiedBy>
  <dcterms:modified xsi:type="dcterms:W3CDTF">2015-02-04T19:56:21Z</dcterms:modified>
  <cp:revision>32</cp:revision>
  <dc:subject/>
  <dc:title>ФАЙЛЫ И ПАПКИ</dc:title>
</cp:coreProperties>
</file>