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7FA-8D4F-4795-BB0F-48843002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979-A8D0-45C1-BE68-ECB0D88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9FE-2FE4-4EB9-AC82-E5CC746E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269-F4DB-4908-B187-AF5E07B6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4D1B-0F3C-4D62-BB3C-5774440E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E328-768E-4294-9D9D-EAADA047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E235-61D9-4E78-AFF0-CA621C6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2ECD-8522-4311-82CD-5A993785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1DB0-0F8E-4DF4-96D2-CD5529F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400E-B8C7-456C-B664-D50261D7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743-9AA1-42C3-A9BF-AAA013C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6B8-BAAF-498B-9DD8-83D8768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54E-F0DE-49AB-BDC7-F4BB869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D6BF-9957-4202-AF34-7723B94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F0DA-4523-404F-A086-C56CAC8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C61-C67D-4460-81DB-A3F43216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3EC-1811-4D7C-B595-C55527BE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A59-87BE-4A49-9945-CAADBAB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757-F245-4203-869E-31CB5170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6C1-703B-4730-BAAE-5BF27A4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E9E-0FB2-44C7-9947-8F284E9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2DF-B983-4ACA-93B9-3DC8B03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C0B-4A66-4AB8-8009-9635E0E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5AE-3436-42D8-84F3-C548656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A3F9-F417-4167-BF1E-C012C67026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27A2-2402-487D-8CBF-17CB37B5217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ФАЙЛЫ И ПАП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AutoShape 15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843280" y="378936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вашкевич Наталья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КОУ СОШ д.Авдее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дожского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спублики Кар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Действия над </a:t>
            </a:r>
            <a:br>
              <a:rPr sz="4400"/>
            </a:b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файлом и папкой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ал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ст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пиров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именов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7380360" y="6095880"/>
            <a:ext cx="1154160" cy="212760"/>
            <a:chOff x="7380360" y="6095880"/>
            <a:chExt cx="1154160" cy="212760"/>
          </a:xfrm>
        </p:grpSpPr>
        <p:sp>
          <p:nvSpPr>
            <p:cNvPr id="120" name="AutoShape 4">
              <a:hlinkClick r:id="" action="ppaction://hlinkshowjump?jump=previousslide"/>
            </p:cNvPr>
            <p:cNvSpPr/>
            <p:nvPr/>
          </p:nvSpPr>
          <p:spPr>
            <a:xfrm>
              <a:off x="7380360" y="6095880"/>
              <a:ext cx="378720" cy="212760"/>
            </a:xfrm>
            <a:custGeom>
              <a:avLst/>
              <a:gdLst>
                <a:gd name="textAreaLeft" fmla="*/ 13680 w 378720"/>
                <a:gd name="textAreaRight" fmla="*/ 365040 w 378720"/>
                <a:gd name="textAreaTop" fmla="*/ 13680 h 212760"/>
                <a:gd name="textAreaBottom" fmla="*/ 199080 h 212760"/>
              </a:gdLst>
              <a:ahLst/>
              <a:rect l="textAreaLeft" t="textAreaTop" r="textAreaRight" b="textAreaBottom"/>
              <a:pathLst>
                <a:path w="38420" h="21600">
                  <a:moveTo>
                    <a:pt x="0" y="0"/>
                  </a:moveTo>
                  <a:lnTo>
                    <a:pt x="38420" y="0"/>
                  </a:lnTo>
                  <a:lnTo>
                    <a:pt x="38420" y="21600"/>
                  </a:lnTo>
                  <a:lnTo>
                    <a:pt x="0" y="21600"/>
                  </a:lnTo>
                  <a:close/>
                </a:path>
                <a:path fill="lightenLess" w="38420" h="21600">
                  <a:moveTo>
                    <a:pt x="0" y="0"/>
                  </a:moveTo>
                  <a:lnTo>
                    <a:pt x="38420" y="0"/>
                  </a:lnTo>
                  <a:lnTo>
                    <a:pt x="37020" y="1400"/>
                  </a:lnTo>
                  <a:lnTo>
                    <a:pt x="1400" y="1400"/>
                  </a:lnTo>
                  <a:close/>
                </a:path>
                <a:path fill="darken" w="38420" h="21600">
                  <a:moveTo>
                    <a:pt x="38420" y="0"/>
                  </a:moveTo>
                  <a:lnTo>
                    <a:pt x="38420" y="21600"/>
                  </a:lnTo>
                  <a:lnTo>
                    <a:pt x="37020" y="20200"/>
                  </a:lnTo>
                  <a:lnTo>
                    <a:pt x="37020" y="1400"/>
                  </a:lnTo>
                  <a:close/>
                </a:path>
                <a:path fill="darkenLess" w="38420" h="21600">
                  <a:moveTo>
                    <a:pt x="384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020" y="20200"/>
                  </a:lnTo>
                  <a:close/>
                </a:path>
                <a:path fill="lighten" w="384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8420" h="21600">
                  <a:moveTo>
                    <a:pt x="12204" y="10800"/>
                  </a:moveTo>
                  <a:lnTo>
                    <a:pt x="26217" y="3794"/>
                  </a:lnTo>
                  <a:lnTo>
                    <a:pt x="26217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5">
              <a:hlinkClick r:id="" action="ppaction://hlinkshowjump?jump=nextslide"/>
            </p:cNvPr>
            <p:cNvSpPr/>
            <p:nvPr/>
          </p:nvSpPr>
          <p:spPr>
            <a:xfrm>
              <a:off x="8176320" y="6095880"/>
              <a:ext cx="358200" cy="212760"/>
            </a:xfrm>
            <a:custGeom>
              <a:avLst/>
              <a:gdLst>
                <a:gd name="textAreaLeft" fmla="*/ 13680 w 358200"/>
                <a:gd name="textAreaRight" fmla="*/ 344520 w 358200"/>
                <a:gd name="textAreaTop" fmla="*/ 13680 h 212760"/>
                <a:gd name="textAreaBottom" fmla="*/ 199080 h 212760"/>
              </a:gdLst>
              <a:ahLst/>
              <a:rect l="textAreaLeft" t="textAreaTop" r="textAreaRight" b="textAreaBottom"/>
              <a:pathLst>
                <a:path w="36341" h="21600">
                  <a:moveTo>
                    <a:pt x="0" y="0"/>
                  </a:moveTo>
                  <a:lnTo>
                    <a:pt x="36341" y="0"/>
                  </a:lnTo>
                  <a:lnTo>
                    <a:pt x="36341" y="21600"/>
                  </a:lnTo>
                  <a:lnTo>
                    <a:pt x="0" y="21600"/>
                  </a:lnTo>
                  <a:close/>
                </a:path>
                <a:path fill="lightenLess" w="36341" h="21600">
                  <a:moveTo>
                    <a:pt x="0" y="0"/>
                  </a:moveTo>
                  <a:lnTo>
                    <a:pt x="36341" y="0"/>
                  </a:lnTo>
                  <a:lnTo>
                    <a:pt x="34941" y="1400"/>
                  </a:lnTo>
                  <a:lnTo>
                    <a:pt x="1400" y="1400"/>
                  </a:lnTo>
                  <a:close/>
                </a:path>
                <a:path fill="darken" w="36341" h="21600">
                  <a:moveTo>
                    <a:pt x="36341" y="0"/>
                  </a:moveTo>
                  <a:lnTo>
                    <a:pt x="36341" y="21600"/>
                  </a:lnTo>
                  <a:lnTo>
                    <a:pt x="34941" y="20200"/>
                  </a:lnTo>
                  <a:lnTo>
                    <a:pt x="34941" y="1400"/>
                  </a:lnTo>
                  <a:close/>
                </a:path>
                <a:path fill="darkenLess" w="36341" h="21600">
                  <a:moveTo>
                    <a:pt x="363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941" y="20200"/>
                  </a:lnTo>
                  <a:close/>
                </a:path>
                <a:path fill="lighten" w="363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6341" h="21600">
                  <a:moveTo>
                    <a:pt x="11164" y="3794"/>
                  </a:moveTo>
                  <a:lnTo>
                    <a:pt x="25177" y="10800"/>
                  </a:lnTo>
                  <a:lnTo>
                    <a:pt x="11164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Файл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2438280"/>
            <a:ext cx="5029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оименованное место на диске для хранен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Пап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238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оименованный объек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значенный для объединения файлов и других папок в группы по какому-либо парамет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Файлы и папки</a:t>
            </a:r>
            <a:br>
              <a:rPr sz="4000"/>
            </a:b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(другая терминология)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кты, содержащие ту или иную информа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кс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ртин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ву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63640" y="1981080"/>
            <a:ext cx="362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ИЛОЖ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ужат для обработки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Файлы и пап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981080"/>
            <a:ext cx="355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фай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 и время соз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4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рибу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в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ры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7596360" y="6381720"/>
            <a:ext cx="1080720" cy="216000"/>
            <a:chOff x="7596360" y="6381720"/>
            <a:chExt cx="1080720" cy="216000"/>
          </a:xfrm>
        </p:grpSpPr>
        <p:sp>
          <p:nvSpPr>
            <p:cNvPr id="101" name="AutoShape 4">
              <a:hlinkClick r:id="" action="ppaction://hlinkshowjump?jump=previousslide"/>
            </p:cNvPr>
            <p:cNvSpPr/>
            <p:nvPr/>
          </p:nvSpPr>
          <p:spPr>
            <a:xfrm>
              <a:off x="7596360" y="6381720"/>
              <a:ext cx="410040" cy="216000"/>
            </a:xfrm>
            <a:custGeom>
              <a:avLst/>
              <a:gdLst>
                <a:gd name="textAreaLeft" fmla="*/ 13680 w 410040"/>
                <a:gd name="textAreaRight" fmla="*/ 396360 w 4100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0972" h="21600">
                  <a:moveTo>
                    <a:pt x="0" y="0"/>
                  </a:moveTo>
                  <a:lnTo>
                    <a:pt x="40972" y="0"/>
                  </a:lnTo>
                  <a:lnTo>
                    <a:pt x="40972" y="21600"/>
                  </a:lnTo>
                  <a:lnTo>
                    <a:pt x="0" y="21600"/>
                  </a:lnTo>
                  <a:close/>
                </a:path>
                <a:path fill="lightenLess" w="40972" h="21600">
                  <a:moveTo>
                    <a:pt x="0" y="0"/>
                  </a:moveTo>
                  <a:lnTo>
                    <a:pt x="40972" y="0"/>
                  </a:lnTo>
                  <a:lnTo>
                    <a:pt x="39572" y="1400"/>
                  </a:lnTo>
                  <a:lnTo>
                    <a:pt x="1400" y="1400"/>
                  </a:lnTo>
                  <a:close/>
                </a:path>
                <a:path fill="darken" w="40972" h="21600">
                  <a:moveTo>
                    <a:pt x="40972" y="0"/>
                  </a:moveTo>
                  <a:lnTo>
                    <a:pt x="40972" y="21600"/>
                  </a:lnTo>
                  <a:lnTo>
                    <a:pt x="39572" y="20200"/>
                  </a:lnTo>
                  <a:lnTo>
                    <a:pt x="39572" y="1400"/>
                  </a:lnTo>
                  <a:close/>
                </a:path>
                <a:path fill="darkenLess" w="40972" h="21600">
                  <a:moveTo>
                    <a:pt x="409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572" y="20200"/>
                  </a:lnTo>
                  <a:close/>
                </a:path>
                <a:path fill="lighten" w="409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972" h="21600">
                  <a:moveTo>
                    <a:pt x="13479" y="10800"/>
                  </a:moveTo>
                  <a:lnTo>
                    <a:pt x="27492" y="3794"/>
                  </a:lnTo>
                  <a:lnTo>
                    <a:pt x="27492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5">
              <a:hlinkClick r:id="" action="ppaction://hlinkshowjump?jump=nextslide"/>
            </p:cNvPr>
            <p:cNvSpPr/>
            <p:nvPr/>
          </p:nvSpPr>
          <p:spPr>
            <a:xfrm>
              <a:off x="8289360" y="6381720"/>
              <a:ext cx="387720" cy="216000"/>
            </a:xfrm>
            <a:custGeom>
              <a:avLst/>
              <a:gdLst>
                <a:gd name="textAreaLeft" fmla="*/ 13680 w 387720"/>
                <a:gd name="textAreaRight" fmla="*/ 374040 w 38772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38743" h="21600">
                  <a:moveTo>
                    <a:pt x="0" y="0"/>
                  </a:moveTo>
                  <a:lnTo>
                    <a:pt x="38743" y="0"/>
                  </a:lnTo>
                  <a:lnTo>
                    <a:pt x="38743" y="21600"/>
                  </a:lnTo>
                  <a:lnTo>
                    <a:pt x="0" y="21600"/>
                  </a:lnTo>
                  <a:close/>
                </a:path>
                <a:path fill="lightenLess" w="38743" h="21600">
                  <a:moveTo>
                    <a:pt x="0" y="0"/>
                  </a:moveTo>
                  <a:lnTo>
                    <a:pt x="38743" y="0"/>
                  </a:lnTo>
                  <a:lnTo>
                    <a:pt x="37343" y="1400"/>
                  </a:lnTo>
                  <a:lnTo>
                    <a:pt x="1400" y="1400"/>
                  </a:lnTo>
                  <a:close/>
                </a:path>
                <a:path fill="darken" w="38743" h="21600">
                  <a:moveTo>
                    <a:pt x="38743" y="0"/>
                  </a:moveTo>
                  <a:lnTo>
                    <a:pt x="38743" y="21600"/>
                  </a:lnTo>
                  <a:lnTo>
                    <a:pt x="37343" y="20200"/>
                  </a:lnTo>
                  <a:lnTo>
                    <a:pt x="37343" y="1400"/>
                  </a:lnTo>
                  <a:close/>
                </a:path>
                <a:path fill="darkenLess" w="38743" h="21600">
                  <a:moveTo>
                    <a:pt x="3874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343" y="20200"/>
                  </a:lnTo>
                  <a:close/>
                </a:path>
                <a:path fill="lighten" w="3874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8743" h="21600">
                  <a:moveTo>
                    <a:pt x="12365" y="3794"/>
                  </a:moveTo>
                  <a:lnTo>
                    <a:pt x="26378" y="10800"/>
                  </a:lnTo>
                  <a:lnTo>
                    <a:pt x="12365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Типы файл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7588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и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документы, которые создает пользовател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ля работы О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в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информация хранится в сжатом вид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ен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ля промежуточных результа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еб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строй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7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Имя файла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125000"/>
            <a:ext cx="76201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е имя файла состоит из имен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ширения, разделенных точ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.txt, letter.gi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-D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я файла может содержать до 8 букв латинского алфавита, цифр и некоторых специальных симв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я файла может содержать до 255 символов (можно использовать буквы русского алфави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ционная система соотносит файл по его расширению с программой, с помощью которой он может быть открыт для просмо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8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мя файл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е имя файла однозначно определяет местоположение любого файла на носите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о состоит из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ути к файл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включает имя устройства, систему каталогов, собственное имя файла и расшир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:\schools\info2006\index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асширение файл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1981080"/>
            <a:ext cx="67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кстовы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xt, 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ч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ческ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f, bmp, 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ны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, 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, co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исполняем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иц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вны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j, rar, 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8:49:05Z</dcterms:created>
  <dc:creator>Valya</dc:creator>
  <dc:description/>
  <dc:language>en-US</dc:language>
  <cp:lastModifiedBy>Admin</cp:lastModifiedBy>
  <dcterms:modified xsi:type="dcterms:W3CDTF">2015-02-04T19:56:21Z</dcterms:modified>
  <cp:revision>32</cp:revision>
  <dc:subject/>
  <dc:title>ФАЙЛЫ И ПАПКИ</dc:title>
</cp:coreProperties>
</file>