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10691813" cy="7559675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777F5-7FCA-430A-9FA8-341FBA4FCF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2E055-D8B7-470F-BB38-7CBFEBECD0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03BC0-A4D8-4FB0-97E8-12A6941462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D7816-8526-4322-89B5-395A85EEBE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033F-1050-4167-8EE8-D72C75243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B946-C5EF-43A3-87C2-65EC175C7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7175-71DA-431F-9D1D-4215C68AC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756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4088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756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4088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0E55-03C7-4DE3-A4FF-B3618890F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FEC0-3F64-4769-BB07-6E5E5566EC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9750-934F-4054-9DD6-DB3AAA599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D8E6-BA5F-4143-85B9-AD2F6F2F77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94BB-F2BD-488C-9E9B-2DE694C5FB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A779-12BE-432F-8665-BBB3B2133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4960" y="539640"/>
            <a:ext cx="98503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C76C-8DE4-419C-80C3-21523B1683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9269-8509-4859-9DF8-1B618129A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C3AB-EC8B-4568-9C9C-1C6644E01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E762-195E-4F5E-BE72-A0DE8BE7C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CADC-8560-4AEB-89C9-688899968C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289A-52BD-4EA2-A0AD-784D9CE3C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45C6-4F5D-4A4F-AEF4-B7D933B325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756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040880" y="176832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756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040880" y="4374000"/>
            <a:ext cx="3097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7F48-B423-4B93-A596-E680634F67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D4CF-1DB4-481B-A4F8-28ED744F4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B151-3064-4EE9-AF23-5D1518F7D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AA21-2DC5-4B98-AEE0-A4859D5FD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4960" y="539640"/>
            <a:ext cx="98503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286E-43DF-48E0-92F4-57452267B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6CF2-F10D-4145-A85E-859275ADE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64800" y="437400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024A-52E3-41E1-AE9F-C8A5F0ECD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64800" y="1768320"/>
            <a:ext cx="4695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1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ABE1-444F-4A21-A29D-5E16DDAC8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701360" cy="756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240" y="6421320"/>
            <a:ext cx="301680" cy="11401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0" y="6419880"/>
            <a:ext cx="345960" cy="1141560"/>
          </a:xfrm>
          <a:prstGeom prst="rect">
            <a:avLst/>
          </a:prstGeom>
          <a:solidFill>
            <a:srgbClr val="f88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4"/>
          <a:stretch/>
        </p:blipFill>
        <p:spPr>
          <a:xfrm>
            <a:off x="0" y="6072120"/>
            <a:ext cx="1300320" cy="149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1060560" y="7157880"/>
            <a:ext cx="790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73414F-EF47-439C-8F00-77B50D0AC702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701360" cy="756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3240" y="6421320"/>
            <a:ext cx="301680" cy="1140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6419880"/>
            <a:ext cx="345960" cy="1141560"/>
          </a:xfrm>
          <a:prstGeom prst="rect">
            <a:avLst/>
          </a:prstGeom>
          <a:solidFill>
            <a:srgbClr val="f88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0" y="6072120"/>
            <a:ext cx="1300320" cy="149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5"/>
          <a:stretch/>
        </p:blipFill>
        <p:spPr>
          <a:xfrm>
            <a:off x="4680" y="0"/>
            <a:ext cx="10684080" cy="7561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539640"/>
            <a:ext cx="98503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988920" y="7157880"/>
            <a:ext cx="790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328865-D3A5-43E5-BC05-2B949C69CC4F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6"/>
          <a:stretch/>
        </p:blipFill>
        <p:spPr>
          <a:xfrm>
            <a:off x="3240" y="6421320"/>
            <a:ext cx="301680" cy="1140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9"/>
          <p:cNvSpPr/>
          <p:nvPr/>
        </p:nvSpPr>
        <p:spPr>
          <a:xfrm>
            <a:off x="0" y="6419880"/>
            <a:ext cx="345960" cy="1141560"/>
          </a:xfrm>
          <a:prstGeom prst="rect">
            <a:avLst/>
          </a:prstGeom>
          <a:solidFill>
            <a:srgbClr val="f88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0" y="6067440"/>
            <a:ext cx="1300320" cy="149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1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4" descr="http://cs605531.vk.me/v605531250/645a/EU_4ajSTW_Y.jpg"/>
          <p:cNvPicPr/>
          <p:nvPr/>
        </p:nvPicPr>
        <p:blipFill>
          <a:blip r:embed="rId1"/>
          <a:stretch/>
        </p:blipFill>
        <p:spPr>
          <a:xfrm>
            <a:off x="433440" y="3548160"/>
            <a:ext cx="2370240" cy="2371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988920" y="7157880"/>
            <a:ext cx="792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E8CD850-F6E5-48C3-822A-5CE0ACBFF99D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http://www.playcast.ru/uploads/2014/10/20/10291218.png"/>
          <p:cNvPicPr/>
          <p:nvPr/>
        </p:nvPicPr>
        <p:blipFill>
          <a:blip r:embed="rId2"/>
          <a:stretch/>
        </p:blipFill>
        <p:spPr>
          <a:xfrm>
            <a:off x="8226360" y="971640"/>
            <a:ext cx="2876760" cy="26953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6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6" descr="http://stat18.privet.ru/lr/0a273f006ca8ee4f49f1ecdfb636235f"/>
          <p:cNvPicPr/>
          <p:nvPr/>
        </p:nvPicPr>
        <p:blipFill>
          <a:blip r:embed="rId3"/>
          <a:stretch/>
        </p:blipFill>
        <p:spPr>
          <a:xfrm rot="14917800">
            <a:off x="2994120" y="5577120"/>
            <a:ext cx="962280" cy="1440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9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5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7" descr="https://encrypted-tbn0.gstatic.com/images?q=tbn:ANd9GcQ_PFA1l_mXtLDGZXmeKtjzRiVJjd58zFBk0xHaTKTxnn3bIY0XKQ"/>
          <p:cNvPicPr/>
          <p:nvPr/>
        </p:nvPicPr>
        <p:blipFill>
          <a:blip r:embed="rId4"/>
          <a:stretch/>
        </p:blipFill>
        <p:spPr>
          <a:xfrm>
            <a:off x="5562720" y="5653080"/>
            <a:ext cx="212544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https://encrypted-tbn0.gstatic.com/images?q=tbn:ANd9GcR4U27jr6PagwcrTT6W0dPdTKujLiqkmMrXFyUPoZuTm_UiHqpklQ"/>
          <p:cNvPicPr/>
          <p:nvPr/>
        </p:nvPicPr>
        <p:blipFill>
          <a:blip r:embed="rId5"/>
          <a:stretch/>
        </p:blipFill>
        <p:spPr>
          <a:xfrm>
            <a:off x="2033640" y="1260360"/>
            <a:ext cx="209880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7" descr=""/>
          <p:cNvPicPr/>
          <p:nvPr/>
        </p:nvPicPr>
        <p:blipFill>
          <a:blip r:embed="rId6"/>
          <a:stretch/>
        </p:blipFill>
        <p:spPr>
          <a:xfrm>
            <a:off x="523800" y="347760"/>
            <a:ext cx="9570960" cy="104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https://encrypted-tbn1.gstatic.com/images?q=tbn:ANd9GcTkfONH9Lti4htLQfNdXYir7179BISYWTpeigDqCN0d4u_6dEojpg"/>
          <p:cNvPicPr/>
          <p:nvPr/>
        </p:nvPicPr>
        <p:blipFill>
          <a:blip r:embed="rId7"/>
          <a:stretch/>
        </p:blipFill>
        <p:spPr>
          <a:xfrm>
            <a:off x="6786720" y="3852720"/>
            <a:ext cx="164772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https://encrypted-tbn3.gstatic.com/images?q=tbn:ANd9GcTEyzx-BouoQnQjt7Z8VtyE0MmT66ul6MW2ktS-YtaBqFBaKG_q"/>
          <p:cNvPicPr/>
          <p:nvPr/>
        </p:nvPicPr>
        <p:blipFill>
          <a:blip r:embed="rId8"/>
          <a:stretch/>
        </p:blipFill>
        <p:spPr>
          <a:xfrm>
            <a:off x="5634000" y="1836720"/>
            <a:ext cx="1317600" cy="14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https://encrypted-tbn0.gstatic.com/images?q=tbn:ANd9GcQ0WCSR5jbQExqew7EH_3rKcTiu8Q07Li550SPxWA3uC5tTbgYc"/>
          <p:cNvPicPr/>
          <p:nvPr/>
        </p:nvPicPr>
        <p:blipFill>
          <a:blip r:embed="rId9"/>
          <a:stretch/>
        </p:blipFill>
        <p:spPr>
          <a:xfrm>
            <a:off x="4338720" y="4572000"/>
            <a:ext cx="145872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14" name="Скругленная соединительная линия 33"/>
          <p:cNvCxnSpPr/>
          <p:nvPr/>
        </p:nvCxnSpPr>
        <p:spPr>
          <a:xfrm flipV="1">
            <a:off x="2393640" y="3131280"/>
            <a:ext cx="6049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15" name="Picture 47" descr="https://encrypted-tbn1.gstatic.com/images?q=tbn:ANd9GcTlVuac1pFcsNe_dX5QCki_bZBaSFb0W66FZaD-qa9jTSahEClg"/>
          <p:cNvPicPr/>
          <p:nvPr/>
        </p:nvPicPr>
        <p:blipFill>
          <a:blip r:embed="rId10"/>
          <a:stretch/>
        </p:blipFill>
        <p:spPr>
          <a:xfrm>
            <a:off x="8370720" y="4429080"/>
            <a:ext cx="11574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9" descr="https://encrypted-tbn0.gstatic.com/images?q=tbn:ANd9GcQwvSGbTlRv46-CBRsvU9zcbsvS4Df1ToMM6zkK4JYTSEYmqsGVKQ"/>
          <p:cNvPicPr/>
          <p:nvPr/>
        </p:nvPicPr>
        <p:blipFill>
          <a:blip r:embed="rId11"/>
          <a:stretch/>
        </p:blipFill>
        <p:spPr>
          <a:xfrm>
            <a:off x="2322360" y="2771640"/>
            <a:ext cx="283860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60560" y="7157880"/>
            <a:ext cx="792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9D12B3B-3D14-4398-91D0-D773DE458B89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9112" t="0" r="8731" b="0"/>
          <a:stretch/>
        </p:blipFill>
        <p:spPr>
          <a:xfrm>
            <a:off x="0" y="5041800"/>
            <a:ext cx="3684600" cy="25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186000" y="5724360"/>
            <a:ext cx="2165400" cy="136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 flipH="1" rot="21000000">
            <a:off x="3589200" y="6095880"/>
            <a:ext cx="1476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ите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11" descr=""/>
          <p:cNvPicPr/>
          <p:nvPr/>
        </p:nvPicPr>
        <p:blipFill>
          <a:blip r:embed="rId3"/>
          <a:stretch/>
        </p:blipFill>
        <p:spPr>
          <a:xfrm>
            <a:off x="1859040" y="298440"/>
            <a:ext cx="8388360" cy="90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https://encrypted-tbn0.gstatic.com/images?q=tbn:ANd9GcQ9-xQZ7Fc7RXdd4S-CC_F22IXy0I4IGPuhy592xMNvc8rW1YJoeg"/>
          <p:cNvPicPr/>
          <p:nvPr/>
        </p:nvPicPr>
        <p:blipFill>
          <a:blip r:embed="rId4"/>
          <a:stretch/>
        </p:blipFill>
        <p:spPr>
          <a:xfrm>
            <a:off x="666720" y="1116000"/>
            <a:ext cx="165420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низ 13"/>
          <p:cNvSpPr/>
          <p:nvPr/>
        </p:nvSpPr>
        <p:spPr>
          <a:xfrm>
            <a:off x="1459080" y="1981080"/>
            <a:ext cx="287280" cy="3589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5" descr="https://encrypted-tbn1.gstatic.com/images?q=tbn:ANd9GcRTavBHwQVUfDUZ8JpP2NJ90GAJDs3dKsCEX3bsmbIDpxEbRb2Q"/>
          <p:cNvPicPr/>
          <p:nvPr/>
        </p:nvPicPr>
        <p:blipFill>
          <a:blip r:embed="rId5"/>
          <a:stretch/>
        </p:blipFill>
        <p:spPr>
          <a:xfrm>
            <a:off x="882720" y="2413080"/>
            <a:ext cx="1441440" cy="10792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низ 15"/>
          <p:cNvSpPr/>
          <p:nvPr/>
        </p:nvSpPr>
        <p:spPr>
          <a:xfrm>
            <a:off x="1530360" y="3492360"/>
            <a:ext cx="287280" cy="36036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https://encrypted-tbn2.gstatic.com/images?q=tbn:ANd9GcSDQNLmdLnKIC1jsjryVzTKrbTTIWJu-RBEOBisfl19IR5qMKvGLw"/>
          <p:cNvPicPr/>
          <p:nvPr/>
        </p:nvPicPr>
        <p:blipFill>
          <a:blip r:embed="rId6"/>
          <a:stretch/>
        </p:blipFill>
        <p:spPr>
          <a:xfrm>
            <a:off x="954000" y="3924360"/>
            <a:ext cx="129060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Стрелка вправо 18"/>
          <p:cNvSpPr/>
          <p:nvPr/>
        </p:nvSpPr>
        <p:spPr>
          <a:xfrm>
            <a:off x="2538360" y="4500720"/>
            <a:ext cx="432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9" descr="https://encrypted-tbn3.gstatic.com/images?q=tbn:ANd9GcQnrjDekN3iCapwxYk6TXgdVlTuAfJuuTqcNW3L6jqMGazEnRjtYQ"/>
          <p:cNvPicPr/>
          <p:nvPr/>
        </p:nvPicPr>
        <p:blipFill>
          <a:blip r:embed="rId7"/>
          <a:stretch/>
        </p:blipFill>
        <p:spPr>
          <a:xfrm>
            <a:off x="3186000" y="3997440"/>
            <a:ext cx="1416240" cy="107928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верх 20"/>
          <p:cNvSpPr/>
          <p:nvPr/>
        </p:nvSpPr>
        <p:spPr>
          <a:xfrm>
            <a:off x="3691080" y="3421080"/>
            <a:ext cx="215640" cy="35892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право 22"/>
          <p:cNvSpPr/>
          <p:nvPr/>
        </p:nvSpPr>
        <p:spPr>
          <a:xfrm>
            <a:off x="4338720" y="2556000"/>
            <a:ext cx="431640" cy="288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3" descr="https://encrypted-tbn1.gstatic.com/images?q=tbn:ANd9GcS4BPC5D95mJZ4KSfV9OiJyVw0wwP6KPSfo49ra7O0mal6ZPXGj"/>
          <p:cNvPicPr/>
          <p:nvPr/>
        </p:nvPicPr>
        <p:blipFill>
          <a:blip r:embed="rId8"/>
          <a:stretch/>
        </p:blipFill>
        <p:spPr>
          <a:xfrm>
            <a:off x="4986360" y="1763640"/>
            <a:ext cx="77940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Стрелка вправо 24"/>
          <p:cNvSpPr/>
          <p:nvPr/>
        </p:nvSpPr>
        <p:spPr>
          <a:xfrm>
            <a:off x="6067440" y="2556000"/>
            <a:ext cx="431640" cy="288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5" descr="https://encrypted-tbn2.gstatic.com/images?q=tbn:ANd9GcSN1iGnr8GknX57KEHSYWLmy9zHDZXSw_cTHDu06u_fJxoO31i0"/>
          <p:cNvPicPr/>
          <p:nvPr/>
        </p:nvPicPr>
        <p:blipFill>
          <a:blip r:embed="rId9"/>
          <a:stretch/>
        </p:blipFill>
        <p:spPr>
          <a:xfrm>
            <a:off x="6570720" y="1908000"/>
            <a:ext cx="1136520" cy="115272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право 26"/>
          <p:cNvSpPr/>
          <p:nvPr/>
        </p:nvSpPr>
        <p:spPr>
          <a:xfrm>
            <a:off x="7867800" y="2556000"/>
            <a:ext cx="431640" cy="288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1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5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9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1" descr="http://artgrafica.net/uploads/posts/2012-04/1333347748_artgrafica.net_nvxriqhyf3eopdd.jpeg"/>
          <p:cNvPicPr/>
          <p:nvPr/>
        </p:nvPicPr>
        <p:blipFill>
          <a:blip r:embed="rId10"/>
          <a:stretch/>
        </p:blipFill>
        <p:spPr>
          <a:xfrm>
            <a:off x="8586720" y="1476360"/>
            <a:ext cx="882720" cy="154800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низ 35"/>
          <p:cNvSpPr/>
          <p:nvPr/>
        </p:nvSpPr>
        <p:spPr>
          <a:xfrm>
            <a:off x="8875800" y="3060720"/>
            <a:ext cx="287280" cy="360360"/>
          </a:xfrm>
          <a:prstGeom prst="downArrow">
            <a:avLst>
              <a:gd name="adj1" fmla="val 50000"/>
              <a:gd name="adj2" fmla="val 501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3" descr="https://encrypted-tbn3.gstatic.com/images?q=tbn:ANd9GcRx19V_WIaGcKRNofIW1BhFMwWAE73ivsapF9Waga9KLG9LNpbq"/>
          <p:cNvPicPr/>
          <p:nvPr/>
        </p:nvPicPr>
        <p:blipFill>
          <a:blip r:embed="rId11"/>
          <a:stretch/>
        </p:blipFill>
        <p:spPr>
          <a:xfrm>
            <a:off x="8226360" y="3421080"/>
            <a:ext cx="2052720" cy="14400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лево 37"/>
          <p:cNvSpPr/>
          <p:nvPr/>
        </p:nvSpPr>
        <p:spPr>
          <a:xfrm>
            <a:off x="8010360" y="4068720"/>
            <a:ext cx="360360" cy="2160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5" descr="https://encrypted-tbn0.gstatic.com/images?q=tbn:ANd9GcQxE1SnBljLH1fIahnYg5abWXMY4phkA0S4-8RlsuJUuA5JSooy"/>
          <p:cNvPicPr/>
          <p:nvPr/>
        </p:nvPicPr>
        <p:blipFill>
          <a:blip r:embed="rId12"/>
          <a:stretch/>
        </p:blipFill>
        <p:spPr>
          <a:xfrm>
            <a:off x="6354720" y="3708360"/>
            <a:ext cx="150660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Стрелка вниз 39"/>
          <p:cNvSpPr/>
          <p:nvPr/>
        </p:nvSpPr>
        <p:spPr>
          <a:xfrm>
            <a:off x="7002360" y="4789440"/>
            <a:ext cx="289080" cy="358920"/>
          </a:xfrm>
          <a:prstGeom prst="downArrow">
            <a:avLst>
              <a:gd name="adj1" fmla="val 50000"/>
              <a:gd name="adj2" fmla="val 496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7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9" descr="http://img3.proshkolu.ru/content/media/pic/std/3000000/2964000/2963512-7fcbed3f80bfe544.jpg"/>
          <p:cNvPicPr/>
          <p:nvPr/>
        </p:nvPicPr>
        <p:blipFill>
          <a:blip r:embed="rId13"/>
          <a:stretch/>
        </p:blipFill>
        <p:spPr>
          <a:xfrm>
            <a:off x="6499080" y="5508720"/>
            <a:ext cx="1295640" cy="107928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право 42"/>
          <p:cNvSpPr/>
          <p:nvPr/>
        </p:nvSpPr>
        <p:spPr>
          <a:xfrm>
            <a:off x="8010360" y="5797440"/>
            <a:ext cx="432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1" descr="https://encrypted-tbn3.gstatic.com/images?q=tbn:ANd9GcR5AQjsN8_H2V11IT89WpkfqSXn8BYEMM6wotcT0KJeF29854Cl2g"/>
          <p:cNvPicPr/>
          <p:nvPr/>
        </p:nvPicPr>
        <p:blipFill>
          <a:blip r:embed="rId14"/>
          <a:stretch/>
        </p:blipFill>
        <p:spPr>
          <a:xfrm>
            <a:off x="8515440" y="5076720"/>
            <a:ext cx="176040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3" descr="https://encrypted-tbn2.gstatic.com/images?q=tbn:ANd9GcRfOM49bXZtisKi81wzkyLKGJmghhtsV2CC0vYM9W-9KKHQhzDq"/>
          <p:cNvPicPr/>
          <p:nvPr/>
        </p:nvPicPr>
        <p:blipFill>
          <a:blip r:embed="rId15"/>
          <a:stretch/>
        </p:blipFill>
        <p:spPr>
          <a:xfrm>
            <a:off x="2682720" y="1405080"/>
            <a:ext cx="15145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1060560" y="7157880"/>
            <a:ext cx="792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0A6059E-B0B0-4D70-A9D3-3EEAE7201C47}" type="slidenum">
              <a:rPr b="0" lang="ru-RU" sz="21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6" descr=""/>
          <p:cNvPicPr/>
          <p:nvPr/>
        </p:nvPicPr>
        <p:blipFill>
          <a:blip r:embed="rId1"/>
          <a:stretch/>
        </p:blipFill>
        <p:spPr>
          <a:xfrm>
            <a:off x="560520" y="493560"/>
            <a:ext cx="9912240" cy="646200"/>
          </a:xfrm>
          <a:prstGeom prst="rect">
            <a:avLst/>
          </a:prstGeom>
          <a:ln w="0">
            <a:noFill/>
          </a:ln>
        </p:spPr>
      </p:pic>
      <p:sp>
        <p:nvSpPr>
          <p:cNvPr id="155" name="7-конечная звезда 7"/>
          <p:cNvSpPr/>
          <p:nvPr/>
        </p:nvSpPr>
        <p:spPr>
          <a:xfrm>
            <a:off x="2754360" y="262908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7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2" y="370708"/>
                </a:lnTo>
                <a:lnTo>
                  <a:pt x="1752103" y="370707"/>
                </a:lnTo>
                <a:lnTo>
                  <a:pt x="1645228" y="832973"/>
                </a:lnTo>
                <a:lnTo>
                  <a:pt x="1944692" y="1203679"/>
                </a:lnTo>
                <a:lnTo>
                  <a:pt x="1511953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2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http://foto-ramki.com/personaj/clipart-73.jpg"/>
          <p:cNvPicPr/>
          <p:nvPr/>
        </p:nvPicPr>
        <p:blipFill>
          <a:blip r:embed="rId2"/>
          <a:stretch/>
        </p:blipFill>
        <p:spPr>
          <a:xfrm>
            <a:off x="954000" y="1836720"/>
            <a:ext cx="1177920" cy="1440000"/>
          </a:xfrm>
          <a:prstGeom prst="rect">
            <a:avLst/>
          </a:prstGeom>
          <a:ln w="0">
            <a:noFill/>
          </a:ln>
        </p:spPr>
      </p:pic>
      <p:sp>
        <p:nvSpPr>
          <p:cNvPr id="159" name="7-конечная звезда 11"/>
          <p:cNvSpPr/>
          <p:nvPr/>
        </p:nvSpPr>
        <p:spPr>
          <a:xfrm>
            <a:off x="603360" y="1413000"/>
            <a:ext cx="1942920" cy="1871640"/>
          </a:xfrm>
          <a:custGeom>
            <a:avLst/>
            <a:gdLst>
              <a:gd name="textAreaLeft" fmla="*/ 432360 w 1942920"/>
              <a:gd name="textAreaRight" fmla="*/ 1510560 w 19429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3100" h="1871663">
                <a:moveTo>
                  <a:pt x="-5" y="1203679"/>
                </a:moveTo>
                <a:lnTo>
                  <a:pt x="299214" y="832973"/>
                </a:lnTo>
                <a:lnTo>
                  <a:pt x="192426" y="370707"/>
                </a:lnTo>
                <a:lnTo>
                  <a:pt x="672336" y="370708"/>
                </a:lnTo>
                <a:lnTo>
                  <a:pt x="971550" y="0"/>
                </a:lnTo>
                <a:lnTo>
                  <a:pt x="1270764" y="370708"/>
                </a:lnTo>
                <a:lnTo>
                  <a:pt x="1750674" y="370707"/>
                </a:lnTo>
                <a:lnTo>
                  <a:pt x="1643886" y="832973"/>
                </a:lnTo>
                <a:lnTo>
                  <a:pt x="1943105" y="1203679"/>
                </a:lnTo>
                <a:lnTo>
                  <a:pt x="1510719" y="1409406"/>
                </a:lnTo>
                <a:lnTo>
                  <a:pt x="1403928" y="1871673"/>
                </a:lnTo>
                <a:lnTo>
                  <a:pt x="971550" y="1665943"/>
                </a:lnTo>
                <a:lnTo>
                  <a:pt x="539172" y="1871673"/>
                </a:lnTo>
                <a:lnTo>
                  <a:pt x="432381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7-конечная звезда 12"/>
          <p:cNvSpPr/>
          <p:nvPr/>
        </p:nvSpPr>
        <p:spPr>
          <a:xfrm>
            <a:off x="7434360" y="1332000"/>
            <a:ext cx="1944720" cy="187308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800 h 1873080"/>
              <a:gd name="textAreaBottom" fmla="*/ 1410480 h 1873080"/>
            </a:gdLst>
            <a:ahLst/>
            <a:rect l="textAreaLeft" t="textAreaTop" r="textAreaRight" b="textAreaBottom"/>
            <a:pathLst>
              <a:path w="1944687" h="1873250">
                <a:moveTo>
                  <a:pt x="-5" y="1204700"/>
                </a:moveTo>
                <a:lnTo>
                  <a:pt x="299459" y="833679"/>
                </a:lnTo>
                <a:lnTo>
                  <a:pt x="192584" y="371022"/>
                </a:lnTo>
                <a:lnTo>
                  <a:pt x="672885" y="371022"/>
                </a:lnTo>
                <a:lnTo>
                  <a:pt x="972344" y="0"/>
                </a:lnTo>
                <a:lnTo>
                  <a:pt x="1271802" y="371022"/>
                </a:lnTo>
                <a:lnTo>
                  <a:pt x="1752103" y="371022"/>
                </a:lnTo>
                <a:lnTo>
                  <a:pt x="1645228" y="833679"/>
                </a:lnTo>
                <a:lnTo>
                  <a:pt x="1944692" y="1204700"/>
                </a:lnTo>
                <a:lnTo>
                  <a:pt x="1511953" y="1410601"/>
                </a:lnTo>
                <a:lnTo>
                  <a:pt x="1405075" y="1873260"/>
                </a:lnTo>
                <a:lnTo>
                  <a:pt x="972344" y="1667356"/>
                </a:lnTo>
                <a:lnTo>
                  <a:pt x="539612" y="1873260"/>
                </a:lnTo>
                <a:lnTo>
                  <a:pt x="432734" y="1410601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7-конечная звезда 13"/>
          <p:cNvSpPr/>
          <p:nvPr/>
        </p:nvSpPr>
        <p:spPr>
          <a:xfrm>
            <a:off x="4915080" y="1260360"/>
            <a:ext cx="1944360" cy="1871640"/>
          </a:xfrm>
          <a:custGeom>
            <a:avLst/>
            <a:gdLst>
              <a:gd name="textAreaLeft" fmla="*/ 432720 w 1944360"/>
              <a:gd name="textAreaRight" fmla="*/ 1511640 w 194436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8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3" y="370708"/>
                </a:lnTo>
                <a:lnTo>
                  <a:pt x="1752104" y="370707"/>
                </a:lnTo>
                <a:lnTo>
                  <a:pt x="1645229" y="832973"/>
                </a:lnTo>
                <a:lnTo>
                  <a:pt x="1944693" y="1203679"/>
                </a:lnTo>
                <a:lnTo>
                  <a:pt x="1511954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3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7-конечная звезда 14"/>
          <p:cNvSpPr/>
          <p:nvPr/>
        </p:nvSpPr>
        <p:spPr>
          <a:xfrm>
            <a:off x="8370720" y="450072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7" h="1871662">
                <a:moveTo>
                  <a:pt x="-5" y="1203678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2" y="370708"/>
                </a:lnTo>
                <a:lnTo>
                  <a:pt x="1752103" y="370707"/>
                </a:lnTo>
                <a:lnTo>
                  <a:pt x="1645228" y="832973"/>
                </a:lnTo>
                <a:lnTo>
                  <a:pt x="1944692" y="1203678"/>
                </a:lnTo>
                <a:lnTo>
                  <a:pt x="1511953" y="1409405"/>
                </a:lnTo>
                <a:lnTo>
                  <a:pt x="1405075" y="1871672"/>
                </a:lnTo>
                <a:lnTo>
                  <a:pt x="972344" y="1665942"/>
                </a:lnTo>
                <a:lnTo>
                  <a:pt x="539612" y="1871672"/>
                </a:lnTo>
                <a:lnTo>
                  <a:pt x="432734" y="1409405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-конечная звезда 15"/>
          <p:cNvSpPr/>
          <p:nvPr/>
        </p:nvSpPr>
        <p:spPr>
          <a:xfrm>
            <a:off x="809640" y="421308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8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3" y="370708"/>
                </a:lnTo>
                <a:lnTo>
                  <a:pt x="1752104" y="370707"/>
                </a:lnTo>
                <a:lnTo>
                  <a:pt x="1645229" y="832973"/>
                </a:lnTo>
                <a:lnTo>
                  <a:pt x="1944693" y="1203679"/>
                </a:lnTo>
                <a:lnTo>
                  <a:pt x="1511954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3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7-конечная звезда 16"/>
          <p:cNvSpPr/>
          <p:nvPr/>
        </p:nvSpPr>
        <p:spPr>
          <a:xfrm>
            <a:off x="5634000" y="3997440"/>
            <a:ext cx="1944720" cy="1871640"/>
          </a:xfrm>
          <a:custGeom>
            <a:avLst/>
            <a:gdLst>
              <a:gd name="textAreaLeft" fmla="*/ 432720 w 1944720"/>
              <a:gd name="textAreaRight" fmla="*/ 1512000 w 1944720"/>
              <a:gd name="textAreaTop" fmla="*/ 370440 h 1871640"/>
              <a:gd name="textAreaBottom" fmla="*/ 1409400 h 1871640"/>
            </a:gdLst>
            <a:ahLst/>
            <a:rect l="textAreaLeft" t="textAreaTop" r="textAreaRight" b="textAreaBottom"/>
            <a:pathLst>
              <a:path w="1944687" h="1871663">
                <a:moveTo>
                  <a:pt x="-5" y="1203679"/>
                </a:moveTo>
                <a:lnTo>
                  <a:pt x="299459" y="832973"/>
                </a:lnTo>
                <a:lnTo>
                  <a:pt x="192584" y="370707"/>
                </a:lnTo>
                <a:lnTo>
                  <a:pt x="672885" y="370708"/>
                </a:lnTo>
                <a:lnTo>
                  <a:pt x="972344" y="0"/>
                </a:lnTo>
                <a:lnTo>
                  <a:pt x="1271802" y="370708"/>
                </a:lnTo>
                <a:lnTo>
                  <a:pt x="1752103" y="370707"/>
                </a:lnTo>
                <a:lnTo>
                  <a:pt x="1645228" y="832973"/>
                </a:lnTo>
                <a:lnTo>
                  <a:pt x="1944692" y="1203679"/>
                </a:lnTo>
                <a:lnTo>
                  <a:pt x="1511953" y="1409406"/>
                </a:lnTo>
                <a:lnTo>
                  <a:pt x="1405075" y="1871673"/>
                </a:lnTo>
                <a:lnTo>
                  <a:pt x="972344" y="1665943"/>
                </a:lnTo>
                <a:lnTo>
                  <a:pt x="539612" y="1871673"/>
                </a:lnTo>
                <a:lnTo>
                  <a:pt x="432734" y="1409406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-конечная звезда 17"/>
          <p:cNvSpPr/>
          <p:nvPr/>
        </p:nvSpPr>
        <p:spPr>
          <a:xfrm>
            <a:off x="2970360" y="4716360"/>
            <a:ext cx="2160360" cy="2089080"/>
          </a:xfrm>
          <a:custGeom>
            <a:avLst/>
            <a:gdLst>
              <a:gd name="textAreaLeft" fmla="*/ 480600 w 2160360"/>
              <a:gd name="textAreaRight" fmla="*/ 1679760 w 2160360"/>
              <a:gd name="textAreaTop" fmla="*/ 413640 h 2089080"/>
              <a:gd name="textAreaBottom" fmla="*/ 1573200 h 2089080"/>
            </a:gdLst>
            <a:ahLst/>
            <a:rect l="textAreaLeft" t="textAreaTop" r="textAreaRight" b="textAreaBottom"/>
            <a:pathLst>
              <a:path w="2160587" h="2089150">
                <a:moveTo>
                  <a:pt x="-6" y="1343546"/>
                </a:moveTo>
                <a:lnTo>
                  <a:pt x="332705" y="929765"/>
                </a:lnTo>
                <a:lnTo>
                  <a:pt x="213964" y="413784"/>
                </a:lnTo>
                <a:lnTo>
                  <a:pt x="747589" y="413784"/>
                </a:lnTo>
                <a:lnTo>
                  <a:pt x="1080294" y="0"/>
                </a:lnTo>
                <a:lnTo>
                  <a:pt x="1412998" y="413784"/>
                </a:lnTo>
                <a:lnTo>
                  <a:pt x="1946623" y="413784"/>
                </a:lnTo>
                <a:lnTo>
                  <a:pt x="1827882" y="929765"/>
                </a:lnTo>
                <a:lnTo>
                  <a:pt x="2160593" y="1343546"/>
                </a:lnTo>
                <a:lnTo>
                  <a:pt x="1679811" y="1573179"/>
                </a:lnTo>
                <a:lnTo>
                  <a:pt x="1561067" y="2089161"/>
                </a:lnTo>
                <a:lnTo>
                  <a:pt x="1080294" y="1859526"/>
                </a:lnTo>
                <a:lnTo>
                  <a:pt x="599520" y="2089161"/>
                </a:lnTo>
                <a:lnTo>
                  <a:pt x="480776" y="1573179"/>
                </a:lnTo>
                <a:close/>
              </a:path>
            </a:pathLst>
          </a:cu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https://encrypted-tbn2.gstatic.com/images?q=tbn:ANd9GcSpNqCv9pCg99TrSWKos7iSJXNgXLX7-b90-ck2x96Ia9DAW8JMPQ"/>
          <p:cNvPicPr/>
          <p:nvPr/>
        </p:nvPicPr>
        <p:blipFill>
          <a:blip r:embed="rId3"/>
          <a:stretch/>
        </p:blipFill>
        <p:spPr>
          <a:xfrm>
            <a:off x="5275440" y="1620720"/>
            <a:ext cx="1277640" cy="18003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6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http://fotodryg.ru/clipart/1/4/9.png"/>
          <p:cNvPicPr/>
          <p:nvPr/>
        </p:nvPicPr>
        <p:blipFill>
          <a:blip r:embed="rId4"/>
          <a:stretch/>
        </p:blipFill>
        <p:spPr>
          <a:xfrm>
            <a:off x="1170000" y="4645080"/>
            <a:ext cx="15098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http://fotodryg.ru/clipart/1/4/6.png"/>
          <p:cNvPicPr/>
          <p:nvPr/>
        </p:nvPicPr>
        <p:blipFill>
          <a:blip r:embed="rId5"/>
          <a:stretch/>
        </p:blipFill>
        <p:spPr>
          <a:xfrm>
            <a:off x="7507440" y="1692360"/>
            <a:ext cx="1531800" cy="143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https://encrypted-tbn1.gstatic.com/images?q=tbn:ANd9GcS5yHWoliez3YPkiTQ5-75uHTRbygrIK83934VTwcdyA_6bxc6j6Q"/>
          <p:cNvPicPr/>
          <p:nvPr/>
        </p:nvPicPr>
        <p:blipFill>
          <a:blip r:embed="rId6"/>
          <a:stretch/>
        </p:blipFill>
        <p:spPr>
          <a:xfrm>
            <a:off x="3330720" y="2989440"/>
            <a:ext cx="96660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ttp://trikky.ru/yandex/files/2013/07/youloveit_ru_rapunzel_new_images01.jpg"/>
          <p:cNvPicPr/>
          <p:nvPr/>
        </p:nvPicPr>
        <p:blipFill>
          <a:blip r:embed="rId7"/>
          <a:stretch/>
        </p:blipFill>
        <p:spPr>
          <a:xfrm>
            <a:off x="3402000" y="5148360"/>
            <a:ext cx="176832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http://www.kartinki24.ru/uploads/gallery/thumb/188/kartinki24_cartoons_pkv_0012.png"/>
          <p:cNvPicPr/>
          <p:nvPr/>
        </p:nvPicPr>
        <p:blipFill>
          <a:blip r:embed="rId8"/>
          <a:stretch/>
        </p:blipFill>
        <p:spPr>
          <a:xfrm>
            <a:off x="6210360" y="4356000"/>
            <a:ext cx="1063440" cy="1476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http://proza.ru/pics/2011/11/23/1488.jpg"/>
          <p:cNvPicPr/>
          <p:nvPr/>
        </p:nvPicPr>
        <p:blipFill>
          <a:blip r:embed="rId9"/>
          <a:stretch/>
        </p:blipFill>
        <p:spPr>
          <a:xfrm>
            <a:off x="7939080" y="5148360"/>
            <a:ext cx="19191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я</dc:creator>
  <dc:description/>
  <dc:language>en-US</dc:language>
  <cp:lastModifiedBy>Юля</cp:lastModifiedBy>
  <dcterms:modified xsi:type="dcterms:W3CDTF">2015-02-04T08:45:43Z</dcterms:modified>
  <cp:revision>43</cp:revision>
  <dc:subject/>
  <dc:title>Слайд 1</dc:title>
</cp:coreProperties>
</file>