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3FC-EDB2-4D25-AC37-5FCCED6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AF7-5073-4839-8DFF-66F86EC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C4A-BED7-4BAB-A637-093A4BF1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F77-FEAE-4542-8351-69662FED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235E-6DEC-4658-9FA3-F251ABC7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0F80-3011-44A2-A297-0FEF0C9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D52D-940F-4988-B301-E155F88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14C8-D500-407E-9EE8-4F558A5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5CB6-DE2C-455E-BA8D-A847B55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5F1-EFE2-4746-8793-4633776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B644-1CA9-495C-985F-BA28886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6C8-AE72-407E-A53D-B599ACD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54B4-29EF-4599-A9A9-31944FF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D4C8-91A3-4609-B15B-1AA5E66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C9F4-9681-4A0A-8525-1A704DC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160D-FB4F-4FBE-A13D-8688A22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CE21-B9AE-48D0-8A94-733424C1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BF2-FC84-44B7-A39B-027D801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C0D-B738-422C-8F57-E4F62F0C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7F1-0B40-4536-90A4-19F5F889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F9A-8008-423F-804E-8B376B0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A8C-36E8-48B2-8AB8-8C75A0E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9A1-6B3A-483F-81B2-35F6A3B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F26-D108-4CAE-A191-89EBE68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6577-204C-4ED3-B51F-B08C438E88B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F2E-6862-499F-8385-C427C26A4B7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Arial"/>
              </a:rPr>
              <a:t>Film Director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oslovskaya Lubov’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321080" cy="257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87280" y="4118040"/>
            <a:ext cx="4125960" cy="273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llaborate on screenplays with long-standing writing partn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0" y="4724280"/>
            <a:ext cx="4038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ppear in their fil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890960" cy="3260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4440" y="1484280"/>
            <a:ext cx="3459240" cy="5113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4935600" cy="329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pose a music score for their fil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Film Directo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film director is a person who directs the actors and crew in the making on a fil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2587680"/>
            <a:ext cx="6048360" cy="4027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are responsible for turning the script into a sequence of sho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2774880"/>
            <a:ext cx="4537080" cy="4083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direct what tone it should have and what an audience should gain from the cinematic experi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lm directors often takes part in hiring key crew memb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17816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635520" cy="4513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coordinate the actors moves, or block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441680" cy="295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utline a general plotline and let the actors improvise dialogu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36478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 every aspect, and demand that the actors and crew follow instructions precise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787400"/>
            <a:ext cx="3380040" cy="507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rite and produce their own fil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03520" cy="511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3606840"/>
            <a:ext cx="4824360" cy="3251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2:24Z</dcterms:created>
  <dc:creator>Hikaru</dc:creator>
  <dc:description/>
  <dc:language>en-US</dc:language>
  <cp:lastModifiedBy>Hikaru</cp:lastModifiedBy>
  <dcterms:modified xsi:type="dcterms:W3CDTF">2011-02-10T19:56:33Z</dcterms:modified>
  <cp:revision>2</cp:revision>
  <dc:subject/>
  <dc:title>Film Director</dc:title>
</cp:coreProperties>
</file>