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91B-8B66-4E41-AD54-6786939A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CC8-DC30-4D64-B248-BDBCF3AC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7F7-E22B-42F7-8FCD-FF8CC75F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E18-5DF5-4D3E-B711-3A09AAD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451-72FE-42D1-AA43-4663896F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F9F9-ACA2-4895-A210-B591D4F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A85F-3A7E-4CE7-8AFA-4EFE5669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5B25-E4B7-43AA-BFF3-645DEE2E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BEF3-79B3-4B58-B48D-8D8EEE1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C3FA-7DBF-4AA5-900B-9693260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AFCE-5EB1-4D35-807E-D13F706A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A53-DC9B-41B2-9ABA-E825626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3FC-DB5F-4C94-AFBF-F9D891B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79E-6922-4B3D-8CCB-847F9DE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8707-8D50-4913-8A43-A4212D3D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9B6-878E-49DE-8E49-E80EF0D3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1376-3EE2-4786-B8C8-204D3571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BC5-04B7-4D79-A40B-B81EC330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952-6FB5-4CB4-B031-E530B156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6CB-D54E-4B18-97FA-B3B9D556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E13-0EAE-4708-B840-A6742AF4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250-6324-4100-AB2E-1EEA79A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534-BCC9-457C-90EA-BF6501A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23C-CC7F-48E9-A1B7-158FAF2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A29A-65E9-4B6C-925A-D65DC48D95C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6A5-02AF-4830-BE92-F73522D1700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Arial"/>
              </a:rPr>
              <a:t>Film Director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oslovskaya Lubov’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321080" cy="257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87280" y="4118040"/>
            <a:ext cx="4125960" cy="273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llaborate on screenplays with long-standing writing partn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0" y="4724280"/>
            <a:ext cx="4038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ppear in their fil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4890960" cy="3260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4440" y="1484280"/>
            <a:ext cx="3459240" cy="5113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4935600" cy="329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pose a music score for their fil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Film Directo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film director is a person who directs the actors and crew in the making on a fil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2587680"/>
            <a:ext cx="6048360" cy="4027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are responsible for turning the script into a sequence of sho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2774880"/>
            <a:ext cx="4537080" cy="4083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direct what tone it should have and what an audience should gain from the cinematic experi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lm directors often takes part in hiring key crew membe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17816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Responsibilit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635520" cy="4513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y coordinate the actors moves, or block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441680" cy="295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utline a general plotline and let the actors improvise dialogu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36478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 every aspect, and demand that the actors and crew follow instructions precise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787400"/>
            <a:ext cx="3380040" cy="507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ndencies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rite and produce their own fil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03520" cy="511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3606840"/>
            <a:ext cx="4824360" cy="3251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22:24Z</dcterms:created>
  <dc:creator>Hikaru</dc:creator>
  <dc:description/>
  <dc:language>en-US</dc:language>
  <cp:lastModifiedBy>Hikaru</cp:lastModifiedBy>
  <dcterms:modified xsi:type="dcterms:W3CDTF">2011-02-10T19:56:33Z</dcterms:modified>
  <cp:revision>2</cp:revision>
  <dc:subject/>
  <dc:title>Film Director</dc:title>
</cp:coreProperties>
</file>