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927-E619-4EA6-B89F-88DC1FC8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A64-2AF4-4D6E-880C-4CBD5B1D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EAC-E1F1-420D-B045-15193A41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517-5277-4713-B14B-D7F6B6C9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8D85-40D0-4773-BFC9-F2BE4D9B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EA66-D4B8-4953-9983-65BA7BE9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ECB9-11EE-4220-94BC-7ACDA243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DB3E-4441-462C-9683-4EA6EE06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A7C4-5DD0-4236-A33F-C4165794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10A2-7401-4258-9CD1-AB88CB2A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AECC-17A0-400A-B8EE-7079E79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0DD-1AF1-4A11-BE4D-0161665F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FF6B-F07A-4837-9654-CC34A74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814B-4EDD-4B33-9CB3-7A3D43D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7BA6-F446-4D95-914D-B8DBAF9D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F0D4-925D-4344-BBE6-373231AA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C0D1-1844-46D2-AB09-C3FC3FBE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63A-0760-4E26-B042-C2EB102C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ADD-099B-4650-84DD-1EC6116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33A-407B-476F-B836-19FC2BCE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E7B-25D6-4F1C-A7F9-7648E3F0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7CA-73E2-457F-8260-312929A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BF5-5C0D-42E3-8475-2A3DE55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F46-846F-490E-8E0B-3D59454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EDC9-BBE2-420B-A0A9-6E05FFF728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D41C-9826-4345-B9A3-FDBEAFEA01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596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Геометрический турнир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 Эта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Мозгол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сякий зн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же лучш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я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задачку прочит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м же думать и реш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роще сложног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Разными способами разрезать прямоугольник на равные ча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3000">
    <p:split dir="in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4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морочки из боч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расшифровать полученную телефонограмм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5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636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Каждой руке – свое дел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попробуйте построить чертеж фигуры сразу обеими рука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6 Этап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эзия в геометр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«Вдохновение нужно в геометрии не меньше, чем  в поэзии.»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А.С.Пушкин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498920" cy="450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7 Эта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мнастика 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проверим ваши способности видеть невидим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b2b2b2"/>
                </a:solidFill>
                <a:uFillTx/>
                <a:latin typeface="Arial"/>
              </a:rPr>
              <a:t>Желаем успехов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Я подарить хочу вам свой секр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н будет  вас хранить от всяких бе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могут в геометрии достичь уме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мекалка, дружба и терпень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еометрия- это наука о свойствах геометрических фигур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сновными понятиями в геометрии являются точка , прямая, плоскост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736640"/>
            <a:ext cx="8353440" cy="51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 помощью этих понятий мы можем построить любую фигур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249640"/>
            <a:ext cx="4930920" cy="460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959280" cy="288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5292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сновной теоремой в геометрии является теорема Пифагор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вадрат гипотенузы равен сумме квадратов кат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икатура"/>
          <p:cNvPicPr/>
          <p:nvPr/>
        </p:nvPicPr>
        <p:blipFill>
          <a:blip r:embed="rId1"/>
          <a:stretch/>
        </p:blipFill>
        <p:spPr>
          <a:xfrm>
            <a:off x="7667640" y="189000"/>
            <a:ext cx="1773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ифагор Самосский- древнегреческий математ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л в 6 веке до нашей эры. Пифагор – это не имя, а прозвище, которое он получил за то, что всегда говорил верно и убедительно. (Пифагор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 убеждающий речью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Чертёж для доказательства №1"/>
          <p:cNvPicPr/>
          <p:nvPr/>
        </p:nvPicPr>
        <p:blipFill>
          <a:blip r:embed="rId1"/>
          <a:stretch/>
        </p:blipFill>
        <p:spPr>
          <a:xfrm>
            <a:off x="1908000" y="692280"/>
            <a:ext cx="532944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Этапы турнир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Этап «Геометрическое ралл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Вам предстоит совершить скоростной пробег по геометрическим понятия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8:44:24Z</dcterms:created>
  <dc:creator>User</dc:creator>
  <dc:description/>
  <dc:language>en-US</dc:language>
  <cp:lastModifiedBy>User</cp:lastModifiedBy>
  <dcterms:modified xsi:type="dcterms:W3CDTF">2008-12-17T16:43:11Z</dcterms:modified>
  <cp:revision>9</cp:revision>
  <dc:subject/>
  <dc:title>Геометрический турнир</dc:title>
</cp:coreProperties>
</file>