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488-DAFB-42E2-BA98-BA4858D6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E63-A4CE-40EF-9431-A1F62395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7410-C1E9-4923-9ACD-D700EFE8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00E-499D-40FD-87A2-5B1D4475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B8B9-26E9-4222-AFD5-3AE9FA32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7822-F21E-4E44-995A-D2357B3A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8CBF-BC06-4CF3-8672-21AC291A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973E-4C57-4073-91DD-3DC983B9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8F6A-B84C-422C-A36D-5AA5D09F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A572-EE3C-4C66-AD40-802EF923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E21A-445C-4DE4-B6AB-126B96F7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48F-AE66-4ABF-9A8D-8EE99C22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EB18-0349-4DE8-9CEC-97E5F1A1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D5F6-F1C2-4CF4-91CD-581C8D51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E342-4367-4863-9BC5-39B3DA86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4018-F829-4495-A6AE-A0A77F3E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7D1E-D447-46B7-97F3-3DF6BD60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604B-33A1-462A-9AC5-FF57F09F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CF2-A144-4F27-93B6-0CF2C9DD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460-A700-4562-B24E-6A534081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BBC6-6C49-461F-A81E-64D152E3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36D0-24BF-4653-920D-33264FD4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0E1-16B6-417D-984C-49E574A2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519E-79A9-43FC-B012-E9A29551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0392-F96A-4787-B3C5-928B656F7C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BA9E-FA3D-43E1-8B15-E163EC47CD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0596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Геометрический турнир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 Этап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3200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Мозголо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всякий зн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то же лучш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числяе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е задачку прочита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м же думать и реш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 этап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Проще сложног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Разными способами разрезать прямоугольник на равные част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3000">
    <p:split dir="in" orient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4 Этап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Заморочки из боч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 расшифровать полученную телефонограмму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5 Этап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76364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Каждой руке – свое дел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 попробуйте построить чертеж фигуры сразу обеими рукам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98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98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98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6 Этап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Поэзия в геометри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«Вдохновение нужно в геометрии не меньше, чем  в поэзии.»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А.С.Пушкин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4498920" cy="4508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50072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7 Этап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3200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имнастика у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проверим ваши способности видеть невидимо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b2b2b2"/>
                </a:solidFill>
                <a:uFillTx/>
                <a:latin typeface="Arial"/>
              </a:rPr>
              <a:t>Желаем успехов!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Я подарить хочу вам свой секр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н будет  вас хранить от всяких бед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омогут в геометрии достичь умен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мекалка, дружба и терпень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Геометрия- это наука о свойствах геометрических фигур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Основными понятиями в геометрии являются точка , прямая, плоскость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736640"/>
            <a:ext cx="8353440" cy="512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 помощью этих понятий мы можем построить любую фигуру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2249640"/>
            <a:ext cx="4930920" cy="4608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771640" y="1844640"/>
            <a:ext cx="3959280" cy="2886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292720" y="1844640"/>
            <a:ext cx="529272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Основной теоремой в геометрии является теорема Пифагора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вадрат гипотенузы равен сумме квадратов кате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Карикатура"/>
          <p:cNvPicPr/>
          <p:nvPr/>
        </p:nvPicPr>
        <p:blipFill>
          <a:blip r:embed="rId1"/>
          <a:stretch/>
        </p:blipFill>
        <p:spPr>
          <a:xfrm>
            <a:off x="7667640" y="189000"/>
            <a:ext cx="177336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ифагор Самосский- древнегреческий математик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л в 6 веке до нашей эры. Пифагор – это не имя, а прозвище, которое он получил за то, что всегда говорил верно и убедительно. (Пифагор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 убеждающий речью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Чертёж для доказательства №1"/>
          <p:cNvPicPr/>
          <p:nvPr/>
        </p:nvPicPr>
        <p:blipFill>
          <a:blip r:embed="rId1"/>
          <a:stretch/>
        </p:blipFill>
        <p:spPr>
          <a:xfrm>
            <a:off x="1908000" y="692280"/>
            <a:ext cx="5329440" cy="52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Этапы турнира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Этап «Геометрическое ралл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Вам предстоит совершить скоростной пробег по геометрическим понятия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8:44:24Z</dcterms:created>
  <dc:creator>User</dc:creator>
  <dc:description/>
  <dc:language>en-US</dc:language>
  <cp:lastModifiedBy>User</cp:lastModifiedBy>
  <dcterms:modified xsi:type="dcterms:W3CDTF">2008-12-17T16:43:11Z</dcterms:modified>
  <cp:revision>9</cp:revision>
  <dc:subject/>
  <dc:title>Геометрический турнир</dc:title>
</cp:coreProperties>
</file>