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D6C-3BBD-4500-8D27-65017186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E39-C70B-45F6-BA63-4CEB09A0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756-0DF4-4B2A-A9F3-BADA6ABD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2CA-404C-4753-97F6-A18085F6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8EA-0F22-4F81-9FF0-96D049D9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A9C-2E93-4B55-AC6B-D6EEB5D9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98F-7397-49AF-B0F5-20126C20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D11-7DDE-4D55-8372-E96262B0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BDA-FF25-45BA-92DC-7BC823B0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AA6-BC1E-4261-971D-9BA80BC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911-5D42-4CEC-BB15-FF8FF96C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229-17FA-41BD-960F-02C39391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92C2-D354-4AB6-B167-EDCCB9F782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oodle.org/login/index.php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ование обучающей среды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ODLE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учебно-воспитательном процессе шк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login.png"/>
          <p:cNvPicPr/>
          <p:nvPr/>
        </p:nvPicPr>
        <p:blipFill>
          <a:blip r:embed="rId1"/>
          <a:stretch/>
        </p:blipFill>
        <p:spPr>
          <a:xfrm>
            <a:off x="2214720" y="2214720"/>
            <a:ext cx="482904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кольку основной формой контроля знаний в дистанционном обучении является тестирование, в Moodle имеется обширный инструментарий для создания тестов и проведения обучающего и контрольного тестирования. Поддерживается несколько типов вопросов в тестовых заданиях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стема управления обучением Moodle может быть использована не только для организации дистанционного обучения, но, безусловно, будет полезна и в учебном процессе традиционной школы и вуз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аббревиатура от понятия Модулярная Объектно-Ориентированная Динамическая Обучающая Сред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Object Oriented Dynamic Learning Environmen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которая наиболее полезна для организации эффективной связи с учеником. Использование систем электронной поддержки обучения открывает новые возможности по формированию, структурированию и обработке материалов, связанных с процессом обучения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пользуя Moodle преподаватель может создавать курсы, наполняя их содержимым в виде текстов, вспомогательных файлов, презентаций, опросников и т.п. Для использования Moodle достаточно иметь любой web-браузер, что делает использование этой учебной среды удобной как для преподавателя, так и для обучаемых. По результатам выполнения учениками заданий, преподаватель может высталять оценки и давать комментарии. Таким образом Moodle является и центром создания учебного материала и обеспечения интерактивного взаимодействия между участниками учебного процесса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фейс системы изначально был ориентирован на работу учителей, не обладающих глубокими знаниями в области программирования и администрирования баз данных, веб-сайтов и т.п. Система имеет удобный интуитивно понятный интерфейс. Преподаватель самостоятельно, прибегая только к помощи справочной системы, может создать электронный курс и управлять его работой. 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moodle.org/logi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жно вставлять таблицы, схемы, графику, видео, флэш и др. Используя удобный механизм настройки, составитель курса может, даже не обладая знанием языка HTML, легко выбрать цветовую гамму и другие элементы оформления учебного материал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дактирование содержания курса проводится автором курса в произвольном порядке и может легко осуществляться прямо в процессе обучения. Очень легко добавляются в электронный курс различные элементы: лекция, задание, форум, глоссарий, wiki, чат и т.д. Для каждого электронного курса существует удобная страница просмотра последних изменений в курс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дминистрирование учебного процесса достаточно хорошо продумано. Учитель, имеющий права администратора, может регистрировать других учителей и учащихся, назначая им соответствующие роли (создатель курса, учитель с правом редактирования и без него, студент, гость), распределять права, объединять учащихся в виртуальные группы, получать сводную информацию о работе каждого учени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помощью встроенного календаря можно определять даты начала и окончания курса, сдачи определенных заданий, сроки тестирования. Используя инструмент Пояснение и Форум, публиковать информацию о курсе и нов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иентированная на дистанционное образование, система управления обучением Moodle обладает большим набором средств коммуникации. Это не только электронная почта и обмен вложенными файлами с преподавателем, но и форум (общий новостной на главной странице программы, а также различные частные форумы), чат, обмен личными сообщениями, ведение бл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14:57:07Z</dcterms:created>
  <dc:creator>user</dc:creator>
  <dc:description/>
  <dc:language>en-US</dc:language>
  <cp:lastModifiedBy>зал</cp:lastModifiedBy>
  <dcterms:modified xsi:type="dcterms:W3CDTF">2015-02-04T07:34:12Z</dcterms:modified>
  <cp:revision>10</cp:revision>
  <dc:subject/>
  <dc:title>Слайд 1</dc:title>
</cp:coreProperties>
</file>