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5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909-DCEA-4DE5-AE2B-F553E200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35D-AF36-493F-9295-419E5C72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3CB-9D8A-4157-90B8-4A8A5A91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B9B-CF74-4D4C-B43C-88346FFA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88E-F3D3-4BD8-9225-1BE8660F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543-E43B-4566-A0E5-069050A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324-0F8F-4418-94D9-DC94016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5DD-4A70-45B4-B54D-89DD739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1B5-46CD-4A48-8055-070A602B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869-788A-482D-A115-B7C4C5B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E1D-491B-4775-9FD8-236E13A1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10C-2D1B-43F2-AEA3-043143F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211D-D6F6-49D0-A37B-61F9CDE4A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214200" y="214200"/>
            <a:ext cx="8715600" cy="6357960"/>
          </a:xfrm>
          <a:prstGeom prst="rect">
            <a:avLst/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 занятию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5 классе по теме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История велосипеда 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правила велосипедист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643280"/>
            <a:ext cx="74152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ва Ирина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571840" y="57168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БОУ школа № 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вид одноколесных транспортных средств — это моноцик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http://www.membrana.ru/storage/img/a/aoc.jpg"/>
          <p:cNvPicPr/>
          <p:nvPr/>
        </p:nvPicPr>
        <p:blipFill>
          <a:blip r:embed="rId1"/>
          <a:stretch/>
        </p:blipFill>
        <p:spPr>
          <a:xfrm>
            <a:off x="500040" y="1714680"/>
            <a:ext cx="385776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http://www.membrana.ru/storage/img/a/aod.jpg"/>
          <p:cNvPicPr/>
          <p:nvPr/>
        </p:nvPicPr>
        <p:blipFill>
          <a:blip r:embed="rId2"/>
          <a:stretch/>
        </p:blipFill>
        <p:spPr>
          <a:xfrm>
            <a:off x="4714920" y="1714680"/>
            <a:ext cx="3500280" cy="4214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500120" y="60721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715000" y="6143760"/>
            <a:ext cx="24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4960" y="274680"/>
            <a:ext cx="392904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ение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йка Лайолл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других моноциклов сиденье водителя здесь расположено не внутри, а непосредственно перед колес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http://nevozmozhnogo.net/wp-content/uploads/2011/07/odno_koleso_6.jpg"/>
          <p:cNvPicPr/>
          <p:nvPr/>
        </p:nvPicPr>
        <p:blipFill>
          <a:blip r:embed="rId1"/>
          <a:stretch/>
        </p:blipFill>
        <p:spPr>
          <a:xfrm>
            <a:off x="357120" y="928800"/>
            <a:ext cx="47149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велосипеди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143000" y="1310760"/>
            <a:ext cx="6929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еские треб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должен иметь исправные тормоз, руль и звуковой сигнал, быть оборудован спереди световозвращателем и фонарём или фарой белого цвета, сзади — световозвращателем или фонарём красного цвета, а с каждой боковой стороны — световозвращателем оранжевого или красн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ы должны двигаться по велосипедной дорожке, а при её отсутствии — по крайней правой полосе проезжей части в один ряд возможно прав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www.sportextrem.ru/img/site/pddfin3.jpg"/>
          <p:cNvPicPr/>
          <p:nvPr/>
        </p:nvPicPr>
        <p:blipFill>
          <a:blip r:embed="rId1"/>
          <a:stretch/>
        </p:blipFill>
        <p:spPr>
          <a:xfrm>
            <a:off x="500040" y="3071880"/>
            <a:ext cx="3314880" cy="3503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http://www.sportextrem.ru/img/site/pddfin1.jpg"/>
          <p:cNvPicPr/>
          <p:nvPr/>
        </p:nvPicPr>
        <p:blipFill>
          <a:blip r:embed="rId2"/>
          <a:stretch/>
        </p:blipFill>
        <p:spPr>
          <a:xfrm>
            <a:off x="5929200" y="3000240"/>
            <a:ext cx="27860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071960" y="1596600"/>
            <a:ext cx="47149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ить, не держась за руль хотя бы одно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пассажиров, кроме ребёнка в возрасте до 7 лет на дополнительном сиденье, оборудованном надёжными поднож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ebdiscover.ru/uploads/images2/2012-01/450_132564480740.jpg"/>
          <p:cNvPicPr/>
          <p:nvPr/>
        </p:nvPicPr>
        <p:blipFill>
          <a:blip r:embed="rId1"/>
          <a:stretch/>
        </p:blipFill>
        <p:spPr>
          <a:xfrm>
            <a:off x="357120" y="642960"/>
            <a:ext cx="329400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http://farm5.static.flickr.com/4046/4502511968_b18f62c4db.jpg"/>
          <p:cNvPicPr/>
          <p:nvPr/>
        </p:nvPicPr>
        <p:blipFill>
          <a:blip r:embed="rId2"/>
          <a:stretch/>
        </p:blipFill>
        <p:spPr>
          <a:xfrm>
            <a:off x="1000080" y="3286080"/>
            <a:ext cx="2357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785880" y="107172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который выступает более чем на 0,5 м по длине или ширине за габариты, или груз, мешающий упр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дороге при наличии рядом велосипедной доро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928800" y="357120"/>
            <a:ext cx="771516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bikemagazine.com.br/wp-content/uploads/2011/04/bike_lei1.jpg"/>
          <p:cNvPicPr/>
          <p:nvPr/>
        </p:nvPicPr>
        <p:blipFill>
          <a:blip r:embed="rId1"/>
          <a:stretch/>
        </p:blipFill>
        <p:spPr>
          <a:xfrm>
            <a:off x="2286000" y="3286080"/>
            <a:ext cx="50007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57120" y="1357200"/>
            <a:ext cx="4714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 (в э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 нужно слезть с велосип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йти дорогу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му переход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wilighters.ru/upload/iblock/520/52003eafc28a20481c5bca154f5c2b19.jpg"/>
          <p:cNvPicPr/>
          <p:nvPr/>
        </p:nvPicPr>
        <p:blipFill>
          <a:blip r:embed="rId1"/>
          <a:stretch/>
        </p:blipFill>
        <p:spPr>
          <a:xfrm>
            <a:off x="5429160" y="428760"/>
            <a:ext cx="350064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partbilet.ru/userfiles/2cf1d8eec4ee778af5d3dbd8749455cd.jpg"/>
          <p:cNvPicPr/>
          <p:nvPr/>
        </p:nvPicPr>
        <p:blipFill>
          <a:blip r:embed="rId2"/>
          <a:stretch/>
        </p:blipFill>
        <p:spPr>
          <a:xfrm>
            <a:off x="4357800" y="3786120"/>
            <a:ext cx="4330440" cy="27860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00040" y="0"/>
            <a:ext cx="4572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3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64296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автомагистра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дороге в тёмное время суток без включенного переднего белого фон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буксировка велосипедов, а также велосипедами, кроме буксировки прицепа, предназначенного для эксплуатации с велосипед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cs418527.userapi.com/v418527079/da6/I8oCFEVt4N0.jpg"/>
          <p:cNvPicPr/>
          <p:nvPr/>
        </p:nvPicPr>
        <p:blipFill>
          <a:blip r:embed="rId1"/>
          <a:stretch/>
        </p:blipFill>
        <p:spPr>
          <a:xfrm>
            <a:off x="285840" y="4429080"/>
            <a:ext cx="3895560" cy="2192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www.photoshare.ru/data/30/30158/3/5kn2lh-pey.jpg"/>
          <p:cNvPicPr/>
          <p:nvPr/>
        </p:nvPicPr>
        <p:blipFill>
          <a:blip r:embed="rId2"/>
          <a:stretch/>
        </p:blipFill>
        <p:spPr>
          <a:xfrm>
            <a:off x="4929120" y="442908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, подаваемые велосипедистом  перед поворо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File:Right Turn Handsign.jpg"/>
          <p:cNvPicPr/>
          <p:nvPr/>
        </p:nvPicPr>
        <p:blipFill>
          <a:blip r:embed="rId1"/>
          <a:stretch/>
        </p:blipFill>
        <p:spPr>
          <a:xfrm>
            <a:off x="714240" y="128592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д перекрёст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http://velolife.by/img/articls/90_1.gif"/>
          <p:cNvPicPr/>
          <p:nvPr/>
        </p:nvPicPr>
        <p:blipFill>
          <a:blip r:embed="rId1"/>
          <a:stretch/>
        </p:blipFill>
        <p:spPr>
          <a:xfrm>
            <a:off x="357120" y="100008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velolife.by/img/articls/90_7.gif"/>
          <p:cNvPicPr/>
          <p:nvPr/>
        </p:nvPicPr>
        <p:blipFill>
          <a:blip r:embed="rId2"/>
          <a:stretch/>
        </p:blipFill>
        <p:spPr>
          <a:xfrm>
            <a:off x="4857840" y="3357720"/>
            <a:ext cx="4000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14200" y="214200"/>
            <a:ext cx="8715600" cy="6286680"/>
          </a:xfrm>
          <a:prstGeom prst="rect">
            <a:avLst/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426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Развитие познавательных  интересов учащих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те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велосипеда и правила для велосипедистов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учащихся с историей создания велосипед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ить кругозор обучающихся  по изучению истории велосипеда и знаков дорожного движ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елосипедистов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безопасными местами езды 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ах в  микрорайоне.</a:t>
            </a:r>
            <a:br>
              <a:rPr sz="2800"/>
            </a:b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ющи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Велосипедная дорожка.jpg"/>
          <p:cNvPicPr/>
          <p:nvPr/>
        </p:nvPicPr>
        <p:blipFill>
          <a:blip r:embed="rId1"/>
          <a:stretch/>
        </p:blipFill>
        <p:spPr>
          <a:xfrm>
            <a:off x="2071800" y="3071880"/>
            <a:ext cx="54291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ющ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 на велосипедах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Движение на велосипедах запрещено.png"/>
          <p:cNvPicPr/>
          <p:nvPr/>
        </p:nvPicPr>
        <p:blipFill>
          <a:blip r:embed="rId1"/>
          <a:stretch/>
        </p:blipFill>
        <p:spPr>
          <a:xfrm>
            <a:off x="2786040" y="2428920"/>
            <a:ext cx="3711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121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ющ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е с велосипедной дорож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File:1.24 road sign.svg"/>
          <p:cNvPicPr/>
          <p:nvPr/>
        </p:nvPicPr>
        <p:blipFill>
          <a:blip r:embed="rId1"/>
          <a:stretch/>
        </p:blipFill>
        <p:spPr>
          <a:xfrm>
            <a:off x="2000160" y="2357280"/>
            <a:ext cx="4576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ые знаки, которы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ют движение велосипе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Автомагистраль.gif"/>
          <p:cNvPicPr/>
          <p:nvPr/>
        </p:nvPicPr>
        <p:blipFill>
          <a:blip r:embed="rId1"/>
          <a:stretch/>
        </p:blipFill>
        <p:spPr>
          <a:xfrm>
            <a:off x="357120" y="1428840"/>
            <a:ext cx="2428920" cy="3571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790920" y="535788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втомагистра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Дорога для автомобилей.jpeg"/>
          <p:cNvPicPr/>
          <p:nvPr/>
        </p:nvPicPr>
        <p:blipFill>
          <a:blip r:embed="rId2"/>
          <a:stretch/>
        </p:blipFill>
        <p:spPr>
          <a:xfrm>
            <a:off x="3357720" y="1428840"/>
            <a:ext cx="2071440" cy="3571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1502640" y="5214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3357720" y="528840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га для автомобил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http://adrive.by/img/rr/signs/4_6_1.png"/>
          <p:cNvPicPr/>
          <p:nvPr/>
        </p:nvPicPr>
        <p:blipFill>
          <a:blip r:embed="rId3"/>
          <a:stretch/>
        </p:blipFill>
        <p:spPr>
          <a:xfrm>
            <a:off x="6215040" y="2500200"/>
            <a:ext cx="2714760" cy="25718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5857920" y="52862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шеходная дорож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214200" y="214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 движение велосипедистов в местах, где установлен знак «Въезд запрещ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Въезд запрещён.jpg"/>
          <p:cNvPicPr/>
          <p:nvPr/>
        </p:nvPicPr>
        <p:blipFill>
          <a:blip r:embed="rId1"/>
          <a:stretch/>
        </p:blipFill>
        <p:spPr>
          <a:xfrm>
            <a:off x="5715000" y="428760"/>
            <a:ext cx="2143080" cy="20001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4286160" y="40719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 движение велосипедистов в местах, где установлен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вижение запреще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Движение запрещено.jpg"/>
          <p:cNvPicPr/>
          <p:nvPr/>
        </p:nvPicPr>
        <p:blipFill>
          <a:blip r:embed="rId2"/>
          <a:stretch/>
        </p:blipFill>
        <p:spPr>
          <a:xfrm>
            <a:off x="1143000" y="357192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8038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движении по дороге велосипеди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ожет ехать, не держась за руль в том случае, если вблизи нет других транспортных средств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имеет права бросать рул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не держаться за руль, но обе ноги должны быть на педал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tourist.kharkov.ua/review_longtravel/topic23_2.jpg"/>
          <p:cNvPicPr/>
          <p:nvPr/>
        </p:nvPicPr>
        <p:blipFill>
          <a:blip r:embed="rId1"/>
          <a:stretch/>
        </p:blipFill>
        <p:spPr>
          <a:xfrm>
            <a:off x="5429160" y="4429080"/>
            <a:ext cx="30718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808560" y="2500200"/>
            <a:ext cx="77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имеет права бросать р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stihi.ru/pics/2012/03/11/9375.jpg"/>
          <p:cNvPicPr/>
          <p:nvPr/>
        </p:nvPicPr>
        <p:blipFill>
          <a:blip r:embed="rId1"/>
          <a:stretch/>
        </p:blipFill>
        <p:spPr>
          <a:xfrm>
            <a:off x="3214800" y="4000680"/>
            <a:ext cx="2860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ком возрасте разрешается выезжать на велосипеде на дороги общего пользования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моложе 10 л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моложе 14 л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 моложе 16 л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http://akak.ru/recipes/pictures/000/008/557_big.jpg"/>
          <p:cNvPicPr/>
          <p:nvPr/>
        </p:nvPicPr>
        <p:blipFill>
          <a:blip r:embed="rId1"/>
          <a:stretch/>
        </p:blipFill>
        <p:spPr>
          <a:xfrm>
            <a:off x="2643120" y="3929040"/>
            <a:ext cx="3952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928800" y="178596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моложе 14 л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forumimage.ru/uploads/20120421/133502661860002890.jpg"/>
          <p:cNvPicPr/>
          <p:nvPr/>
        </p:nvPicPr>
        <p:blipFill>
          <a:blip r:embed="rId1"/>
          <a:stretch/>
        </p:blipFill>
        <p:spPr>
          <a:xfrm>
            <a:off x="2143080" y="2714760"/>
            <a:ext cx="4811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гналы, подаваемые велосипедистом перед  поворотом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ед поворотом вытянуть соответствующую направлению поворота прямую руку в сторону поворо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нять любую руку ввер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тянуть противоположную направлению поворота согнутую в локте вертикально вверх руку в сторону, противоположную направлению поворот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велосипед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Возможный макет да Винчи"/>
          <p:cNvPicPr/>
          <p:nvPr/>
        </p:nvPicPr>
        <p:blipFill>
          <a:blip r:embed="rId1"/>
          <a:stretch/>
        </p:blipFill>
        <p:spPr>
          <a:xfrm>
            <a:off x="428760" y="928800"/>
            <a:ext cx="4636800" cy="286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5143680" y="13572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доказанное упоминание о изобретении велосипеда относится к 181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57120" y="471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оздатель-немецкий профессор барон Карл фон Дрез окрестил «машиной для ходь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Карл фон  Дрез"/>
          <p:cNvPicPr/>
          <p:nvPr/>
        </p:nvPicPr>
        <p:blipFill>
          <a:blip r:embed="rId2"/>
          <a:stretch/>
        </p:blipFill>
        <p:spPr>
          <a:xfrm>
            <a:off x="5500800" y="300024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0" y="1428480"/>
            <a:ext cx="55436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Перед поворотом вытянуть соответствующую направлению поворота прямую руку в сторону поворот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тянуть противоположную направлению поворота согнутую в локте вертикально вверх руку в сторону, противоположну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ю поворота.</a:t>
            </a:r>
            <a:br>
              <a:rPr sz="49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2" descr="File:Right Turn Handsign.jpg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осипедистам запрещает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игаться по автомагистраля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вигаться по велосипедной дорож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евозить пассажиров, кроме ребёнка в возрасте до 7 лет на дополнительном сиденье, оборудован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ёжными поднож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http://www.bimbo.by/upload/iblock/45e/45e0f9366d971c95e2a1af55566d28d6.jpg"/>
          <p:cNvPicPr/>
          <p:nvPr/>
        </p:nvPicPr>
        <p:blipFill>
          <a:blip r:embed="rId1"/>
          <a:stretch/>
        </p:blipFill>
        <p:spPr>
          <a:xfrm>
            <a:off x="21420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игаться по автомагистралям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28800" y="171468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евозить пассажиров, кроме ребёнка в возрасте до 7 лет на дополнительном сиденье, оборудованном надёжными поднож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jazztour.ru/images/sizes/y450/68476.jpg"/>
          <p:cNvPicPr/>
          <p:nvPr/>
        </p:nvPicPr>
        <p:blipFill>
          <a:blip r:embed="rId1"/>
          <a:stretch/>
        </p:blipFill>
        <p:spPr>
          <a:xfrm>
            <a:off x="5357880" y="3929040"/>
            <a:ext cx="35719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м правилам подчиняется велосипедист, если он ведёт велосипед рукам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авилам для водителе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авилам для пешехо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farm1.static.flickr.com/46/126238642_3374dcfaaf.jpg"/>
          <p:cNvPicPr/>
          <p:nvPr/>
        </p:nvPicPr>
        <p:blipFill>
          <a:blip r:embed="rId1"/>
          <a:stretch/>
        </p:blipFill>
        <p:spPr>
          <a:xfrm>
            <a:off x="3286080" y="400068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авилам для пешеход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www.newstour.ru/uploads/posts/1275469693_432.gif"/>
          <p:cNvPicPr/>
          <p:nvPr/>
        </p:nvPicPr>
        <p:blipFill>
          <a:blip r:embed="rId1"/>
          <a:stretch/>
        </p:blipFill>
        <p:spPr>
          <a:xfrm>
            <a:off x="1571760" y="1857240"/>
            <a:ext cx="559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требуют, чтобы у велосипеда были исправн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Цепь, звуковой сигнал, тормоз, светоотражатели и фонар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дло, багажни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www.sportenphoto.org/BD210.gif"/>
          <p:cNvPicPr/>
          <p:nvPr/>
        </p:nvPicPr>
        <p:blipFill>
          <a:blip r:embed="rId1"/>
          <a:stretch/>
        </p:blipFill>
        <p:spPr>
          <a:xfrm>
            <a:off x="3286080" y="4857840"/>
            <a:ext cx="21733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Цепь, звуковой сигнал, тормоз, светоотражатели и фонар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ый проезд на перекрёстк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 перекрёстке велосипедисту всегда должны уступать автомоби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 перекрёстках действуют обычные правила приоритет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перекрёстке автомобиль, двигающийся по второстепенной дороге, должен уступить велосипеду, двигающемуся по главн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4800" y="1285560"/>
            <a:ext cx="5472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 перекрёстках действуют обычные правила приоритет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перекрёстке автомобиль, двигающийся по второстепенной дороге, должен уступить велосипеду, двигающемуся по главной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img.galya.ru/galya.ru/Pictures2/catalog_diary/2011/10/31/t4_2858059.jpg"/>
          <p:cNvPicPr/>
          <p:nvPr/>
        </p:nvPicPr>
        <p:blipFill>
          <a:blip r:embed="rId1"/>
          <a:stretch/>
        </p:blipFill>
        <p:spPr>
          <a:xfrm>
            <a:off x="214200" y="214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й знак запрещает движение велосипедиста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В)  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2" descr="Въезд запрещён.jpg"/>
          <p:cNvPicPr/>
          <p:nvPr/>
        </p:nvPicPr>
        <p:blipFill>
          <a:blip r:embed="rId1"/>
          <a:stretch/>
        </p:blipFill>
        <p:spPr>
          <a:xfrm>
            <a:off x="1571760" y="2071800"/>
            <a:ext cx="1616040" cy="1857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File:1.24 road sign.svg"/>
          <p:cNvPicPr/>
          <p:nvPr/>
        </p:nvPicPr>
        <p:blipFill>
          <a:blip r:embed="rId2"/>
          <a:stretch/>
        </p:blipFill>
        <p:spPr>
          <a:xfrm>
            <a:off x="1285920" y="4071960"/>
            <a:ext cx="2387520" cy="2316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Движение на велосипедах запрещено.png"/>
          <p:cNvPicPr/>
          <p:nvPr/>
        </p:nvPicPr>
        <p:blipFill>
          <a:blip r:embed="rId3"/>
          <a:stretch/>
        </p:blipFill>
        <p:spPr>
          <a:xfrm>
            <a:off x="4857840" y="2500200"/>
            <a:ext cx="221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9 году шотландскому кузнецу Киркпатрику Макмиллану  пришла в голову идея добавить к дрезине педали и седл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Велик МакМиллана"/>
          <p:cNvPicPr/>
          <p:nvPr/>
        </p:nvPicPr>
        <p:blipFill>
          <a:blip r:embed="rId1"/>
          <a:stretch/>
        </p:blipFill>
        <p:spPr>
          <a:xfrm>
            <a:off x="357120" y="1500120"/>
            <a:ext cx="507204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Киркпатрик  Макмиллан"/>
          <p:cNvPicPr/>
          <p:nvPr/>
        </p:nvPicPr>
        <p:blipFill>
          <a:blip r:embed="rId2"/>
          <a:stretch/>
        </p:blipFill>
        <p:spPr>
          <a:xfrm>
            <a:off x="6215040" y="228600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В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2" descr="Въезд запрещён.jpg"/>
          <p:cNvPicPr/>
          <p:nvPr/>
        </p:nvPicPr>
        <p:blipFill>
          <a:blip r:embed="rId1"/>
          <a:stretch/>
        </p:blipFill>
        <p:spPr>
          <a:xfrm>
            <a:off x="1571760" y="2071800"/>
            <a:ext cx="2093760" cy="2307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Движение на велосипедах запрещено.png"/>
          <p:cNvPicPr/>
          <p:nvPr/>
        </p:nvPicPr>
        <p:blipFill>
          <a:blip r:embed="rId2"/>
          <a:stretch/>
        </p:blipFill>
        <p:spPr>
          <a:xfrm>
            <a:off x="5286240" y="19288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115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ого пу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2" descr=""/>
          <p:cNvPicPr/>
          <p:nvPr/>
        </p:nvPicPr>
        <p:blipFill>
          <a:blip r:embed="rId1"/>
          <a:stretch/>
        </p:blipFill>
        <p:spPr>
          <a:xfrm>
            <a:off x="2428920" y="1143000"/>
            <a:ext cx="3714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4880" y="274680"/>
            <a:ext cx="447192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2-м году французский мастер по изготовлению детских колясок Пьер Лалман придумал оснастить «денди-хорз» педалями на переднем коле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http://nevozmozhnogo.net/wp-content/uploads/2011/10/velosiped-7.jpg"/>
          <p:cNvPicPr/>
          <p:nvPr/>
        </p:nvPicPr>
        <p:blipFill>
          <a:blip r:embed="rId1"/>
          <a:stretch/>
        </p:blipFill>
        <p:spPr>
          <a:xfrm>
            <a:off x="500040" y="785880"/>
            <a:ext cx="3643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70-х годов стала популярна конструкция «пенни-фартинг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http://nevozmozhnogo.net/wp-content/uploads/2011/10/velosiped-6.jpg"/>
          <p:cNvPicPr/>
          <p:nvPr/>
        </p:nvPicPr>
        <p:blipFill>
          <a:blip r:embed="rId1"/>
          <a:stretch/>
        </p:blipFill>
        <p:spPr>
          <a:xfrm>
            <a:off x="357120" y="1785960"/>
            <a:ext cx="3630600" cy="4287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Пенни-Фартинг"/>
          <p:cNvPicPr/>
          <p:nvPr/>
        </p:nvPicPr>
        <p:blipFill>
          <a:blip r:embed="rId2"/>
          <a:stretch/>
        </p:blipFill>
        <p:spPr>
          <a:xfrm>
            <a:off x="4500720" y="1857240"/>
            <a:ext cx="4143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4560" y="3571920"/>
            <a:ext cx="39718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«Скиталец» создан английским изобретател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жоном Кемпом Стар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4-м г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http://raax.ru/wp-content/uploads/2012/09/starley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61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Скиталец"/>
          <p:cNvPicPr/>
          <p:nvPr/>
        </p:nvPicPr>
        <p:blipFill>
          <a:blip r:embed="rId2"/>
          <a:stretch/>
        </p:blipFill>
        <p:spPr>
          <a:xfrm>
            <a:off x="5000760" y="357120"/>
            <a:ext cx="390996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760" y="1213920"/>
            <a:ext cx="38289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настоящие надувные каучуковые покрышки для велосипеда появились в 1888 году стараниями шотландц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а Данл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http://upload.wikimedia.org/wikipedia/commons/6/6a/John_Boyd_Dunlop_418px.jpg?uselang=ru"/>
          <p:cNvPicPr/>
          <p:nvPr/>
        </p:nvPicPr>
        <p:blipFill>
          <a:blip r:embed="rId1"/>
          <a:stretch/>
        </p:blipFill>
        <p:spPr>
          <a:xfrm>
            <a:off x="357120" y="357120"/>
            <a:ext cx="4214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5840" y="274680"/>
            <a:ext cx="3900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цикл - одноколесный велосипед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http://nevozmozhnogo.net/wp-content/uploads/2011/07/odno_koleso_2.jpg"/>
          <p:cNvPicPr/>
          <p:nvPr/>
        </p:nvPicPr>
        <p:blipFill>
          <a:blip r:embed="rId1"/>
          <a:stretch/>
        </p:blipFill>
        <p:spPr>
          <a:xfrm>
            <a:off x="357120" y="428760"/>
            <a:ext cx="3929040" cy="4786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http://www.takefoto.ru/userfiles/image/Dlya%20Statey/23.03.2012/josef_koudelka/josef_koudelka_34.jpg"/>
          <p:cNvPicPr/>
          <p:nvPr/>
        </p:nvPicPr>
        <p:blipFill>
          <a:blip r:embed="rId2"/>
          <a:stretch/>
        </p:blipFill>
        <p:spPr>
          <a:xfrm>
            <a:off x="4357800" y="3000240"/>
            <a:ext cx="4500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3:52:24Z</dcterms:created>
  <dc:creator>Ирина</dc:creator>
  <dc:description/>
  <dc:language>en-US</dc:language>
  <cp:lastModifiedBy>Ирина</cp:lastModifiedBy>
  <dcterms:modified xsi:type="dcterms:W3CDTF">2015-02-04T20:44:24Z</dcterms:modified>
  <cp:revision>41</cp:revision>
  <dc:subject/>
  <dc:title>Урок в 5 классе по теме «История велосипеда»</dc:title>
</cp:coreProperties>
</file>