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1E98-DC77-4DC8-A844-8F84A41A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86AD-1488-45D1-AEA9-FEE17FE5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096E-C706-4E2C-B363-74531DF2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0E49-0069-41F3-A6C4-DC212839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B13A-CACD-4346-8EF7-DBB5C918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4482-4ACB-48B5-A489-7B61B331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BE04-DB27-4778-A19E-4313F776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53F4-2D1D-4254-A972-6D3F473E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3C9D-95E8-4356-97D7-2552E178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CF38-09DF-4D9C-851A-7FF91ED8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CE44-E007-4280-836B-5D59B28B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BC8D-59EB-4FFB-BFF9-37D9072F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B275-CB5A-4EE8-86EC-DB0C85A77A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пособы  развития исследовательских, проектировочных и рефлексивных  способностей  руководителей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педагогов ДОУ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0400" y="4285800"/>
            <a:ext cx="2771640" cy="13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воспитател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д/с № 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075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 – методическая деятельность воспита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1052280"/>
            <a:ext cx="82915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компетентно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воспитательно-образовательной работ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педагогической деятельности на основе анализа достигнутых результа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компетентност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образовательной программы и методики развития разных видов деятельности дете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роектировать, планировать и осуществлять целостный педагогический процесс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ние технологиями исследования, педагогического мониторинга, воспитания и обучения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 – педагогическая деятельность воспита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268280"/>
            <a:ext cx="8362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компетентнос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ая помощь родителя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социализации дете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интересов и пра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 компетентност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основных документов о правах ребенка и обязанностях взрослых по отношению к детям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ести разъяснительную педагогическую работу с родителями, специалистами ДО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F:\семинар  компитентность\000012.jpg"/>
          <p:cNvPicPr/>
          <p:nvPr/>
        </p:nvPicPr>
        <p:blipFill>
          <a:blip r:embed="rId1"/>
          <a:stretch/>
        </p:blipFill>
        <p:spPr>
          <a:xfrm>
            <a:off x="326880" y="598320"/>
            <a:ext cx="8421840" cy="51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5056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деятельность  в условиях перехода ДОУ к реализации ФГОС должна быть ориентирована на развитие следующих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х уме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оч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ск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ив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ие  ум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000" y="1125360"/>
            <a:ext cx="8218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ценить мероприятие воспитательного характера с позиции требований ФГОС (родительское собрание, массовое мероприятие, семинар и др.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ть индивидуальные психологические особенности личности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анализ результативности воспитательно - образовательного процесса, методической работы и др. по итогам года или по отдельному направлени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ровести самоанализ работы с позиции требований ФГО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очные  ум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000" y="1052280"/>
            <a:ext cx="82184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разработать сценарий проведения воспитательного мероприятия и др. в соответствии с имеющимися проблемами, возрастными особенностями, современными требованиями в области воспитания в условиях перехода и реализации  ФГОС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план, программу  деятельности  на конкретный период времени в соответствии с целями и задачами воспитания и развития де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ские  ум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1125000"/>
            <a:ext cx="8291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рименять в педагогической практике современные образовательные технолог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подходы к воспитательно- образовательной деятельност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ключить детей в различные виды деятельности, соответствующие их психологическим особенностям и потребностя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 ум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9280" y="907560"/>
            <a:ext cx="81471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троить и управлять коммуникативным взаимодействие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ивные   ум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тбирать оптимальные формы, методы и приемы воспитательной работ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ть принципы   (деятельностного подхода) реализации образовательного процес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F:\семинар  компитентность\000013.jpg"/>
          <p:cNvPicPr/>
          <p:nvPr/>
        </p:nvPicPr>
        <p:blipFill>
          <a:blip r:embed="rId1"/>
          <a:stretch/>
        </p:blipFill>
        <p:spPr>
          <a:xfrm>
            <a:off x="214200" y="571680"/>
            <a:ext cx="865692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39280" y="18900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йском образовании разработано содержани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го стандарта педагог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который  направлен  на повышение мотивации педагогических работник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4.5. Часть пята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офессиональные компетенции педагога дошкольного образования (воспитателя), отражающие специфику работы на дошкольном уровне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дагог дошкольного образования долж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нать специфику дошкольного образования и особенности организации образовательной работы с детьми раннего и дошкольного возрас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нать общие закономерности развития ребенка в раннем и дошкольном детстве; особенности становления и развития детских деятельностей в раннем и дошкольном возрас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меть организовывать ведущие в дошкольном возрасте виды деятельности: предметно-манипулятивную и игровую, обеспечивая развитие детей. Организовывать совместную и самостоятельную деятельность дошколь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ладеть теорией и педагогическими методиками физического, познавательного и личностного развития детей раннего и дошкольного возрас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меть планировать, реализовывать и анализировать образовательную работу с детьми раннего и дошкольного возраста в соответствии с ФГОС дошкольного образования (ФГТ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684360" y="620640"/>
            <a:ext cx="7775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х важнейших направлени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условиях модернизации в системе образования,  явля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кадрового потенциа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Приоритетность данного направления развития образования фиксируется в Стратегии развития российского образования до 2020 года,  Национальной образовательной инициативе «Наша новая школа», ФГОС дошкольного образ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процессы модернизации дошкольного образования выдвигают на первый план не формальную принадлежность воспитателя к профессии, а занимаемую и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ую позиц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еспечивающую отношение к педагогическому труду. Именно такая позиция ориентирует педагога на понимание современных реалий, мотивов и способов взаимодействия с ребенк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95280" y="333000"/>
            <a:ext cx="84247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меть планировать и корректировать образовательные задачи (совместно с психологом и другими специалистами) по результатам мониторинга, с учетом индивидуальных особенностей развития каждого ребенка раннего и/или дошкольного возрас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Реализовывать педагогические рекомендации специалистов (психолога, логопеда, дефектолога и др.) в работе с детьми, испытывающими трудности в освоении программы, или детьми с особыми образовательными потребностя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Участвовать в создании психологически комфортной и безопасной образовательной среды, обеспечивая безопасность жизни детей, сохранение и укрепление их здоровья, поддерживая эмоциональное благополучие ребенка в период пребывания в образовательной организ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Владеть методами и средствами анализа психолого-педагогического мониторинга, позволяющего оценить результаты освоения детьми образовательных программ, степень сформированности у них необходимых интегративных качеств детей дошкольного возраста, необходимых для дальнейшего обучения и развития в начальной школ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Владеть методами и средствами психолого-педагогического просвещения родителей (законных представителей) детей раннего и дошкольного возраста, уметь выстраивать партнерское взаимодействие с ними для решения образовательных задач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Владеть ИКТ-компетенциями, необходимыми и достаточными для планирования, реализации и оценки образовательной работы с детьми раннего и дошкольного возрас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важных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бора педагогических кадров в образовательную организацию является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й стандарт педагог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эффективной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бора, выявляющей уровень квалификации персонала в любой сфере деятельности, является стажировка будущих сотруд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 профессионального стандарта педагога не может произойти мгновенно, необходим период для адаптации педагогов при  переходе  на ФГО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язи с введением ФГОС Д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позиция воспитателя обеспечивает замену традиционных ценностей обучения на ценности развития личности дошкольника, что повышает качество его образова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сти педаг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онимается  как ценностно-смысловое отношение к целям и результатам педагогической деятельности, выражающееся в осознанном выполнении профессиональных функций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ия воспитател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уется под влиянием всей образовательной окружающей среды, в том числе и в процессе дополнительного профессионального образования,  направленного на изменение внутреннего мира, определяющего осознанность действий воспитателя детского са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применять знания, умения и практический опыт для успешной трудовой деятельности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68000" y="692280"/>
            <a:ext cx="821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компетентнос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ценочная категория, характеризующая педагога как субъекта воспитательной деятельности в системе образования, предполагающая наличие профессиональных (объективно необходимые) психологических и педагогических знаний и умений, позиций и  установок педагога, требуемых от него профессией.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11280" y="404280"/>
            <a:ext cx="8075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компетентнос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ого педагога ДОУ определяется как совокупность общечеловеческих и специфических профессиональных установок, позволяющих ему справляться с заданной программой и особыми, возникающими в психолого – педагогическом процессе дошкольного учреждения, ситуациями, разрешая которые, он способствует уточнению, совершенствованию, практическому воплощению задач развития, его общих и специальных способнос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ое общество предъявляе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требования к компетентности педагог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должен быть компетентным в вопросах организации и содержания деятельности по следующим направления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о-образовательно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–методическо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–педагогическ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о–образовательная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11280" y="1052280"/>
            <a:ext cx="80755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компетентности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целостного педагогического процесс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вивающей среды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охраны жизни и здоровья дете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компетентности педагога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целей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я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ов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, методов и средств обучения и воспитания дошкольников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я результативно формировать знания, умения и навыки в соответствии с образовательной программо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W2014</cp:lastModifiedBy>
  <dcterms:modified xsi:type="dcterms:W3CDTF">2014-10-29T07:27:11Z</dcterms:modified>
  <cp:revision>56</cp:revision>
  <dc:subject/>
  <dc:title>Шаблон презентации</dc:title>
</cp:coreProperties>
</file>