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DFE-181B-46F3-8312-24672C24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CC3-2883-4962-B878-EF36C315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A42-8653-416F-99A0-B1F01C7D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D5A-3A0E-4C2A-BAF1-05711741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933-69BD-4162-AF70-0A821F3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CCA-F7C2-48CA-B218-7A1B6A14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E16-5A4E-40B2-9525-A654079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D5B-9A9F-45BC-8EFC-6BD855BF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092-AF8B-4A66-B2A7-B7C9EC11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992-29A3-457D-A0EF-4A5119C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1AF-E4CA-46EE-8DB7-9FC3534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DE8-5F91-4CE4-BD97-A14FBC9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993-C50A-4F74-820A-10642F4E1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особы  развития исследовательских, проектировочных и рефлексивных  способностей  руководителей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едагогов ДОУ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0" y="4285800"/>
            <a:ext cx="277164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/с №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методическая деятельность воспит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оспитательно-образовательной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педагогической деятельности на основе анализа достигнутых результа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омпетентно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бразовательной программы и методики развития разных видов деятельности де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ектировать, планировать и осуществлять целостный педагогический процес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технологиями исследования, педагогического мониторинга, воспитания и обуче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педагогическая деятельность воспит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ая помощь родител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социализации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интересов и пра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 компетентнос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ых документов о правах ребенка и обязанностях взрослых по отношению к де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ести разъяснительную педагогическую работу с родителями, специалистами Д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семинар  компитентность\000012.jpg"/>
          <p:cNvPicPr/>
          <p:nvPr/>
        </p:nvPicPr>
        <p:blipFill>
          <a:blip r:embed="rId1"/>
          <a:stretch/>
        </p:blipFill>
        <p:spPr>
          <a:xfrm>
            <a:off x="326880" y="598320"/>
            <a:ext cx="8421840" cy="51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деятельность  в условиях перехода ДОУ к реализации ФГОС должна быть ориентирована на развитие следующи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ценить мероприятие воспитательного характера с позиции требований ФГОС (родительское собрание, массовое мероприятие, семинар и др.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ть индивидуальные психологические особенности личности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результативности воспитательно - образовательного процесса, методической работы и др. по итогам года или по отдельному направлен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вести самоанализ работы с позиции требований ФГО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очны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000" y="1052280"/>
            <a:ext cx="8218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зработать сценарий проведения воспитательного мероприятия и др. в соответствии с имеющимися проблемами, возрастными особенностями, современными требованиями в области воспитания в условиях перехода и реализации  ФГО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лан, программу  деятельности  на конкретный период времени в соответствии с целями и задачами воспитания и развития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ски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менять в педагогической практике современные образовательные технолог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одходы к воспитательно- образовательн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ключить детей в различные виды деятельности, соответствующие их психологическим особенностям и потребност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и управлять коммуникативным взаимодействи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ые  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тбирать оптимальные формы, методы и приемы воспитательной работ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ринципы   (деятельностного подхода) реализации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семинар  компитентность\000013.jpg"/>
          <p:cNvPicPr/>
          <p:nvPr/>
        </p:nvPicPr>
        <p:blipFill>
          <a:blip r:embed="rId1"/>
          <a:stretch/>
        </p:blipFill>
        <p:spPr>
          <a:xfrm>
            <a:off x="214200" y="571680"/>
            <a:ext cx="86569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28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м образовании разработано содержа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стандарт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который  направлен  на повышение мотивации педагогических работ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.5. Часть пят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фессиональные компетенции педагога дошкольного образования (воспитателя), отражающие специфику работы на дошкольном уровне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 дошкольного образования долж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нать специфику дошкольного образования и особенности организации образовательной работы с детьми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ть общие закономерности развития ребенка в раннем и дошкольном детстве; особенности становления и развития детских деятельностей в раннем и дошкольном возра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ть организовывать ведущие в дошкольном возрасте виды деятельности: предметно-манипулятивную и игровую, обеспечивая развитие детей. Организовывать совместную и самостоятельную деятельность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ть теорией и педагогическими методиками физического, познавательного и личностного развития детей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ть планировать, реализовывать и анализировать образовательную работу с детьми раннего и дошкольного возраста в соответствии с ФГОС дошкольного образования (ФГ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684360" y="620640"/>
            <a:ext cx="777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х важнейших направлени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условиях модернизации в системе образования, 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адрового потенци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оритетность данного направления развития образования фиксируется в Стратегии развития российского образования до 2020 года,  Национальной образовательной инициативе «Наша новая школа», ФГОС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оцессы модернизации дошкольного образования выдвигают на первый план не формальную принадлежность воспитателя к профессии, а занимаемую 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ую пози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ую отношение к педагогическому труду. Именно такая позиция ориентирует педагога на понимание современных реалий, мотивов и способов взаимодействия с ребен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 раннего и/ил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ладеть методами и средствами анализа психолого-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 детей дошкольного возраста, необходимых для дальнейшего обучения и развития в начальной школ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ладеть методами и средствами психолого-педагогического просвещения родителей (законных представителей) детей раннего и дошкольного возраста, уметь выстраивать партнерское взаимодействие с ними для решения образовательных задач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бора педагогических кадров в образовательную организацию является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бора, выявляющей уровень квалификации персонала в любой сфере деятельности, является стажировка будущих сотруд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профессионального стандарта педагога не может произойти мгновенно, необходим период для адаптации педагогов при  переходе  на ФГО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ведением ФГОС 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позиция воспитателя обеспечивает замену традиционных ценностей обучения на ценности развития личности дошкольника, что повышает качество его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нимается  как ценностно-смысловое отношение к целям и результатам педагогической деятельности, выражающееся в осознанном выполнении профессиональных функций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воспитате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ся под влиянием всей образовательной окружающей среды, в том числе и в процессе дополнительного профессионального образования,  направленного на изменение внутреннего мира, определяющего осознанность действий воспитателя детского с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менять знания, умения и практический опыт для успешной трудовой деятельности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компетент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ценочная категория, характеризующая педагога как субъекта воспитательной деятельности в системе образования, предполагающая наличие профессиональных (объективно необходимые) психологических и педагогических знаний и умений, позиций и  установок педагога, требуемых от него профессией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го педагога ДОУ определяется как совокупность общечеловеческих и специфических профессиональных установок, позволяющих ему справляться с заданной программой и особыми, возникающими в психолого – педагогическом процессе дошкольного учреждения, ситуациями, разрешая которые, он способствует уточнению, совершенствованию, практическому воплощению задач развития, его общих и специальных способ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бщество предъявля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компетентности педаго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лжен быть компетентным в вопросах организации и содержания деятельности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-образовательн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–методическ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–педагогичес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–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1052280"/>
            <a:ext cx="8075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компетентност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целостного педагогического процесс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среды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раны жизни и здоровья дет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омпетентности педагог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целей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, методов и средств обучения и воспитания дошкольников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результативно формировать знания, умения и навыки в соответствии с образовательной програм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W2014</cp:lastModifiedBy>
  <dcterms:modified xsi:type="dcterms:W3CDTF">2014-10-29T07:27:11Z</dcterms:modified>
  <cp:revision>56</cp:revision>
  <dc:subject/>
  <dc:title>Шаблон презентации</dc:title>
</cp:coreProperties>
</file>