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04F-330C-43C2-8EE9-126E83AE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2A8-27D9-4DB7-93C7-07DE7C4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B98-7048-4C3B-B032-870F81D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FDC-892D-488E-BDD0-A9BA3070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936-278D-4908-8A18-62A17D9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D26-8889-4D61-B603-A56409C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C47-73FB-4971-AC44-B439AE50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6C2-7A4F-4A42-A11E-6889BDC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73-ABF5-4F12-8F50-A35E1419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9D9-3D7C-46DF-8340-F5AC629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FA0-6F52-4B02-A471-A54E984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72C-E846-4C48-AB8A-0FCFBA1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220C-ED79-42BF-B7E4-72597DCE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Красная книга</a:t>
            </a:r>
            <a:br>
              <a:rPr sz="4800"/>
            </a:b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растений </a:t>
            </a:r>
            <a:br>
              <a:rPr sz="4800"/>
            </a:br>
            <a:r>
              <a:rPr b="1" i="1" lang="en-US" sz="4800" spc="-1" strike="noStrike">
                <a:solidFill>
                  <a:srgbClr val="ff3300"/>
                </a:solidFill>
                <a:latin typeface="Monotype Corsiva"/>
              </a:rPr>
              <a:t>ВОРОНЕЖ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3640" y="3645000"/>
            <a:ext cx="3672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Выполнил: ученик 3 «А»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МКОУ СОШ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Митусов Кири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Прострел луговой Supersadovod - о саде и огороде просто и интересно"/>
          <p:cNvPicPr/>
          <p:nvPr/>
        </p:nvPicPr>
        <p:blipFill>
          <a:blip r:embed="rId1"/>
          <a:stretch/>
        </p:blipFill>
        <p:spPr>
          <a:xfrm>
            <a:off x="468360" y="3141720"/>
            <a:ext cx="45352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Растительный мир изменяется? Рецепты народной медицины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95472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Спасти поля, леса, луга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И чистую гладь рек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Всю Землю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Можешь только ты,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Разумный человек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22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ется Красною кни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только редких животных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ы выжил простор много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Ради света грядущих зар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 пустыни нагрянуть не с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Чтобы души не стали пус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з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зме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Охраняются даже 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Воронеж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2008 году была издана Красная книга Воронежской об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в Воронежской области около 17 тысяч видов животных и растений, 850 из них ред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астения которые могут исчез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641840" cy="464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4720" y="1624680"/>
            <a:ext cx="395928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342720" tIns="0" bIns="-114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стрел раскрытый (сон-тра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древности соком  сон-травы смазывали наконечники копий для того, чтобы прогнать злую силу. А раны, полученные в сражениях, врачевали с помощью этого растения Сейчас препараты растения употребляют как успокаивающее и снотворное 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19280" y="1197000"/>
            <a:ext cx="37450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асилёк боров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астёт в Бобровском районе на реке Битюг. Численность крайне мала — василёк не выдерживает конкуренции с сорнякам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n9-1kol"/>
          <p:cNvPicPr/>
          <p:nvPr/>
        </p:nvPicPr>
        <p:blipFill>
          <a:blip r:embed="rId1"/>
          <a:stretch/>
        </p:blipFill>
        <p:spPr>
          <a:xfrm>
            <a:off x="900000" y="1484280"/>
            <a:ext cx="3313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ион узколистный («воронец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пион тонколистный"/>
          <p:cNvPicPr/>
          <p:nvPr/>
        </p:nvPicPr>
        <p:blipFill>
          <a:blip r:embed="rId1"/>
          <a:stretch/>
        </p:blipFill>
        <p:spPr>
          <a:xfrm>
            <a:off x="4211640" y="1557360"/>
            <a:ext cx="4662360" cy="39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95200"/>
            <a:ext cx="43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ших живописных меловых склонах расцветают кроваво-красными огнями крупные (диаметром до 8 см ) цветки узколистного пи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красоты, пион узколистный является лекарственным раст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араты из воронца помогают при эпилепсии, малокровии, сердечных болез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андыш май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красивый цветок, с нежным ароматом, с ярко-красными плодами-ягодами Применялся для изготовления духов. Все растение ядовито, но в малых дозах  применяется как средство от сердечны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230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увшинка б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увшинка белая"/>
          <p:cNvPicPr/>
          <p:nvPr/>
        </p:nvPicPr>
        <p:blipFill>
          <a:blip r:embed="rId1"/>
          <a:stretch/>
        </p:blipFill>
        <p:spPr>
          <a:xfrm>
            <a:off x="3851280" y="1916280"/>
            <a:ext cx="4995720" cy="3612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21337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773360"/>
            <a:ext cx="31687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ая причина исчезновения кувшинки: загрязнение, обмеление, пересыхание водое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вшинка используется в качестве болеутоляющих и кровеостанавливающих средств, а также для лечения угрей и веснуш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Голуб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Голуби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её находили в окрестностях посёлка Бор в Усманском бору ещё в довоенное время. После 40-х годов ягода проп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kn4-1kol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0:45:01Z</dcterms:created>
  <dc:creator>!</dc:creator>
  <dc:description/>
  <dc:language>en-US</dc:language>
  <cp:lastModifiedBy>User</cp:lastModifiedBy>
  <dcterms:modified xsi:type="dcterms:W3CDTF">2014-12-01T19:57:41Z</dcterms:modified>
  <cp:revision>13</cp:revision>
  <dc:subject/>
  <dc:title>Красная книга</dc:title>
</cp:coreProperties>
</file>