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911D-7D80-4B68-9476-D4451056C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6E76-53D1-421F-BD69-1BB180D4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2A6A-B1D1-420C-8F9C-2DEB2BC46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C4F6-431E-4091-A5F4-CC3069E9B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561F-691F-40AD-B174-EFDAA80A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57CA-9824-44D4-A288-6784D8AE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E569-408D-409E-A960-1776AE0E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99BA-1C90-45A9-A02F-3393F289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FDFF-E23E-48DB-B6C0-EBCAFEB8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6E19-A4E0-461E-B97C-170AA7BF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CA62-C79A-40F2-846A-88F6A897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77D1-BFB3-4125-AFBE-93D01A19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A840-7767-4570-BEF0-A01EDAFCF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981000"/>
            <a:ext cx="8893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3300"/>
                </a:solidFill>
                <a:latin typeface="Monotype Corsiva"/>
              </a:rPr>
              <a:t>Красная книга</a:t>
            </a:r>
            <a:br>
              <a:rPr sz="4800"/>
            </a:br>
            <a:r>
              <a:rPr b="1" i="1" lang="en-US" sz="4800" spc="-1" strike="noStrike">
                <a:solidFill>
                  <a:srgbClr val="ff3300"/>
                </a:solidFill>
                <a:latin typeface="Monotype Corsiva"/>
              </a:rPr>
              <a:t>растений </a:t>
            </a:r>
            <a:br>
              <a:rPr sz="4800"/>
            </a:br>
            <a:r>
              <a:rPr b="1" i="1" lang="en-US" sz="4800" spc="-1" strike="noStrike">
                <a:solidFill>
                  <a:srgbClr val="ff3300"/>
                </a:solidFill>
                <a:latin typeface="Monotype Corsiva"/>
              </a:rPr>
              <a:t>ВОРОНЕЖСКОЙ ОБЛА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03640" y="3645000"/>
            <a:ext cx="36720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cc"/>
                </a:solidFill>
                <a:latin typeface="Monotype Corsiva"/>
              </a:rPr>
              <a:t>Выполнил: ученик 3 «А» клас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cc"/>
                </a:solidFill>
                <a:latin typeface="Monotype Corsiva"/>
              </a:rPr>
              <a:t>МКОУ СОШ №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cc"/>
                </a:solidFill>
                <a:latin typeface="Monotype Corsiva"/>
              </a:rPr>
              <a:t>Митусов Кирил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Прострел луговой Supersadovod - о саде и огороде просто и интересно"/>
          <p:cNvPicPr/>
          <p:nvPr/>
        </p:nvPicPr>
        <p:blipFill>
          <a:blip r:embed="rId1"/>
          <a:stretch/>
        </p:blipFill>
        <p:spPr>
          <a:xfrm>
            <a:off x="468360" y="3141720"/>
            <a:ext cx="453528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Растительный мир изменяется? Рецепты народной медицины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68360" y="954720"/>
            <a:ext cx="763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Спасти поля, леса, луга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И чистую гладь рек –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Всю Землю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Можешь только ты,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Разумный человек 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95280" y="522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Охраняется Красною книг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Столько редких животных и пти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Чтобы выжил простор многоли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Ради света грядущих зарни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Чтоб пустыни нагрянуть не сме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Чтобы души не стали пус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Охраняются зве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Охраняются зме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Охраняются даже цв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Красная книга</a:t>
            </a:r>
            <a:br>
              <a:rPr sz="4000"/>
            </a:b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Воронежской обла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2008 году была издана Красная книга Воронежской обла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йчас в Воронежской области около 17 тысяч видов животных и растений, 850 из них редк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Растения которые могут исчезну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4641840" cy="464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184720" y="1624680"/>
            <a:ext cx="3959280" cy="44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720" rIns="342720" tIns="0" bIns="-1141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рострел раскрытый (сон-трав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 древности соком  сон-травы смазывали наконечники копий для того, чтобы прогнать злую силу. А раны, полученные в сражениях, врачевали с помощью этого растения Сейчас препараты растения употребляют как успокаивающее и снотворное сред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19280" y="1197000"/>
            <a:ext cx="374508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Василёк борово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растёт в Бобровском районе на реке Битюг. Численность крайне мала — василёк не выдерживает конкуренции с сорняками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kn9-1kol"/>
          <p:cNvPicPr/>
          <p:nvPr/>
        </p:nvPicPr>
        <p:blipFill>
          <a:blip r:embed="rId1"/>
          <a:stretch/>
        </p:blipFill>
        <p:spPr>
          <a:xfrm>
            <a:off x="900000" y="1484280"/>
            <a:ext cx="3313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" dur="2000" fill="hold"/>
                                        <p:tgtEl>
                                          <p:spTgt spid="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Пион узколистный («воронец»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пион тонколистный"/>
          <p:cNvPicPr/>
          <p:nvPr/>
        </p:nvPicPr>
        <p:blipFill>
          <a:blip r:embed="rId1"/>
          <a:stretch/>
        </p:blipFill>
        <p:spPr>
          <a:xfrm>
            <a:off x="4211640" y="1557360"/>
            <a:ext cx="4662360" cy="3905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1195200"/>
            <a:ext cx="4390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наших живописных меловых склонах расцветают кроваво-красными огнями крупные (диаметром до 8 см ) цветки узколистного пио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оме красоты, пион узколистный является лекарственным раст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параты из воронца помогают при эпилепсии, малокровии, сердечных болезн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Ландыш май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чень красивый цветок, с нежным ароматом, с ярко-красными плодами-ягодами Применялся для изготовления духов. Все растение ядовито, но в малых дозах  применяется как средство от сердечных заболе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32302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Кувшинка бел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кувшинка белая"/>
          <p:cNvPicPr/>
          <p:nvPr/>
        </p:nvPicPr>
        <p:blipFill>
          <a:blip r:embed="rId1"/>
          <a:stretch/>
        </p:blipFill>
        <p:spPr>
          <a:xfrm>
            <a:off x="3851280" y="1916280"/>
            <a:ext cx="4995720" cy="3612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26920" y="2133720"/>
            <a:ext cx="23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1773360"/>
            <a:ext cx="3168720" cy="48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новная причина исчезновения кувшинки: загрязнение, обмеление, пересыхание водоем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увшинка используется в качестве болеутоляющих и кровеостанавливающих средств, а также для лечения угрей и веснуше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Голуб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Голубик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— её находили в окрестностях посёлка Бор в Усманском бору ещё в довоенное время. После 40-х годов ягода проп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kn4-1kol"/>
          <p:cNvPicPr/>
          <p:nvPr/>
        </p:nvPicPr>
        <p:blipFill>
          <a:blip r:embed="rId1"/>
          <a:stretch/>
        </p:blipFill>
        <p:spPr>
          <a:xfrm>
            <a:off x="250920" y="1628640"/>
            <a:ext cx="43923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10:45:01Z</dcterms:created>
  <dc:creator>!</dc:creator>
  <dc:description/>
  <dc:language>en-US</dc:language>
  <cp:lastModifiedBy>User</cp:lastModifiedBy>
  <dcterms:modified xsi:type="dcterms:W3CDTF">2014-12-01T19:57:41Z</dcterms:modified>
  <cp:revision>13</cp:revision>
  <dc:subject/>
  <dc:title>Красная книга</dc:title>
</cp:coreProperties>
</file>