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32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2AA-712D-4032-8240-B3B97743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476-AEC6-4D44-8070-F6A98E4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513-A185-4163-8486-1D7DC000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8A0-7FE0-4739-928A-5475F68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C1D7-7C0A-4EE2-B473-F2B090BA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515-D4D7-481C-B8DF-907D05D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087-6B8E-40E6-A0B7-60099D0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862-720B-4862-BE57-84739E52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029B-72AB-453B-9965-058117E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DC2-A87D-4D78-9F88-188ED09C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D112-FD5C-4839-BBE7-FA894F2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AE4-0944-4EF9-8843-08F4520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CB7E-C546-454C-AFD7-B56BD7F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25B-FDCF-4C93-9DD9-4E3D08F5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D1C-9823-4CB8-B05D-2FF93F5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D69-5E1D-4A84-A96B-FEB2AC5C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8C4-7402-4B3D-A355-E1BA8886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757B-188A-4F9C-A02D-08CFBC9E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CBBA-37CB-4E28-A0E6-8F12930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6ABC-1870-43C8-913C-86D6963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F962-439F-43E4-923E-09016E5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1D2D-9136-42AC-BB0B-15EEB6E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4B9-CFC6-4A00-BD75-DC9719A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0D2B-58CE-4203-AD65-199C62E4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7A08-AFA6-4CEA-9253-1B557BC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40A0-3248-4233-A1B4-BFD248E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148C-3C40-4CBC-91CC-99F3506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04F4-83D2-42EC-B7CF-635DA73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EB9C-E0A3-459D-9DA1-868259A9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2898-D9A6-4744-880B-A1E8201F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DC49-D715-4036-BF2A-4410C095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A5FA-E3D0-4212-9220-E457FE6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D1E7-D3B5-415B-BB17-F9ECCEB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0EC-61F1-45A1-84A1-4F3D05D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D4AC-F050-40FD-9718-3B73B625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9D8C-DB71-4925-B6A8-126C090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C4EB-1F21-459F-ABC2-FA3B946F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7BA7-E94C-45E4-AC55-E4F69C3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24F2-128C-4DA9-935B-5FEA6EB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2F32-AB20-4615-A848-E8614BF8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36B0-0024-4E92-B2BE-3149441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E5E7-2067-406C-B085-571DA595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9BA4-57D1-4E02-9CE9-70BCCE03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FCC0-ACAE-4BA3-8221-3EF55AB3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279-5830-45DB-9520-EBFF195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3234A-77F2-4441-9643-7A1FD36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5AE6-7452-4B2D-99B7-B630A17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F0DE-45CA-4D47-A2EF-B31E6B9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1299-3853-4071-87E3-85286D8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C344-3FED-4715-B5E9-ADFE8E9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CDE2-17CC-4989-A4CB-E22A384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AB31-BEF6-442B-B395-AB3411D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BC00-1A0B-4223-AE93-E83C574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F4D1-06FE-456A-BC3C-A0948C5D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794E-4841-465A-A7E7-AE44ACDD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094-037B-4466-9F45-21ED438E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1872-890C-4D18-AF98-26CC709F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5BA-FCEF-44C5-8006-510C05F9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8EC-775E-4AF9-A3F0-D48B15C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8AB-D23B-4BA4-85F4-9D06DDB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6A26-B9C4-4ABD-BF77-4DB66E74004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F2F9-04BC-4FB5-8E2C-DD00B082F4D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332E-9BD7-48A7-9F68-F8A163860EA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3EB9-636C-4F62-8127-574985A0794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190C-3F31-4CA6-8CC0-15A04924D70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1146240"/>
            <a:ext cx="8199360" cy="3224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Муниципальное бюджетное дошкольное учреждени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Детский сад комбинированного вида №31 «Медвежонок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d388"/>
                </a:solidFill>
                <a:latin typeface="Trebuchet MS"/>
              </a:rPr>
              <a:t>МЕТОДИЧЕСКАЯ РАЗРАБОТК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Подготовила: Воспитатель первой квалификационной категории логопедической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Ербулатова Надежда Владими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г. Нижневартовск, 2015 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 rot="20960400">
            <a:off x="169560" y="4760640"/>
            <a:ext cx="1477800" cy="1977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 rot="20803800">
            <a:off x="3887640" y="4040280"/>
            <a:ext cx="3643560" cy="243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 rot="551400">
            <a:off x="5613120" y="1722240"/>
            <a:ext cx="1904760" cy="2124000"/>
          </a:xfrm>
          <a:prstGeom prst="rect">
            <a:avLst/>
          </a:prstGeom>
          <a:ln w="0">
            <a:noFill/>
          </a:ln>
        </p:spPr>
      </p:pic>
      <p:pic>
        <p:nvPicPr>
          <p:cNvPr id="264" name="Заголовок 1" descr=""/>
          <p:cNvPicPr/>
          <p:nvPr/>
        </p:nvPicPr>
        <p:blipFill>
          <a:blip r:embed="rId4"/>
          <a:stretch/>
        </p:blipFill>
        <p:spPr>
          <a:xfrm>
            <a:off x="334800" y="-85680"/>
            <a:ext cx="7772400" cy="1944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Средства: игры, чистоговорки, скороговорки, загадки, пословицы, поговорки, стихи, считал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Специальные методические приемы:           -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 Сопряженная и отраженная речь;            - Хоровая речь;                                           - Показ и объяснение артикуляции </a:t>
            </a: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а с использованием Сказки о веселом Язычке; -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 Упражнения на звукопроизношение, слуховое внимание, речевое дыхание, силу голоса, темп речи;                             -</a:t>
            </a: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Рассказ –драматизация; </a:t>
            </a:r>
            <a:br>
              <a:rPr sz="2400"/>
            </a:b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685440"/>
            <a:ext cx="723888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Trebuchet MS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Trebuchet MS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Подготовила: Воспитатель первой квалификационной категории логопедической групп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МБДОУ ДСКВ №31 «Медвежонок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Ербулатова Надежда Владимировн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gb" descr="http://zuzn.ru/wp-content/uploads/2009/07/books-300x269.jpg"/>
          <p:cNvPicPr/>
          <p:nvPr/>
        </p:nvPicPr>
        <p:blipFill>
          <a:blip r:embed="rId1"/>
          <a:stretch/>
        </p:blipFill>
        <p:spPr>
          <a:xfrm>
            <a:off x="5562720" y="2819520"/>
            <a:ext cx="2149200" cy="192708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Произносительные качества (звукопроизношение, дикция, и т.д.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Элементы звуковой выразительности речи (интонация, тембр и др.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Двигательные средства выразительности(мимика, жесты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Элементы культуры речевого общения (общая тональность, двигательные навыки в процессе разговора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Речевой слух и речевое дыхани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 rot="21136800">
            <a:off x="4807080" y="3548160"/>
            <a:ext cx="3079800" cy="256680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7242120" cy="1859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520" y="15998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овая культура речи является составной частью общей речевой культу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овая сторона речи – средство, позволяющее каждому из участников речевого общения передавать другим содержание их мыслей, задавать вопросы, договариваться со сверстниками о совместной игр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Неясная речь ребенка весьма затрудняет его взаимоотношения с людьми и нередко накладывает тяжелый отпечаток на его характе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gb" descr="http://mir-skazki.org/images/skachat_skazki.png"/>
          <p:cNvPicPr/>
          <p:nvPr/>
        </p:nvPicPr>
        <p:blipFill>
          <a:blip r:embed="rId1"/>
          <a:stretch/>
        </p:blipFill>
        <p:spPr>
          <a:xfrm>
            <a:off x="5257800" y="4419720"/>
            <a:ext cx="2633760" cy="226224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57200" y="146160"/>
            <a:ext cx="7278840" cy="1938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Усвоение звуковой стороны языка начинается, когда дети начинают понимать слова взрослых и произносить первые самостоятельн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Ребенок оказывается способным усваивать звуковую сторону речи в определенной последовательности: сначала интонацию, затем ритм и звуковой состав слова (после одного года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Фонематический слух у ребенка формируется в самом раннем детств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Овладение детьми звуками речи предполагает совместную деятельность слухового и речедвигательного анализатор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Дошкольники усваивают не те звуки, которые они хорошо слышат, а те, которые им легче произнест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imgb" descr="http://www.umka.by/cms/images/kubiki_zaitcev.jpg"/>
          <p:cNvPicPr/>
          <p:nvPr/>
        </p:nvPicPr>
        <p:blipFill>
          <a:blip r:embed="rId1"/>
          <a:stretch/>
        </p:blipFill>
        <p:spPr>
          <a:xfrm rot="19437600">
            <a:off x="2743200" y="2819160"/>
            <a:ext cx="2585880" cy="219384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" descr=""/>
          <p:cNvPicPr/>
          <p:nvPr/>
        </p:nvPicPr>
        <p:blipFill>
          <a:blip r:embed="rId2"/>
          <a:stretch/>
        </p:blipFill>
        <p:spPr>
          <a:xfrm>
            <a:off x="457200" y="66600"/>
            <a:ext cx="7278840" cy="1944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Большинство звуков формируется в правильном виде не сразу, а постепенно, через промежуточные, переходные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Большинство формирующихся слов проходит длительный период развития, иногда в несколько недель или месяцев, прежде чем установится правильное произношение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В старшем дошкольном возрасте у многих детей отмечается не совсем правильная расстановка ударений, проглатывания окончаний слов, смешивание  твердых и мягких  согласных, свистящих ,шипящих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У дошкольников отмечается также несовершенство </a:t>
            </a:r>
            <a:r>
              <a:rPr b="1" i="1" lang="ru-RU" sz="1900" spc="-1" strike="noStrike">
                <a:solidFill>
                  <a:srgbClr val="b13f9a"/>
                </a:solidFill>
                <a:latin typeface="Trebuchet MS"/>
              </a:rPr>
              <a:t>речевого дыхания, фонематического слуха,</a:t>
            </a: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недостаточно развито и взаимодействие </a:t>
            </a:r>
            <a:r>
              <a:rPr b="1" i="1" lang="ru-RU" sz="1900" spc="-1" strike="noStrike">
                <a:solidFill>
                  <a:srgbClr val="b13f9a"/>
                </a:solidFill>
                <a:latin typeface="Trebuchet MS"/>
              </a:rPr>
              <a:t>слухового и речедвигательного анализаторов.                                                                                       </a:t>
            </a:r>
            <a:br>
              <a:rPr sz="1900"/>
            </a:b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</a:t>
            </a:r>
            <a:br>
              <a:rPr sz="1900"/>
            </a:b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2317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Основная форма целенаправленного обучения - фронтальные занятия с детьми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Решающую роль  формировании правильного произношения играет своевременно начатое обучение.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Формирование звуковой культуры речи у старших дошкольников связано с работой по дифференциации звуков и предусматривает три вида работы: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-дифференциацию изолированных звуков,                       -дифференциацию звуков в словах и                               -дифференциацию звуков в речи. </a:t>
            </a:r>
            <a:br>
              <a:rPr sz="1200"/>
            </a:b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-152280" y="4214880"/>
            <a:ext cx="9144000" cy="2643120"/>
          </a:xfrm>
          <a:prstGeom prst="rect">
            <a:avLst/>
          </a:prstGeom>
          <a:solidFill>
            <a:srgbClr val="00b050"/>
          </a:solidFill>
          <a:ln w="399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                                                                                                      </a:t>
            </a:r>
            <a:r>
              <a:rPr b="1" lang="ru-RU" sz="6000" spc="-1" strike="noStrike">
                <a:solidFill>
                  <a:srgbClr val="7030a0"/>
                </a:solidFill>
                <a:latin typeface="Trebuchet MS"/>
              </a:rPr>
              <a:t>Р-р-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:\Documents and Settings\Кирилл\Рабочий стол\МАМА\анимация\37bf50657d6e.png"/>
          <p:cNvPicPr/>
          <p:nvPr/>
        </p:nvPicPr>
        <p:blipFill>
          <a:blip r:embed="rId1"/>
          <a:stretch/>
        </p:blipFill>
        <p:spPr>
          <a:xfrm>
            <a:off x="428760" y="1071720"/>
            <a:ext cx="3106440" cy="4679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142920" y="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Trebuchet MS"/>
                <a:ea typeface="Arial"/>
              </a:rPr>
              <a:t>Дифференциация изолированных звуков: </a:t>
            </a:r>
            <a:r>
              <a:rPr b="0" i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«</a:t>
            </a:r>
            <a:r>
              <a:rPr b="1" lang="ru-RU" sz="3600" spc="-1" strike="noStrike">
                <a:solidFill>
                  <a:srgbClr val="c00000"/>
                </a:solidFill>
                <a:latin typeface="Trebuchet MS"/>
                <a:ea typeface="Arial"/>
              </a:rPr>
              <a:t>Угадай, кто пришёл к доктору на приём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5" descr="solnishko"/>
          <p:cNvPicPr/>
          <p:nvPr/>
        </p:nvPicPr>
        <p:blipFill>
          <a:blip r:embed="rId2"/>
          <a:stretch/>
        </p:blipFill>
        <p:spPr>
          <a:xfrm>
            <a:off x="7286760" y="785880"/>
            <a:ext cx="1619280" cy="1393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5791320" y="1752480"/>
            <a:ext cx="312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rebuchet MS"/>
                <a:ea typeface="Arial"/>
              </a:rPr>
              <a:t>Ш-ш-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Documents and Settings\Кирилл\Рабочий стол\МАМА\детские презентации\Почемучка\d99df4126516.png"/>
          <p:cNvPicPr/>
          <p:nvPr/>
        </p:nvPicPr>
        <p:blipFill>
          <a:blip r:embed="rId3"/>
          <a:stretch/>
        </p:blipFill>
        <p:spPr>
          <a:xfrm>
            <a:off x="5475240" y="2895480"/>
            <a:ext cx="3668760" cy="1809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Кирилл\Рабочий стол\МАМА\детские презентации\Почемучка\1184520637_komar.gif"/>
          <p:cNvPicPr/>
          <p:nvPr/>
        </p:nvPicPr>
        <p:blipFill>
          <a:blip r:embed="rId4"/>
          <a:stretch/>
        </p:blipFill>
        <p:spPr>
          <a:xfrm>
            <a:off x="3432240" y="2365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Кирилл\Рабочий стол\МАМА\детские презентации\Почемучка\1b59ae46c9d6.png"/>
          <p:cNvPicPr/>
          <p:nvPr/>
        </p:nvPicPr>
        <p:blipFill>
          <a:blip r:embed="rId5"/>
          <a:stretch/>
        </p:blipFill>
        <p:spPr>
          <a:xfrm>
            <a:off x="3581280" y="4800600"/>
            <a:ext cx="3137040" cy="22096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5"/>
          <p:cNvSpPr/>
          <p:nvPr/>
        </p:nvSpPr>
        <p:spPr>
          <a:xfrm>
            <a:off x="3581280" y="17524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  <a:ea typeface="Arial"/>
              </a:rPr>
              <a:t>З-з-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74680" y="0"/>
            <a:ext cx="7759800" cy="167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лыжи"/>
          <p:cNvPicPr/>
          <p:nvPr/>
        </p:nvPicPr>
        <p:blipFill>
          <a:blip r:embed="rId2"/>
          <a:stretch/>
        </p:blipFill>
        <p:spPr>
          <a:xfrm>
            <a:off x="214200" y="1857240"/>
            <a:ext cx="1301760" cy="2089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груша"/>
          <p:cNvPicPr/>
          <p:nvPr/>
        </p:nvPicPr>
        <p:blipFill>
          <a:blip r:embed="rId3"/>
          <a:stretch/>
        </p:blipFill>
        <p:spPr>
          <a:xfrm>
            <a:off x="2286000" y="2214720"/>
            <a:ext cx="1219320" cy="1290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машины"/>
          <p:cNvPicPr/>
          <p:nvPr/>
        </p:nvPicPr>
        <p:blipFill>
          <a:blip r:embed="rId4"/>
          <a:stretch/>
        </p:blipFill>
        <p:spPr>
          <a:xfrm rot="534600">
            <a:off x="5562360" y="1828440"/>
            <a:ext cx="2286000" cy="1324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ножницы"/>
          <p:cNvPicPr/>
          <p:nvPr/>
        </p:nvPicPr>
        <p:blipFill>
          <a:blip r:embed="rId5"/>
          <a:stretch/>
        </p:blipFill>
        <p:spPr>
          <a:xfrm rot="1099800">
            <a:off x="3125880" y="3725640"/>
            <a:ext cx="2022480" cy="820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18004143_10594082_5ebbbee09a44_kopiya"/>
          <p:cNvPicPr/>
          <p:nvPr/>
        </p:nvPicPr>
        <p:blipFill>
          <a:blip r:embed="rId6"/>
          <a:stretch/>
        </p:blipFill>
        <p:spPr>
          <a:xfrm>
            <a:off x="380880" y="4038480"/>
            <a:ext cx="2552760" cy="2266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http://img.liveinternet.ru/images/attach/2/6813/6813551_mishka.jpg"/>
          <p:cNvPicPr/>
          <p:nvPr/>
        </p:nvPicPr>
        <p:blipFill>
          <a:blip r:embed="rId7"/>
          <a:stretch/>
        </p:blipFill>
        <p:spPr>
          <a:xfrm>
            <a:off x="52578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EC003"/>
          <p:cNvPicPr/>
          <p:nvPr/>
        </p:nvPicPr>
        <p:blipFill>
          <a:blip r:embed="rId8"/>
          <a:stretch/>
        </p:blipFill>
        <p:spPr>
          <a:xfrm rot="20972400">
            <a:off x="3743280" y="1715760"/>
            <a:ext cx="1447920" cy="1909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igzhel1"/>
          <p:cNvPicPr/>
          <p:nvPr/>
        </p:nvPicPr>
        <p:blipFill>
          <a:blip r:embed="rId9"/>
          <a:stretch/>
        </p:blipFill>
        <p:spPr>
          <a:xfrm rot="20641200">
            <a:off x="3352680" y="4876560"/>
            <a:ext cx="1371600" cy="14875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1"/>
          <p:cNvSpPr/>
          <p:nvPr/>
        </p:nvSpPr>
        <p:spPr>
          <a:xfrm>
            <a:off x="990720" y="6334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  <a:ea typeface="Arial"/>
              </a:rPr>
              <a:t>Дифференциация звуков 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 rot="637800">
            <a:off x="5638320" y="3809520"/>
            <a:ext cx="1943280" cy="2732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 rot="21241800">
            <a:off x="3441600" y="3821040"/>
            <a:ext cx="1785960" cy="1811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 rot="20718600">
            <a:off x="3457440" y="1386000"/>
            <a:ext cx="1600200" cy="2232000"/>
          </a:xfrm>
          <a:prstGeom prst="rect">
            <a:avLst/>
          </a:prstGeom>
          <a:ln w="0">
            <a:noFill/>
          </a:ln>
        </p:spPr>
      </p:pic>
      <p:pic>
        <p:nvPicPr>
          <p:cNvPr id="258" name="Заголовок 1" descr=""/>
          <p:cNvPicPr/>
          <p:nvPr/>
        </p:nvPicPr>
        <p:blipFill>
          <a:blip r:embed="rId4"/>
          <a:stretch/>
        </p:blipFill>
        <p:spPr>
          <a:xfrm>
            <a:off x="328680" y="384120"/>
            <a:ext cx="7486560" cy="107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ловесные игр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Рассказ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южетные картин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тихотвор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Чистоговор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короговор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Загад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Пословиц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Другой речевой материал, насыщенный дифференцируемыми звук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5"/>
          <a:stretch/>
        </p:blipFill>
        <p:spPr>
          <a:xfrm rot="1071600">
            <a:off x="5714640" y="1599840"/>
            <a:ext cx="1514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37:40Z</dcterms:created>
  <dc:creator>Надежда</dc:creator>
  <dc:description/>
  <dc:language>en-US</dc:language>
  <cp:lastModifiedBy>Надежда</cp:lastModifiedBy>
  <dcterms:modified xsi:type="dcterms:W3CDTF">2015-02-02T14:26:05Z</dcterms:modified>
  <cp:revision>39</cp:revision>
  <dc:subject/>
  <dc:title>Воспитание звуковой культуры речи у детей дошкольно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50600207f5200358026400</vt:lpwstr>
  </property>
</Properties>
</file>