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32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.png" ContentType="image/png"/>
  <Override PartName="/ppt/media/image23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6BC-3B16-40CB-B636-8FFD6589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EAF-2914-4A5B-A3D0-EBA9482B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E71-7E51-43B6-8F76-AB77CE4A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976-2942-411A-80C6-5EACFFD3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103A-8A43-4673-84BD-0EFD5174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C1AD-0363-4EDE-8748-8D7A8B86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669D-C0ED-4FE5-AB53-5C690B4D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7287-A092-45EB-978A-64485A2F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1198-BB5B-47E8-B8E7-FB0DEC11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B1FE-C242-4F47-B4F2-A48F52D7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08A4-F1F5-4070-90B0-157F14D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400-EC5C-4DE0-86CB-8E68E433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F150-7765-4E0D-B34F-4881CA3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DF63-0853-422E-87D0-A3FAB21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E7D2-1CBF-4938-90BF-CC24596A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7BB6-305A-4D89-A36B-77095D35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66A0-810B-4026-A827-95DA22B0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4D2A-817F-458C-95CE-61EEF727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BB84-DC25-4B9E-B8D3-CAD18D82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0D59-66F6-434F-A04D-B17850D4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A29B-DE64-4D7D-8E04-E60BF7AB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441A-BAE1-478F-AD46-D6BE1249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F95-68BB-4629-9C1C-3660C019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726B-7B49-4E19-8E1B-EF59E4E6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4F12-F83B-4F11-9864-96A98BA0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86C5-BE81-42A5-981B-A889B57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542E9-AE5B-428E-BA85-F69205C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990D-2004-4A08-9446-94844DCA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A548-15F2-472A-96DF-497B13D3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421A-1E6A-4A3E-A626-31DE6BD9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D7C6-8BA2-4B29-96B7-E8B06A14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8217-0237-49EF-A5CE-F5A20A99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38E6E-A1B1-457C-A65F-EAD60E29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28A-F559-4607-92E6-D90909EB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3DCD-E14E-4D07-B7B9-D49A9753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FAD9B-6A2B-47F7-A5B2-D34944D4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A8550-CFE1-40C6-978C-2A992662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C1CAD-46CA-4850-A7F6-B0EDEB0C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4B5B-4996-4AC3-ACE8-9C3D7F5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D44E4-C9F8-4F45-A28B-F321165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34A9-82F7-474E-B3EF-6D38F40B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FAE6-7109-4794-9A7F-80B409AC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7636-4B50-4634-9EB9-5E756E11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2E357-E8DE-4A83-8247-75C97BFE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566-2CCF-46A7-B61A-78B0E4BB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76A56-4A3D-4D94-BF02-5B15F97A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FF2B5-2F74-40AE-8B30-7D448680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4C7CB-15B5-46B2-9922-E1AE4A07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EB5D3-D1EB-4F81-85B2-6D798C76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73753-8BEF-4A37-BD9A-C40208D0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6CB91-6434-47EB-9791-19689075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60B91-1800-42C1-9A2D-15A60271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81530-4DFE-45BC-9222-D60FF185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78906-C30F-46BD-AA88-31B72188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4C359-678B-4ACC-843D-55659435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DD0-D336-416A-B99E-B19F366F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87032-9426-4EFE-AFE0-9EFA5A52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8AD-60AB-458D-BA1D-52B01A56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D60-FB41-4AC0-A8B8-50D9FA33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07C-E097-4B43-81F2-A7ED0C6A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5DD6-5076-46F2-8E49-65C4594ACE4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FE7E-4E8B-484F-8BDC-357DD8E15113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C1FB-263B-40FD-BFE6-17EE23F9599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5F1D-5329-4AB2-868E-936F12E62AE5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0003-5875-4C62-B3D1-7DA6AC016B5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9040" y="1146240"/>
            <a:ext cx="8199360" cy="3224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69608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bd388"/>
                </a:solidFill>
                <a:latin typeface="Trebuchet MS"/>
              </a:rPr>
              <a:t>Муниципальное бюджетное дошкольное учреждени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bd388"/>
                </a:solidFill>
                <a:latin typeface="Trebuchet MS"/>
              </a:rPr>
              <a:t>Детский сад комбинированного вида №31 «Медвежонок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d388"/>
                </a:solidFill>
                <a:latin typeface="Trebuchet MS"/>
              </a:rPr>
              <a:t>МЕТОДИЧЕСКАЯ РАЗРАБОТКА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bd388"/>
                </a:solidFill>
                <a:latin typeface="Trebuchet MS"/>
              </a:rPr>
              <a:t>Подготовила: Воспитатель первой квалификационной категории логопедической групп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bd388"/>
                </a:solidFill>
                <a:latin typeface="Trebuchet MS"/>
              </a:rPr>
              <a:t>Ербулатова Надежда Владимиро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bd388"/>
                </a:solidFill>
                <a:latin typeface="Trebuchet MS"/>
              </a:rPr>
              <a:t>г. Нижневартовск, 2015 год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 rot="20960400">
            <a:off x="169560" y="4760640"/>
            <a:ext cx="1477800" cy="1977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 rot="20803800">
            <a:off x="3887640" y="4040280"/>
            <a:ext cx="3643560" cy="2431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3"/>
          <a:stretch/>
        </p:blipFill>
        <p:spPr>
          <a:xfrm rot="551400">
            <a:off x="5613120" y="1722240"/>
            <a:ext cx="1904760" cy="2124000"/>
          </a:xfrm>
          <a:prstGeom prst="rect">
            <a:avLst/>
          </a:prstGeom>
          <a:ln w="0">
            <a:noFill/>
          </a:ln>
        </p:spPr>
      </p:pic>
      <p:pic>
        <p:nvPicPr>
          <p:cNvPr id="264" name="Заголовок 1" descr=""/>
          <p:cNvPicPr/>
          <p:nvPr/>
        </p:nvPicPr>
        <p:blipFill>
          <a:blip r:embed="rId4"/>
          <a:stretch/>
        </p:blipFill>
        <p:spPr>
          <a:xfrm>
            <a:off x="334800" y="-85680"/>
            <a:ext cx="7772400" cy="1944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Средства: игры, чистоговорки, скороговорки, загадки, пословицы, поговорки, стихи, считал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Специальные методические приемы:           -</a:t>
            </a:r>
            <a:r>
              <a:rPr b="1" i="1" lang="ru-RU" sz="2400" spc="-1" strike="noStrike">
                <a:solidFill>
                  <a:srgbClr val="b13f9a"/>
                </a:solidFill>
                <a:latin typeface="Trebuchet MS"/>
              </a:rPr>
              <a:t> Сопряженная и отраженная речь;            - Хоровая речь;                                           - Показ и объяснение артикуляции </a:t>
            </a: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звука с использованием Сказки о веселом Язычке; -</a:t>
            </a:r>
            <a:r>
              <a:rPr b="1" i="1" lang="ru-RU" sz="2400" spc="-1" strike="noStrike">
                <a:solidFill>
                  <a:srgbClr val="b13f9a"/>
                </a:solidFill>
                <a:latin typeface="Trebuchet MS"/>
              </a:rPr>
              <a:t> Упражнения на звукопроизношение, слуховое внимание, речевое дыхание, силу голоса, темп речи;                             -</a:t>
            </a: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b13f9a"/>
                </a:solidFill>
                <a:latin typeface="Trebuchet MS"/>
              </a:rPr>
              <a:t>Рассказ –драматизация; </a:t>
            </a:r>
            <a:br>
              <a:rPr sz="2400"/>
            </a:b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685440"/>
            <a:ext cx="723888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13f9a"/>
                </a:solidFill>
                <a:latin typeface="Trebuchet MS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13f9a"/>
                </a:solidFill>
                <a:latin typeface="Trebuchet MS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Trebuchet MS"/>
              </a:rPr>
              <a:t>Подготовила: Воспитатель первой квалификационной категории логопедической групп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Trebuchet MS"/>
              </a:rPr>
              <a:t>МБДОУ ДСКВ №31 «Медвежонок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Trebuchet MS"/>
              </a:rPr>
              <a:t>Ербулатова Надежда Владимировн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3f9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imgb" descr="http://zuzn.ru/wp-content/uploads/2009/07/books-300x269.jpg"/>
          <p:cNvPicPr/>
          <p:nvPr/>
        </p:nvPicPr>
        <p:blipFill>
          <a:blip r:embed="rId1"/>
          <a:stretch/>
        </p:blipFill>
        <p:spPr>
          <a:xfrm>
            <a:off x="5562720" y="2819520"/>
            <a:ext cx="2149200" cy="192708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Произносительные качества (звукопроизношение, дикция, и т.д.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Элементы звуковой выразительности речи (интонация, тембр и др.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Двигательные средства выразительности(мимика, жесты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Элементы культуры речевого общения (общая тональность, двигательные навыки в процессе разговора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Речевой слух и речевое дыхани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 rot="21136800">
            <a:off x="4807080" y="3548160"/>
            <a:ext cx="3079800" cy="2566800"/>
          </a:xfrm>
          <a:prstGeom prst="rect">
            <a:avLst/>
          </a:prstGeom>
          <a:ln w="0">
            <a:noFill/>
          </a:ln>
        </p:spPr>
      </p:pic>
      <p:pic>
        <p:nvPicPr>
          <p:cNvPr id="226" name="Заголовок 1" descr=""/>
          <p:cNvPicPr/>
          <p:nvPr/>
        </p:nvPicPr>
        <p:blipFill>
          <a:blip r:embed="rId2"/>
          <a:stretch/>
        </p:blipFill>
        <p:spPr>
          <a:xfrm>
            <a:off x="457200" y="0"/>
            <a:ext cx="7242120" cy="1859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80520" y="15998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Звуковая культура речи является составной частью общей речевой культур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Звуковая сторона речи – средство, позволяющее каждому из участников речевого общения передавать другим содержание их мыслей, задавать вопросы, договариваться со сверстниками о совместной игр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Неясная речь ребенка весьма затрудняет его взаимоотношения с людьми и нередко накладывает тяжелый отпечаток на его характер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imgb" descr="http://mir-skazki.org/images/skachat_skazki.png"/>
          <p:cNvPicPr/>
          <p:nvPr/>
        </p:nvPicPr>
        <p:blipFill>
          <a:blip r:embed="rId1"/>
          <a:stretch/>
        </p:blipFill>
        <p:spPr>
          <a:xfrm>
            <a:off x="5257800" y="4419720"/>
            <a:ext cx="2633760" cy="226224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457200" y="146160"/>
            <a:ext cx="7278840" cy="1938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Усвоение звуковой стороны языка начинается, когда дети начинают понимать слова взрослых и произносить первые самостоятельные сл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Ребенок оказывается способным усваивать звуковую сторону речи в определенной последовательности: сначала интонацию, затем ритм и звуковой состав слова (после одного года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Фонематический слух у ребенка формируется в самом раннем детств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Овладение детьми звуками речи предполагает совместную деятельность слухового и речедвигательного анализатор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Дошкольники усваивают не те звуки, которые они хорошо слышат, а те, которые им легче произнести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imgb" descr="http://www.umka.by/cms/images/kubiki_zaitcev.jpg"/>
          <p:cNvPicPr/>
          <p:nvPr/>
        </p:nvPicPr>
        <p:blipFill>
          <a:blip r:embed="rId1"/>
          <a:stretch/>
        </p:blipFill>
        <p:spPr>
          <a:xfrm rot="19437600">
            <a:off x="2743200" y="2819160"/>
            <a:ext cx="2585880" cy="2193840"/>
          </a:xfrm>
          <a:prstGeom prst="rect">
            <a:avLst/>
          </a:prstGeom>
          <a:ln w="0">
            <a:noFill/>
          </a:ln>
        </p:spPr>
      </p:pic>
      <p:pic>
        <p:nvPicPr>
          <p:cNvPr id="232" name="Заголовок 1" descr=""/>
          <p:cNvPicPr/>
          <p:nvPr/>
        </p:nvPicPr>
        <p:blipFill>
          <a:blip r:embed="rId2"/>
          <a:stretch/>
        </p:blipFill>
        <p:spPr>
          <a:xfrm>
            <a:off x="457200" y="66600"/>
            <a:ext cx="7278840" cy="1944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Большинство звуков формируется в правильном виде не сразу, а постепенно, через промежуточные, переходные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Большинство формирующихся слов проходит длительный период развития, иногда в несколько недель или месяцев, прежде чем установится правильное произношение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В старшем дошкольном возрасте у многих детей отмечается не совсем правильная расстановка ударений, проглатывания окончаний слов, смешивание  твердых и мягких  согласных, свистящих ,шипящих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У дошкольников отмечается также несовершенство </a:t>
            </a:r>
            <a:r>
              <a:rPr b="1" i="1" lang="ru-RU" sz="1900" spc="-1" strike="noStrike">
                <a:solidFill>
                  <a:srgbClr val="b13f9a"/>
                </a:solidFill>
                <a:latin typeface="Trebuchet MS"/>
              </a:rPr>
              <a:t>речевого дыхания, фонематического слуха,</a:t>
            </a: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 недостаточно развито и взаимодействие </a:t>
            </a:r>
            <a:r>
              <a:rPr b="1" i="1" lang="ru-RU" sz="1900" spc="-1" strike="noStrike">
                <a:solidFill>
                  <a:srgbClr val="b13f9a"/>
                </a:solidFill>
                <a:latin typeface="Trebuchet MS"/>
              </a:rPr>
              <a:t>слухового и речедвигательного анализаторов.                                                                                       </a:t>
            </a:r>
            <a:br>
              <a:rPr sz="1900"/>
            </a:b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 </a:t>
            </a:r>
            <a:br>
              <a:rPr sz="1900"/>
            </a:br>
            <a:r>
              <a:rPr b="1" lang="ru-RU" sz="1900" spc="-1" strike="noStrike">
                <a:solidFill>
                  <a:srgbClr val="b13f9a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7242120" cy="2317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b13f9a"/>
                </a:solidFill>
                <a:latin typeface="Trebuchet MS"/>
              </a:rPr>
              <a:t>Основная форма целенаправленного обучения - фронтальные занятия с детьми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b13f9a"/>
                </a:solidFill>
                <a:latin typeface="Trebuchet MS"/>
              </a:rPr>
              <a:t>Решающую роль  формировании правильного произношения играет своевременно начатое обучение.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b13f9a"/>
                </a:solidFill>
                <a:latin typeface="Trebuchet MS"/>
              </a:rPr>
              <a:t>Формирование звуковой культуры речи у старших дошкольников связано с работой по дифференциации звуков и предусматривает три вида работы: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100" spc="-1" strike="noStrike">
                <a:solidFill>
                  <a:srgbClr val="b13f9a"/>
                </a:solidFill>
                <a:latin typeface="Trebuchet MS"/>
              </a:rPr>
              <a:t>-дифференциацию изолированных звуков,                       -дифференциацию звуков в словах и                               -дифференциацию звуков в речи. </a:t>
            </a:r>
            <a:br>
              <a:rPr sz="1200"/>
            </a:b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-152280" y="4214880"/>
            <a:ext cx="9144000" cy="2643120"/>
          </a:xfrm>
          <a:prstGeom prst="rect">
            <a:avLst/>
          </a:prstGeom>
          <a:solidFill>
            <a:srgbClr val="00b050"/>
          </a:solidFill>
          <a:ln w="399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                                                                                                       </a:t>
            </a:r>
            <a:r>
              <a:rPr b="1" lang="ru-RU" sz="6000" spc="-1" strike="noStrike">
                <a:solidFill>
                  <a:srgbClr val="7030a0"/>
                </a:solidFill>
                <a:latin typeface="Trebuchet MS"/>
              </a:rPr>
              <a:t>Р-р-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C:\Documents and Settings\Кирилл\Рабочий стол\МАМА\анимация\37bf50657d6e.png"/>
          <p:cNvPicPr/>
          <p:nvPr/>
        </p:nvPicPr>
        <p:blipFill>
          <a:blip r:embed="rId1"/>
          <a:stretch/>
        </p:blipFill>
        <p:spPr>
          <a:xfrm>
            <a:off x="428760" y="1071720"/>
            <a:ext cx="3106440" cy="46796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142920" y="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Trebuchet MS"/>
                <a:ea typeface="Arial"/>
              </a:rPr>
              <a:t>Дифференциация изолированных звуков: </a:t>
            </a:r>
            <a:r>
              <a:rPr b="0" i="1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«</a:t>
            </a:r>
            <a:r>
              <a:rPr b="1" lang="ru-RU" sz="3600" spc="-1" strike="noStrike">
                <a:solidFill>
                  <a:srgbClr val="c00000"/>
                </a:solidFill>
                <a:latin typeface="Trebuchet MS"/>
                <a:ea typeface="Arial"/>
              </a:rPr>
              <a:t>Угадай, кто пришёл к доктору на приём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5" descr="solnishko"/>
          <p:cNvPicPr/>
          <p:nvPr/>
        </p:nvPicPr>
        <p:blipFill>
          <a:blip r:embed="rId2"/>
          <a:stretch/>
        </p:blipFill>
        <p:spPr>
          <a:xfrm>
            <a:off x="7286760" y="785880"/>
            <a:ext cx="1619280" cy="13939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6"/>
          <p:cNvSpPr/>
          <p:nvPr/>
        </p:nvSpPr>
        <p:spPr>
          <a:xfrm>
            <a:off x="5791320" y="1752480"/>
            <a:ext cx="312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rebuchet MS"/>
                <a:ea typeface="Arial"/>
              </a:rPr>
              <a:t>Ш-ш-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C:\Documents and Settings\Кирилл\Рабочий стол\МАМА\детские презентации\Почемучка\d99df4126516.png"/>
          <p:cNvPicPr/>
          <p:nvPr/>
        </p:nvPicPr>
        <p:blipFill>
          <a:blip r:embed="rId3"/>
          <a:stretch/>
        </p:blipFill>
        <p:spPr>
          <a:xfrm>
            <a:off x="5475240" y="2895480"/>
            <a:ext cx="3668760" cy="1809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Documents and Settings\Кирилл\Рабочий стол\МАМА\детские презентации\Почемучка\1184520637_komar.gif"/>
          <p:cNvPicPr/>
          <p:nvPr/>
        </p:nvPicPr>
        <p:blipFill>
          <a:blip r:embed="rId4"/>
          <a:stretch/>
        </p:blipFill>
        <p:spPr>
          <a:xfrm>
            <a:off x="3432240" y="2365200"/>
            <a:ext cx="1749240" cy="1749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Documents and Settings\Кирилл\Рабочий стол\МАМА\детские презентации\Почемучка\1b59ae46c9d6.png"/>
          <p:cNvPicPr/>
          <p:nvPr/>
        </p:nvPicPr>
        <p:blipFill>
          <a:blip r:embed="rId5"/>
          <a:stretch/>
        </p:blipFill>
        <p:spPr>
          <a:xfrm>
            <a:off x="3581280" y="4800600"/>
            <a:ext cx="3137040" cy="220968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5"/>
          <p:cNvSpPr/>
          <p:nvPr/>
        </p:nvSpPr>
        <p:spPr>
          <a:xfrm>
            <a:off x="3581280" y="17524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rebuchet MS"/>
                <a:ea typeface="Arial"/>
              </a:rPr>
              <a:t>З-з-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74680" y="0"/>
            <a:ext cx="7759800" cy="167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лыжи"/>
          <p:cNvPicPr/>
          <p:nvPr/>
        </p:nvPicPr>
        <p:blipFill>
          <a:blip r:embed="rId2"/>
          <a:stretch/>
        </p:blipFill>
        <p:spPr>
          <a:xfrm>
            <a:off x="214200" y="1857240"/>
            <a:ext cx="1301760" cy="2089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груша"/>
          <p:cNvPicPr/>
          <p:nvPr/>
        </p:nvPicPr>
        <p:blipFill>
          <a:blip r:embed="rId3"/>
          <a:stretch/>
        </p:blipFill>
        <p:spPr>
          <a:xfrm>
            <a:off x="2286000" y="2214720"/>
            <a:ext cx="1219320" cy="1290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машины"/>
          <p:cNvPicPr/>
          <p:nvPr/>
        </p:nvPicPr>
        <p:blipFill>
          <a:blip r:embed="rId4"/>
          <a:stretch/>
        </p:blipFill>
        <p:spPr>
          <a:xfrm rot="534600">
            <a:off x="5562360" y="1828440"/>
            <a:ext cx="2286000" cy="1324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ножницы"/>
          <p:cNvPicPr/>
          <p:nvPr/>
        </p:nvPicPr>
        <p:blipFill>
          <a:blip r:embed="rId5"/>
          <a:stretch/>
        </p:blipFill>
        <p:spPr>
          <a:xfrm rot="1099800">
            <a:off x="3125880" y="3725640"/>
            <a:ext cx="2022480" cy="820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18004143_10594082_5ebbbee09a44_kopiya"/>
          <p:cNvPicPr/>
          <p:nvPr/>
        </p:nvPicPr>
        <p:blipFill>
          <a:blip r:embed="rId6"/>
          <a:stretch/>
        </p:blipFill>
        <p:spPr>
          <a:xfrm>
            <a:off x="380880" y="4038480"/>
            <a:ext cx="2552760" cy="2266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http://img.liveinternet.ru/images/attach/2/6813/6813551_mishka.jpg"/>
          <p:cNvPicPr/>
          <p:nvPr/>
        </p:nvPicPr>
        <p:blipFill>
          <a:blip r:embed="rId7"/>
          <a:stretch/>
        </p:blipFill>
        <p:spPr>
          <a:xfrm>
            <a:off x="5257800" y="40384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EC003"/>
          <p:cNvPicPr/>
          <p:nvPr/>
        </p:nvPicPr>
        <p:blipFill>
          <a:blip r:embed="rId8"/>
          <a:stretch/>
        </p:blipFill>
        <p:spPr>
          <a:xfrm rot="20972400">
            <a:off x="3743280" y="1715760"/>
            <a:ext cx="1447920" cy="1909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igzhel1"/>
          <p:cNvPicPr/>
          <p:nvPr/>
        </p:nvPicPr>
        <p:blipFill>
          <a:blip r:embed="rId9"/>
          <a:stretch/>
        </p:blipFill>
        <p:spPr>
          <a:xfrm rot="20641200">
            <a:off x="3352680" y="4876560"/>
            <a:ext cx="1371600" cy="14875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1"/>
          <p:cNvSpPr/>
          <p:nvPr/>
        </p:nvSpPr>
        <p:spPr>
          <a:xfrm>
            <a:off x="990720" y="6334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  <a:ea typeface="Arial"/>
              </a:rPr>
              <a:t>Дифференциация звуков в сло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 rot="637800">
            <a:off x="5638320" y="3809520"/>
            <a:ext cx="1943280" cy="2732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 rot="21241800">
            <a:off x="3441600" y="3821040"/>
            <a:ext cx="1785960" cy="1811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3"/>
          <a:stretch/>
        </p:blipFill>
        <p:spPr>
          <a:xfrm rot="20718600">
            <a:off x="3457440" y="1386000"/>
            <a:ext cx="1600200" cy="2232000"/>
          </a:xfrm>
          <a:prstGeom prst="rect">
            <a:avLst/>
          </a:prstGeom>
          <a:ln w="0">
            <a:noFill/>
          </a:ln>
        </p:spPr>
      </p:pic>
      <p:pic>
        <p:nvPicPr>
          <p:cNvPr id="258" name="Заголовок 1" descr=""/>
          <p:cNvPicPr/>
          <p:nvPr/>
        </p:nvPicPr>
        <p:blipFill>
          <a:blip r:embed="rId4"/>
          <a:stretch/>
        </p:blipFill>
        <p:spPr>
          <a:xfrm>
            <a:off x="328680" y="384120"/>
            <a:ext cx="7486560" cy="1079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Словесные игр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Рассказы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Сюжетные картинк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Стихотворени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Чистоговорк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Скороговорк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Загадк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Пословицы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rebuchet MS"/>
              </a:rPr>
              <a:t>Другой речевой материал, насыщенный дифференцируемыми звука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5"/>
          <a:stretch/>
        </p:blipFill>
        <p:spPr>
          <a:xfrm rot="1071600">
            <a:off x="5714640" y="1599840"/>
            <a:ext cx="15145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0:37:40Z</dcterms:created>
  <dc:creator>Надежда</dc:creator>
  <dc:description/>
  <dc:language>en-US</dc:language>
  <cp:lastModifiedBy>Надежда</cp:lastModifiedBy>
  <dcterms:modified xsi:type="dcterms:W3CDTF">2015-02-02T14:26:05Z</dcterms:modified>
  <cp:revision>39</cp:revision>
  <dc:subject/>
  <dc:title>Воспитание звуковой культуры речи у детей дошкольного возра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240000000000010250600207f5200358026400</vt:lpwstr>
  </property>
</Properties>
</file>