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746-8A6E-4584-A998-6611E330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2AF-3303-4077-91CC-937FEE4E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0D2-0CAA-4DE1-A30C-C129F55B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DE0-3169-47D9-8BE0-E08AF270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185D-7389-4E77-BB36-C5ECD4D6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E6473-3121-48AB-9182-ED587C73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4D6D0-74CB-4398-9775-8F7A60FF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DF5D-2890-4EC7-AFF0-AA84DACC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312F-059F-4B3E-A36C-F75E435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B501-6783-40CD-890E-A88CFE45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BDB1-A2C3-47F4-806C-CDE116A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54-E714-4A45-BD96-4A291DD7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1AD9-235B-4967-B4C5-0A1A2D52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5A82-9C5C-48CA-92D2-C7F4D7C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1CD8-0FC6-41FE-A289-3EB6DAE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798B-D970-4BFC-B056-1AEB7FC1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E825-052B-43B1-9B52-857BF65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18C-94C1-45AA-B464-4E53932F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8B8-C902-4112-9844-CA255D0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E1D-0795-4E11-98C3-F6469D5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6F8-F6BB-4C68-9F4E-6878004B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E89-BBA6-4A71-9358-CDE544D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0CD-7084-40F3-B0D0-574C7E1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A99-3BA3-43AB-B169-7EA1385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001A-AB7E-4102-82D5-E37446327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643-1A01-435E-ABF3-6AD0650457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стер – класс:</a:t>
            </a:r>
            <a:br>
              <a:rPr sz="3200"/>
            </a:br>
            <a:br>
              <a:rPr sz="3200"/>
            </a:b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«Психологическое сопровождение педагогов, в условиях внедрения ФГОС. Профилактика эмоционального выгорания. Балинтовская группа»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дагог – психолог :            Усольцева Е. 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тличия Балинтовских групп от других форм рабо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Балинтовской группы направлена на: - "исследование" эмоциональной и бессознательной части технологии работы специалиста- осознание её; - безопасность работы специалиста (восстановление, защита, предупреждение профессионального стресса и выгор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интовская группа не занимается: - дидактическим обучением, - оценкой работы и личности специалиста, - оптимизацией и методической организацией знаний и технологий, психотерапией участ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стория Балинтовских груп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йкл и Энид Балинт были психоаналитиками, которые начали проводить семинары для врачей общей практики (семейных врачей) в Лондоне в 1950-х г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ь была в помощи врачам в анализе психологических аспектов проблем их пациентов, а так же в анализе проблем врачей, вызванных пациентами. Работа фокусировалась на отношениях врач-пациент: в чём их смысл, как их можно успешно использовать, и почему они часто разваливаются из-за того, что врач и пациент не могут поня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езультаты работы в Балинтовской групп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восприятия и понимания коммуникации с пациен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знание терапевтической значимости межличностных отношений и их грани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ение репертуара коммуникативных стереоти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знание собственных "слепых пятен", психологических защит, переносов и контрперен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а от "эмоционального выгорания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ньшение существующих симптомов "эмоционального выгорания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остный ро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1256809340_29_10_2009_0959746001256806673_noor-iskandar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и мастер - класс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1254558722_allday"/>
          <p:cNvPicPr/>
          <p:nvPr/>
        </p:nvPicPr>
        <p:blipFill>
          <a:blip r:embed="rId1"/>
          <a:stretch/>
        </p:blipFill>
        <p:spPr>
          <a:xfrm>
            <a:off x="6781680" y="5791320"/>
            <a:ext cx="213372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28600" y="9907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информации о структуре Балинтовской группы, ее роли в профессиональном усовершенствовании специалистов «помогающих» профессий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ое освоение технологии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интовской группы для развития эффективной профессиональной коммуникации и предупреждения профессионального «выгорания»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0880" y="90144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Балинтовские группы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- еще одна разновидность групповой тренинговой работы, направленной на повышение профессиональной компетентности участников, их личностный и профессиональный рос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сновные цели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алинтовской группы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компетентности в профессиональном межличностном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знание личностных проблем, блокирующих профессиональные отно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лучшение психического состояния педагогов за счет коллегиальной поддержки и совместной проработки трудных случа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лгоритм работы членов Балинтовских групп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рассказ каждого участника о трудном профессиональном случа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ыбор конкретного случая с учетом желания автора и групп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более подробный рассказ автора, вопросы со стороны членов группы и ведущего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ысказывание гипотетических способов поведения в означенной ситуации каждым членом групп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рефлексивная оценка автором впечатлений от процесса и результата обсуждения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а встреча заканчивается обсуждением одного случая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 Балинтовской группы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-15 человек (оптимально 8-10), работающих в одном или различных, но сходных по направленности деятельности учреждениях и организациях, но желательно не связанных служебно-иерархическими отношени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метом анализа в группе являются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я случаев из практики ее членов. Это могут быть "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уд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 ил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"неуда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 эпизоды из прошлого, продолжающие беспокоить участников как специалистов профессионалов или в личностном плане, вызывающие у них дискомфортные вос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сосредоточено на взаимоотношениях (коммуникации) участников ситуационного взаимодействия, только конкретного реального случая, возможно уточнение фактов, но только в той мере, в которой это касается взаимоотношений участников в данном конкретном случа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ие (тем более теоретические) проблемы не обсуждаютс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писи представляемого случая не используются. Представление случая делается по памя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бсуждается сам рассказчи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чение положительного результата заключается в удержании в поле внимания контекста проблем, порождаемый взаимодейств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ник группы, предлагающий свой случай на обсуждение, должен услышать не то, что группа думает о нем, а то, какие ассоциации вызвало его сообщение, чем его рассказ и последующая дискуссия помогли всем присутствующ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ндартные правила работы в группе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крен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ответ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ажение к мнению других член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о ``стоп''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в ``круге''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дин случай в среднем затрачивается 1-2 часа, иногда чуть боле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нушка</cp:lastModifiedBy>
  <dcterms:modified xsi:type="dcterms:W3CDTF">2014-11-12T08:23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