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5DB9-1507-4EBF-8F15-D2EAE334D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B4F6-0D86-4E78-B438-9A67829D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58B9-10C8-4440-AEDF-19F6321B8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9B73-F93B-4CEF-AC8B-FBF20EC7D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278B00-4070-4B3D-870E-4889C8F48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8330B4-F77A-4F92-99AF-55463F7D1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5C7A97-0FB2-433D-AE7F-C47383297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775CD3-7194-4A31-B069-0DAED03AD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15DAA6-7318-498E-BD26-98AD776FA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07E539-4E05-4557-A897-0399CAE86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4C422B-78FA-40DF-962C-438D6EB1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807E-96FD-47ED-A7C4-C7D4DC106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DA36EB-13E7-4089-959C-325DBF27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9EE73B-A8B2-4BB2-9F37-F0067842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008713-78EC-4E14-8D8B-39534E1DF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9EBFDA-53C6-4083-A3F4-6675E448F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D44C41-02AC-4F84-A046-413591F32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2487-65EE-4192-A79B-A1FE7EB9B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512C-EC5D-4E48-98E7-EBEA32D1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BACF-05B9-40BB-A1AE-ABDD5DA26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F8E1-7722-4ADC-91E0-7FB4E115F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D8F9-39B3-427D-BEA3-28641F9A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1E33-A165-42C4-8187-13BDEAE0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5D13-5B7C-476B-AFEC-7B88A48EB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1EFAD-4D8A-42BD-9FF0-A9A2E45A14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1C05A-457A-45ED-8DF3-9D55253F770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240" y="55623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Мастер – класс:</a:t>
            </a:r>
            <a:br>
              <a:rPr sz="3200"/>
            </a:br>
            <a:br>
              <a:rPr sz="3200"/>
            </a:b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«Психологическое сопровождение педагогов, в условиях внедрения ФГОС. Профилактика эмоционального выгорания. Балинтовская группа»</a:t>
            </a:r>
            <a:br>
              <a:rPr sz="4400"/>
            </a:br>
            <a:br>
              <a:rPr sz="4400"/>
            </a:b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едагог – психолог :            Усольцева Е. А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Отличия Балинтовских групп от других форм работы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бота Балинтовской группы направлена на: - "исследование" эмоциональной и бессознательной части технологии работы специалиста- осознание её; - безопасность работы специалиста (восстановление, защита, предупреждение профессионального стресса и выгорания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алинтовская группа не занимается: - дидактическим обучением, - оценкой работы и личности специалиста, - оптимизацией и методической организацией знаний и технологий, психотерапией участник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История Балинтовских групп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айкл и Энид Балинт были психоаналитиками, которые начали проводить семинары для врачей общей практики (семейных врачей) в Лондоне в 1950-х года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Цель была в помощи врачам в анализе психологических аспектов проблем их пациентов, а так же в анализе проблем врачей, вызванных пациентами. Работа фокусировалась на отношениях врач-пациент: в чём их смысл, как их можно успешно использовать, и почему они часто разваливаются из-за того, что врач и пациент не могут понять друг друг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Результаты работы в Балинтовской групп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лучшение восприятия и понимания коммуникации с пациент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ознание терапевтической значимости межличностных отношений и их границ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сширение репертуара коммуникативных стереотип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ознание собственных "слепых пятен", психологических защит, переносов и контрперенос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щита от "эмоционального выгорания"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меньшение существующих симптомов "эмоционального выгорания"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ичностный рос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Благодарю за внимание!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4" descr="1256809340_29_10_2009_0959746001256806673_noor-iskandar"/>
          <p:cNvPicPr/>
          <p:nvPr/>
        </p:nvPicPr>
        <p:blipFill>
          <a:blip r:embed="rId1"/>
          <a:stretch/>
        </p:blipFill>
        <p:spPr>
          <a:xfrm>
            <a:off x="304920" y="914400"/>
            <a:ext cx="83818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Цели мастер - класса: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3" descr="1254558722_allday"/>
          <p:cNvPicPr/>
          <p:nvPr/>
        </p:nvPicPr>
        <p:blipFill>
          <a:blip r:embed="rId1"/>
          <a:stretch/>
        </p:blipFill>
        <p:spPr>
          <a:xfrm>
            <a:off x="6781680" y="5791320"/>
            <a:ext cx="2133720" cy="9144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4"/>
          <p:cNvSpPr/>
          <p:nvPr/>
        </p:nvSpPr>
        <p:spPr>
          <a:xfrm>
            <a:off x="228600" y="990720"/>
            <a:ext cx="8534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лучение информации о структуре Балинтовской группы, ее роли в профессиональном усовершенствовании специалистов «помогающих» профессий;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ктическое освоение технологии работ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алинтовской группы для развития эффективной профессиональной коммуникации и предупреждения профессионального «выгорания»;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380880" y="901440"/>
            <a:ext cx="8458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Балинтовские группы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- еще одна разновидность групповой тренинговой работы, направленной на повышение профессиональной компетентности участников, их личностный и профессиональный рост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Основные цели </a:t>
            </a:r>
            <a:br>
              <a:rPr sz="4000"/>
            </a:b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Балинтовской группы: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вышение компетентности в профессиональном межличностном общени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ознание личностных проблем, блокирующих профессиональные отнош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лучшение психического состояния педагогов за счет коллегиальной поддержки и совместной проработки трудных случае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Алгоритм работы членов Балинтовских групп: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. рассказ каждого участника о трудном профессиональном случае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. выбор конкретного случая с учетом желания автора и группы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. более подробный рассказ автора, вопросы со стороны членов группы и ведущего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. высказывание гипотетических способов поведения в означенной ситуации каждым членом группы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5. рефлексивная оценка автором впечатлений от процесса и результата обсуждения.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дна встреча заканчивается обсуждением одного случая.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остав Балинтовской группы: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6-15 человек (оптимально 8-10), работающих в одном или различных, но сходных по направленности деятельности учреждениях и организациях, но желательно не связанных служебно-иерархическими отношениям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едметом анализа в группе являются: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суждения случаев из практики ее членов. Это могут быть "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трудны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" или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"неудачны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" эпизоды из прошлого, продолжающие беспокоить участников как специалистов профессионалов или в личностном плане, вызывающие у них дискомфортные воспоминан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суждение сосредоточено на взаимоотношениях (коммуникации) участников ситуационного взаимодействия, только конкретного реального случая, возможно уточнение фактов, но только в той мере, в которой это касается взаимоотношений участников в данном конкретном случа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щие (тем более теоретические) проблемы не обсуждаются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Записи представляемого случая не используются. Представление случая делается по памя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 обсуждается сам рассказчик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лучение положительного результата заключается в удержании в поле внимания контекста проблем, порождаемый взаимодействие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астник группы, предлагающий свой случай на обсуждение, должен услышать не то, что группа думает о нем, а то, какие ассоциации вызвало его сообщение, чем его рассказ и последующая дискуссия помогли всем присутствующи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тандартные правила работы в группе: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нфиденциальност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скренность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ичная ответственност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важение к мнению других членов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авило ``стоп''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бота в ``круге''.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один случай в среднем затрачивается 1-2 часа, иногда чуть боле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енушка</cp:lastModifiedBy>
  <dcterms:modified xsi:type="dcterms:W3CDTF">2014-11-12T08:23:24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