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6DD8-79FD-4E25-87CD-D6531B1859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8423-F4F4-4A1A-8631-C7CEF1B438B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E5C2-CEF3-460C-9244-0541C8FFCE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5711-1C51-4E40-AE79-C0EC6CA51E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E8D4-0044-49BB-B770-8A955281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78E8-DCA4-449C-A30B-F030DA6A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C5B9-8196-4B97-9B00-7881D91F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2E0D-E260-4F2C-994B-E7EA4DA6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6E06-A34D-4701-B480-F4749A14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4101-2CC4-4C00-8E36-9AE3DC83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EBA8-E160-4E09-AB16-ACCEF47D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CB3D-83FF-4C02-9D7E-E38D41E2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E650-34B6-4885-9E08-87BD462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4F09-F654-4936-8AA0-A3D0EB9C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985D-653F-4411-B90C-7DA3F2E3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0A5-C2F7-42E9-AA78-5E27C5D9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B155-144A-4049-9EF5-0213E423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F6F4-AAD0-4548-B272-86188B88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A3B5-6A2E-4782-ACD4-29AE5861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A98C-2B53-4B12-806F-6F184E31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1890-4BC7-45DC-96AA-26F8FBD9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F640-83B4-4276-AA45-BBE2700C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3C27-833E-4912-972A-F8405D8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CFFFE-4903-4F56-88EB-EA6805EB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A5595-1AF3-4D4F-8B91-BDDF7AC1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EE27-083D-4080-ADD7-5F1AA3B3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565-EF05-42CB-9B34-773AB3EB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FA42A-6A86-4340-8AD6-799EE41B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9485F-66C8-4F77-9247-0633BF0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1CBC0-EFBC-4ABD-94F0-745AFA0C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FDC78-A088-4800-8B4D-524F4350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A5DF1-4B6F-43E5-ADE2-2D65050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55C6-CD6C-45AA-AE20-A4DE847D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20DA-8633-494C-A254-E4A24038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25BA-3766-484D-A24C-B0067E0FC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5D5C6-F3D1-47AB-ADC7-901DE5BC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DFE8C-B6AF-49AA-A74C-07FCF937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BCD-8636-43F5-B7BB-C78504D2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7307C-EA6E-41CB-B646-8FAC8FDE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D7A3-3F3C-43C3-A296-3BC95AFE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780E2-7D58-4B08-8754-8CBF07B5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63587-D518-4198-B151-060A92C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0009-421A-4065-8A35-07370458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1B155-6050-48DC-BDD3-02875CF0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88B27-D5E4-458A-8C17-9DE1AD66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04D98-9C4F-4DA7-84A4-06F5EEA9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BC716-BD74-4D5D-A91E-1086C724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95C9-C981-4CE1-BA14-EF1C4715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8DD-4E08-4F83-9999-E78BA9D7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4B048-6CBE-4295-BC4A-8FAC39C2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B9386-D2E6-4AE7-B518-FFB9472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14BF9-ABAB-4233-89D9-E8283EF1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7AD3-3F07-4480-BC5F-AF1FC232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9FDCC-3ACB-4475-B3C0-352AA341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BF67-B8B3-49A2-9DF2-9DFA8E60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08CBA-3A51-4496-AFF7-D3795B64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D1C0A-0A5B-49FB-AF31-E867B2BC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9A9B-272A-4A60-9450-4CDDCD9E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4C694-67D7-4C13-9903-B6F434F36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285-4265-49C5-954F-BA966A54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742D-448B-40B3-BD27-5A96FEDB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F219F-CE05-4DBB-8F0B-141E44C5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FC229-FDCE-4225-A7FE-138F01DE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CE624-4539-44F2-9B4E-90824C9C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5D94B-30F3-4932-8CB2-DFB23BFE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B2F4B-C7B5-493F-BAAE-838FCE4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2DF06-8473-4F96-AE57-A0BD03BB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304B2-D5DD-4F6A-BD67-8BB8946A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7EB46-C870-4B75-BD8E-5984770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A5F18-F866-407B-821D-863E8D24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DF3D-979F-43F0-BC93-25CF43B2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9AD59-E84C-4BF4-A563-7094C24D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3FF1C-DEF5-40E0-B12A-915E482E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1D29D-443A-4D70-9601-D02E480A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4AF3-368F-4FA8-BEC3-176C6ECE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6B4-2977-49A4-A39C-D5CE59B2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88A5-C3FC-4C5C-89D5-0F4EEB1E98E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588-8E14-498F-B79F-A72F1C9EBE4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9625-8392-4AD4-ACAD-CD395CBD06A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FA8E-BA12-48F9-A023-3BDA2D87E7B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86BE-8AD2-41EF-B9CF-26BDA14626A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76CE-4A6E-444C-A795-3F479138158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file:///&#1084;&#1077;&#1090;&#1086;&#1076;&#1099;%20&#1086;&#1073;&#1098;&#1103;&#1089;&#1085;&#1077;&#1085;&#1080;&#1077;.ppt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82;&#1088;&#1080;&#1090;&#1080;&#1095;&#1077;&#1089;&#1082;&#1086;&#1077;.ppt" TargetMode="External"/><Relationship Id="rId2" Type="http://schemas.openxmlformats.org/officeDocument/2006/relationships/hyperlink" Target="file:///&#1082;&#1088;&#1080;&#1090;&#1080;&#1095;&#1077;&#1089;&#1082;&#1086;&#1077;.ppt" TargetMode="External"/><Relationship Id="rId3" Type="http://schemas.openxmlformats.org/officeDocument/2006/relationships/hyperlink" Target="file:///&#1082;&#1088;&#1080;&#1090;&#1080;&#1095;&#1077;&#1089;&#1082;&#1086;&#1077;.ppt" TargetMode="External"/><Relationship Id="rId4" Type="http://schemas.openxmlformats.org/officeDocument/2006/relationships/hyperlink" Target="file:///&#1087;&#1088;&#1086;&#1077;&#1082;&#1090;%20&#1080;&#1082;&#1090;.ppt" TargetMode="External"/><Relationship Id="rId5" Type="http://schemas.openxmlformats.org/officeDocument/2006/relationships/hyperlink" Target="file:///&#1087;&#1088;&#1086;&#1077;&#1082;&#1090;%20&#1080;&#1082;&#1090;.ppt" TargetMode="External"/><Relationship Id="rId6" Type="http://schemas.openxmlformats.org/officeDocument/2006/relationships/hyperlink" Target="file:///&#1087;&#1088;&#1086;&#1077;&#1082;&#1090;%20&#1080;&#1082;&#1090;.ppt" TargetMode="External"/><Relationship Id="rId7" Type="http://schemas.openxmlformats.org/officeDocument/2006/relationships/hyperlink" Target="file:///&#1087;&#1088;&#1086;&#1077;&#1082;&#1090;%20&#1080;&#1082;&#1090;.ppt" TargetMode="External"/><Relationship Id="rId8" Type="http://schemas.openxmlformats.org/officeDocument/2006/relationships/hyperlink" Target="file:///&#1087;&#1088;&#1086;&#1077;&#1082;&#1090;%20&#1080;&#1082;&#1090;.ppt" TargetMode="External"/><Relationship Id="rId9" Type="http://schemas.openxmlformats.org/officeDocument/2006/relationships/hyperlink" Target="file:///&#1080;&#1075;&#1088;&#1086;&#1074;&#1072;&#1103;%20&#1087;&#1088;&#1086;&#1073;&#1083;&#1077;&#1084;&#1072;.ppt" TargetMode="External"/><Relationship Id="rId10" Type="http://schemas.openxmlformats.org/officeDocument/2006/relationships/hyperlink" Target="file:///&#1087;&#1088;&#1086;&#1077;&#1082;&#1090;%20&#1080;&#1082;&#1090;.ppt" TargetMode="External"/><Relationship Id="rId11" Type="http://schemas.openxmlformats.org/officeDocument/2006/relationships/hyperlink" Target="file:///&#1087;&#1088;&#1086;&#1077;&#1082;&#1090;%20&#1080;&#1082;&#1090;.ppt" TargetMode="External"/><Relationship Id="rId12" Type="http://schemas.openxmlformats.org/officeDocument/2006/relationships/hyperlink" Target="file:///&#1083;&#1080;&#1095;&#1085;&#1086;&#1089;&#1090;&#1085;&#1086;.ppt" TargetMode="External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90;&#1072;&#1073;&#1083;&#1080;&#1094;&#1072;.ppt" TargetMode="External"/><Relationship Id="rId2" Type="http://schemas.openxmlformats.org/officeDocument/2006/relationships/hyperlink" Target="file:///&#1087;&#1088;&#1077;&#1079;&#1077;&#1085;&#1090;&#1072;&#1094;&#1080;&#1103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82;%20&#1091;&#1088;&#1086;&#1082;&#1091;.ppt" TargetMode="External"/><Relationship Id="rId2" Type="http://schemas.openxmlformats.org/officeDocument/2006/relationships/hyperlink" Target="file:///&#1050;&#1086;&#1085;&#1090;&#1088;&#1086;&#1083;&#1100;&#1085;&#1072;&#1103;%20&#1088;&#1072;&#1073;&#1086;&#1090;&#1072;.docx" TargetMode="External"/><Relationship Id="rId3" Type="http://schemas.openxmlformats.org/officeDocument/2006/relationships/hyperlink" Target="file:///&#1050;&#1086;&#1085;&#1090;&#1088;&#1086;&#1083;&#1100;&#1085;&#1072;&#1103;%20&#1088;&#1072;&#1073;&#1086;&#1090;&#1072;.docx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79;&#1077;&#1085;&#1090;&#1072;&#1094;&#1080;&#1103;%20&#1082;%20&#1091;&#1088;&#1086;&#1082;&#1091;.ppt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395280" y="231840"/>
            <a:ext cx="8894880" cy="2620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284720" y="2997360"/>
            <a:ext cx="4643280" cy="386064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Мышаева Евгения Пет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первая квалификационная категория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МБОУ «Средняя школа №13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педагогический стаж -18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                </a:t>
            </a:r>
            <a:r>
              <a:rPr b="0" lang="ru-RU" sz="1800" spc="-1" strike="noStrike">
                <a:solidFill>
                  <a:srgbClr val="6ea0b0"/>
                </a:solidFill>
                <a:latin typeface="Arial"/>
              </a:rPr>
              <a:t>образование - Нижегородский государственный педагогический университет имени Горького,1996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446040" y="6184800"/>
            <a:ext cx="16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. Дзержинс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80" y="4149720"/>
            <a:ext cx="37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Автор – составител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М.М.Разумовская,  В.И.Капинос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С.И.Львова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Г.А.Богдано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В.В.Льв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218880"/>
            <a:ext cx="8785440" cy="833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Arial"/>
                <a:ea typeface="Arial"/>
              </a:rPr>
              <a:t>Мотивация учебной деятельности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179280" y="1197000"/>
            <a:ext cx="8785440" cy="50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ктивность направлена на общение со сверстни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дущий мотив учения – стремление подростка завоевать определенное положение в классе, выделиться, добиться призн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метка -  достаточно действенный мотиватор уч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знавательные интересы подростков имеют большую вариатив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познавательных интересов низ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Психолого-педагогические особенности </a:t>
            </a:r>
            <a:br>
              <a:rPr sz="3200"/>
            </a:b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учеников  9а класса МБОУ СОШ №13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91" name="Диаграмма 4"/>
          <p:cNvGraphicFramePr/>
          <p:nvPr/>
        </p:nvGraphicFramePr>
        <p:xfrm>
          <a:off x="324000" y="3500280"/>
          <a:ext cx="4422600" cy="30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2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500280"/>
                    <a:ext cx="4422600" cy="3027600"/>
                  </a:xfrm>
                  <a:prstGeom prst="rect">
                    <a:avLst/>
                  </a:prstGeom>
                  <a:ln w="9360">
                    <a:solidFill>
                      <a:srgbClr val="ccaf0a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076720" y="1125360"/>
            <a:ext cx="3824280" cy="38880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1"/>
          <p:cNvSpPr/>
          <p:nvPr/>
        </p:nvSpPr>
        <p:spPr>
          <a:xfrm>
            <a:off x="254520" y="155736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af0a"/>
                </a:solidFill>
                <a:latin typeface="Arial"/>
              </a:rPr>
              <a:t>Уровень опосредованной памя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af0a"/>
                </a:solidFill>
                <a:latin typeface="Arial"/>
              </a:rPr>
              <a:t>(методика запоминания па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4067280" y="184464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Психолого-педагогические особенности </a:t>
            </a:r>
            <a:br>
              <a:rPr sz="3200"/>
            </a:b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учеников  9а класса МБОУ СОШ №13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97" name="Содержимое 3" descr=""/>
          <p:cNvPicPr/>
          <p:nvPr/>
        </p:nvPicPr>
        <p:blipFill>
          <a:blip r:embed="rId1"/>
          <a:stretch/>
        </p:blipFill>
        <p:spPr>
          <a:xfrm>
            <a:off x="0" y="3141720"/>
            <a:ext cx="4707000" cy="3500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Диаграмма 4"/>
          <p:cNvGraphicFramePr/>
          <p:nvPr/>
        </p:nvGraphicFramePr>
        <p:xfrm>
          <a:off x="4357800" y="1341360"/>
          <a:ext cx="4786200" cy="3603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9" name="Диаграмма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7800" y="1341360"/>
                    <a:ext cx="478620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Правильно ставить знаки препинания в ССП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Составлять  схемы предлож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Использовать в речи сложносочинённые предлож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Различать простые предложения с однородными членами 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Определять смысловые отношения между частям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362800" cy="1125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ea0b0"/>
                </a:solidFill>
                <a:latin typeface="Franklin Gothic Book"/>
              </a:rPr>
              <a:t>Ожидаемые результаты изучения темы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strips dir="ru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Organization Chart 13"/>
          <p:cNvGrpSpPr/>
          <p:nvPr/>
        </p:nvGrpSpPr>
        <p:grpSpPr>
          <a:xfrm>
            <a:off x="179280" y="549360"/>
            <a:ext cx="8784000" cy="6047640"/>
            <a:chOff x="179280" y="549360"/>
            <a:chExt cx="8784000" cy="6047640"/>
          </a:xfrm>
        </p:grpSpPr>
        <p:cxnSp>
          <p:nvCxnSpPr>
            <p:cNvPr id="303" name="_s45080"/>
            <p:cNvCxnSpPr>
              <a:stCxn id="304" idx="1"/>
              <a:endCxn id="305" idx="2"/>
            </p:cNvCxnSpPr>
            <p:nvPr/>
          </p:nvCxnSpPr>
          <p:spPr>
            <a:xfrm rot="10800000">
              <a:off x="2813760" y="1260000"/>
              <a:ext cx="879120" cy="498132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06" name="_s45060"/>
            <p:cNvCxnSpPr>
              <a:stCxn id="307" idx="1"/>
              <a:endCxn id="305" idx="2"/>
            </p:cNvCxnSpPr>
            <p:nvPr/>
          </p:nvCxnSpPr>
          <p:spPr>
            <a:xfrm rot="10800000">
              <a:off x="2813760" y="1260000"/>
              <a:ext cx="879120" cy="391392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08" name="_s45061"/>
            <p:cNvCxnSpPr>
              <a:stCxn id="309" idx="1"/>
              <a:endCxn id="305" idx="2"/>
            </p:cNvCxnSpPr>
            <p:nvPr/>
          </p:nvCxnSpPr>
          <p:spPr>
            <a:xfrm rot="10800000">
              <a:off x="2813760" y="1260720"/>
              <a:ext cx="879120" cy="284652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10" name="_s45062"/>
            <p:cNvCxnSpPr>
              <a:stCxn id="311" idx="1"/>
              <a:endCxn id="305" idx="2"/>
            </p:cNvCxnSpPr>
            <p:nvPr/>
          </p:nvCxnSpPr>
          <p:spPr>
            <a:xfrm rot="10800000">
              <a:off x="2813760" y="1260000"/>
              <a:ext cx="879120" cy="177948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12" name="_s45063"/>
            <p:cNvCxnSpPr>
              <a:stCxn id="313" idx="1"/>
              <a:endCxn id="305" idx="2"/>
            </p:cNvCxnSpPr>
            <p:nvPr/>
          </p:nvCxnSpPr>
          <p:spPr>
            <a:xfrm rot="10800000">
              <a:off x="2813760" y="1260000"/>
              <a:ext cx="879120" cy="712080"/>
            </a:xfrm>
            <a:prstGeom prst="bentConnector2">
              <a:avLst/>
            </a:prstGeom>
            <a:ln w="28440">
              <a:solidFill>
                <a:srgbClr val="3b3b3b"/>
              </a:solidFill>
              <a:miter/>
            </a:ln>
          </p:spPr>
        </p:cxnSp>
        <p:sp>
          <p:nvSpPr>
            <p:cNvPr id="305" name="_s45064"/>
            <p:cNvSpPr/>
            <p:nvPr/>
          </p:nvSpPr>
          <p:spPr>
            <a:xfrm>
              <a:off x="179280" y="549360"/>
              <a:ext cx="5270400" cy="711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c8c3"/>
              </a:solidFill>
              <a:miter/>
            </a:ln>
            <a:effectLst>
              <a:outerShdw dist="63504" dir="19383909" blurRad="0" rotWithShape="0">
                <a:srgbClr val="00c8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00c8c3"/>
                  </a:solidFill>
                  <a:uFillTx/>
                  <a:latin typeface="Arial"/>
                  <a:hlinkClick r:id="rId2"/>
                </a:rPr>
                <a:t>Методы обучения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45065"/>
            <p:cNvSpPr/>
            <p:nvPr/>
          </p:nvSpPr>
          <p:spPr>
            <a:xfrm>
              <a:off x="3692880" y="1616400"/>
              <a:ext cx="5270400" cy="711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Репродуктив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_s45066"/>
            <p:cNvSpPr/>
            <p:nvPr/>
          </p:nvSpPr>
          <p:spPr>
            <a:xfrm>
              <a:off x="3692880" y="2683800"/>
              <a:ext cx="5270400" cy="711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облем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_s45067"/>
            <p:cNvSpPr/>
            <p:nvPr/>
          </p:nvSpPr>
          <p:spPr>
            <a:xfrm>
              <a:off x="3692880" y="3751200"/>
              <a:ext cx="5270400" cy="711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Частично-поисков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_s45068"/>
            <p:cNvSpPr/>
            <p:nvPr/>
          </p:nvSpPr>
          <p:spPr>
            <a:xfrm>
              <a:off x="3692880" y="4818600"/>
              <a:ext cx="5270400" cy="711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Исследовательски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_s45079"/>
            <p:cNvSpPr/>
            <p:nvPr/>
          </p:nvSpPr>
          <p:spPr>
            <a:xfrm>
              <a:off x="3692880" y="5885640"/>
              <a:ext cx="5270400" cy="711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Объяснительно-иллюстративный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4" name="WordArt 23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newsflash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6" name="Picture 17" descr="spor"/>
          <p:cNvPicPr/>
          <p:nvPr/>
        </p:nvPicPr>
        <p:blipFill>
          <a:blip r:embed="rId1"/>
          <a:stretch/>
        </p:blipFill>
        <p:spPr>
          <a:xfrm>
            <a:off x="4572000" y="2492280"/>
            <a:ext cx="3600360" cy="248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7" name="WordArt 9"/>
          <p:cNvSpPr txBox="1"/>
          <p:nvPr/>
        </p:nvSpPr>
        <p:spPr>
          <a:xfrm>
            <a:off x="468360" y="260280"/>
            <a:ext cx="8207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ы организации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бно-познавательной деятельности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18" name="Oval 9"/>
          <p:cNvSpPr/>
          <p:nvPr/>
        </p:nvSpPr>
        <p:spPr>
          <a:xfrm>
            <a:off x="179280" y="1484280"/>
            <a:ext cx="215928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овес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324000" y="5300640"/>
            <a:ext cx="215892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мопрове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1"/>
          <p:cNvSpPr/>
          <p:nvPr/>
        </p:nvSpPr>
        <p:spPr>
          <a:xfrm>
            <a:off x="1835280" y="2349360"/>
            <a:ext cx="2158920" cy="10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к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2"/>
          <p:cNvSpPr/>
          <p:nvPr/>
        </p:nvSpPr>
        <p:spPr>
          <a:xfrm>
            <a:off x="324000" y="3429000"/>
            <a:ext cx="244620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астично-поиск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3"/>
          <p:cNvSpPr/>
          <p:nvPr/>
        </p:nvSpPr>
        <p:spPr>
          <a:xfrm>
            <a:off x="2340000" y="4221000"/>
            <a:ext cx="2158920" cy="1008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заимопровер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4"/>
          <p:cNvSpPr/>
          <p:nvPr/>
        </p:nvSpPr>
        <p:spPr>
          <a:xfrm>
            <a:off x="3059280" y="5373720"/>
            <a:ext cx="2592360" cy="1008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 наблюд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4"/>
          <p:cNvSpPr/>
          <p:nvPr/>
        </p:nvSpPr>
        <p:spPr>
          <a:xfrm>
            <a:off x="1285920" y="207180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WordArt 10"/>
          <p:cNvSpPr txBox="1"/>
          <p:nvPr/>
        </p:nvSpPr>
        <p:spPr>
          <a:xfrm>
            <a:off x="971640" y="476280"/>
            <a:ext cx="720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ffffff"/>
                    </a:gs>
                    <a:gs pos="100000">
                      <a:srgbClr val="660033"/>
                    </a:gs>
                  </a:gsLst>
                  <a:lin ang="189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       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33"/>
                  </a:gs>
                  <a:gs pos="50000">
                    <a:srgbClr val="ffffff"/>
                  </a:gs>
                  <a:gs pos="100000">
                    <a:srgbClr val="660033"/>
                  </a:gs>
                </a:gsLst>
                <a:lin ang="189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395280" y="1484280"/>
          <a:ext cx="8424720" cy="2762280"/>
        </p:xfrm>
        <a:graphic>
          <a:graphicData uri="http://schemas.openxmlformats.org/drawingml/2006/table">
            <a:tbl>
              <a:tblPr/>
              <a:tblGrid>
                <a:gridCol w="2697120"/>
                <a:gridCol w="5727600"/>
              </a:tblGrid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Классические ти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усвоения нов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обобщения и систематизации; знаний, умений, навык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 закрепления изучаемого материал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мбинированный ур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трольно-проверочный уро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9900"/>
                          </a:solidFill>
                          <a:uFillTx/>
                          <a:latin typeface="Arial"/>
                        </a:rPr>
                        <a:t>Нетрадиционные тип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-лек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-семина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400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-практику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27" name="Organization Chart 48"/>
          <p:cNvGrpSpPr/>
          <p:nvPr/>
        </p:nvGrpSpPr>
        <p:grpSpPr>
          <a:xfrm>
            <a:off x="0" y="4437000"/>
            <a:ext cx="9143640" cy="2191680"/>
            <a:chOff x="0" y="4437000"/>
            <a:chExt cx="9143640" cy="2191680"/>
          </a:xfrm>
        </p:grpSpPr>
        <p:cxnSp>
          <p:nvCxnSpPr>
            <p:cNvPr id="328" name="_s46084"/>
            <p:cNvCxnSpPr>
              <a:stCxn id="329" idx="0"/>
              <a:endCxn id="330" idx="2"/>
            </p:cNvCxnSpPr>
            <p:nvPr/>
          </p:nvCxnSpPr>
          <p:spPr>
            <a:xfrm flipV="1" rot="16200000">
              <a:off x="6130080" y="3753720"/>
              <a:ext cx="438840" cy="355680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31" name="_s46085"/>
            <p:cNvCxnSpPr>
              <a:stCxn id="332" idx="0"/>
              <a:endCxn id="330" idx="2"/>
            </p:cNvCxnSpPr>
            <p:nvPr/>
          </p:nvCxnSpPr>
          <p:spPr>
            <a:xfrm flipV="1" rot="16200000">
              <a:off x="4944600" y="4939200"/>
              <a:ext cx="438840" cy="118620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33" name="_s46086"/>
            <p:cNvCxnSpPr>
              <a:stCxn id="334" idx="0"/>
              <a:endCxn id="330" idx="2"/>
            </p:cNvCxnSpPr>
            <p:nvPr/>
          </p:nvCxnSpPr>
          <p:spPr>
            <a:xfrm flipH="1" flipV="1" rot="5400000">
              <a:off x="3759480" y="4939560"/>
              <a:ext cx="438840" cy="118548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cxnSp>
          <p:nvCxnSpPr>
            <p:cNvPr id="335" name="_s46087"/>
            <p:cNvCxnSpPr>
              <a:stCxn id="336" idx="0"/>
              <a:endCxn id="330" idx="2"/>
            </p:cNvCxnSpPr>
            <p:nvPr/>
          </p:nvCxnSpPr>
          <p:spPr>
            <a:xfrm flipH="1" flipV="1" rot="5400000">
              <a:off x="2574360" y="3754440"/>
              <a:ext cx="438840" cy="3556080"/>
            </a:xfrm>
            <a:prstGeom prst="bentConnector3">
              <a:avLst>
                <a:gd name="adj1" fmla="val 25944"/>
              </a:avLst>
            </a:prstGeom>
            <a:ln w="28440">
              <a:solidFill>
                <a:srgbClr val="3b3b3b"/>
              </a:solidFill>
              <a:miter/>
            </a:ln>
          </p:spPr>
        </p:cxnSp>
        <p:sp>
          <p:nvSpPr>
            <p:cNvPr id="330" name="_s46088"/>
            <p:cNvSpPr/>
            <p:nvPr/>
          </p:nvSpPr>
          <p:spPr>
            <a:xfrm>
              <a:off x="3555360" y="4437000"/>
              <a:ext cx="2031840" cy="87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c8c3"/>
              </a:solidFill>
              <a:miter/>
            </a:ln>
            <a:effectLst>
              <a:outerShdw dist="63504" dir="19383909" blurRad="0" rotWithShape="0">
                <a:srgbClr val="00c8c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Формы 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организаци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учебно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деятельности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_s46089"/>
            <p:cNvSpPr/>
            <p:nvPr/>
          </p:nvSpPr>
          <p:spPr>
            <a:xfrm>
              <a:off x="0" y="5752080"/>
              <a:ext cx="2031840" cy="876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</a:rPr>
                <a:t>фронтальн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_s46090"/>
            <p:cNvSpPr/>
            <p:nvPr/>
          </p:nvSpPr>
          <p:spPr>
            <a:xfrm>
              <a:off x="2370600" y="5752080"/>
              <a:ext cx="2031840" cy="87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группова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46091"/>
            <p:cNvSpPr/>
            <p:nvPr/>
          </p:nvSpPr>
          <p:spPr>
            <a:xfrm>
              <a:off x="4741200" y="5752080"/>
              <a:ext cx="2031840" cy="87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индивидуальна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46092"/>
            <p:cNvSpPr/>
            <p:nvPr/>
          </p:nvSpPr>
          <p:spPr>
            <a:xfrm>
              <a:off x="7111800" y="5752080"/>
              <a:ext cx="2031840" cy="87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a116e0"/>
              </a:solidFill>
              <a:miter/>
            </a:ln>
            <a:effectLst>
              <a:outerShdw dist="63504" dir="19383909" blurRad="0" rotWithShape="0">
                <a:srgbClr val="a116e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</a:rPr>
                <a:t>парная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" name="WordArt 27"/>
          <p:cNvSpPr txBox="1"/>
          <p:nvPr/>
        </p:nvSpPr>
        <p:spPr>
          <a:xfrm>
            <a:off x="468360" y="260280"/>
            <a:ext cx="8351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ормы организации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ea0b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бных занятий</a:t>
            </a:r>
            <a:endParaRPr b="1" lang="en-US" sz="1800" spc="1" strike="noStrike">
              <a:ln w="0">
                <a:noFill/>
              </a:ln>
              <a:solidFill>
                <a:srgbClr val="6ea0b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ircl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0724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Технологии организации деятельност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37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7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720" indent="-342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23720" indent="-342720"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95280" y="907920"/>
            <a:ext cx="3097080" cy="100836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Технолог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2"/>
              </a:rPr>
              <a:t>критическ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3"/>
              </a:rPr>
              <a:t>мыш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AutoShape 6"/>
          <p:cNvSpPr/>
          <p:nvPr/>
        </p:nvSpPr>
        <p:spPr>
          <a:xfrm>
            <a:off x="2050920" y="5013360"/>
            <a:ext cx="5834160" cy="129528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4"/>
              </a:rPr>
              <a:t>Информационно-коммуникативн</a:t>
            </a: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5"/>
              </a:rPr>
              <a:t>ые</a:t>
            </a: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6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7"/>
              </a:rPr>
              <a:t>технологи</a:t>
            </a: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8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AutoShape 7"/>
          <p:cNvSpPr/>
          <p:nvPr/>
        </p:nvSpPr>
        <p:spPr>
          <a:xfrm>
            <a:off x="395280" y="2852640"/>
            <a:ext cx="3311640" cy="1008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9"/>
              </a:rPr>
              <a:t>Проблемное обу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4932360" y="3500280"/>
            <a:ext cx="2665440" cy="100836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0"/>
              </a:rPr>
              <a:t>Проект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1"/>
              </a:rPr>
              <a:t>деятель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>
            <a:off x="3995640" y="1773360"/>
            <a:ext cx="4176720" cy="1008000"/>
          </a:xfrm>
          <a:prstGeom prst="roundRect">
            <a:avLst>
              <a:gd name="adj" fmla="val 16667"/>
            </a:avLst>
          </a:prstGeom>
          <a:solidFill>
            <a:srgbClr val="00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8c3"/>
                </a:solidFill>
                <a:uFillTx/>
                <a:latin typeface="Arial"/>
                <a:hlinkClick r:id="rId12"/>
              </a:rPr>
              <a:t>Личностно-ориентирован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6"/>
          <p:cNvSpPr/>
          <p:nvPr/>
        </p:nvSpPr>
        <p:spPr>
          <a:xfrm>
            <a:off x="1619280" y="1268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Виды 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108000" y="9180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Constantia"/>
              </a:rPr>
              <a:t>Система знаний и система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2556000" y="2276640"/>
            <a:ext cx="2133360" cy="928440"/>
          </a:xfrm>
          <a:prstGeom prst="rect">
            <a:avLst/>
          </a:prstGeom>
          <a:solidFill>
            <a:srgbClr val="9933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екущи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Прямоугольник 20"/>
          <p:cNvSpPr/>
          <p:nvPr/>
        </p:nvSpPr>
        <p:spPr>
          <a:xfrm>
            <a:off x="5076720" y="3068640"/>
            <a:ext cx="2286000" cy="719280"/>
          </a:xfrm>
          <a:prstGeom prst="rect">
            <a:avLst/>
          </a:prstGeom>
          <a:solidFill>
            <a:srgbClr val="9933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тоговый конт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Прямоугольник 41"/>
          <p:cNvSpPr/>
          <p:nvPr/>
        </p:nvSpPr>
        <p:spPr>
          <a:xfrm>
            <a:off x="179280" y="4365720"/>
            <a:ext cx="3456000" cy="207144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42"/>
          <p:cNvSpPr/>
          <p:nvPr/>
        </p:nvSpPr>
        <p:spPr>
          <a:xfrm>
            <a:off x="250920" y="4508640"/>
            <a:ext cx="324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А) устный 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Б) письменный опр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В) работа с карточ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Г) 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Д) творческие 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Прямоугольник 43"/>
          <p:cNvSpPr/>
          <p:nvPr/>
        </p:nvSpPr>
        <p:spPr>
          <a:xfrm>
            <a:off x="4140360" y="4941720"/>
            <a:ext cx="4787640" cy="1916280"/>
          </a:xfrm>
          <a:prstGeom prst="rect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44"/>
          <p:cNvSpPr/>
          <p:nvPr/>
        </p:nvSpPr>
        <p:spPr>
          <a:xfrm>
            <a:off x="4572000" y="493704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А) тестовые зад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Б) зачет по те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В) создание презентаций, рефератов, проектов и д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Г) контрольный диктант, изложение, сочин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250920" y="1413000"/>
            <a:ext cx="2305080" cy="1726920"/>
          </a:xfrm>
          <a:custGeom>
            <a:avLst/>
            <a:gdLst>
              <a:gd name="textAreaLeft" fmla="*/ 308520 w 2305080"/>
              <a:gd name="textAreaRight" fmla="*/ 1996560 w 2305080"/>
              <a:gd name="textAreaTop" fmla="*/ 302040 h 1726920"/>
              <a:gd name="textAreaBottom" fmla="*/ 1252080 h 172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6"/>
          <p:cNvSpPr/>
          <p:nvPr/>
        </p:nvSpPr>
        <p:spPr>
          <a:xfrm rot="20384400">
            <a:off x="6659640" y="980640"/>
            <a:ext cx="2484360" cy="2016360"/>
          </a:xfrm>
          <a:custGeom>
            <a:avLst/>
            <a:gdLst>
              <a:gd name="textAreaLeft" fmla="*/ 332640 w 2484360"/>
              <a:gd name="textAreaRight" fmla="*/ 2151720 w 2484360"/>
              <a:gd name="textAreaTop" fmla="*/ 352800 h 2016360"/>
              <a:gd name="textAreaBottom" fmla="*/ 146196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177559"/>
                <a:lnTo>
                  <a:pt x="9293" y="20865"/>
                </a:lnTo>
                <a:lnTo>
                  <a:pt x="0" y="17280"/>
                </a:lnTo>
                <a:lnTo>
                  <a:pt x="9293" y="12225"/>
                </a:lnTo>
                <a:lnTo>
                  <a:pt x="9293" y="14385"/>
                </a:lnTo>
                <a:arcTo wR="21600" hR="7560" stAng="2177559" swAng="-1820124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7"/>
          <p:cNvSpPr/>
          <p:nvPr/>
        </p:nvSpPr>
        <p:spPr>
          <a:xfrm rot="20808000">
            <a:off x="5940360" y="3789000"/>
            <a:ext cx="360360" cy="1152360"/>
          </a:xfrm>
          <a:prstGeom prst="downArrow">
            <a:avLst>
              <a:gd name="adj1" fmla="val 50000"/>
              <a:gd name="adj2" fmla="val 79945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8"/>
          <p:cNvSpPr/>
          <p:nvPr/>
        </p:nvSpPr>
        <p:spPr>
          <a:xfrm rot="1859400">
            <a:off x="2843280" y="3213000"/>
            <a:ext cx="352440" cy="1008000"/>
          </a:xfrm>
          <a:prstGeom prst="downArrow">
            <a:avLst>
              <a:gd name="adj1" fmla="val 50000"/>
              <a:gd name="adj2" fmla="val 71502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151920"/>
            <a:ext cx="8964720" cy="776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Структура  содержания  тематических модулей 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179280" y="1071720"/>
          <a:ext cx="8785080" cy="5649840"/>
        </p:xfrm>
        <a:graphic>
          <a:graphicData uri="http://schemas.openxmlformats.org/drawingml/2006/table">
            <a:tbl>
              <a:tblPr/>
              <a:tblGrid>
                <a:gridCol w="1293840"/>
                <a:gridCol w="4007880"/>
                <a:gridCol w="1742040"/>
                <a:gridCol w="17413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тем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реч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сский язык – национальный язык русского народа. Русский язык среди других языков ми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вторение и систематизация изученного в 5-8 классах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е предложени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сочиненное предлож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подчиненное предлож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оподчинённое предложение с несколькими придаточным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ссоюзное сложное предложени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ожные предложения с различными видами союзной и бессоюзной связ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вое повторение и систематизация изученного в 9 класс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Актуальность выбранной темы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удности учащихся в освоении данного раздела грамма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тые ошибки в письменной и устной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умение учащихся создавать сложные синтаксические конструкции – рассу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spcBef>
                <a:spcPts val="799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данного раздела программы включены в содержание КИМов ГИА и ЕГЭ по русскому язы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857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Структура  содержания  тематических модулей образовательной программы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95280" y="1484280"/>
          <a:ext cx="8208720" cy="4064040"/>
        </p:xfrm>
        <a:graphic>
          <a:graphicData uri="http://schemas.openxmlformats.org/drawingml/2006/table">
            <a:tbl>
              <a:tblPr/>
              <a:tblGrid>
                <a:gridCol w="1130760"/>
                <a:gridCol w="2972520"/>
                <a:gridCol w="2052720"/>
                <a:gridCol w="205272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т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ча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витие реч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ое повторение и систематизация изученного в 5-9 классе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час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(из общего числа часов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361" name="TextBox 4"/>
          <p:cNvSpPr/>
          <p:nvPr/>
        </p:nvSpPr>
        <p:spPr>
          <a:xfrm>
            <a:off x="1692360" y="5791320"/>
            <a:ext cx="629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nstantia"/>
              </a:rPr>
              <a:t>Итого: 51 час +17 развитие ре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Методическая разработка темы «Сложносочинённое предложение»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Franklin Gothic Book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00c8c3"/>
                </a:solidFill>
                <a:latin typeface="Franklin Gothic Book"/>
              </a:rPr>
              <a:t>Количество часов по программе  – 5 ч +2ч развития реч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0" y="3133800"/>
            <a:ext cx="6229440" cy="3724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0" y="841320"/>
          <a:ext cx="9144000" cy="60166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5320"/>
                <a:gridCol w="1525680"/>
                <a:gridCol w="15224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ма  урока. Тип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организации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ащ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69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онятие сложносочиненного предложения (ССП). Строение и средства связи в них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ронтальная, группова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 наглядные, работа с книгой, проблемного изложе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1"/>
                        </a:rPr>
                        <a:t>Таблица «Сложносочинённые предложения»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2"/>
                        </a:rPr>
                        <a:t>Презентаци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нат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ризнаки разграничения простых и сложных предложений,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ятие сложного предложения, иметь представление о средствах связи частей сложного предложения и соответствующих знаках препинания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Умет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а уровне первичных навыков разграничивать сложные предложения разных типов, ставить знаки препинания между частями на письме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7,8. упр 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21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ложносочинённые предложения и знаки препинания в них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, парная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 наглядные, работа с книгой, метод проблемного изложе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е тетради, учебник. Карточк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т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иды сложносочинённых предложений и знаки препинания в них. Средства связи в сложных предложен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9. упр.69(чётные), п.10, упр.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461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Смысловые отношения в ССП и знаки препинания в ни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. Парная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. Работа с учебником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ик, тетрадь. Таблица. Опорные схемы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виды ССП, определять их знач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выполнять синтаксический разбор ССП и употреблять их в собственной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10, задание в тетрад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576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8c3"/>
                </a:solidFill>
                <a:latin typeface="Franklin Gothic Book"/>
              </a:rPr>
              <a:t>Тематическое планирование по теме: «Сложносочинённое предложение»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179280" y="1125360"/>
          <a:ext cx="8786880" cy="5518440"/>
        </p:xfrm>
        <a:graphic>
          <a:graphicData uri="http://schemas.openxmlformats.org/drawingml/2006/table">
            <a:tbl>
              <a:tblPr/>
              <a:tblGrid>
                <a:gridCol w="1463760"/>
                <a:gridCol w="1465200"/>
                <a:gridCol w="1463760"/>
                <a:gridCol w="1465200"/>
                <a:gridCol w="1465200"/>
                <a:gridCol w="14637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ема  урока. Тип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орма организации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тод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лог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аще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машнее зад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146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. Развитие  речи. изложе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овая , индивидуальная 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ди по развитию речи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нат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типы речи,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ть проводить композиционно-содержательный анализ исходного текста публицистического стиля и отбирать материал для собственного текста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3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Виды сложносочинённых предложений и знаки препинания в них. Средства связи в сложных предложен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, парная, фронт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овесные, наглядные, работа с книгой, электронным учебником, метод проблемного изложения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чие тетради, учебник. </a:t>
                      </a: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1"/>
                        </a:rPr>
                        <a:t>Презентация по подготовке к ГИ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Знать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иды сложносочинённых предложений и знаки препинания в них. Средства связи в сложных предложениях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.10. упр 76. подготовиться к контроль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1805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Контрольная работа по теме «Сложносочинённые предложения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рольно-оценочны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видуальная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традь для </a:t>
                      </a: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2"/>
                        </a:rPr>
                        <a:t>контрольных работ</a:t>
                      </a:r>
                      <a:r>
                        <a:rPr b="0" lang="en-US" sz="1100" spc="-1" strike="noStrike" u="sng">
                          <a:solidFill>
                            <a:srgbClr val="00c8c3"/>
                          </a:solidFill>
                          <a:uFillTx/>
                          <a:latin typeface="Times New Roman"/>
                          <a:hlinkClick r:id="rId3"/>
                        </a:rPr>
                        <a:t>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ть орфографические правила и пунктуации СС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 грамотно употреблять ССП в реч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535960" cy="76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8c3"/>
                </a:solidFill>
                <a:latin typeface="Franklin Gothic Book"/>
              </a:rPr>
              <a:t>Тематическое планирование по теме: «Сложносочинённое предложение»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1520" y="188640"/>
            <a:ext cx="8934480" cy="71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ект урока русского языка в 9 классе по теме: «Сложносочиненные предложения и знаки препинания в них»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1125360"/>
            <a:ext cx="8642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Цель урока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учить учащихся расставлять знаки препинания в СС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Задачи ур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бучающи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ить сведения о сложных предложениях. Дать определение СС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ать простые предложения с однородными членами и СС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ять смысловые отношения между частями ССП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тавлять знаки препинания в указанных конструкц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вивающие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ь творческие способ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вить языковую компетенцию учащихс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</a:t>
            </a:r>
            <a:r>
              <a:rPr b="0" lang="de-DE" sz="2000" spc="-1" strike="noStrike" u="sng">
                <a:solidFill>
                  <a:srgbClr val="ffffff"/>
                </a:solidFill>
                <a:uFillTx/>
                <a:latin typeface="Arial"/>
              </a:rPr>
              <a:t>оспитательные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ать вдумчивое и бережное отношение к слов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Тип у</a:t>
            </a:r>
            <a:r>
              <a:rPr b="0" lang="ru-RU" sz="2000" spc="-1" strike="noStrike">
                <a:solidFill>
                  <a:srgbClr val="ff9900"/>
                </a:solidFill>
                <a:latin typeface="Arial"/>
              </a:rPr>
              <a:t>рок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рок обобщения и систематизации изучен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9900"/>
                </a:solidFill>
                <a:latin typeface="Arial"/>
              </a:rPr>
              <a:t>Оборудование:</a:t>
            </a: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учебники, рабочие тетради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ска,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мультимедийная презентац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компьютер учителя, мультимедийный экран, раздаточный материал, грамматические тетради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ект урока русского языка в 9 классе по теме: «Сложносочиненные предложения и знаки препинания в них»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/>
          <p:nvPr/>
        </p:nvSpPr>
        <p:spPr>
          <a:xfrm>
            <a:off x="447840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50920" y="1052640"/>
          <a:ext cx="8713440" cy="5805000"/>
        </p:xfrm>
        <a:graphic>
          <a:graphicData uri="http://schemas.openxmlformats.org/drawingml/2006/table">
            <a:tbl>
              <a:tblPr/>
              <a:tblGrid>
                <a:gridCol w="377280"/>
                <a:gridCol w="2440800"/>
                <a:gridCol w="4471200"/>
                <a:gridCol w="142416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ель и содержание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ый моме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ветствие учащихся. Проверка их готовности к уроку. Постановка цели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уализация опорных зна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ексическая работа – толкование лексического значения сл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овое задание по синтаксису простого предлож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 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крепление изучен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бщение и систематизация изученного о ССП, работа с текстом, выполнение тренировочных упражнений. Графический диктант. Конструирование сложных предло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 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верка и коррекция знаний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стоятельная проверочная работа с целью определения уровня овладения знаниями о ССП. Подготовка к ГИА (по заранее выполненной презентации - опережающее домашнее зада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 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я о домашнем задан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ь информацию о домашнем задании и комментарий к его выполнен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ведение итогов, выставление оцен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нализ, оценка и коррекция знаний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19040" indent="-382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 мину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3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91520" cy="79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Лексическая разминка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ать толкование лексического значени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лов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ирический-лиричный; сборочны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борный; цельный-целый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 называются эти слова? Составить 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ими словосочетан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Тестовое задание</a:t>
            </a: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Поставьте, где нужно запятую перед союзом 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здух дышит весенним ароматом и вся природа оживля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Через полчаса мы сидели дома, пили чай и рассказывали товарищам свои приклю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. Поставьте, где нужно, знаки препинания при обособленных членах пред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Туча нависшая над высокими вершинами тополей уже сыпала дожди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Матрос вышел на омываемую брызгами волн пал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. Поставьте, где нужно, знаки препинания при обособленных членах предлож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идно было, что он примчался сюда не переводя дух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ременами от ветра по реке пробегала лёгкая зыбь сверкая на солнц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.Поставьте, где нужно, запят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Поставить стих на службу человеку- нелёгкое поверьте ремес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ы ему поверьте в последний ра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5. Поставьте, где нужно, тире между подлежащим и сказуемы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ережливость это созида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азумно жить минутой дорожи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Романтизм вот первое слово, огласившее пушкинский пери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6. Поставьте, где нужно, запят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Я помню что я озяб ужасно что квартира была холодна что чай не согрел мен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Они получили известие что Волга стала и что через неё потянулись обоз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Закрепление изученного о сложных предложениях. Тренировочные упражнения</a:t>
            </a:r>
            <a:r>
              <a:rPr b="0" lang="en-US" sz="42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a0b0"/>
                </a:solidFill>
                <a:latin typeface="Arial"/>
              </a:rPr>
              <a:t>Записать под диктовку текст. Найти в нём ССП, подчеркнуть в ни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a0b0"/>
                </a:solidFill>
                <a:latin typeface="Arial"/>
              </a:rPr>
              <a:t>грамматические основы. Начертить схемы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есною разливались реки: широко, свободно и мощно. Шли тяжёлые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олны, рябя речное тело, и от них расходился влажный,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придавленный шум, тревожащий и неспокойный. Стаивали снега. 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оснах вырастали смолистые свечи и пахли крепко. Небо поднималось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выше и синело, а в сумерках оно было зеленовато-зыбким и манящи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грустью.(В.Пильняк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ea0b0"/>
                </a:solidFill>
                <a:latin typeface="Arial"/>
              </a:rPr>
              <a:t>Беседа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Сколько частей в этих ССП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Как они связаны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Какие другие конструкции также связаны с помощью сочинительных союзов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К какой группе по значению и по союзам относятся эти ССП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8040" indent="-571680">
              <a:lnSpc>
                <a:spcPct val="80000"/>
              </a:lnSpc>
              <a:spcBef>
                <a:spcPts val="476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Обоснуйте постановку знаков препинания в них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Графический  диктант: начертить схемы диктуемых предложений, указать вид союза</a:t>
            </a: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1) Я передал ему ваше поручение, и он исполнил его с большим удовольств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2) Раз гуляя по лесу, я чуть-чуть не заблудился, но, к счастью, набрёл на тропу, и она привела меня к морю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3) С востока надвигались тёмные дождевые тучи, и оттуда потягивало влаго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4) В душном воздухе то раздавались удары лопат о камень, то заунывно пели колёса тачек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5) Дорога то уходила в овраг, то вилась по откосу горы, и у края земли лежали новые огромные груды облаков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6) Люди сильно проголодались, лошади тоже нуждались в отдых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7) Дверь в комнату была приоткрыта, зато окна были закрыты ставнями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8) Либо это гудит приближающийся к пристани катер, либо сигналит буксирный пароходик с барже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Актуальность выбранной тем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0323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Мониторинг контрольной работы по тем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«Сложносочиненное предложени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-2009 учебный год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0%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-2011 учебный год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7% каче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Результаты ГИА по школе (задание В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8-2009 учебный год – 41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-2010 учебный год – 4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-2011 учебный год – 3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" name="Текст 29"/>
          <p:cNvGraphicFramePr/>
          <p:nvPr/>
        </p:nvGraphicFramePr>
        <p:xfrm>
          <a:off x="4572000" y="1484280"/>
          <a:ext cx="42181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484280"/>
                    <a:ext cx="42181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Текст 29"/>
          <p:cNvGraphicFramePr/>
          <p:nvPr/>
        </p:nvGraphicFramePr>
        <p:xfrm>
          <a:off x="4716360" y="4149720"/>
          <a:ext cx="3783240" cy="21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Текст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4149720"/>
                    <a:ext cx="378324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Дифференцированные упражнения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"/>
          <p:cNvSpPr/>
          <p:nvPr/>
        </p:nvSpPr>
        <p:spPr>
          <a:xfrm>
            <a:off x="468360" y="1052640"/>
            <a:ext cx="3166920" cy="1726920"/>
          </a:xfrm>
          <a:prstGeom prst="downArrowCallout">
            <a:avLst>
              <a:gd name="adj1" fmla="val 45850"/>
              <a:gd name="adj2" fmla="val 45846"/>
              <a:gd name="adj3" fmla="val 16667"/>
              <a:gd name="adj4" fmla="val 66667"/>
            </a:avLst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«три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9280" y="308088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ставить нужные по смыслу союз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вить недостающие знаки препин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Из-за леса робко выглянула луна…(но, да) дождя уже не 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Я уже лёг спать …(и, но, да) вспомнил, что забыл выключить газовую плиту…(и, да) вста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Небо было пасмурно…(а, но) дождя уже не был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В этих краях… морозов не было в январе…Метели не бушевали (и-и, либо-либо, ни-н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219640" y="1125360"/>
            <a:ext cx="3167280" cy="1727280"/>
          </a:xfrm>
          <a:prstGeom prst="downArrowCallout">
            <a:avLst>
              <a:gd name="adj1" fmla="val 45846"/>
              <a:gd name="adj2" fmla="val 45842"/>
              <a:gd name="adj3" fmla="val 16667"/>
              <a:gd name="adj4" fmla="val 66667"/>
            </a:avLst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«четыр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932360" y="3305880"/>
            <a:ext cx="38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з простых предложений образуйте ССП, использу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ходящие союзы и расставьте знаки препина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ы ехали берегом ре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има догоняла нас с севе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чти каждый вечер они уезжали куда-либо загоро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гулка удавалась. Впечатления всякий раз были прекрас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Дифференцированные упражнения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7" name=""/>
          <p:cNvSpPr/>
          <p:nvPr/>
        </p:nvSpPr>
        <p:spPr>
          <a:xfrm>
            <a:off x="2843280" y="1052640"/>
            <a:ext cx="3166920" cy="1726920"/>
          </a:xfrm>
          <a:prstGeom prst="downArrowCallout">
            <a:avLst>
              <a:gd name="adj1" fmla="val 45850"/>
              <a:gd name="adj2" fmla="val 45846"/>
              <a:gd name="adj3" fmla="val 16667"/>
              <a:gd name="adj4" fmla="val 66667"/>
            </a:avLst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ценка «пя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0920" y="3094200"/>
            <a:ext cx="85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менить простые предложения с однородными членам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инонимичными им слож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дающий снег закрыл все предметы и белой пеленой окутал земл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еревья и скалы приобретали причудливые очерт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должить предложение дважды, чтобы получилос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начала простое предложение с однородными членам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потом ССП с этим же союзом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 сидел, привалившись спиной к камн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Arial"/>
              </a:rPr>
              <a:t>Проверка и коррекция знаний</a:t>
            </a:r>
            <a:r>
              <a:rPr b="0" lang="en-US" sz="4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оверочная работа (материал распечатан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Найдите правильное объяснение пунктуации в предложе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ветало () и свет ещё не погашенных фонарей был уже не нуж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 этом предложении есть однородные члены, соединённые союзом И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Это предложение сложносочинённое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 этом предложении однородные члены соединены союзом И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Это предложение сложносочинённое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Найдите правильное объяснение пунктуации в предложе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 детства он начинает замечать недостатки людей своего круга () и постоянно анализирует свои поступ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 этом предложении есть однородные члены, соединённые союзом И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Это предложение сложносочинённое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 этом предложении однородные члены соединены союзом И, перед И 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Это предложение сложносочинённое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Найдите правильное объяснение пунктуации в предложен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Я люблю Россию до боли сердечной () и даже не могу помыслить себя где-либо, кроме Росс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В этом предложении есть однородные члены, соединённые союзом И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Это предложение сложносочинённое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В этом предложении однородные члены соединены союзом И, перед И ставится запя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Это предложение сложносочинённое, запятая перед И не ставитс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Определите вид предло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д облаками, заливая воздух серебряными звуками, дрожали жаворонками, а над зеленеющими пашнями, солидно и чинно размахивая крыльями, носились грач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) СПП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Б) ССП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) ПП с обособленными член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) СП с сочинением и подчин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флексивно-оценочный этап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ыполнение заданий В7 </a:t>
            </a:r>
            <a:r>
              <a:rPr b="0" lang="en-US" sz="40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теста ГИ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для определения уровня усвоения темы «Сложносочиненное предложение» и подготовка к ГИА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63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</a:rPr>
              <a:t>Рефлексивно-оценочный этап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78544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Домашнее задание. Выписать 5-6 предложений из произведений А.С.Пушкина или М.Ю.Лермонтова, где даётся описание природы или портрета героя. Сделать их пунктационный разбор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Анализ, оценка и коррекция знаний учащихся, выставление оценок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Arial"/>
              </a:rPr>
              <a:t>Список литературы</a:t>
            </a:r>
            <a:endParaRPr b="0" lang="en-US" sz="4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1.Капинос В.И., Сергеева Н.Н., Соловейчик М.С. Изложения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тексты с лингвистическим анализом. – М., 1994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2.Методические рекомендации к учебному комплексу »Русск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язык.Теория», «Русский язык .Практика», «Русская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речь».9кл./Т.М.Пахнова,А.П.Еремеева,А.Ю.Купалова и др.;Под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ffffff"/>
                </a:solidFill>
                <a:latin typeface="Arial"/>
              </a:rPr>
              <a:t>ред.Т.М.Пахновой.-М.:Дрофа,2001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3.Примерные программы по учебным предметам. Русск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язык.5-9 классы:проек.-2-изд.-М.:Просвещение,2010.-112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(Стандарты второго поколения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4.Программы для общеобразовательных учреждений: Русск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язык.5-9 кл.,/сост.Е.И.Харитонова.-3-еизд.,стереотип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.:Дрофа,2010.-222,(2с)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5.Русский язык.9 кл.: учеб.для    общеобразовательных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учреждений /М.М.Разумовская,С.И.Львова,В.И.Капинос и др. /; под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ед.М.М.Разумовской,П.А.Леканта.-13-е изд.,стереотип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М.:Дрофа,2009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187280" y="981000"/>
            <a:ext cx="6480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70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Актуальность выбранной темы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824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Результаты ЕГЭ по школе (задание А 2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-2009 учебный год – 83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-2010 учебный год – 52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10-2011 учебный год – 57 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6" name="Текст 29"/>
          <p:cNvGraphicFramePr/>
          <p:nvPr/>
        </p:nvGraphicFramePr>
        <p:xfrm>
          <a:off x="5076720" y="1197000"/>
          <a:ext cx="365436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Текст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197000"/>
                    <a:ext cx="365436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u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85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Цель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9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Формирование у обучающихся лингвистической, коммуникативной и культурологической компетенций через изучение сложносочинённых предложе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f0a"/>
                </a:solidFill>
                <a:latin typeface="Arial"/>
              </a:rPr>
              <a:t>Образовате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вторить сведения о сложных и сложносочиненных предложен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личать простые предложения с однородными членами 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ределять смысловые отношения между частям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тавлять знаки препинания в указанных конструкция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адачи  при изучении темы  «Сложносочинённое предложение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79280" y="1700280"/>
            <a:ext cx="8569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af0a"/>
                </a:solidFill>
                <a:latin typeface="Arial"/>
              </a:rPr>
              <a:t>Развивающ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коммуникативные умения учащихся, совершенствовать языковое чутье школьников, способность выражать и защищать свою позицию слов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пунктуационную грамот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ть языковую компетенцию учащихся, используя в своей речи СС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920" y="285480"/>
            <a:ext cx="8642160" cy="119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ea0b0"/>
                </a:solidFill>
                <a:latin typeface="Arial"/>
              </a:rPr>
              <a:t>З</a:t>
            </a:r>
            <a:r>
              <a:rPr b="1" lang="en-US" sz="3200" spc="-1" strike="noStrike">
                <a:solidFill>
                  <a:srgbClr val="6ea0b0"/>
                </a:solidFill>
                <a:latin typeface="Franklin Gothic Book"/>
              </a:rPr>
              <a:t>адачи  при изучении темы  «Сложносочинённое предложение»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p:transition spd="med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8000" y="142560"/>
            <a:ext cx="8964720" cy="148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a0b0"/>
                </a:solidFill>
                <a:latin typeface="Arial"/>
              </a:rPr>
              <a:t>З</a:t>
            </a:r>
            <a:r>
              <a:rPr b="1" lang="en-US" sz="3600" spc="-1" strike="noStrike">
                <a:solidFill>
                  <a:srgbClr val="6ea0b0"/>
                </a:solidFill>
                <a:latin typeface="Franklin Gothic Book"/>
              </a:rPr>
              <a:t>адачи  при изучении темы  «Сложносочинённое предложение»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78920" y="1700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af0a"/>
                </a:solidFill>
                <a:latin typeface="Arial"/>
              </a:rPr>
              <a:t>Воспитате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спитать интерес к русскому язы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Формировать мировоззрение учащихся, их жизненную позиц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оспитать вдумчивое и бережное отношение к сло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Психолого-педагогические особенности </a:t>
            </a:r>
            <a:br>
              <a:rPr sz="3200"/>
            </a:br>
            <a:r>
              <a:rPr b="1" i="1" lang="en-US" sz="3200" spc="-1" strike="noStrike">
                <a:solidFill>
                  <a:srgbClr val="6ea0b0"/>
                </a:solidFill>
                <a:latin typeface="Franklin Gothic Book"/>
              </a:rPr>
              <a:t>учеников  9 класса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1280" y="126792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ремление к познанию, активность, инициативность, упорство в достижении поставленной це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величение объема памяти, внимания, избиратель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ование активного самосознания, творческого мыш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растание способности к абстрактному мышл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урный рост, развитие и перестройка организма реб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2:59:51Z</dcterms:created>
  <dc:creator>11</dc:creator>
  <dc:description/>
  <dc:language>en-US</dc:language>
  <cp:lastModifiedBy>dinara</cp:lastModifiedBy>
  <dcterms:modified xsi:type="dcterms:W3CDTF">2012-04-09T16:29:54Z</dcterms:modified>
  <cp:revision>102</cp:revision>
  <dc:subject/>
  <dc:title>ме</dc:title>
</cp:coreProperties>
</file>