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DA03-6BE8-451A-83BF-B5E9FF1561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B6EA-91B0-4D97-A202-CCEFCAD603A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8C50-05B6-467E-B359-B246126D6E7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B13B-9320-471C-B835-045C85FBB94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554-EC18-4DDC-A462-A4B2BC84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027-5423-4955-A7F5-116E42C1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D5C-4DD5-4D3B-AD60-C99A27F0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D2D-4B08-4972-BDCF-05AE4896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7514-4558-4A2D-B8B8-6C9F3E64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1169-9422-4C86-898F-5F5B2348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BEB3-A60E-443B-9A4C-12856DF7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74C5-EFA4-4C10-BF8E-9D4D125F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8708-8476-4261-A723-4B7D7753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3918-24D1-4F33-8929-83D41FDB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A3B8-E14E-4077-B6DE-EAC878B0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09B-C9E2-4367-800B-E7249EF9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1AF5-A892-4785-B354-9FDB6075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F8FE-0E89-4576-B6AE-7E2CE177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9852-233A-4B91-9197-E7B96C8C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FF21-AAC2-48C7-AB9B-1DBC4621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B6EA-D2CA-4814-9A2E-2F83D283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A39A1-C628-43EC-8A85-EABE5A24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136D9-4E51-4F78-AEE1-E7E09746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A9C14-1983-4A8C-9554-A769BA06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2CCBA-1975-4BD9-91CC-6978E509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C7CDB-5EBF-493C-9603-D404D376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DB4-1068-455B-AFEE-51715535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D111A-5511-471A-8960-8AC986F3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D9765-486B-476B-92C3-56E3BB55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9044E-D884-445D-AA29-DFF3C95D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A5BDC-E4B5-45A8-A697-E1BC845A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F0CC8-07EF-42FB-A018-14084BF9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7205F-A83B-4098-9932-BA1514A5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C1A9-259B-42E2-BB83-4540049B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06016-7FF2-4E1F-AE01-3F7D137F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ACB9C-5F2D-4A55-9425-77AE5C13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4E565-056E-4E57-BEEB-B9FC4747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9B2-53FD-41F1-A6E6-593493ED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84C49-1597-493E-B578-7D4199B6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64EF5-CCFD-402F-8A01-3B6BCAC4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2EEA8-375D-431A-BB95-73AFA659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48752-59AF-4537-BCA6-342F785A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9FCDE-9789-4C67-B8E0-6E7234E7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05EF4-1A2B-4B82-9112-40025A33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9DECE-C996-4C00-A646-2D40C536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367CB-07D2-4BFE-B8AA-883CD60C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C361C-3545-49C1-BBF7-BEE2D8E9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B08C5-937F-448B-ADC8-F53C11C6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A531-AD85-430D-90B5-73E99FEA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AB3D2-D988-4176-9B92-4251095A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377A7-C652-43EA-99AB-5B41D913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CA61D-F347-4146-9EF0-3AD132FA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21527-D50F-4E16-B5EB-734CAAE9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1D878-761F-48E4-AB84-F4B97737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60100-B19F-4C05-A26A-77D408DB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E1737-7A77-4365-9807-A952DB13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6F329-5626-49C9-8B56-EC29868D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A0356-302A-405C-9010-6C8E1046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36F42-E51E-4F4C-B9C9-8B0C7F99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FAAC-BE8F-4BED-99A3-6D4949DF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F937D-ECE2-4338-A5E8-0FF2DBBC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DFE99-FF51-487E-86B0-CA854B93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EC917-96B5-4C4E-A135-22D7F023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5BEF3-8ECD-4F4F-9693-541C5257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A2FA0-A15C-4BBB-A00A-6A6929B3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AF52D-F690-4328-B21D-56848247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889E3-06C0-4EC6-8CFA-69EAB8B1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07257-AD3D-4D02-905F-FE072606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C4A32-D9D8-49E4-A974-BBCB6AF8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8A50F-15EA-44AA-9922-4D71C71E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9CB-4E0B-4C6F-98F8-E4FD797E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9E277-8EFE-4EF5-B7AE-E9579ABF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14766-CA99-4708-8313-CE2AE2C4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2EF89-4D43-485C-8E6C-051D0824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6A5-467F-45B8-B3CE-6EF2396A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595-3E71-495A-BED9-B63467FE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D1CB-096B-4CE8-A9BB-D1C6E9AE1BE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78A3-0567-44EF-AAF3-926F52EEE8C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6963-08D3-4219-80CD-6ADF9CF8ABC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33CA-9257-4E3F-9CA1-BF7DF1F3E7C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926A-5AAE-478E-B191-94BFFEACB81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2799-7421-49ED-B2E7-EED9F389214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&#1084;&#1077;&#1090;&#1086;&#1076;&#1099;%20&#1086;&#1073;&#1098;&#1103;&#1089;&#1085;&#1077;&#1085;&#1080;&#1077;.ppt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82;&#1088;&#1080;&#1090;&#1080;&#1095;&#1077;&#1089;&#1082;&#1086;&#1077;.ppt" TargetMode="External"/><Relationship Id="rId2" Type="http://schemas.openxmlformats.org/officeDocument/2006/relationships/hyperlink" Target="file:///&#1082;&#1088;&#1080;&#1090;&#1080;&#1095;&#1077;&#1089;&#1082;&#1086;&#1077;.ppt" TargetMode="External"/><Relationship Id="rId3" Type="http://schemas.openxmlformats.org/officeDocument/2006/relationships/hyperlink" Target="file:///&#1082;&#1088;&#1080;&#1090;&#1080;&#1095;&#1077;&#1089;&#1082;&#1086;&#1077;.ppt" TargetMode="External"/><Relationship Id="rId4" Type="http://schemas.openxmlformats.org/officeDocument/2006/relationships/hyperlink" Target="file:///&#1087;&#1088;&#1086;&#1077;&#1082;&#1090;%20&#1080;&#1082;&#1090;.ppt" TargetMode="External"/><Relationship Id="rId5" Type="http://schemas.openxmlformats.org/officeDocument/2006/relationships/hyperlink" Target="file:///&#1087;&#1088;&#1086;&#1077;&#1082;&#1090;%20&#1080;&#1082;&#1090;.ppt" TargetMode="External"/><Relationship Id="rId6" Type="http://schemas.openxmlformats.org/officeDocument/2006/relationships/hyperlink" Target="file:///&#1087;&#1088;&#1086;&#1077;&#1082;&#1090;%20&#1080;&#1082;&#1090;.ppt" TargetMode="External"/><Relationship Id="rId7" Type="http://schemas.openxmlformats.org/officeDocument/2006/relationships/hyperlink" Target="file:///&#1087;&#1088;&#1086;&#1077;&#1082;&#1090;%20&#1080;&#1082;&#1090;.ppt" TargetMode="External"/><Relationship Id="rId8" Type="http://schemas.openxmlformats.org/officeDocument/2006/relationships/hyperlink" Target="file:///&#1087;&#1088;&#1086;&#1077;&#1082;&#1090;%20&#1080;&#1082;&#1090;.ppt" TargetMode="External"/><Relationship Id="rId9" Type="http://schemas.openxmlformats.org/officeDocument/2006/relationships/hyperlink" Target="file:///&#1080;&#1075;&#1088;&#1086;&#1074;&#1072;&#1103;%20&#1087;&#1088;&#1086;&#1073;&#1083;&#1077;&#1084;&#1072;.ppt" TargetMode="External"/><Relationship Id="rId10" Type="http://schemas.openxmlformats.org/officeDocument/2006/relationships/hyperlink" Target="file:///&#1087;&#1088;&#1086;&#1077;&#1082;&#1090;%20&#1080;&#1082;&#1090;.ppt" TargetMode="External"/><Relationship Id="rId11" Type="http://schemas.openxmlformats.org/officeDocument/2006/relationships/hyperlink" Target="file:///&#1087;&#1088;&#1086;&#1077;&#1082;&#1090;%20&#1080;&#1082;&#1090;.ppt" TargetMode="External"/><Relationship Id="rId12" Type="http://schemas.openxmlformats.org/officeDocument/2006/relationships/hyperlink" Target="file:///&#1083;&#1080;&#1095;&#1085;&#1086;&#1089;&#1090;&#1085;&#1086;.ppt" TargetMode="Externa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90;&#1072;&#1073;&#1083;&#1080;&#1094;&#1072;.ppt" TargetMode="External"/><Relationship Id="rId2" Type="http://schemas.openxmlformats.org/officeDocument/2006/relationships/hyperlink" Target="file:///&#1087;&#1088;&#1077;&#1079;&#1077;&#1085;&#1090;&#1072;&#1094;&#1080;&#1103;.ppt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%20&#1082;%20&#1091;&#1088;&#1086;&#1082;&#1091;.ppt" TargetMode="External"/><Relationship Id="rId2" Type="http://schemas.openxmlformats.org/officeDocument/2006/relationships/hyperlink" Target="file:///&#1050;&#1086;&#1085;&#1090;&#1088;&#1086;&#1083;&#1100;&#1085;&#1072;&#1103;%20&#1088;&#1072;&#1073;&#1086;&#1090;&#1072;.docx" TargetMode="External"/><Relationship Id="rId3" Type="http://schemas.openxmlformats.org/officeDocument/2006/relationships/hyperlink" Target="file:///&#1050;&#1086;&#1085;&#1090;&#1088;&#1086;&#1083;&#1100;&#1085;&#1072;&#1103;%20&#1088;&#1072;&#1073;&#1086;&#1090;&#1072;.docx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%20&#1082;%20&#1091;&#1088;&#1086;&#1082;&#1091;.ppt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395280" y="231840"/>
            <a:ext cx="8894880" cy="26208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84720" y="2997360"/>
            <a:ext cx="4643280" cy="3860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ea0b0"/>
                </a:solidFill>
                <a:latin typeface="Arial"/>
              </a:rPr>
              <a:t>Мышаева Евгения Пет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ea0b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ea0b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ea0b0"/>
                </a:solidFill>
                <a:latin typeface="Arial"/>
              </a:rPr>
              <a:t>первая квалификационная категория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ea0b0"/>
                </a:solidFill>
                <a:latin typeface="Arial"/>
              </a:rPr>
              <a:t>МБОУ «Средняя школа №1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ea0b0"/>
                </a:solidFill>
                <a:latin typeface="Arial"/>
              </a:rPr>
              <a:t>педагогический стаж -18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ea0b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6ea0b0"/>
                </a:solidFill>
                <a:latin typeface="Arial"/>
              </a:rPr>
              <a:t>образование - Нижегородский государственный педагогический университет имени Горького,1996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446040" y="618480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. Дзержин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299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80" y="4149720"/>
            <a:ext cx="370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Автор – состави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М.М.Разумовская,  В.И.Капинос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С.И.Львова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Г.А.Богдано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В.В.Ль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280" y="218880"/>
            <a:ext cx="8785440" cy="83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0b0"/>
                </a:solidFill>
                <a:latin typeface="Arial"/>
                <a:ea typeface="Arial"/>
              </a:rPr>
              <a:t>Мотивация учебной деятельности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179280" y="1197000"/>
            <a:ext cx="878544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ктивность направлена на общение со сверстни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дущий мотив учения – стремление подростка завоевать определенное положение в классе, выделиться, добиться призн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метка -  достаточно действенный мотиватор у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знавательные интересы подростков имеют большую вариатив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познавательных интересов низ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ea0b0"/>
                </a:solidFill>
                <a:latin typeface="Franklin Gothic Book"/>
              </a:rPr>
              <a:t>Психолого-педагогические особенности </a:t>
            </a:r>
            <a:br>
              <a:rPr sz="3200"/>
            </a:br>
            <a:r>
              <a:rPr b="1" i="1" lang="en-US" sz="3200" spc="-1" strike="noStrike">
                <a:solidFill>
                  <a:srgbClr val="6ea0b0"/>
                </a:solidFill>
                <a:latin typeface="Franklin Gothic Book"/>
              </a:rPr>
              <a:t>учеников  9а класса МБОУ СОШ №13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91" name="Диаграмма 4"/>
          <p:cNvGraphicFramePr/>
          <p:nvPr/>
        </p:nvGraphicFramePr>
        <p:xfrm>
          <a:off x="324000" y="3500280"/>
          <a:ext cx="4422600" cy="30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500280"/>
                    <a:ext cx="4422600" cy="3027600"/>
                  </a:xfrm>
                  <a:prstGeom prst="rect">
                    <a:avLst/>
                  </a:prstGeom>
                  <a:ln w="9360">
                    <a:solidFill>
                      <a:srgbClr val="ccaf0a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5076720" y="1125360"/>
            <a:ext cx="3824280" cy="38880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1"/>
          <p:cNvSpPr/>
          <p:nvPr/>
        </p:nvSpPr>
        <p:spPr>
          <a:xfrm>
            <a:off x="254520" y="155736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af0a"/>
                </a:solidFill>
                <a:latin typeface="Arial"/>
              </a:rPr>
              <a:t>Уровень опосредованной памя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af0a"/>
                </a:solidFill>
                <a:latin typeface="Arial"/>
              </a:rPr>
              <a:t>(методика запоминания па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4067280" y="1844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ea0b0"/>
                </a:solidFill>
                <a:latin typeface="Franklin Gothic Book"/>
              </a:rPr>
              <a:t>Психолого-педагогические особенности </a:t>
            </a:r>
            <a:br>
              <a:rPr sz="3200"/>
            </a:br>
            <a:r>
              <a:rPr b="1" i="1" lang="en-US" sz="3200" spc="-1" strike="noStrike">
                <a:solidFill>
                  <a:srgbClr val="6ea0b0"/>
                </a:solidFill>
                <a:latin typeface="Franklin Gothic Book"/>
              </a:rPr>
              <a:t>учеников  9а класса МБОУ СОШ №13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Содержимое 3" descr=""/>
          <p:cNvPicPr/>
          <p:nvPr/>
        </p:nvPicPr>
        <p:blipFill>
          <a:blip r:embed="rId1"/>
          <a:stretch/>
        </p:blipFill>
        <p:spPr>
          <a:xfrm>
            <a:off x="0" y="3141720"/>
            <a:ext cx="4707000" cy="350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Диаграмма 4"/>
          <p:cNvGraphicFramePr/>
          <p:nvPr/>
        </p:nvGraphicFramePr>
        <p:xfrm>
          <a:off x="4357800" y="1341360"/>
          <a:ext cx="4786200" cy="3603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9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7800" y="1341360"/>
                    <a:ext cx="478620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Правильно ставить знаки препинания в СС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Составлять  схемы предложен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Использовать в речи сложносочинённые предл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Различать простые предложения с однородными членами и С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Определять смысловые отношения между частями С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6280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ea0b0"/>
                </a:solidFill>
                <a:latin typeface="Franklin Gothic Book"/>
              </a:rPr>
              <a:t>Ожидаемые результаты изучения темы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med">
    <p:strips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Organization Chart 13"/>
          <p:cNvGrpSpPr/>
          <p:nvPr/>
        </p:nvGrpSpPr>
        <p:grpSpPr>
          <a:xfrm>
            <a:off x="179280" y="549360"/>
            <a:ext cx="8784000" cy="6047640"/>
            <a:chOff x="179280" y="549360"/>
            <a:chExt cx="8784000" cy="6047640"/>
          </a:xfrm>
        </p:grpSpPr>
        <p:cxnSp>
          <p:nvCxnSpPr>
            <p:cNvPr id="303" name="_s45080"/>
            <p:cNvCxnSpPr>
              <a:stCxn id="304" idx="1"/>
              <a:endCxn id="305" idx="2"/>
            </p:cNvCxnSpPr>
            <p:nvPr/>
          </p:nvCxnSpPr>
          <p:spPr>
            <a:xfrm rot="10800000">
              <a:off x="2813760" y="1260000"/>
              <a:ext cx="879120" cy="4981320"/>
            </a:xfrm>
            <a:prstGeom prst="bentConnector2">
              <a:avLst/>
            </a:prstGeom>
            <a:ln w="28440">
              <a:solidFill>
                <a:srgbClr val="3b3b3b"/>
              </a:solidFill>
              <a:miter/>
            </a:ln>
          </p:spPr>
        </p:cxnSp>
        <p:cxnSp>
          <p:nvCxnSpPr>
            <p:cNvPr id="306" name="_s45060"/>
            <p:cNvCxnSpPr>
              <a:stCxn id="307" idx="1"/>
              <a:endCxn id="305" idx="2"/>
            </p:cNvCxnSpPr>
            <p:nvPr/>
          </p:nvCxnSpPr>
          <p:spPr>
            <a:xfrm rot="10800000">
              <a:off x="2813760" y="1260000"/>
              <a:ext cx="879120" cy="3913920"/>
            </a:xfrm>
            <a:prstGeom prst="bentConnector2">
              <a:avLst/>
            </a:prstGeom>
            <a:ln w="28440">
              <a:solidFill>
                <a:srgbClr val="3b3b3b"/>
              </a:solidFill>
              <a:miter/>
            </a:ln>
          </p:spPr>
        </p:cxnSp>
        <p:cxnSp>
          <p:nvCxnSpPr>
            <p:cNvPr id="308" name="_s45061"/>
            <p:cNvCxnSpPr>
              <a:stCxn id="309" idx="1"/>
              <a:endCxn id="305" idx="2"/>
            </p:cNvCxnSpPr>
            <p:nvPr/>
          </p:nvCxnSpPr>
          <p:spPr>
            <a:xfrm rot="10800000">
              <a:off x="2813760" y="1260720"/>
              <a:ext cx="879120" cy="2846520"/>
            </a:xfrm>
            <a:prstGeom prst="bentConnector2">
              <a:avLst/>
            </a:prstGeom>
            <a:ln w="28440">
              <a:solidFill>
                <a:srgbClr val="3b3b3b"/>
              </a:solidFill>
              <a:miter/>
            </a:ln>
          </p:spPr>
        </p:cxnSp>
        <p:cxnSp>
          <p:nvCxnSpPr>
            <p:cNvPr id="310" name="_s45062"/>
            <p:cNvCxnSpPr>
              <a:stCxn id="311" idx="1"/>
              <a:endCxn id="305" idx="2"/>
            </p:cNvCxnSpPr>
            <p:nvPr/>
          </p:nvCxnSpPr>
          <p:spPr>
            <a:xfrm rot="10800000">
              <a:off x="2813760" y="1260000"/>
              <a:ext cx="879120" cy="1779480"/>
            </a:xfrm>
            <a:prstGeom prst="bentConnector2">
              <a:avLst/>
            </a:prstGeom>
            <a:ln w="28440">
              <a:solidFill>
                <a:srgbClr val="3b3b3b"/>
              </a:solidFill>
              <a:miter/>
            </a:ln>
          </p:spPr>
        </p:cxnSp>
        <p:cxnSp>
          <p:nvCxnSpPr>
            <p:cNvPr id="312" name="_s45063"/>
            <p:cNvCxnSpPr>
              <a:stCxn id="313" idx="1"/>
              <a:endCxn id="305" idx="2"/>
            </p:cNvCxnSpPr>
            <p:nvPr/>
          </p:nvCxnSpPr>
          <p:spPr>
            <a:xfrm rot="10800000">
              <a:off x="2813760" y="1260000"/>
              <a:ext cx="879120" cy="712080"/>
            </a:xfrm>
            <a:prstGeom prst="bentConnector2">
              <a:avLst/>
            </a:prstGeom>
            <a:ln w="28440">
              <a:solidFill>
                <a:srgbClr val="3b3b3b"/>
              </a:solidFill>
              <a:miter/>
            </a:ln>
          </p:spPr>
        </p:cxnSp>
        <p:sp>
          <p:nvSpPr>
            <p:cNvPr id="305" name="_s45064"/>
            <p:cNvSpPr/>
            <p:nvPr/>
          </p:nvSpPr>
          <p:spPr>
            <a:xfrm>
              <a:off x="179280" y="549360"/>
              <a:ext cx="5270400" cy="711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c8c3"/>
              </a:solidFill>
              <a:miter/>
            </a:ln>
            <a:effectLst>
              <a:outerShdw dist="63504" dir="19383909" blurRad="0" rotWithShape="0">
                <a:srgbClr val="00c8c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00c8c3"/>
                  </a:solidFill>
                  <a:uFillTx/>
                  <a:latin typeface="Arial"/>
                  <a:hlinkClick r:id="rId2"/>
                </a:rPr>
                <a:t>Методы обучени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_s45065"/>
            <p:cNvSpPr/>
            <p:nvPr/>
          </p:nvSpPr>
          <p:spPr>
            <a:xfrm>
              <a:off x="3692880" y="1616400"/>
              <a:ext cx="5270400" cy="711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Репродуктив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_s45066"/>
            <p:cNvSpPr/>
            <p:nvPr/>
          </p:nvSpPr>
          <p:spPr>
            <a:xfrm>
              <a:off x="3692880" y="2683800"/>
              <a:ext cx="5270400" cy="711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Проблем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_s45067"/>
            <p:cNvSpPr/>
            <p:nvPr/>
          </p:nvSpPr>
          <p:spPr>
            <a:xfrm>
              <a:off x="3692880" y="3751200"/>
              <a:ext cx="5270400" cy="711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Частично-поисков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_s45068"/>
            <p:cNvSpPr/>
            <p:nvPr/>
          </p:nvSpPr>
          <p:spPr>
            <a:xfrm>
              <a:off x="3692880" y="4818600"/>
              <a:ext cx="5270400" cy="711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Исследовательск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_s45079"/>
            <p:cNvSpPr/>
            <p:nvPr/>
          </p:nvSpPr>
          <p:spPr>
            <a:xfrm>
              <a:off x="3692880" y="5885640"/>
              <a:ext cx="5270400" cy="711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Объяснительно-иллюстратив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WordArt 23"/>
          <p:cNvSpPr txBox="1"/>
          <p:nvPr/>
        </p:nvSpPr>
        <p:spPr>
          <a:xfrm>
            <a:off x="971640" y="476280"/>
            <a:ext cx="72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971640" y="476280"/>
            <a:ext cx="72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          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6" name="Picture 17" descr="spor"/>
          <p:cNvPicPr/>
          <p:nvPr/>
        </p:nvPicPr>
        <p:blipFill>
          <a:blip r:embed="rId1"/>
          <a:stretch/>
        </p:blipFill>
        <p:spPr>
          <a:xfrm>
            <a:off x="4572000" y="2492280"/>
            <a:ext cx="3600360" cy="24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17" name="WordArt 9"/>
          <p:cNvSpPr txBox="1"/>
          <p:nvPr/>
        </p:nvSpPr>
        <p:spPr>
          <a:xfrm>
            <a:off x="468360" y="260280"/>
            <a:ext cx="8207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ea0b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ы организации</a:t>
            </a:r>
            <a:endParaRPr b="1" lang="en-US" sz="1800" spc="1" strike="noStrike">
              <a:ln w="0">
                <a:noFill/>
              </a:ln>
              <a:solidFill>
                <a:srgbClr val="6ea0b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ea0b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ебно-познавательной деятельности</a:t>
            </a:r>
            <a:endParaRPr b="1" lang="en-US" sz="1800" spc="1" strike="noStrike">
              <a:ln w="0">
                <a:noFill/>
              </a:ln>
              <a:solidFill>
                <a:srgbClr val="6ea0b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179280" y="1484280"/>
            <a:ext cx="2159280" cy="100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овес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324000" y="5300640"/>
            <a:ext cx="2158920" cy="100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мопрове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1"/>
          <p:cNvSpPr/>
          <p:nvPr/>
        </p:nvSpPr>
        <p:spPr>
          <a:xfrm>
            <a:off x="1835280" y="2349360"/>
            <a:ext cx="2158920" cy="1008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кт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2"/>
          <p:cNvSpPr/>
          <p:nvPr/>
        </p:nvSpPr>
        <p:spPr>
          <a:xfrm>
            <a:off x="324000" y="3429000"/>
            <a:ext cx="2446200" cy="100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астично-поиск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3"/>
          <p:cNvSpPr/>
          <p:nvPr/>
        </p:nvSpPr>
        <p:spPr>
          <a:xfrm>
            <a:off x="2340000" y="4221000"/>
            <a:ext cx="2158920" cy="1008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заимопрове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3059280" y="5373720"/>
            <a:ext cx="2592360" cy="100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тод наблю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4"/>
          <p:cNvSpPr/>
          <p:nvPr/>
        </p:nvSpPr>
        <p:spPr>
          <a:xfrm>
            <a:off x="1285920" y="207180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WordArt 10"/>
          <p:cNvSpPr txBox="1"/>
          <p:nvPr/>
        </p:nvSpPr>
        <p:spPr>
          <a:xfrm>
            <a:off x="971640" y="476280"/>
            <a:ext cx="72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95280" y="1484280"/>
          <a:ext cx="8424720" cy="2762280"/>
        </p:xfrm>
        <a:graphic>
          <a:graphicData uri="http://schemas.openxmlformats.org/drawingml/2006/table">
            <a:tbl>
              <a:tblPr/>
              <a:tblGrid>
                <a:gridCol w="2697120"/>
                <a:gridCol w="5727600"/>
              </a:tblGrid>
              <a:tr h="17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Классические тип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 усвоения нового матери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 обобщения и систематизации; знаний, умений, навы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 закрепления изучаемого матери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бинированный ур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о-проверочный ур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Нетрадиционные тип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-лек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-семина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-практику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7" name="Organization Chart 48"/>
          <p:cNvGrpSpPr/>
          <p:nvPr/>
        </p:nvGrpSpPr>
        <p:grpSpPr>
          <a:xfrm>
            <a:off x="0" y="4437000"/>
            <a:ext cx="9143640" cy="2191680"/>
            <a:chOff x="0" y="4437000"/>
            <a:chExt cx="9143640" cy="2191680"/>
          </a:xfrm>
        </p:grpSpPr>
        <p:cxnSp>
          <p:nvCxnSpPr>
            <p:cNvPr id="328" name="_s46084"/>
            <p:cNvCxnSpPr>
              <a:stCxn id="329" idx="0"/>
              <a:endCxn id="330" idx="2"/>
            </p:cNvCxnSpPr>
            <p:nvPr/>
          </p:nvCxnSpPr>
          <p:spPr>
            <a:xfrm flipV="1" rot="16200000">
              <a:off x="6130080" y="3753720"/>
              <a:ext cx="438840" cy="3556800"/>
            </a:xfrm>
            <a:prstGeom prst="bentConnector3">
              <a:avLst>
                <a:gd name="adj1" fmla="val 25944"/>
              </a:avLst>
            </a:prstGeom>
            <a:ln w="28440">
              <a:solidFill>
                <a:srgbClr val="3b3b3b"/>
              </a:solidFill>
              <a:miter/>
            </a:ln>
          </p:spPr>
        </p:cxnSp>
        <p:cxnSp>
          <p:nvCxnSpPr>
            <p:cNvPr id="331" name="_s46085"/>
            <p:cNvCxnSpPr>
              <a:stCxn id="332" idx="0"/>
              <a:endCxn id="330" idx="2"/>
            </p:cNvCxnSpPr>
            <p:nvPr/>
          </p:nvCxnSpPr>
          <p:spPr>
            <a:xfrm flipV="1" rot="16200000">
              <a:off x="4944600" y="4939200"/>
              <a:ext cx="438840" cy="1186200"/>
            </a:xfrm>
            <a:prstGeom prst="bentConnector3">
              <a:avLst>
                <a:gd name="adj1" fmla="val 25944"/>
              </a:avLst>
            </a:prstGeom>
            <a:ln w="28440">
              <a:solidFill>
                <a:srgbClr val="3b3b3b"/>
              </a:solidFill>
              <a:miter/>
            </a:ln>
          </p:spPr>
        </p:cxnSp>
        <p:cxnSp>
          <p:nvCxnSpPr>
            <p:cNvPr id="333" name="_s46086"/>
            <p:cNvCxnSpPr>
              <a:stCxn id="334" idx="0"/>
              <a:endCxn id="330" idx="2"/>
            </p:cNvCxnSpPr>
            <p:nvPr/>
          </p:nvCxnSpPr>
          <p:spPr>
            <a:xfrm flipH="1" flipV="1" rot="5400000">
              <a:off x="3759480" y="4939560"/>
              <a:ext cx="438840" cy="1185480"/>
            </a:xfrm>
            <a:prstGeom prst="bentConnector3">
              <a:avLst>
                <a:gd name="adj1" fmla="val 25944"/>
              </a:avLst>
            </a:prstGeom>
            <a:ln w="28440">
              <a:solidFill>
                <a:srgbClr val="3b3b3b"/>
              </a:solidFill>
              <a:miter/>
            </a:ln>
          </p:spPr>
        </p:cxnSp>
        <p:cxnSp>
          <p:nvCxnSpPr>
            <p:cNvPr id="335" name="_s46087"/>
            <p:cNvCxnSpPr>
              <a:stCxn id="336" idx="0"/>
              <a:endCxn id="330" idx="2"/>
            </p:cNvCxnSpPr>
            <p:nvPr/>
          </p:nvCxnSpPr>
          <p:spPr>
            <a:xfrm flipH="1" flipV="1" rot="5400000">
              <a:off x="2574360" y="3754440"/>
              <a:ext cx="438840" cy="3556080"/>
            </a:xfrm>
            <a:prstGeom prst="bentConnector3">
              <a:avLst>
                <a:gd name="adj1" fmla="val 25944"/>
              </a:avLst>
            </a:prstGeom>
            <a:ln w="28440">
              <a:solidFill>
                <a:srgbClr val="3b3b3b"/>
              </a:solidFill>
              <a:miter/>
            </a:ln>
          </p:spPr>
        </p:cxnSp>
        <p:sp>
          <p:nvSpPr>
            <p:cNvPr id="330" name="_s46088"/>
            <p:cNvSpPr/>
            <p:nvPr/>
          </p:nvSpPr>
          <p:spPr>
            <a:xfrm>
              <a:off x="3555360" y="4437000"/>
              <a:ext cx="2031840" cy="87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c8c3"/>
              </a:solidFill>
              <a:miter/>
            </a:ln>
            <a:effectLst>
              <a:outerShdw dist="63504" dir="19383909" blurRad="0" rotWithShape="0">
                <a:srgbClr val="00c8c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Формы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организаци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учебно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деятельност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_s46089"/>
            <p:cNvSpPr/>
            <p:nvPr/>
          </p:nvSpPr>
          <p:spPr>
            <a:xfrm>
              <a:off x="0" y="5752080"/>
              <a:ext cx="2031840" cy="876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фронтальна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_s46090"/>
            <p:cNvSpPr/>
            <p:nvPr/>
          </p:nvSpPr>
          <p:spPr>
            <a:xfrm>
              <a:off x="2370600" y="5752080"/>
              <a:ext cx="2031840" cy="87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группова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_s46091"/>
            <p:cNvSpPr/>
            <p:nvPr/>
          </p:nvSpPr>
          <p:spPr>
            <a:xfrm>
              <a:off x="4741200" y="5752080"/>
              <a:ext cx="2031840" cy="876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ндивидуальна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_s46092"/>
            <p:cNvSpPr/>
            <p:nvPr/>
          </p:nvSpPr>
          <p:spPr>
            <a:xfrm>
              <a:off x="7111800" y="5752080"/>
              <a:ext cx="2031840" cy="87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парна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WordArt 27"/>
          <p:cNvSpPr txBox="1"/>
          <p:nvPr/>
        </p:nvSpPr>
        <p:spPr>
          <a:xfrm>
            <a:off x="468360" y="260280"/>
            <a:ext cx="83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ea0b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рмы организации</a:t>
            </a:r>
            <a:endParaRPr b="1" lang="en-US" sz="1800" spc="1" strike="noStrike">
              <a:ln w="0">
                <a:noFill/>
              </a:ln>
              <a:solidFill>
                <a:srgbClr val="6ea0b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ea0b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ебных занятий</a:t>
            </a:r>
            <a:endParaRPr b="1" lang="en-US" sz="1800" spc="1" strike="noStrike">
              <a:ln w="0">
                <a:noFill/>
              </a:ln>
              <a:solidFill>
                <a:srgbClr val="6ea0b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ircl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607240" cy="90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ea0b0"/>
                </a:solidFill>
                <a:latin typeface="Franklin Gothic Book"/>
              </a:rPr>
              <a:t>Технологии организации деятельност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37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37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37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3720" indent="-34272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95280" y="907920"/>
            <a:ext cx="3097080" cy="100836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Технолог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критическ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мыш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2050920" y="5013360"/>
            <a:ext cx="5834160" cy="129528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4"/>
              </a:rPr>
              <a:t>Информационно-коммуникативн</a:t>
            </a: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5"/>
              </a:rPr>
              <a:t>ые</a:t>
            </a: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6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7"/>
              </a:rPr>
              <a:t>технологи</a:t>
            </a: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8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7"/>
          <p:cNvSpPr/>
          <p:nvPr/>
        </p:nvSpPr>
        <p:spPr>
          <a:xfrm>
            <a:off x="395280" y="2852640"/>
            <a:ext cx="3311640" cy="1008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9"/>
              </a:rPr>
              <a:t>Проблемное обу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8"/>
          <p:cNvSpPr/>
          <p:nvPr/>
        </p:nvSpPr>
        <p:spPr>
          <a:xfrm>
            <a:off x="4932360" y="3500280"/>
            <a:ext cx="2665440" cy="100836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10"/>
              </a:rPr>
              <a:t>Проект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11"/>
              </a:rPr>
              <a:t>деяте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9"/>
          <p:cNvSpPr/>
          <p:nvPr/>
        </p:nvSpPr>
        <p:spPr>
          <a:xfrm>
            <a:off x="3995640" y="1773360"/>
            <a:ext cx="4176720" cy="1008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12"/>
              </a:rPr>
              <a:t>Личностно-ориентирова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6"/>
          <p:cNvSpPr/>
          <p:nvPr/>
        </p:nvSpPr>
        <p:spPr>
          <a:xfrm>
            <a:off x="1619280" y="1268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Виды контр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108000" y="918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0b0"/>
                </a:solidFill>
                <a:latin typeface="Constantia"/>
              </a:rPr>
              <a:t>Система знаний и система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12"/>
          <p:cNvSpPr/>
          <p:nvPr/>
        </p:nvSpPr>
        <p:spPr>
          <a:xfrm>
            <a:off x="2556000" y="2276640"/>
            <a:ext cx="2133360" cy="928440"/>
          </a:xfrm>
          <a:prstGeom prst="rect">
            <a:avLst/>
          </a:prstGeom>
          <a:solidFill>
            <a:srgbClr val="9933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кущий 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20"/>
          <p:cNvSpPr/>
          <p:nvPr/>
        </p:nvSpPr>
        <p:spPr>
          <a:xfrm>
            <a:off x="5076720" y="3068640"/>
            <a:ext cx="2286000" cy="719280"/>
          </a:xfrm>
          <a:prstGeom prst="rect">
            <a:avLst/>
          </a:prstGeom>
          <a:solidFill>
            <a:srgbClr val="9933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тоговый 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41"/>
          <p:cNvSpPr/>
          <p:nvPr/>
        </p:nvSpPr>
        <p:spPr>
          <a:xfrm>
            <a:off x="179280" y="4365720"/>
            <a:ext cx="3456000" cy="207144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42"/>
          <p:cNvSpPr/>
          <p:nvPr/>
        </p:nvSpPr>
        <p:spPr>
          <a:xfrm>
            <a:off x="250920" y="4508640"/>
            <a:ext cx="3241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А) устный опр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Б) письменный опр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В) работа с карточ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Г) тестовые 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Д) творческие  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43"/>
          <p:cNvSpPr/>
          <p:nvPr/>
        </p:nvSpPr>
        <p:spPr>
          <a:xfrm>
            <a:off x="4140360" y="4941720"/>
            <a:ext cx="4787640" cy="191628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44"/>
          <p:cNvSpPr/>
          <p:nvPr/>
        </p:nvSpPr>
        <p:spPr>
          <a:xfrm>
            <a:off x="4572000" y="493704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А) тестовые 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Б) зачет по т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В) создание презентаций, рефератов, проектов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Г) контрольный диктант, изложение, сочин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15"/>
          <p:cNvSpPr/>
          <p:nvPr/>
        </p:nvSpPr>
        <p:spPr>
          <a:xfrm>
            <a:off x="250920" y="1413000"/>
            <a:ext cx="2305080" cy="1726920"/>
          </a:xfrm>
          <a:custGeom>
            <a:avLst/>
            <a:gdLst>
              <a:gd name="textAreaLeft" fmla="*/ 308520 w 2305080"/>
              <a:gd name="textAreaRight" fmla="*/ 1996560 w 2305080"/>
              <a:gd name="textAreaTop" fmla="*/ 302040 h 1726920"/>
              <a:gd name="textAreaBottom" fmla="*/ 125208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16"/>
          <p:cNvSpPr/>
          <p:nvPr/>
        </p:nvSpPr>
        <p:spPr>
          <a:xfrm rot="20384400">
            <a:off x="6659640" y="980640"/>
            <a:ext cx="2484360" cy="2016360"/>
          </a:xfrm>
          <a:custGeom>
            <a:avLst/>
            <a:gdLst>
              <a:gd name="textAreaLeft" fmla="*/ 332640 w 2484360"/>
              <a:gd name="textAreaRight" fmla="*/ 2151720 w 2484360"/>
              <a:gd name="textAreaTop" fmla="*/ 352800 h 2016360"/>
              <a:gd name="textAreaBottom" fmla="*/ 146196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177559"/>
                <a:lnTo>
                  <a:pt x="9293" y="20865"/>
                </a:lnTo>
                <a:lnTo>
                  <a:pt x="0" y="17280"/>
                </a:lnTo>
                <a:lnTo>
                  <a:pt x="9293" y="12225"/>
                </a:lnTo>
                <a:lnTo>
                  <a:pt x="9293" y="14385"/>
                </a:lnTo>
                <a:arcTo wR="21600" hR="7560" stAng="2177559" swAng="-1820124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17"/>
          <p:cNvSpPr/>
          <p:nvPr/>
        </p:nvSpPr>
        <p:spPr>
          <a:xfrm rot="20808000">
            <a:off x="5940360" y="3789000"/>
            <a:ext cx="360360" cy="1152360"/>
          </a:xfrm>
          <a:prstGeom prst="downArrow">
            <a:avLst>
              <a:gd name="adj1" fmla="val 50000"/>
              <a:gd name="adj2" fmla="val 79945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18"/>
          <p:cNvSpPr/>
          <p:nvPr/>
        </p:nvSpPr>
        <p:spPr>
          <a:xfrm rot="1859400">
            <a:off x="2843280" y="3213000"/>
            <a:ext cx="352440" cy="1008000"/>
          </a:xfrm>
          <a:prstGeom prst="downArrow">
            <a:avLst>
              <a:gd name="adj1" fmla="val 50000"/>
              <a:gd name="adj2" fmla="val 71502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8964720" cy="77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a0b0"/>
                </a:solidFill>
                <a:latin typeface="Franklin Gothic Book"/>
              </a:rPr>
              <a:t>Структура  содержания  тематических модулей образовательной программы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79280" y="1071720"/>
          <a:ext cx="8785080" cy="5649840"/>
        </p:xfrm>
        <a:graphic>
          <a:graphicData uri="http://schemas.openxmlformats.org/drawingml/2006/table">
            <a:tbl>
              <a:tblPr/>
              <a:tblGrid>
                <a:gridCol w="1293840"/>
                <a:gridCol w="4007880"/>
                <a:gridCol w="1742040"/>
                <a:gridCol w="174132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те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реч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сский язык – национальный язык русского народа. Русский язык среди других языков ми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торение и систематизация изученного в 5-8 класса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жное предложе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жносочиненное предложе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жноподчиненное предложе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жноподчинённое предложение с несколькими придаточным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ссоюзное сложное предложе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жные предложения с различными видами союзной и бессоюзной связ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овое повторение и систематизация изученного в 9 класс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p:transition spd="med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004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a0b0"/>
                </a:solidFill>
                <a:latin typeface="Franklin Gothic Book"/>
              </a:rPr>
              <a:t>Актуальность выбранной темы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571680">
              <a:spcBef>
                <a:spcPts val="7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удности учащихся в освоении данного раздела грамма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spcBef>
                <a:spcPts val="7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ые ошибки в письменной и устной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spcBef>
                <a:spcPts val="7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умение учащихся создавать сложные синтаксические конструкции – рассуж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spcBef>
                <a:spcPts val="7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ы данного раздела программы включены в содержание КИМов ГИА и ЕГЭ по русскому язы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085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a0b0"/>
                </a:solidFill>
                <a:latin typeface="Franklin Gothic Book"/>
              </a:rPr>
              <a:t>Структура  содержания  тематических модулей образовательной программы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395280" y="1484280"/>
          <a:ext cx="8208720" cy="4064040"/>
        </p:xfrm>
        <a:graphic>
          <a:graphicData uri="http://schemas.openxmlformats.org/drawingml/2006/table">
            <a:tbl>
              <a:tblPr/>
              <a:tblGrid>
                <a:gridCol w="1130760"/>
                <a:gridCol w="2972520"/>
                <a:gridCol w="2052720"/>
                <a:gridCol w="2052720"/>
              </a:tblGrid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те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ре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повторение и систематизация изученного в 5-9 класс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ча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(из общего числа ч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  <p:sp>
        <p:nvSpPr>
          <p:cNvPr id="361" name="TextBox 4"/>
          <p:cNvSpPr/>
          <p:nvPr/>
        </p:nvSpPr>
        <p:spPr>
          <a:xfrm>
            <a:off x="1692360" y="5791320"/>
            <a:ext cx="62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nstantia"/>
              </a:rPr>
              <a:t>Итого: 51 час +17 развитие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a0b0"/>
                </a:solidFill>
                <a:latin typeface="Franklin Gothic Book"/>
              </a:rPr>
              <a:t>Методическая разработка темы «Сложносочинённое предложение»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00c8c3"/>
                </a:solidFill>
                <a:latin typeface="Franklin Gothic Book"/>
              </a:rPr>
              <a:t>Количество часов по программе  – 5 ч +2ч развития реч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0" y="3133800"/>
            <a:ext cx="6229440" cy="3724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0" y="841320"/>
          <a:ext cx="9144000" cy="60166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5320"/>
                <a:gridCol w="1525680"/>
                <a:gridCol w="1522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ема  урока. Тип 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 организации 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ащ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жидаемые 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машнее зад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269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онятие сложносочиненного предложения (ССП). Строение и средства связи в них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онтальная, групповая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есные, наглядные, работа с книгой, проблемного изложения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c8c3"/>
                          </a:solidFill>
                          <a:uFillTx/>
                          <a:latin typeface="Times New Roman"/>
                          <a:hlinkClick r:id="rId1"/>
                        </a:rPr>
                        <a:t>Таблица «Сложносочинённые предложения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c8c3"/>
                          </a:solidFill>
                          <a:uFillTx/>
                          <a:latin typeface="Times New Roman"/>
                          <a:hlinkClick r:id="rId2"/>
                        </a:rPr>
                        <a:t>Презентац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Знат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ризнаки разграничения простых и сложных предложений,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ятие сложного предложения, иметь представление о средствах связи частей сложного предложения и соответствующих знаках препинания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Умет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на уровне первичных навыков разграничивать сложные предложения разных типов, ставить знаки препинания между частями на письме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7,8. упр 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121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ложносочинённые предложения и знаки препинания в них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ая, парная, фронт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есные, наглядные, работа с книгой, метод проблемного изложения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ие тетради, учебник. Карточ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нат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иды сложносочинённых предложений и знаки препинания в них. Средства связи в сложных предложения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9. упр.69(чётные), п.10, упр.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146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мысловые отношения в ССП и знаки препинания в ни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ая. Парная, фронт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есные. Работа с учебнико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ик, тетрадь. Таблица. Опорные схем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ть виды ССП, определять их знач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синтаксический разбор ССП и употреблять их в собственной ре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10, задание в тетрад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8c3"/>
                </a:solidFill>
                <a:latin typeface="Franklin Gothic Book"/>
              </a:rPr>
              <a:t>Тематическое планирование по теме: «Сложносочинённое предложение»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179280" y="1125360"/>
          <a:ext cx="8786880" cy="551844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463760"/>
                <a:gridCol w="1465200"/>
                <a:gridCol w="1465200"/>
                <a:gridCol w="14637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ема  урока. Тип 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 организации 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ащ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жидаемые 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машнее зад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146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. Развитие  речи. изложе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овая , индивидуальная , фронт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есные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тради по развитию реч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Знат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типы речи,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ть проводить композиционно-содержательный анализ исходного текста публицистического стиля и отбирать материал для собственного текста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133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Виды сложносочинённых предложений и знаки препинания в них. Средства связи в сложных предложения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ая, парная, фронт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есные, наглядные, работа с книгой, электронным учебником, метод проблемного изложения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ие тетради, учебник. </a:t>
                      </a:r>
                      <a:r>
                        <a:rPr b="0" lang="en-US" sz="1100" spc="-1" strike="noStrike" u="sng">
                          <a:solidFill>
                            <a:srgbClr val="00c8c3"/>
                          </a:solidFill>
                          <a:uFillTx/>
                          <a:latin typeface="Times New Roman"/>
                          <a:hlinkClick r:id="rId1"/>
                        </a:rPr>
                        <a:t>Презентация по подготовке к ГИ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нат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иды сложносочинённых предложений и знаки препинания в них. Средства связи в сложных предложения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10. упр 76. подготовиться к контрольной работ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180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Контрольная работа по теме «Сложносочинённые предложен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о-оценочны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традь для </a:t>
                      </a:r>
                      <a:r>
                        <a:rPr b="0" lang="en-US" sz="1100" spc="-1" strike="noStrike" u="sng">
                          <a:solidFill>
                            <a:srgbClr val="00c8c3"/>
                          </a:solidFill>
                          <a:uFillTx/>
                          <a:latin typeface="Times New Roman"/>
                          <a:hlinkClick r:id="rId2"/>
                        </a:rPr>
                        <a:t>контрольных работ</a:t>
                      </a:r>
                      <a:r>
                        <a:rPr b="0" lang="en-US" sz="1100" spc="-1" strike="noStrike" u="sng">
                          <a:solidFill>
                            <a:srgbClr val="00c8c3"/>
                          </a:solidFill>
                          <a:uFillTx/>
                          <a:latin typeface="Times New Roman"/>
                          <a:hlinkClick r:id="rId3"/>
                        </a:rPr>
                        <a:t>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ть орфографические правила и пунктуации СС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грамотно употреблять ССП в ре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535960" cy="76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8c3"/>
                </a:solidFill>
                <a:latin typeface="Franklin Gothic Book"/>
              </a:rPr>
              <a:t>Тематическое планирование по теме: «Сложносочинённое предложение»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1520" y="188640"/>
            <a:ext cx="8934480" cy="71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Проект урока русского языка в 9 классе по теме: «Сложносочиненные предложения и знаки препинания в них»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1125360"/>
            <a:ext cx="864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Arial"/>
              </a:rPr>
              <a:t>Цель урока</a:t>
            </a: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учить учащихся расставлять знаки препинания в СС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Arial"/>
              </a:rPr>
              <a:t>Задачи уро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бучающ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торить сведения о сложных предложениях. Дать определение СС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личать простые предложения с однородными членами и СС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ять смысловые отношения между частями СС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тавлять знаки препинания в указанных конструкц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звивающие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ь творческие способ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ь языковую компетенцию учащих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оспитатель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ть вдумчивое и бережное отношение к слов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Arial"/>
              </a:rPr>
              <a:t>Тип у</a:t>
            </a: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рок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рок обобщения и систематизации изучен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Arial"/>
              </a:rPr>
              <a:t>Оборудование: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учебники, рабочие тетради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оска,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мультимедийная презентац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мпьютер учителя, мультимедийный экран, раздаточный материал, грамматические тетради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Проект урока русского языка в 9 классе по теме: «Сложносочиненные предложения и знаки препинания в них»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/>
          <p:nvPr/>
        </p:nvSpPr>
        <p:spPr>
          <a:xfrm>
            <a:off x="44784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50920" y="1052640"/>
          <a:ext cx="8713440" cy="5805000"/>
        </p:xfrm>
        <a:graphic>
          <a:graphicData uri="http://schemas.openxmlformats.org/drawingml/2006/table">
            <a:tbl>
              <a:tblPr/>
              <a:tblGrid>
                <a:gridCol w="377280"/>
                <a:gridCol w="2440800"/>
                <a:gridCol w="4471200"/>
                <a:gridCol w="142416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ь и содержание эта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й моме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етствие учащихся. Проверка их готовности к уроку. Постановка цели уро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мину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уализация опорных зна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ксическая работа – толкование лексического значения сл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овое задание по синтаксису простого предлож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мину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репление изучен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бщение и систематизация изученного о ССП, работа с текстом, выполнение тренировочных упражнений. Графический диктант. Конструирование сложных предлож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мину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рка и коррекция знаний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стоятельная проверочная работа с целью определения уровня овладения знаниями о ССП. Подготовка к ГИА (по заранее выполненной презентации - опережающее домашнее зада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мину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 о домашнем задан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ь информацию о домашнем задании и комментарий к его выполнен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мину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ведение итогов, выставление оцен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ализ, оценка и коррекция знаний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мину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79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Лексическая разминка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ать толкование лексического знач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лов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ирический-лиричный; сборочны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борный; цельный-целы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называются эти слова? Составить 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ими словосочета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Тестовое задание</a:t>
            </a:r>
            <a:r>
              <a:rPr b="0" lang="en-US" sz="4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 Поставьте, где нужно запятую перед союзом 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здух дышит весенним ароматом и вся природа оживля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ерез полчаса мы сидели дома, пили чай и рассказывали товарищам свои приклю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 Поставьте, где нужно, знаки препинания при обособленных членах предлож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уча нависшая над высокими вершинами тополей уже сыпала дожди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атрос вышел на омываемую брызгами волн палуб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 Поставьте, где нужно, знаки препинания при обособленных членах предлож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идно было, что он примчался сюда не переводя дух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ременами от ветра по реке пробегала лёгкая зыбь сверкая на солнц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Поставьте, где нужно, запят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тавить стих на службу человеку- нелёгкое поверьте ремес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 ему поверьте в последний р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. Поставьте, где нужно, тире между подлежащим и сказуе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ережливость это созид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зумно жить минутой дорож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омантизм вот первое слово, огласившее пушкинский пери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. Поставьте, где нужно, запят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Я помню что я озяб ужасно что квартира была холодна что чай не согрел ме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и получили известие что Волга стала и что через неё потянулись обо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22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Закрепление изученного о сложных предложениях. Тренировочные упражнения</a:t>
            </a:r>
            <a:r>
              <a:rPr b="0" lang="en-US" sz="42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a0b0"/>
                </a:solidFill>
                <a:latin typeface="Arial"/>
              </a:rPr>
              <a:t>Записать под диктовку текст. Найти в нём ССП, подчеркнуть в них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a0b0"/>
                </a:solidFill>
                <a:latin typeface="Arial"/>
              </a:rPr>
              <a:t>грамматические основы. Начертить схемы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Весною разливались реки: широко, свободно и мощно. Шли тяжёлы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волны, рябя речное тело, и от них расходился влажный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придавленный шум, тревожащий и неспокойный. Стаивали снега. 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соснах вырастали смолистые свечи и пахли крепко. Небо поднималось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выше и синело, а в сумерках оно было зеленовато-зыбким и манящи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грустью.(В.Пильняк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a0b0"/>
                </a:solidFill>
                <a:latin typeface="Arial"/>
              </a:rPr>
              <a:t>Беседа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Сколько частей в этих ССП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Как они связаны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Какие другие конструкции также связаны с помощью сочинительных союзов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К какой группе по значению и по союзам относятся эти ССП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Обоснуйте постановку знаков препинания в них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Графический  диктант: начертить схемы диктуемых предложений, указать вид союза</a:t>
            </a:r>
            <a:r>
              <a:rPr b="0" lang="en-US" sz="4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1) Я передал ему ваше поручение, и он исполнил его с большим удовольствие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) Раз гуляя по лесу, я чуть-чуть не заблудился, но, к счастью, набрёл на тропу, и она привела меня к морю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3) С востока надвигались тёмные дождевые тучи, и оттуда потягивало влаго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4) В душном воздухе то раздавались удары лопат о камень, то заунывно пели колёса тачек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5) Дорога то уходила в овраг, то вилась по откосу горы, и у края земли лежали новые огромные груды облаков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6) Люди сильно проголодались, лошади тоже нуждались в отдых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7) Дверь в комнату была приоткрыта, зато окна были закрыты ставням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8) Либо это гудит приближающийся к пристани катер, либо сигналит буксирный пароходик с барже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0b0"/>
                </a:solidFill>
                <a:latin typeface="Franklin Gothic Book"/>
              </a:rPr>
              <a:t>Актуальность выбранной темы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03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Мониторинг контрольной работы по тем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Сложносочиненное предложени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8-2009 учебный год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 ка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-2011 учебный год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% ка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Результаты ГИА по школе (задание В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8-2009 учебный год – 41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-2010 учебный год – 4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-2011 учебный год – 3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Текст 29"/>
          <p:cNvGraphicFramePr/>
          <p:nvPr/>
        </p:nvGraphicFramePr>
        <p:xfrm>
          <a:off x="4572000" y="1484280"/>
          <a:ext cx="42181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484280"/>
                    <a:ext cx="42181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Текст 29"/>
          <p:cNvGraphicFramePr/>
          <p:nvPr/>
        </p:nvGraphicFramePr>
        <p:xfrm>
          <a:off x="4716360" y="4149720"/>
          <a:ext cx="378324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Текст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4149720"/>
                    <a:ext cx="378324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Дифференцированные упражнения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"/>
          <p:cNvSpPr/>
          <p:nvPr/>
        </p:nvSpPr>
        <p:spPr>
          <a:xfrm>
            <a:off x="468360" y="1052640"/>
            <a:ext cx="3166920" cy="1726920"/>
          </a:xfrm>
          <a:prstGeom prst="downArrowCallout">
            <a:avLst>
              <a:gd name="adj1" fmla="val 45850"/>
              <a:gd name="adj2" fmla="val 45846"/>
              <a:gd name="adj3" fmla="val 16667"/>
              <a:gd name="adj4" fmla="val 66667"/>
            </a:avLst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ценка «тр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9280" y="3080880"/>
            <a:ext cx="439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авить нужные по смыслу союз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вить недостающие знаки препин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Из-за леса робко выглянула луна…(но, да) дождя уже не бы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Я уже лёг спать …(и, но, да) вспомнил, что забыл выключить газовую плиту…(и, да) вста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Небо было пасмурно…(а, но) дождя уже не бы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В этих краях… морозов не было в январе…Метели не бушевали (и-и, либо-либо, ни-н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19640" y="1125360"/>
            <a:ext cx="3167280" cy="1727280"/>
          </a:xfrm>
          <a:prstGeom prst="downArrowCallout">
            <a:avLst>
              <a:gd name="adj1" fmla="val 45846"/>
              <a:gd name="adj2" fmla="val 45842"/>
              <a:gd name="adj3" fmla="val 16667"/>
              <a:gd name="adj4" fmla="val 66667"/>
            </a:avLst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ценка «четыр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32360" y="3305880"/>
            <a:ext cx="388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 простых предложений образуйте ССП, использу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ходящие союзы и расставьте знаки препин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ы ехали берегом ре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има догоняла нас с сев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чти каждый вечер они уезжали куда-либо загоро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гулка удавалась. Впечатления всякий раз были прекрас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Дифференцированные упражнения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7" name=""/>
          <p:cNvSpPr/>
          <p:nvPr/>
        </p:nvSpPr>
        <p:spPr>
          <a:xfrm>
            <a:off x="2843280" y="1052640"/>
            <a:ext cx="3166920" cy="1726920"/>
          </a:xfrm>
          <a:prstGeom prst="downArrowCallout">
            <a:avLst>
              <a:gd name="adj1" fmla="val 45850"/>
              <a:gd name="adj2" fmla="val 45846"/>
              <a:gd name="adj3" fmla="val 16667"/>
              <a:gd name="adj4" fmla="val 66667"/>
            </a:avLst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ценка «пя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0920" y="3094200"/>
            <a:ext cx="85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менить простые предложения с однородными член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инонимичными им слож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дающий снег закрыл все предметы и белой пеленой окутал земл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ревья и скалы приобретали причудливые очер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должить предложение дважды, чтобы получилос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начала простое предложение с однородными членам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потом ССП с этим же союзо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н сидел, привалившись спиной к камн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00"/>
                </a:solidFill>
                <a:latin typeface="Arial"/>
              </a:rPr>
              <a:t>Проверка и коррекция знаний</a:t>
            </a:r>
            <a:r>
              <a:rPr b="0" lang="en-US" sz="4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верочная работа (материал распечатан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Найдите правильное объяснение пунктуации в предложен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ветало () и свет ещё не погашенных фонарей был уже не нуж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) В этом предложении есть однородные члены, соединённые союзом И, запятая перед И не став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) Это предложение сложносочинённое, перед И ставится запята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) В этом предложении однородные члены соединены союзом И, перед И ставится запята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) Это предложение сложносочинённое, запятая перед И не став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Найдите правильное объяснение пунктуации в предложен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 детства он начинает замечать недостатки людей своего круга () и постоянно анализирует свои поступ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) В этом предложении есть однородные члены, соединённые союзом И, запятая перед И не став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) Это предложение сложносочинённое, перед И ставится запята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) В этом предложении однородные члены соединены союзом И, перед И  ставится запята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) Это предложение сложносочинённое, запятая перед И не став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Найдите правильное объяснение пунктуации в предложен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Я люблю Россию до боли сердечной () и даже не могу помыслить себя где-либо, кроме Росс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) В этом предложении есть однородные члены, соединённые союзом И, запятая перед И не став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) Это предложение сложносочинённое, перед И ставится запята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) В этом предложении однородные члены соединены союзом И, перед И ставится запята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) Это предложение сложносочинённое, запятая перед И не став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Определите вид предлож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д облаками, заливая воздух серебряными звуками, дрожали жаворонками, а над зеленеющими пашнями, солидно и чинно размахивая крыльями, носились грач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) СПП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) ССП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) ПП с обособленными члена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) СП с сочинением и подчинени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Рефлексивно-оценочный этап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ыполнение заданий В7 </a:t>
            </a:r>
            <a:r>
              <a:rPr b="0" lang="en-US" sz="4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теста ГИ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для определения уровня усвоения темы «Сложносочиненное предложение» и подготовка к ГИ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Рефлексивно-оценочный этап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омашнее задание. Выписать 5-6 предложений из произведений А.С.Пушкина или М.Ю.Лермонтова, где даётся описание природы или портрета героя. Сделать их пунктационный разбор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нализ, оценка и коррекция знаний учащихся, выставление оцено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00"/>
                </a:solidFill>
                <a:latin typeface="Arial"/>
              </a:rPr>
              <a:t>Список литературы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1.Капинос В.И., Сергеева Н.Н., Соловейчик М.С. Изложения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тексты с лингвистическим анализом. – М., 1994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2.Методические рекомендации к учебному комплексу »Русски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язык.Теория», «Русский язык .Практика», «Русска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речь».9кл./Т.М.Пахнова,А.П.Еремеева,А.Ю.Купалова и др.;Под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ред.Т.М.Пахновой.-М.:Дрофа,2001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3.Примерные программы по учебным предметам. Русски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язык.5-9 классы:проек.-2-изд.-М.:Просвещение,2010.-112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(Стандарты второго поколения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4.Программы для общеобразовательных учреждений: Русски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язык.5-9 кл.,/сост.Е.И.Харитонова.-3-еизд.,стереотип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.:Дрофа,2010.-222,(2с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.Русский язык.9 кл.: учеб.для    общеобразовательных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учреждений /М.М.Разумовская,С.И.Львова,В.И.Капинос и др. /; под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ред.М.М.Разумовской,П.А.Леканта.-13-е изд.,стереотип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.:Дрофа,2009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187280" y="981000"/>
            <a:ext cx="648036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0b0"/>
                </a:solidFill>
                <a:latin typeface="Franklin Gothic Book"/>
              </a:rPr>
              <a:t>Актуальность выбранной темы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482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Результаты ЕГЭ по школе (задание А 2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8-2009 учебный год – 83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-2010 учебный год – 52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0-2011 учебный год – 57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Текст 29"/>
          <p:cNvGraphicFramePr/>
          <p:nvPr/>
        </p:nvGraphicFramePr>
        <p:xfrm>
          <a:off x="5076720" y="1197000"/>
          <a:ext cx="365436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197000"/>
                    <a:ext cx="365436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Цель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Формирование у обучающихся лингвистической, коммуникативной и культурологической компетенций через изучение сложносочинённых предлож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79280" y="1483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af0a"/>
                </a:solidFill>
                <a:latin typeface="Arial"/>
              </a:rPr>
              <a:t>Образовате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торить сведения о сложных и сложносочиненных предложен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личать простые предложения с однородными членами и С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ять смысловые отношения между частями С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тавлять знаки препинания в указанных конструкц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a0b0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6ea0b0"/>
                </a:solidFill>
                <a:latin typeface="Franklin Gothic Book"/>
              </a:rPr>
              <a:t>адачи  при изучении темы  «Сложносочинённое предложение»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med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79280" y="170028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af0a"/>
                </a:solidFill>
                <a:latin typeface="Arial"/>
              </a:rPr>
              <a:t>Развивающ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ь коммуникативные умения учащихся, совершенствовать языковое чутье школьников, способность выражать и защищать свою позицию слов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ь пунктуационную грамо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ь языковую компетенцию учащихся, используя в своей речи С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0920" y="285480"/>
            <a:ext cx="8642160" cy="119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a0b0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6ea0b0"/>
                </a:solidFill>
                <a:latin typeface="Franklin Gothic Book"/>
              </a:rPr>
              <a:t>адачи  при изучении темы  «Сложносочинённое предложение»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med">
    <p:checke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8000" y="142560"/>
            <a:ext cx="8964720" cy="1485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0b0"/>
                </a:solidFill>
                <a:latin typeface="Arial"/>
              </a:rPr>
              <a:t>З</a:t>
            </a:r>
            <a:r>
              <a:rPr b="1" lang="en-US" sz="3600" spc="-1" strike="noStrike">
                <a:solidFill>
                  <a:srgbClr val="6ea0b0"/>
                </a:solidFill>
                <a:latin typeface="Franklin Gothic Book"/>
              </a:rPr>
              <a:t>адачи  при изучении темы  «Сложносочинённое предложение»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78920" y="170028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f0a"/>
                </a:solidFill>
                <a:latin typeface="Arial"/>
              </a:rPr>
              <a:t>Воспитате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спитать интерес к русскому язы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ормировать мировоззрение учащихся, их жизненную позиц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спитать вдумчивое и бережное отношение к слов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ea0b0"/>
                </a:solidFill>
                <a:latin typeface="Franklin Gothic Book"/>
              </a:rPr>
              <a:t>Психолого-педагогические особенности </a:t>
            </a:r>
            <a:br>
              <a:rPr sz="3200"/>
            </a:br>
            <a:r>
              <a:rPr b="1" i="1" lang="en-US" sz="3200" spc="-1" strike="noStrike">
                <a:solidFill>
                  <a:srgbClr val="6ea0b0"/>
                </a:solidFill>
                <a:latin typeface="Franklin Gothic Book"/>
              </a:rPr>
              <a:t>учеников  9 класс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1280" y="126792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емление к познанию, активность, инициативность, упорство в достижении поставленной ц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величение объема памяти, внимания, избира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ование активного самосознания, творческого мыш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растание способности к абстрактному мышл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урный рост, развитие и перестройка организма реб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2:59:51Z</dcterms:created>
  <dc:creator>11</dc:creator>
  <dc:description/>
  <dc:language>en-US</dc:language>
  <cp:lastModifiedBy>dinara</cp:lastModifiedBy>
  <dcterms:modified xsi:type="dcterms:W3CDTF">2012-04-09T16:29:54Z</dcterms:modified>
  <cp:revision>102</cp:revision>
  <dc:subject/>
  <dc:title>ме</dc:title>
</cp:coreProperties>
</file>