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camera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dt" idx="25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move the slide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sldNum" idx="26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A9110-9EEB-4E4A-8069-18CB690611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D298C-BE21-4D48-B0C7-5C2AF8082A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409E4-F26E-4083-BA6C-4B53498312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BA592-14C7-4BAA-93EF-4DCBB056B3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омер слайда 3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B88E3-1ABF-4D51-A764-BE266DF4EC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A752D-C694-4555-843F-65738B5096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9A71A-1A78-4B65-9D28-EFF2C3D00F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D10E7-D480-42C8-8631-DEA4934178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A177F-BE5F-4C7A-9B00-CF174FE2DF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Номер слайда 3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CC24F-7BE7-44E7-BEDF-0593D98813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15543-ECB0-446C-B721-906BC9EB59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DD23C-B13F-4949-8417-922E4A40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CEC03-A5CE-4DDD-A883-12460A7C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163CE-AF15-465A-A992-78065C0F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492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82B81-52A6-4031-B2CD-420D0427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42D44-85BA-45DA-AB8E-8D0DD229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5D6C2-147D-48A7-A8E2-7F9A7FCC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477D9-2BD5-4407-8539-3EB34089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824D1-BFAB-4D14-B322-35087D70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836E9-C1B1-4682-85C4-5E60E02E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7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18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7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18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D115E-86A1-42E0-B1EF-4BB8ED104F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B68BF7-A54F-4142-9488-5C8C4CACC7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DCF6-0639-47BF-9145-12B36469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E04F70-BD4E-4ECC-B86B-5DE468ED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423B1C-6E41-47C9-A80D-CDEDFAC9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FF14E7-9163-465E-8005-6CEA0627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7F6A4C-0C6A-4AA0-9EA7-507FB121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492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8CA40F-21F5-4B39-87A2-C62DEE59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7ECC45-5A66-4C04-9B49-F18FE8E4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166508-753B-46CF-9003-5758DA3E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B37537-0444-45E3-A37C-9C792C66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CC83CB-E212-4A22-9E07-A2EA9993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5E567E-7097-42AC-A099-81F08B32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3763D-EC0C-4481-BB3A-17640D4AC8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7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18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7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18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CC2A67-021C-47E4-98FA-75E3C8EC91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ABAAD7-3B12-4B4C-A1A2-90572EF5CA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0F897D-0E17-466C-9E95-D31BE424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3B722B-CE8A-4422-A046-8F57E6BE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D2EE4E-C729-4A43-962B-2120D91F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E4BD84-BC2A-4D9D-94F4-74286EDC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492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E94B65-6D7C-4C0F-9F53-1F4A4AE5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B3A303-D33D-44E5-AE80-F9104B53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05D08A-EA23-4774-BB08-BACB896D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8891DC-A237-4024-B54A-3D4A4DDE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30253-AAE8-435B-A6CB-1B485C7F13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7F6553-E6AE-4E52-873A-9D80C42F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5E3347-D341-4EF9-AEC6-37853F85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7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18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7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18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6C6C06-CCE9-406E-B289-CE8C7E7D31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B3C3C-8E7F-4BE8-B0A0-C4E9B3EF89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B1F5F-F15B-4AFE-86D6-00B0F141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2E97E-4C03-409A-B42A-DCCB4B93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CF925-F334-4B7E-9904-E9A83E71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0FFF6-DB41-4A8A-8F33-DB61CAAD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492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1EA0C-E43D-4045-9E97-3E3FA290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4AB48-5F00-4F15-831D-12561652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ECD3B-BF75-46FE-B1FC-9E6D4825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DAC59-B0E3-49BF-927C-A72E1F8C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00FB2-08F2-4170-9D7C-1B682984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5DD1E-DAD9-421E-8B18-DB42CBDF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D149E-8CAA-4C83-A014-63E6B495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7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18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7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18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4519D-0EB6-433C-99AB-3996E1546D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93CC1-C92E-4C5A-AC66-31F53780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7FB60-4CC0-40F6-B6C5-8A476DDE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AF6E8-7077-46F0-9FEF-28EDD3A8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492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60028-A48B-4C5A-B251-19AAA2C3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9DE4A-6261-4A64-80E3-6FF4C033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170C7-BE3B-4E02-AA6C-99DF9DED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523C4-0F70-4E4F-AD4F-EAEF67E0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C68E5-83B4-4F26-A119-F8E35919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907FF-958B-43C2-ACFB-48F8E4C5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7B2ED-1E81-4FBE-BDE9-5D8BB6DC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7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8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7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8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5864B-9F19-4AF4-8513-FF4CC9B801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FC54-5ED8-4BC2-B28B-37F8719617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985B-0122-41E4-A6BB-4F644AC5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FB7E-2A59-48FB-9E2C-D640B0D9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BD97-3946-4491-8371-0A03F85D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1999-C2C7-4639-830C-E90E680D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CE05F-7A28-4AEB-824F-7EBDB04E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492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32BD-34F6-4C14-9DFF-49E7BDFE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3282-7B29-469C-8051-FF476E63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BA9C-1F3D-405E-9F0F-9D98126E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7481-26A9-45DE-9BC2-475B02B6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BD5D-F029-4A15-86C5-6FF10F33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DBB1-0CCA-47F7-B17B-C10FBC21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7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18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7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18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651B-7836-4ECF-AB2F-FA1080CBA8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B13830-AAB6-4F0E-B87D-2B1A00B76F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3A844-99CC-4599-ABE4-C3C79D24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73A21-6A97-4545-82B9-41D22654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CABBC-9CE4-43A9-8D95-C0BE5EA6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999C4-570F-48A7-B227-AC52AD12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0A94B-98E9-4085-9F1B-66779956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492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0D049-D2AC-4997-89DA-8832BA37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D0E4E-1DBF-40D1-BC78-3793D77F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975AB-513E-4ACA-9C3A-19950D2C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2347F-B669-4455-95F4-4C757156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2DB7E-5975-4941-8EAF-3D76D061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FC2D7-84E7-44E6-93ED-C703CC35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7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18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7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18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25F2DD-42BF-477A-AC15-D0CB76A41A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506F7D-E901-4E85-AD4D-C1CD5E4376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5FDEB-7AD3-4E5E-82BA-B931E857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80FCA3-DB11-4024-8DB6-53B826F6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A1C783-BEA5-4EB7-9309-0D4963BE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C2AE3D-E88F-4C77-A491-83F4A4E4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9BF677-8B85-498F-BB7E-5222F32E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492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351014-9066-436C-996F-FFD05248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F62FDB-2A09-40A7-977E-806E2C5E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6939D5-09A3-4B3E-A49C-73228181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E82134-CA14-4519-A448-0BD8828F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98411C-B2B3-4FA9-ABA7-4D61BDAB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EF0EFB-29FA-4902-982F-16F29DD6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492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90436-B51A-4B9C-A4B8-FE493E5C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7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18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7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18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1EADE5-D184-49C2-A758-87EAECCD1C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AF7D7-6D54-42E7-955D-06399CF5CD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94C01-1163-4636-8A61-D7AAE1A7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C55AD-E503-462E-9AF0-9D17A0B7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9F7DD-D13A-43C5-A212-F6D5FB8C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3E870-D66E-482A-BA9C-950DA541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492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E326F-AD47-4A6D-A4E9-6AA246D7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04D2F-4003-4AAB-974F-DAD9075A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2C300-04F6-4142-A5B4-9C1A117A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D2F8B-0E86-4E50-891E-C3C79176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971A7-30A9-49D0-9BFE-0CBDFA2A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18FD8-66AA-442B-B4FB-24A5240C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87731-ED84-4896-A5E8-2A40019C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7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18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7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18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50072-895A-4AC0-AD27-5B83A22F2A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E5FD71-B969-4E2F-B85C-C5DDFEAACF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2EC24-8ED0-4438-B72A-F7CCCA5C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D8A04C-93F8-4FC7-9CE3-E7A345E3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5B2E7-5ED6-4DDB-AD11-85FC3751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BDA414-31B7-428E-B9E3-84FE4716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492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F7E5B-A586-4BE9-97CB-F54F1B04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A5D1DA-0B2C-476E-9701-A63BDB5B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47F29-02A2-46A7-946D-2117828B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980007-79D8-483E-824B-B1A4C2C7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F94A1-5246-44BA-8043-ABDA25F9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F65B25-1D9A-4CE6-AC6D-9B300E1E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63132-ED5C-4F3B-9617-27231FB4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7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18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7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18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AB1311-0A5C-4A4A-9B33-F6734139C6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9E7C76-BC2D-4316-8B17-2453ABA9B2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CF7EA2-E712-4E67-9F59-E396E411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673F10-8386-41D4-881B-87920386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844003-FF36-4387-9AAF-ABFA9B18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7BB981-120F-47BC-9181-05EC07A9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D1B5E-EC57-48BD-8933-BDE14D74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492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21A7C8-B245-49B7-B28F-511B3D82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1AB0DC-4F9B-466A-B51E-2B80BC3B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8889C3-4014-4257-840A-291A6702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26F832-2353-4927-B154-3D881B56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0A4BBD-049E-4289-9E07-0669892B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96C180-81F0-4199-948C-FABD6FE4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7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18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7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18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FC761C-09F3-4F33-A917-989459365B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FBDDF-5F04-4925-90FA-746AF92C7A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4B3D9-A668-4CCA-BA91-4461E284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22973-9748-4219-9CB2-3C82BDE5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/>
              </a:gs>
              <a:gs pos="100000">
                <a:srgbClr val="d6ec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 flipH="1">
            <a:off x="6463800" y="4948200"/>
            <a:ext cx="2683080" cy="1900440"/>
          </a:xfrm>
          <a:prstGeom prst="line">
            <a:avLst/>
          </a:prstGeom>
          <a:ln w="6120">
            <a:solidFill>
              <a:srgbClr val="bfc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 rot="16200000">
            <a:off x="7553160" y="525888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7ff79"/>
              </a:gs>
              <a:gs pos="100000">
                <a:srgbClr val="459205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371240" y="6013080"/>
            <a:ext cx="5786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8391600" y="5752800"/>
            <a:ext cx="498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F4D432-649C-46D3-A31D-C3368BDEE791}" type="slidenum">
              <a:rPr b="0" lang="ru-RU" sz="13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/>
              </a:gs>
              <a:gs pos="100000">
                <a:srgbClr val="d6ec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3"/>
          <p:cNvSpPr/>
          <p:nvPr/>
        </p:nvSpPr>
        <p:spPr>
          <a:xfrm flipH="1">
            <a:off x="6463800" y="4948200"/>
            <a:ext cx="2683080" cy="1900440"/>
          </a:xfrm>
          <a:prstGeom prst="line">
            <a:avLst/>
          </a:prstGeom>
          <a:ln w="6120">
            <a:solidFill>
              <a:srgbClr val="bfc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4"/>
          <p:cNvSpPr/>
          <p:nvPr/>
        </p:nvSpPr>
        <p:spPr>
          <a:xfrm rot="16200000">
            <a:off x="7553160" y="525888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7ff79"/>
              </a:gs>
              <a:gs pos="100000">
                <a:srgbClr val="459205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9"/>
          </p:nvPr>
        </p:nvSpPr>
        <p:spPr>
          <a:xfrm>
            <a:off x="1371240" y="6013080"/>
            <a:ext cx="5786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sldNum" idx="20"/>
          </p:nvPr>
        </p:nvSpPr>
        <p:spPr>
          <a:xfrm>
            <a:off x="8391600" y="5752800"/>
            <a:ext cx="498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DBCCD3-C29F-445A-A81C-52D64B9AF301}" type="slidenum">
              <a:rPr b="0" lang="ru-RU" sz="13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/>
              </a:gs>
              <a:gs pos="100000">
                <a:srgbClr val="d6ec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3"/>
          <p:cNvSpPr/>
          <p:nvPr/>
        </p:nvSpPr>
        <p:spPr>
          <a:xfrm flipH="1">
            <a:off x="6463800" y="4948200"/>
            <a:ext cx="2683080" cy="1900440"/>
          </a:xfrm>
          <a:prstGeom prst="line">
            <a:avLst/>
          </a:prstGeom>
          <a:ln w="6120">
            <a:solidFill>
              <a:srgbClr val="bfc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4"/>
          <p:cNvSpPr/>
          <p:nvPr/>
        </p:nvSpPr>
        <p:spPr>
          <a:xfrm rot="16200000">
            <a:off x="7553160" y="525888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7ff79"/>
              </a:gs>
              <a:gs pos="100000">
                <a:srgbClr val="459205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1"/>
          </p:nvPr>
        </p:nvSpPr>
        <p:spPr>
          <a:xfrm>
            <a:off x="1371240" y="6013080"/>
            <a:ext cx="5786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2"/>
          </p:nvPr>
        </p:nvSpPr>
        <p:spPr>
          <a:xfrm>
            <a:off x="8391600" y="5752800"/>
            <a:ext cx="498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4731B3-E8B3-4EA4-9FCA-300ADEF75468}" type="slidenum">
              <a:rPr b="0" lang="ru-RU" sz="13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/>
              </a:gs>
              <a:gs pos="100000">
                <a:srgbClr val="d6ec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 flipH="1">
            <a:off x="6463800" y="4948200"/>
            <a:ext cx="2683080" cy="1900440"/>
          </a:xfrm>
          <a:prstGeom prst="line">
            <a:avLst/>
          </a:prstGeom>
          <a:ln w="6120">
            <a:solidFill>
              <a:srgbClr val="bfc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4"/>
          <p:cNvSpPr/>
          <p:nvPr/>
        </p:nvSpPr>
        <p:spPr>
          <a:xfrm rot="16200000">
            <a:off x="7553160" y="525888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7ff79"/>
              </a:gs>
              <a:gs pos="100000">
                <a:srgbClr val="459205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3"/>
          </p:nvPr>
        </p:nvSpPr>
        <p:spPr>
          <a:xfrm>
            <a:off x="1371240" y="6013080"/>
            <a:ext cx="5786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sldNum" idx="24"/>
          </p:nvPr>
        </p:nvSpPr>
        <p:spPr>
          <a:xfrm>
            <a:off x="8391600" y="5752800"/>
            <a:ext cx="498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24945F-8A05-44B6-A606-D2CC524E3F2F}" type="slidenum">
              <a:rPr b="0" lang="ru-RU" sz="13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/>
              </a:gs>
              <a:gs pos="100000">
                <a:srgbClr val="d6ec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3"/>
          <p:cNvSpPr/>
          <p:nvPr/>
        </p:nvSpPr>
        <p:spPr>
          <a:xfrm flipH="1">
            <a:off x="6463800" y="4948200"/>
            <a:ext cx="2683080" cy="1900440"/>
          </a:xfrm>
          <a:prstGeom prst="line">
            <a:avLst/>
          </a:prstGeom>
          <a:ln w="6120">
            <a:solidFill>
              <a:srgbClr val="bfc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 rot="16200000">
            <a:off x="7553160" y="525888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7ff79"/>
              </a:gs>
              <a:gs pos="100000">
                <a:srgbClr val="459205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1371240" y="6013080"/>
            <a:ext cx="5786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8391600" y="5752800"/>
            <a:ext cx="498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231D06-E41F-46DE-82F5-D701F2476C0B}" type="slidenum">
              <a:rPr b="0" lang="ru-RU" sz="13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/>
              </a:gs>
              <a:gs pos="100000">
                <a:srgbClr val="d6ec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 flipH="1">
            <a:off x="6463800" y="4948200"/>
            <a:ext cx="2683080" cy="1900440"/>
          </a:xfrm>
          <a:prstGeom prst="line">
            <a:avLst/>
          </a:prstGeom>
          <a:ln w="6120">
            <a:solidFill>
              <a:srgbClr val="bfc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 rot="16200000">
            <a:off x="7553160" y="525888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7ff79"/>
              </a:gs>
              <a:gs pos="100000">
                <a:srgbClr val="459205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5"/>
          </p:nvPr>
        </p:nvSpPr>
        <p:spPr>
          <a:xfrm>
            <a:off x="1371240" y="6013080"/>
            <a:ext cx="5786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8391600" y="5752800"/>
            <a:ext cx="498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C4BDED-0D4D-418A-B0CE-15A57FDE5759}" type="slidenum">
              <a:rPr b="0" lang="ru-RU" sz="13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/>
              </a:gs>
              <a:gs pos="100000">
                <a:srgbClr val="d6ec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 flipH="1">
            <a:off x="6463800" y="4948200"/>
            <a:ext cx="2683080" cy="1900440"/>
          </a:xfrm>
          <a:prstGeom prst="line">
            <a:avLst/>
          </a:prstGeom>
          <a:ln w="6120">
            <a:solidFill>
              <a:srgbClr val="bfc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 rot="16200000">
            <a:off x="7553160" y="525888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7ff79"/>
              </a:gs>
              <a:gs pos="100000">
                <a:srgbClr val="459205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1371240" y="6013080"/>
            <a:ext cx="5786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8"/>
          </p:nvPr>
        </p:nvSpPr>
        <p:spPr>
          <a:xfrm>
            <a:off x="8391600" y="5752800"/>
            <a:ext cx="498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A48099-4B08-4D87-9AAF-FBE689D2870F}" type="slidenum">
              <a:rPr b="0" lang="ru-RU" sz="13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/>
              </a:gs>
              <a:gs pos="100000">
                <a:srgbClr val="d6ec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3"/>
          <p:cNvSpPr/>
          <p:nvPr/>
        </p:nvSpPr>
        <p:spPr>
          <a:xfrm flipH="1">
            <a:off x="6463800" y="4948200"/>
            <a:ext cx="2683080" cy="1900440"/>
          </a:xfrm>
          <a:prstGeom prst="line">
            <a:avLst/>
          </a:prstGeom>
          <a:ln w="6120">
            <a:solidFill>
              <a:srgbClr val="bfc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 rot="16200000">
            <a:off x="7553160" y="525888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7ff79"/>
              </a:gs>
              <a:gs pos="100000">
                <a:srgbClr val="459205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9"/>
          </p:nvPr>
        </p:nvSpPr>
        <p:spPr>
          <a:xfrm>
            <a:off x="1371240" y="6013080"/>
            <a:ext cx="5786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0"/>
          </p:nvPr>
        </p:nvSpPr>
        <p:spPr>
          <a:xfrm>
            <a:off x="8391600" y="5752800"/>
            <a:ext cx="498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45BA69-314F-4D0D-9902-3886268DFE59}" type="slidenum">
              <a:rPr b="0" lang="ru-RU" sz="13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/>
              </a:gs>
              <a:gs pos="100000">
                <a:srgbClr val="d6ec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3"/>
          <p:cNvSpPr/>
          <p:nvPr/>
        </p:nvSpPr>
        <p:spPr>
          <a:xfrm flipH="1">
            <a:off x="6463800" y="4948200"/>
            <a:ext cx="2683080" cy="1900440"/>
          </a:xfrm>
          <a:prstGeom prst="line">
            <a:avLst/>
          </a:prstGeom>
          <a:ln w="6120">
            <a:solidFill>
              <a:srgbClr val="bfc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 rot="16200000">
            <a:off x="7553160" y="525888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7ff79"/>
              </a:gs>
              <a:gs pos="100000">
                <a:srgbClr val="459205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1371240" y="6013080"/>
            <a:ext cx="5786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2"/>
          </p:nvPr>
        </p:nvSpPr>
        <p:spPr>
          <a:xfrm>
            <a:off x="8391600" y="5752800"/>
            <a:ext cx="498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475FC5-3C11-4ECE-9E45-0F3D15776E0F}" type="slidenum">
              <a:rPr b="0" lang="ru-RU" sz="13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/>
              </a:gs>
              <a:gs pos="100000">
                <a:srgbClr val="d6ec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3"/>
          <p:cNvSpPr/>
          <p:nvPr/>
        </p:nvSpPr>
        <p:spPr>
          <a:xfrm flipH="1">
            <a:off x="6463800" y="4948200"/>
            <a:ext cx="2683080" cy="1900440"/>
          </a:xfrm>
          <a:prstGeom prst="line">
            <a:avLst/>
          </a:prstGeom>
          <a:ln w="6120">
            <a:solidFill>
              <a:srgbClr val="bfc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 rot="16200000">
            <a:off x="7553160" y="525888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7ff79"/>
              </a:gs>
              <a:gs pos="100000">
                <a:srgbClr val="459205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1371240" y="6013080"/>
            <a:ext cx="5786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sldNum" idx="14"/>
          </p:nvPr>
        </p:nvSpPr>
        <p:spPr>
          <a:xfrm>
            <a:off x="8391600" y="5752800"/>
            <a:ext cx="498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364BF0-1CA2-4CB1-A0FC-81E7EF4F3499}" type="slidenum">
              <a:rPr b="0" lang="ru-RU" sz="13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/>
              </a:gs>
              <a:gs pos="100000">
                <a:srgbClr val="d6ec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"/>
          <p:cNvSpPr/>
          <p:nvPr/>
        </p:nvSpPr>
        <p:spPr>
          <a:xfrm flipH="1">
            <a:off x="6463800" y="4948200"/>
            <a:ext cx="2683080" cy="1900440"/>
          </a:xfrm>
          <a:prstGeom prst="line">
            <a:avLst/>
          </a:prstGeom>
          <a:ln w="6120">
            <a:solidFill>
              <a:srgbClr val="bfc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4"/>
          <p:cNvSpPr/>
          <p:nvPr/>
        </p:nvSpPr>
        <p:spPr>
          <a:xfrm rot="16200000">
            <a:off x="7553160" y="525888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7ff79"/>
              </a:gs>
              <a:gs pos="100000">
                <a:srgbClr val="459205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5"/>
          </p:nvPr>
        </p:nvSpPr>
        <p:spPr>
          <a:xfrm>
            <a:off x="1371240" y="6013080"/>
            <a:ext cx="5786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16"/>
          </p:nvPr>
        </p:nvSpPr>
        <p:spPr>
          <a:xfrm>
            <a:off x="8391600" y="5752800"/>
            <a:ext cx="498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CEFB3A-A3F1-443F-B335-CFCB5B14AFA1}" type="slidenum">
              <a:rPr b="0" lang="ru-RU" sz="13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/>
              </a:gs>
              <a:gs pos="100000">
                <a:srgbClr val="d6ec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3"/>
          <p:cNvSpPr/>
          <p:nvPr/>
        </p:nvSpPr>
        <p:spPr>
          <a:xfrm flipH="1">
            <a:off x="6463800" y="4948200"/>
            <a:ext cx="2683080" cy="1900440"/>
          </a:xfrm>
          <a:prstGeom prst="line">
            <a:avLst/>
          </a:prstGeom>
          <a:ln w="6120">
            <a:solidFill>
              <a:srgbClr val="bfc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4"/>
          <p:cNvSpPr/>
          <p:nvPr/>
        </p:nvSpPr>
        <p:spPr>
          <a:xfrm rot="16200000">
            <a:off x="7553160" y="525888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7ff79"/>
              </a:gs>
              <a:gs pos="100000">
                <a:srgbClr val="459205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7"/>
          </p:nvPr>
        </p:nvSpPr>
        <p:spPr>
          <a:xfrm>
            <a:off x="1371240" y="6013080"/>
            <a:ext cx="5786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18"/>
          </p:nvPr>
        </p:nvSpPr>
        <p:spPr>
          <a:xfrm>
            <a:off x="8391600" y="5752800"/>
            <a:ext cx="498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B4405F-508A-43A9-8DE1-F202EAEF06A6}" type="slidenum">
              <a:rPr b="0" lang="ru-RU" sz="13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1"/>
          <p:cNvGrpSpPr/>
          <p:nvPr/>
        </p:nvGrpSpPr>
        <p:grpSpPr>
          <a:xfrm>
            <a:off x="-612720" y="635040"/>
            <a:ext cx="9756720" cy="4279320"/>
            <a:chOff x="-612720" y="635040"/>
            <a:chExt cx="9756720" cy="4279320"/>
          </a:xfrm>
        </p:grpSpPr>
        <p:pic>
          <p:nvPicPr>
            <p:cNvPr id="551" name="Picture 2" descr=""/>
            <p:cNvPicPr/>
            <p:nvPr/>
          </p:nvPicPr>
          <p:blipFill>
            <a:blip r:embed="rId1"/>
            <a:stretch/>
          </p:blipFill>
          <p:spPr>
            <a:xfrm>
              <a:off x="-77040" y="953280"/>
              <a:ext cx="9221040" cy="39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 Box 3"/>
            <p:cNvSpPr/>
            <p:nvPr/>
          </p:nvSpPr>
          <p:spPr>
            <a:xfrm>
              <a:off x="-612720" y="635040"/>
              <a:ext cx="975636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Text Box 4"/>
          <p:cNvSpPr/>
          <p:nvPr/>
        </p:nvSpPr>
        <p:spPr>
          <a:xfrm>
            <a:off x="539640" y="476280"/>
            <a:ext cx="788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одель ученического самоу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начальной шко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Box 1"/>
          <p:cNvSpPr/>
          <p:nvPr/>
        </p:nvSpPr>
        <p:spPr>
          <a:xfrm>
            <a:off x="4643280" y="602136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атель ГПД Налимова М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Прямоугольник 1"/>
          <p:cNvSpPr/>
          <p:nvPr/>
        </p:nvSpPr>
        <p:spPr>
          <a:xfrm>
            <a:off x="324000" y="476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entury Schoolbook"/>
              </a:rPr>
              <a:t>Ученическое самоуправление в младших классах может и должно быть организовано в форме игры (игры-путешествия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77" name="Прямая со стрелкой 3"/>
          <p:cNvCxnSpPr/>
          <p:nvPr/>
        </p:nvCxnSpPr>
        <p:spPr>
          <a:xfrm>
            <a:off x="4214520" y="2000160"/>
            <a:ext cx="1080" cy="130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Прямая со стрелкой 5"/>
          <p:cNvCxnSpPr/>
          <p:nvPr/>
        </p:nvCxnSpPr>
        <p:spPr>
          <a:xfrm flipH="1">
            <a:off x="1499400" y="1643040"/>
            <a:ext cx="1081800" cy="89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Прямая со стрелкой 6"/>
          <p:cNvCxnSpPr/>
          <p:nvPr/>
        </p:nvCxnSpPr>
        <p:spPr>
          <a:xfrm>
            <a:off x="6000480" y="1643040"/>
            <a:ext cx="1184760" cy="90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0" name="Прямоугольник 12"/>
          <p:cNvSpPr/>
          <p:nvPr/>
        </p:nvSpPr>
        <p:spPr>
          <a:xfrm>
            <a:off x="2857320" y="335772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азочное королев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Прямоугольник 13"/>
          <p:cNvSpPr/>
          <p:nvPr/>
        </p:nvSpPr>
        <p:spPr>
          <a:xfrm>
            <a:off x="520560" y="264312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неземная циви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Прямоугольник 15"/>
          <p:cNvSpPr/>
          <p:nvPr/>
        </p:nvSpPr>
        <p:spPr>
          <a:xfrm>
            <a:off x="4669920" y="264312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утешествие в далёкую стра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Прямоугольник 9" descr=""/>
          <p:cNvPicPr/>
          <p:nvPr/>
        </p:nvPicPr>
        <p:blipFill>
          <a:blip r:embed="rId1"/>
          <a:stretch/>
        </p:blipFill>
        <p:spPr>
          <a:xfrm>
            <a:off x="0" y="4675320"/>
            <a:ext cx="9070920" cy="1396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91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just">
              <a:buNone/>
              <a:tabLst>
                <a:tab algn="l" pos="0"/>
                <a:tab algn="l" pos="44784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воспитание личности с активной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marL="447840" indent="0" algn="just">
              <a:buNone/>
              <a:tabLst>
                <a:tab algn="l" pos="0"/>
                <a:tab algn="l" pos="44784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жизненной позицией, готовой к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marL="447840" indent="0" algn="just">
              <a:buNone/>
              <a:tabLst>
                <a:tab algn="l" pos="0"/>
                <a:tab algn="l" pos="44784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принятию ответственности за свои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marL="447840" indent="0" algn="just">
              <a:buNone/>
              <a:tabLst>
                <a:tab algn="l" pos="0"/>
                <a:tab algn="l" pos="44784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решения и полученный результат,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marL="447840" indent="0" algn="just">
              <a:buNone/>
              <a:tabLst>
                <a:tab algn="l" pos="0"/>
                <a:tab algn="l" pos="44784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стремящейся к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marL="447840" indent="0" algn="just">
              <a:buNone/>
              <a:tabLst>
                <a:tab algn="l" pos="0"/>
                <a:tab algn="l" pos="44784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самосовершенствованию,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marL="447840" indent="0" algn="just">
              <a:buNone/>
              <a:tabLst>
                <a:tab algn="l" pos="0"/>
                <a:tab algn="l" pos="44784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саморазвитию и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marL="447840" indent="0" algn="just">
              <a:buNone/>
              <a:tabLst>
                <a:tab algn="l" pos="0"/>
                <a:tab algn="l" pos="44784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самовыражению.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828036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0" y="1557000"/>
            <a:ext cx="91440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0480" indent="0">
              <a:spcBef>
                <a:spcPts val="751"/>
              </a:spcBef>
              <a:buNone/>
              <a:tabLst>
                <a:tab algn="l" pos="0"/>
                <a:tab algn="l" pos="442800"/>
                <a:tab algn="l" pos="547560"/>
                <a:tab algn="l" pos="996840"/>
                <a:tab algn="l" pos="1446120"/>
                <a:tab algn="l" pos="1895400"/>
                <a:tab algn="l" pos="2344680"/>
                <a:tab algn="l" pos="2793960"/>
                <a:tab algn="l" pos="3243240"/>
                <a:tab algn="l" pos="3692520"/>
                <a:tab algn="l" pos="4141800"/>
                <a:tab algn="l" pos="4591080"/>
                <a:tab algn="l" pos="504036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6040"/>
                <a:tab algn="l" pos="8185320"/>
                <a:tab algn="l" pos="8634240"/>
                <a:tab algn="l" pos="9083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- создать условия для развития организаторских способностей каждого, формировать лидерские качества;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- дать возможность самореализации и самоутверждения каждого через конкретные дела;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- создать условия для развития креативности, инициативности, самостоятельности;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- создать благоприятные условия совместной деятельности детей и взрослых (учителей и родителей);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- формировать толерантность, умение общаться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-181080" y="-243000"/>
            <a:ext cx="9541080" cy="3311640"/>
          </a:xfrm>
          <a:prstGeom prst="rect">
            <a:avLst/>
          </a:prstGeom>
          <a:ln w="0">
            <a:noFill/>
          </a:ln>
        </p:spPr>
      </p:pic>
      <p:sp>
        <p:nvSpPr>
          <p:cNvPr id="588" name="Прямоугольник 3"/>
          <p:cNvSpPr/>
          <p:nvPr/>
        </p:nvSpPr>
        <p:spPr>
          <a:xfrm>
            <a:off x="2286000" y="2967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Прямоугольник 1"/>
          <p:cNvSpPr/>
          <p:nvPr/>
        </p:nvSpPr>
        <p:spPr>
          <a:xfrm>
            <a:off x="250920" y="260280"/>
            <a:ext cx="88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c9f165"/>
                </a:solidFill>
                <a:latin typeface="Corbel"/>
              </a:rPr>
              <a:t>Функции органов самоуправления по видам деятельности: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Прямоугольник 2"/>
          <p:cNvSpPr/>
          <p:nvPr/>
        </p:nvSpPr>
        <p:spPr>
          <a:xfrm>
            <a:off x="0" y="155736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Schoolbook"/>
              </a:rPr>
              <a:t>Познавательная </a:t>
            </a: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- организует внеклассные мероприятия по предметам; контролирует успеваемость; отвечает за состояние дневников, тетрадей, учебников; организует консультации по предметам; помогает в проведении предметных олимпиад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Прямоугольник 3"/>
          <p:cNvSpPr/>
          <p:nvPr/>
        </p:nvSpPr>
        <p:spPr>
          <a:xfrm>
            <a:off x="0" y="4292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Schoolbook"/>
              </a:rPr>
              <a:t>Трудовая</a:t>
            </a: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 – отвечает за озеленение класса; оформляет классный уголок, портфолио класса; помогает в художественном оформлении праздников, следит за порядком и чистотой, дежурство по классу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Прямоугольник 1"/>
          <p:cNvSpPr/>
          <p:nvPr/>
        </p:nvSpPr>
        <p:spPr>
          <a:xfrm>
            <a:off x="0" y="47628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Schoolbook"/>
              </a:rPr>
              <a:t>Культурно-массовая</a:t>
            </a: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 - организует и проводит коллективно-творческие дела, конкурсы; организует посещения выставок, театров, музеев; организует и проводит конкурсы рисунков, газет, плакатов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entury Schoolbook"/>
              </a:rPr>
              <a:t>Спортивная</a:t>
            </a: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 - организует спортивные праздники, соревнования, дни здоровья; определяет лучших спортсменов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entury Schoolbook"/>
              </a:rPr>
              <a:t>Социальная </a:t>
            </a: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- следит за выполнением творческих поручений; контролирует посещаемость учебных занятий, дежурство по классу; следит за выполнением правил школьной жизн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AutoShape 2"/>
          <p:cNvSpPr/>
          <p:nvPr/>
        </p:nvSpPr>
        <p:spPr>
          <a:xfrm>
            <a:off x="3348000" y="3132000"/>
            <a:ext cx="2592360" cy="1008360"/>
          </a:xfrm>
          <a:prstGeom prst="pi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a157a"/>
                </a:solidFill>
                <a:latin typeface="Arial"/>
              </a:rPr>
              <a:t>Равнопра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AutoShape 3"/>
          <p:cNvSpPr/>
          <p:nvPr/>
        </p:nvSpPr>
        <p:spPr>
          <a:xfrm>
            <a:off x="360360" y="3924360"/>
            <a:ext cx="2521080" cy="934920"/>
          </a:xfrm>
          <a:prstGeom prst="pi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a157a"/>
                </a:solidFill>
                <a:latin typeface="Arial"/>
              </a:rPr>
              <a:t>Выбор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4"/>
          <p:cNvSpPr/>
          <p:nvPr/>
        </p:nvSpPr>
        <p:spPr>
          <a:xfrm>
            <a:off x="1619280" y="5295960"/>
            <a:ext cx="3040200" cy="1049400"/>
          </a:xfrm>
          <a:prstGeom prst="pi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a157a"/>
                </a:solidFill>
                <a:latin typeface="Arial"/>
              </a:rPr>
              <a:t>Преемстве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5"/>
          <p:cNvSpPr/>
          <p:nvPr/>
        </p:nvSpPr>
        <p:spPr>
          <a:xfrm>
            <a:off x="5580000" y="2076480"/>
            <a:ext cx="2700360" cy="998640"/>
          </a:xfrm>
          <a:prstGeom prst="pi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a157a"/>
                </a:solidFill>
                <a:latin typeface="Arial"/>
              </a:rPr>
              <a:t>Демократ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6"/>
          <p:cNvSpPr/>
          <p:nvPr/>
        </p:nvSpPr>
        <p:spPr>
          <a:xfrm>
            <a:off x="720720" y="1440000"/>
            <a:ext cx="3060720" cy="1133280"/>
          </a:xfrm>
          <a:prstGeom prst="pi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a157a"/>
                </a:solidFill>
                <a:latin typeface="Arial"/>
              </a:rPr>
              <a:t>Целесообраз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Box 1"/>
          <p:cNvSpPr/>
          <p:nvPr/>
        </p:nvSpPr>
        <p:spPr>
          <a:xfrm>
            <a:off x="758880" y="147600"/>
            <a:ext cx="794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c9f165"/>
                </a:solidFill>
                <a:latin typeface="Corbel"/>
              </a:rPr>
              <a:t>Принципы  деятельности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c9f165"/>
                </a:solidFill>
                <a:latin typeface="Corbel"/>
              </a:rPr>
              <a:t>ученического самоуправл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Прямоугольник 1"/>
          <p:cNvSpPr/>
          <p:nvPr/>
        </p:nvSpPr>
        <p:spPr>
          <a:xfrm>
            <a:off x="0" y="692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</a:t>
            </a:r>
            <a:r>
              <a:rPr b="0" i="1" lang="ru-RU" sz="4800" spc="-1" strike="noStrike">
                <a:solidFill>
                  <a:srgbClr val="c9f165"/>
                </a:solidFill>
                <a:latin typeface="Corbel"/>
              </a:rPr>
              <a:t> </a:t>
            </a:r>
            <a:r>
              <a:rPr b="0" i="1" lang="ru-RU" sz="4800" spc="-1" strike="noStrike">
                <a:solidFill>
                  <a:srgbClr val="c9f165"/>
                </a:solidFill>
                <a:latin typeface="Corbel"/>
              </a:rPr>
              <a:t>Совместными усилиями  создаем классный уголок и </a:t>
            </a:r>
            <a:r>
              <a:rPr b="1" i="1" lang="ru-RU" sz="4800" spc="-1" strike="noStrike">
                <a:solidFill>
                  <a:srgbClr val="c9f165"/>
                </a:solidFill>
                <a:latin typeface="Corbel"/>
              </a:rPr>
              <a:t>принимаем законы жизн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800" spc="-1" strike="noStrike">
                <a:solidFill>
                  <a:srgbClr val="c9f165"/>
                </a:solidFill>
                <a:latin typeface="Corbel"/>
              </a:rPr>
              <a:t> </a:t>
            </a:r>
            <a:r>
              <a:rPr b="0" i="1" lang="ru-RU" sz="4800" spc="-1" strike="noStrike">
                <a:solidFill>
                  <a:srgbClr val="c9f165"/>
                </a:solidFill>
                <a:latin typeface="Corbel"/>
              </a:rPr>
              <a:t>класса: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Прямоугольник 1"/>
          <p:cNvSpPr/>
          <p:nvPr/>
        </p:nvSpPr>
        <p:spPr>
          <a:xfrm>
            <a:off x="179280" y="260280"/>
            <a:ext cx="2880000" cy="146556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ЗАКОН ДОБРОТЫ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Доброта - это сила.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Не бойся быть сильным.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Дари людям добро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Прямоугольник 2"/>
          <p:cNvSpPr/>
          <p:nvPr/>
        </p:nvSpPr>
        <p:spPr>
          <a:xfrm>
            <a:off x="5357880" y="3786120"/>
            <a:ext cx="3103560" cy="119124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ЗАКОН ЛЮБВИ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Люби своих родителей,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друзей и всё то,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что тебя окружа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Прямоугольник 3"/>
          <p:cNvSpPr/>
          <p:nvPr/>
        </p:nvSpPr>
        <p:spPr>
          <a:xfrm>
            <a:off x="5286240" y="285840"/>
            <a:ext cx="3143520" cy="119124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ЗАКОН ДИСЦИПЛИНЫ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Дисциплинированному человеку не страшны трудности и препятств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Прямоугольник 4"/>
          <p:cNvSpPr/>
          <p:nvPr/>
        </p:nvSpPr>
        <p:spPr>
          <a:xfrm>
            <a:off x="785880" y="5572080"/>
            <a:ext cx="3058920" cy="91692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ЗАКОН УВАЖЕНИЯ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Уважай людей, и тогда люди будут уважать теб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Прямоугольник 5"/>
          <p:cNvSpPr/>
          <p:nvPr/>
        </p:nvSpPr>
        <p:spPr>
          <a:xfrm>
            <a:off x="357120" y="3643200"/>
            <a:ext cx="3929040" cy="146556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ЗАКОН ДРУЖБЫ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В жизни происходят события, которые тяжело пережить одному.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Тогда на помощь приходит друг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Прямоугольник 6"/>
          <p:cNvSpPr/>
          <p:nvPr/>
        </p:nvSpPr>
        <p:spPr>
          <a:xfrm>
            <a:off x="5072040" y="5286240"/>
            <a:ext cx="3641760" cy="119124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ЗАКОН ХРАБРОСТИ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Будь храбрым и не бойся препятствий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Прямоугольник 7"/>
          <p:cNvSpPr/>
          <p:nvPr/>
        </p:nvSpPr>
        <p:spPr>
          <a:xfrm>
            <a:off x="2643120" y="1785960"/>
            <a:ext cx="3241800" cy="146556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ЗАКОН МИЛОСЕРДИЯ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Рядом с тобой может оказаться человек, которому нужна помощь.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ПОМОГИ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Прямоугольник 1"/>
          <p:cNvSpPr/>
          <p:nvPr/>
        </p:nvSpPr>
        <p:spPr>
          <a:xfrm>
            <a:off x="19080" y="549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          </a:t>
            </a:r>
            <a:r>
              <a:rPr b="0" i="1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c9f165"/>
                </a:solidFill>
                <a:latin typeface="Corbel"/>
              </a:rPr>
              <a:t>На протяжении обучения в начальной школе вырабатываем </a:t>
            </a:r>
            <a:r>
              <a:rPr b="1" i="1" lang="ru-RU" sz="3200" spc="-1" strike="noStrike">
                <a:solidFill>
                  <a:srgbClr val="c9f165"/>
                </a:solidFill>
                <a:latin typeface="Corbel"/>
              </a:rPr>
              <a:t>традиции жизни в класс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Прямоугольник 1"/>
          <p:cNvSpPr/>
          <p:nvPr/>
        </p:nvSpPr>
        <p:spPr>
          <a:xfrm>
            <a:off x="611280" y="1720800"/>
            <a:ext cx="813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омощь и поддержка тех ребят, которые часто болеют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здравление учащихся класса с днём рождения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осещение детской библиотеки, экскур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написание «тёплых писем» друг другу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ощрение лучших в учёбе, лучших по поведению и самых активных уче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Прямоугольник 1"/>
          <p:cNvSpPr/>
          <p:nvPr/>
        </p:nvSpPr>
        <p:spPr>
          <a:xfrm>
            <a:off x="1928880" y="285840"/>
            <a:ext cx="5643360" cy="4284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606060"/>
                </a:solidFill>
                <a:latin typeface="Century Schoolbook"/>
              </a:rPr>
              <a:t>Структура самоуправления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Овал 2"/>
          <p:cNvSpPr/>
          <p:nvPr/>
        </p:nvSpPr>
        <p:spPr>
          <a:xfrm>
            <a:off x="1785960" y="1214280"/>
            <a:ext cx="5500800" cy="914400"/>
          </a:xfrm>
          <a:prstGeom prst="ellipse">
            <a:avLst/>
          </a:prstGeom>
          <a:solidFill>
            <a:srgbClr val="47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Century Schoolbook"/>
              </a:rPr>
              <a:t>Классное собр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Прямоугольник 3"/>
          <p:cNvSpPr/>
          <p:nvPr/>
        </p:nvSpPr>
        <p:spPr>
          <a:xfrm>
            <a:off x="2571840" y="2428920"/>
            <a:ext cx="3929040" cy="785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606060"/>
                </a:solidFill>
                <a:latin typeface="Century Schoolbook"/>
              </a:rPr>
              <a:t>Совет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606060"/>
                </a:solidFill>
                <a:latin typeface="Century Schoolbook"/>
              </a:rPr>
              <a:t>( во главе Педаго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2" name="Прямая со стрелкой 5"/>
          <p:cNvCxnSpPr>
            <a:stCxn id="610" idx="4"/>
            <a:endCxn id="611" idx="0"/>
          </p:cNvCxnSpPr>
          <p:nvPr/>
        </p:nvCxnSpPr>
        <p:spPr>
          <a:xfrm flipH="1">
            <a:off x="4535280" y="2128680"/>
            <a:ext cx="2160" cy="30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3" name="Прямая со стрелкой 11"/>
          <p:cNvCxnSpPr/>
          <p:nvPr/>
        </p:nvCxnSpPr>
        <p:spPr>
          <a:xfrm flipH="1">
            <a:off x="3285360" y="3214800"/>
            <a:ext cx="50076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4" name="Прямая со стрелкой 12"/>
          <p:cNvCxnSpPr/>
          <p:nvPr/>
        </p:nvCxnSpPr>
        <p:spPr>
          <a:xfrm>
            <a:off x="5785200" y="3214440"/>
            <a:ext cx="7866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5" name="Прямая со стрелкой 13"/>
          <p:cNvCxnSpPr/>
          <p:nvPr/>
        </p:nvCxnSpPr>
        <p:spPr>
          <a:xfrm>
            <a:off x="6500520" y="2499840"/>
            <a:ext cx="85788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6" name="Прямая со стрелкой 14"/>
          <p:cNvCxnSpPr/>
          <p:nvPr/>
        </p:nvCxnSpPr>
        <p:spPr>
          <a:xfrm flipH="1">
            <a:off x="1785240" y="2500200"/>
            <a:ext cx="78660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7" name="Прямая со стрелкой 15"/>
          <p:cNvCxnSpPr/>
          <p:nvPr/>
        </p:nvCxnSpPr>
        <p:spPr>
          <a:xfrm flipH="1">
            <a:off x="4785480" y="3214800"/>
            <a:ext cx="2520" cy="20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8" name="Скругленный прямоугольник 20"/>
          <p:cNvSpPr/>
          <p:nvPr/>
        </p:nvSpPr>
        <p:spPr>
          <a:xfrm>
            <a:off x="3857760" y="5214960"/>
            <a:ext cx="2057400" cy="642960"/>
          </a:xfrm>
          <a:prstGeom prst="roundRect">
            <a:avLst>
              <a:gd name="adj" fmla="val 16667"/>
            </a:avLst>
          </a:prstGeom>
          <a:solidFill>
            <a:srgbClr val="8585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Schoolbook"/>
              </a:rPr>
              <a:t>Сектор (мини группа</a:t>
            </a: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262626"/>
                </a:solidFill>
                <a:latin typeface="Century Schoolbook"/>
              </a:rPr>
              <a:t>-3</a:t>
            </a: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Скругленный прямоугольник 22"/>
          <p:cNvSpPr/>
          <p:nvPr/>
        </p:nvSpPr>
        <p:spPr>
          <a:xfrm>
            <a:off x="5700600" y="4083120"/>
            <a:ext cx="2057400" cy="642960"/>
          </a:xfrm>
          <a:prstGeom prst="roundRect">
            <a:avLst>
              <a:gd name="adj" fmla="val 16667"/>
            </a:avLst>
          </a:prstGeom>
          <a:solidFill>
            <a:srgbClr val="8585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Schoolbook"/>
              </a:rPr>
              <a:t>Сектор (мини группа) 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Скругленный прямоугольник 23"/>
          <p:cNvSpPr/>
          <p:nvPr/>
        </p:nvSpPr>
        <p:spPr>
          <a:xfrm>
            <a:off x="1857240" y="4143240"/>
            <a:ext cx="2057400" cy="642960"/>
          </a:xfrm>
          <a:prstGeom prst="roundRect">
            <a:avLst>
              <a:gd name="adj" fmla="val 16667"/>
            </a:avLst>
          </a:prstGeom>
          <a:solidFill>
            <a:srgbClr val="8585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Schoolbook"/>
              </a:rPr>
              <a:t>Сектор (мини группа) -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Скругленный прямоугольник 24"/>
          <p:cNvSpPr/>
          <p:nvPr/>
        </p:nvSpPr>
        <p:spPr>
          <a:xfrm>
            <a:off x="214200" y="3143160"/>
            <a:ext cx="2057400" cy="642960"/>
          </a:xfrm>
          <a:prstGeom prst="roundRect">
            <a:avLst>
              <a:gd name="adj" fmla="val 16667"/>
            </a:avLst>
          </a:prstGeom>
          <a:solidFill>
            <a:srgbClr val="8585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Schoolbook"/>
              </a:rPr>
              <a:t>Сектор (мини группа) -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Скругленный прямоугольник 25"/>
          <p:cNvSpPr/>
          <p:nvPr/>
        </p:nvSpPr>
        <p:spPr>
          <a:xfrm>
            <a:off x="6858000" y="3000240"/>
            <a:ext cx="2057400" cy="642960"/>
          </a:xfrm>
          <a:prstGeom prst="roundRect">
            <a:avLst>
              <a:gd name="adj" fmla="val 16667"/>
            </a:avLst>
          </a:prstGeom>
          <a:solidFill>
            <a:srgbClr val="8585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Schoolbook"/>
              </a:rPr>
              <a:t>Сектор (мини группа)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Прямоугольник 1"/>
          <p:cNvSpPr/>
          <p:nvPr/>
        </p:nvSpPr>
        <p:spPr>
          <a:xfrm>
            <a:off x="468360" y="836640"/>
            <a:ext cx="83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262699"/>
                </a:solidFill>
                <a:latin typeface="Century Schoolbook"/>
              </a:rPr>
              <a:t>Ученическое самоуправление </a:t>
            </a:r>
            <a:r>
              <a:rPr b="0" lang="ru-RU" sz="3200" spc="-1" strike="noStrike">
                <a:solidFill>
                  <a:srgbClr val="262699"/>
                </a:solidFill>
                <a:latin typeface="Century Schoolbook"/>
              </a:rPr>
              <a:t>– форма организации жизнедеятельности коллекти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16165d"/>
                </a:solidFill>
                <a:latin typeface="Century Schoolbook"/>
              </a:rPr>
              <a:t>(Педагогический словар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262699"/>
                </a:solidFill>
                <a:latin typeface="Century Schoolbook"/>
              </a:rPr>
              <a:t>Ученическое самоуправление</a:t>
            </a:r>
            <a:r>
              <a:rPr b="1" i="1" lang="en-US" sz="3200" spc="-1" strike="noStrike">
                <a:solidFill>
                  <a:srgbClr val="262699"/>
                </a:solidFill>
                <a:latin typeface="Century Schoolbook"/>
              </a:rPr>
              <a:t>-</a:t>
            </a:r>
            <a:r>
              <a:rPr b="1" i="1" lang="ru-RU" sz="3200" spc="-1" strike="noStrike">
                <a:solidFill>
                  <a:srgbClr val="262699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262699"/>
                </a:solidFill>
                <a:latin typeface="Century Schoolbook"/>
              </a:rPr>
              <a:t>привлечение детей к управлению делами класса, школы</a:t>
            </a:r>
            <a:r>
              <a:rPr b="0" lang="en-US" sz="3200" spc="-1" strike="noStrike">
                <a:solidFill>
                  <a:srgbClr val="262699"/>
                </a:solidFill>
                <a:latin typeface="Century Schoolbook"/>
              </a:rPr>
              <a:t>.</a:t>
            </a:r>
            <a:r>
              <a:rPr b="0" lang="ru-RU" sz="3200" spc="-1" strike="noStrike">
                <a:solidFill>
                  <a:srgbClr val="262699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16165d"/>
                </a:solidFill>
                <a:latin typeface="Century Schoolbook"/>
              </a:rPr>
              <a:t>(Н.К. Крупская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382320">
              <a:lnSpc>
                <a:spcPct val="90000"/>
              </a:lnSpc>
              <a:spcBef>
                <a:spcPts val="79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442800"/>
                <a:tab algn="l" pos="547560"/>
                <a:tab algn="l" pos="996840"/>
                <a:tab algn="l" pos="1446120"/>
                <a:tab algn="l" pos="1895400"/>
                <a:tab algn="l" pos="2344680"/>
                <a:tab algn="l" pos="2793960"/>
                <a:tab algn="l" pos="3243240"/>
                <a:tab algn="l" pos="3692520"/>
                <a:tab algn="l" pos="4141800"/>
                <a:tab algn="l" pos="4591080"/>
                <a:tab algn="l" pos="504036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6040"/>
                <a:tab algn="l" pos="8185320"/>
                <a:tab algn="l" pos="8634240"/>
                <a:tab algn="l" pos="9083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Schoolbook"/>
              </a:rPr>
              <a:t>Актуальная жизненная позиция учащихся школы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442800" indent="-382320">
              <a:lnSpc>
                <a:spcPct val="90000"/>
              </a:lnSpc>
              <a:spcBef>
                <a:spcPts val="79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442800"/>
                <a:tab algn="l" pos="547560"/>
                <a:tab algn="l" pos="996840"/>
                <a:tab algn="l" pos="1446120"/>
                <a:tab algn="l" pos="1895400"/>
                <a:tab algn="l" pos="2344680"/>
                <a:tab algn="l" pos="2793960"/>
                <a:tab algn="l" pos="3243240"/>
                <a:tab algn="l" pos="3692520"/>
                <a:tab algn="l" pos="4141800"/>
                <a:tab algn="l" pos="4591080"/>
                <a:tab algn="l" pos="504036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6040"/>
                <a:tab algn="l" pos="8185320"/>
                <a:tab algn="l" pos="8634240"/>
                <a:tab algn="l" pos="9083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Schoolbook"/>
              </a:rPr>
              <a:t>Готовность и желание учащихся работать в коллективе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442800" indent="-382320">
              <a:lnSpc>
                <a:spcPct val="90000"/>
              </a:lnSpc>
              <a:spcBef>
                <a:spcPts val="79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442800"/>
                <a:tab algn="l" pos="547560"/>
                <a:tab algn="l" pos="996840"/>
                <a:tab algn="l" pos="1446120"/>
                <a:tab algn="l" pos="1895400"/>
                <a:tab algn="l" pos="2344680"/>
                <a:tab algn="l" pos="2793960"/>
                <a:tab algn="l" pos="3243240"/>
                <a:tab algn="l" pos="3692520"/>
                <a:tab algn="l" pos="4141800"/>
                <a:tab algn="l" pos="4591080"/>
                <a:tab algn="l" pos="504036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6040"/>
                <a:tab algn="l" pos="8185320"/>
                <a:tab algn="l" pos="8634240"/>
                <a:tab algn="l" pos="9083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Schoolbook"/>
              </a:rPr>
              <a:t>Усвоение и овладение знаниями и техникой организаторской деятельности 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442800" indent="-382320">
              <a:lnSpc>
                <a:spcPct val="90000"/>
              </a:lnSpc>
              <a:spcBef>
                <a:spcPts val="79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442800"/>
                <a:tab algn="l" pos="547560"/>
                <a:tab algn="l" pos="996840"/>
                <a:tab algn="l" pos="1446120"/>
                <a:tab algn="l" pos="1895400"/>
                <a:tab algn="l" pos="2344680"/>
                <a:tab algn="l" pos="2793960"/>
                <a:tab algn="l" pos="3243240"/>
                <a:tab algn="l" pos="3692520"/>
                <a:tab algn="l" pos="4141800"/>
                <a:tab algn="l" pos="4591080"/>
                <a:tab algn="l" pos="504036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6040"/>
                <a:tab algn="l" pos="8185320"/>
                <a:tab algn="l" pos="8634240"/>
                <a:tab algn="l" pos="9083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Schoolbook"/>
              </a:rPr>
              <a:t>Пакет разработок творческих и социальных проектов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44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2800"/>
                <a:tab algn="l" pos="547560"/>
                <a:tab algn="l" pos="996840"/>
                <a:tab algn="l" pos="1446120"/>
                <a:tab algn="l" pos="1895400"/>
                <a:tab algn="l" pos="2344680"/>
                <a:tab algn="l" pos="2793960"/>
                <a:tab algn="l" pos="3243240"/>
                <a:tab algn="l" pos="3692520"/>
                <a:tab algn="l" pos="4141800"/>
                <a:tab algn="l" pos="4591080"/>
                <a:tab algn="l" pos="504036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6040"/>
                <a:tab algn="l" pos="8185320"/>
                <a:tab algn="l" pos="8634240"/>
                <a:tab algn="l" pos="9083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02640" cy="1825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Прямоугольник 3"/>
          <p:cNvSpPr/>
          <p:nvPr/>
        </p:nvSpPr>
        <p:spPr>
          <a:xfrm>
            <a:off x="611280" y="260280"/>
            <a:ext cx="7921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entury Schoolbook"/>
              </a:rPr>
              <a:t>Ученическое самоуправление в младших классах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600" spc="-1" strike="noStrike">
                <a:solidFill>
                  <a:srgbClr val="191966"/>
                </a:solidFill>
                <a:latin typeface="Century Schoolbook"/>
              </a:rPr>
              <a:t> – </a:t>
            </a:r>
            <a:r>
              <a:rPr b="0" lang="ru-RU" sz="3600" spc="-1" strike="noStrike">
                <a:solidFill>
                  <a:srgbClr val="191966"/>
                </a:solidFill>
                <a:latin typeface="Century Schoolbook"/>
              </a:rPr>
              <a:t>это фундамент, от качества которого зависит не только социальная инициатива учеников в дальнейшем, но и состояние государственно-общественного управление образовательным учреждении в цел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1" descr=""/>
          <p:cNvPicPr/>
          <p:nvPr/>
        </p:nvPicPr>
        <p:blipFill>
          <a:blip r:embed="rId1"/>
          <a:stretch/>
        </p:blipFill>
        <p:spPr>
          <a:xfrm>
            <a:off x="1916280" y="2349360"/>
            <a:ext cx="5256000" cy="3708720"/>
          </a:xfrm>
          <a:prstGeom prst="rect">
            <a:avLst/>
          </a:prstGeom>
          <a:ln w="0">
            <a:noFill/>
          </a:ln>
        </p:spPr>
      </p:pic>
      <p:sp>
        <p:nvSpPr>
          <p:cNvPr id="627" name="TextBox 1"/>
          <p:cNvSpPr/>
          <p:nvPr/>
        </p:nvSpPr>
        <p:spPr>
          <a:xfrm>
            <a:off x="754560" y="260280"/>
            <a:ext cx="762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c9f165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c9f165"/>
                </a:solidFill>
                <a:latin typeface="Arial"/>
              </a:rPr>
              <a:t>Творческих  Вам  успехов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532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 u="sng">
                <a:solidFill>
                  <a:srgbClr val="99f166"/>
                </a:solidFill>
                <a:uFillTx/>
                <a:latin typeface="Century Schoolbook"/>
              </a:rPr>
              <a:t>Самоуправление  учащихся </a:t>
            </a:r>
            <a:r>
              <a:rPr b="1" i="1" lang="ru-RU" sz="4000" spc="-1" strike="noStrike">
                <a:solidFill>
                  <a:srgbClr val="99f166"/>
                </a:solidFill>
                <a:latin typeface="Century Schoolbook"/>
              </a:rPr>
              <a:t>–</a:t>
            </a:r>
            <a:br>
              <a:rPr sz="4000"/>
            </a:br>
            <a:r>
              <a:rPr b="1" i="1" lang="ru-RU" sz="4000" spc="-1" strike="noStrike">
                <a:solidFill>
                  <a:srgbClr val="99f166"/>
                </a:solidFill>
                <a:latin typeface="Century Schoolbook"/>
              </a:rPr>
              <a:t>самостоятельность  в проявлении инициативы,</a:t>
            </a:r>
            <a:br>
              <a:rPr sz="4000"/>
            </a:br>
            <a:r>
              <a:rPr b="1" i="1" lang="ru-RU" sz="4000" spc="-1" strike="noStrike">
                <a:solidFill>
                  <a:srgbClr val="99f166"/>
                </a:solidFill>
                <a:latin typeface="Century Schoolbook"/>
              </a:rPr>
              <a:t>принятии  решения  и  его  самореализации в  интересах  своего  коллектива  или </a:t>
            </a:r>
            <a:br>
              <a:rPr sz="4000"/>
            </a:br>
            <a:r>
              <a:rPr b="1" i="1" lang="ru-RU" sz="4000" spc="-1" strike="noStrike">
                <a:solidFill>
                  <a:srgbClr val="99f166"/>
                </a:solidFill>
                <a:latin typeface="Century Schoolbook"/>
              </a:rPr>
              <a:t>организации.</a:t>
            </a:r>
            <a:br>
              <a:rPr sz="4000"/>
            </a:br>
            <a:endParaRPr b="0" lang="en-US" sz="4000" spc="-1" strike="noStrike">
              <a:solidFill>
                <a:srgbClr val="99f166"/>
              </a:solidFill>
              <a:latin typeface="Century Schoolbook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Прямоугольник 3"/>
          <p:cNvSpPr/>
          <p:nvPr/>
        </p:nvSpPr>
        <p:spPr>
          <a:xfrm>
            <a:off x="755640" y="549360"/>
            <a:ext cx="7777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664d"/>
                </a:solidFill>
                <a:latin typeface="Century Schoolbook"/>
              </a:rPr>
              <a:t>Целевые ориентиры ученического самоуправления в младших классах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entury Schoolbook"/>
              </a:rPr>
              <a:t>Содействие развитию ребен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entury Schoolbook"/>
              </a:rPr>
              <a:t>Формирование детского коллектива как коман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entury Schoolbook"/>
              </a:rPr>
              <a:t>Формирование у учащихся готовности к выполнению различных поручений, т.е. выполнять систему социальных ро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рямоугольник 3"/>
          <p:cNvSpPr/>
          <p:nvPr/>
        </p:nvSpPr>
        <p:spPr>
          <a:xfrm>
            <a:off x="250920" y="620640"/>
            <a:ext cx="820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664d"/>
                </a:solidFill>
                <a:latin typeface="Century Schoolbook"/>
              </a:rPr>
              <a:t>Содействие развитию ребенк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Schoolbook"/>
              </a:rPr>
              <a:t>1.</a:t>
            </a: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Развитие творческого потенциала дет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Schoolbook"/>
              </a:rPr>
              <a:t>2.</a:t>
            </a: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Стимулирование саморазвит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Schoolbook"/>
              </a:rPr>
              <a:t>3.</a:t>
            </a: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Планомерное развитие склонностей, способностей и талантов дет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Schoolbook"/>
              </a:rPr>
              <a:t>4.</a:t>
            </a: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Развитие инициативы и актив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entury Schoolbook"/>
              </a:rPr>
              <a:t>5.</a:t>
            </a: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Развитие самостоя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Прямоугольник 1"/>
          <p:cNvSpPr/>
          <p:nvPr/>
        </p:nvSpPr>
        <p:spPr>
          <a:xfrm>
            <a:off x="395280" y="1582560"/>
            <a:ext cx="820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664d"/>
                </a:solidFill>
                <a:latin typeface="Century Schoolbook"/>
              </a:rPr>
              <a:t>Формирование детского коллектива как команд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1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Воспитание уважения к мнению други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2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Формирование основ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3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Обучение навыкам общения и слуш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4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Воспитание чувства ответственности за свои поступки и поступки своих товарищ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5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Приобщение к коллективной творческой деяте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6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Побуждение к осознанному применению навыков культуры поведения при взаимодейств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7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Формирование умений побеждать и проигрывать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1"/>
          <p:cNvSpPr/>
          <p:nvPr/>
        </p:nvSpPr>
        <p:spPr>
          <a:xfrm>
            <a:off x="250920" y="1720800"/>
            <a:ext cx="871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664d"/>
                </a:solidFill>
                <a:latin typeface="Century Schoolbook"/>
              </a:rPr>
              <a:t>Формирование у учащихся готовности к выполнению различных поручен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1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Развитие социальной направленности в деяте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2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Побуждение к самостоятельному выбору видов и способов деяте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3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Побуждение к участию в подготовке де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4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Привлечение к анализу де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5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Развитие стремления к достижению ступеней ро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6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Побуждение к выполнению поруч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7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Развитие адекватной самооценки и приобщение к анализу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Прямоугольник 1"/>
          <p:cNvSpPr/>
          <p:nvPr/>
        </p:nvSpPr>
        <p:spPr>
          <a:xfrm>
            <a:off x="500040" y="28584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Схема развития ученического самоуправления в младших класс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Прямоугольник 2"/>
          <p:cNvSpPr/>
          <p:nvPr/>
        </p:nvSpPr>
        <p:spPr>
          <a:xfrm>
            <a:off x="2546280" y="5445000"/>
            <a:ext cx="46087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Этап подраж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(1-2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Прямоугольник 3"/>
          <p:cNvSpPr/>
          <p:nvPr/>
        </p:nvSpPr>
        <p:spPr>
          <a:xfrm>
            <a:off x="2546280" y="4556160"/>
            <a:ext cx="4608720" cy="9144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Этап частичной самосто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(2-3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Прямоугольник 4"/>
          <p:cNvSpPr/>
          <p:nvPr/>
        </p:nvSpPr>
        <p:spPr>
          <a:xfrm>
            <a:off x="2556000" y="3641760"/>
            <a:ext cx="4599000" cy="91440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Этап более полной самосто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(3-4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Равнобедренный треугольник 5"/>
          <p:cNvSpPr/>
          <p:nvPr/>
        </p:nvSpPr>
        <p:spPr>
          <a:xfrm>
            <a:off x="2556000" y="1544760"/>
            <a:ext cx="4603680" cy="2084400"/>
          </a:xfrm>
          <a:prstGeom prst="triangle">
            <a:avLst>
              <a:gd name="adj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Box 6"/>
          <p:cNvSpPr/>
          <p:nvPr/>
        </p:nvSpPr>
        <p:spPr>
          <a:xfrm>
            <a:off x="2843280" y="3213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Century Schoolbook"/>
              </a:rPr>
              <a:t>САМОУПРА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Прямоугольник 1"/>
          <p:cNvSpPr/>
          <p:nvPr/>
        </p:nvSpPr>
        <p:spPr>
          <a:xfrm>
            <a:off x="2571840" y="285840"/>
            <a:ext cx="46083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Этап подраж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(1-2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Прямоугольник 2"/>
          <p:cNvSpPr/>
          <p:nvPr/>
        </p:nvSpPr>
        <p:spPr>
          <a:xfrm>
            <a:off x="2627280" y="2565360"/>
            <a:ext cx="4608720" cy="9144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Этап частичной самосто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(2-3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Прямоугольник 3"/>
          <p:cNvSpPr/>
          <p:nvPr/>
        </p:nvSpPr>
        <p:spPr>
          <a:xfrm>
            <a:off x="2643120" y="4643280"/>
            <a:ext cx="4599000" cy="91440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Этап более полной самосто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(3-4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Прямоугольник 4"/>
          <p:cNvSpPr/>
          <p:nvPr/>
        </p:nvSpPr>
        <p:spPr>
          <a:xfrm>
            <a:off x="1214280" y="15717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дети действуют по готовому образцу с помощью взрослых, копируя их действ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Прямоугольник 5"/>
          <p:cNvSpPr/>
          <p:nvPr/>
        </p:nvSpPr>
        <p:spPr>
          <a:xfrm>
            <a:off x="1285920" y="385776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дети в состоянии выполнить самостоятельно часть работы, могут сами находить некоторые способы их осуществ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Прямоугольник 6"/>
          <p:cNvSpPr/>
          <p:nvPr/>
        </p:nvSpPr>
        <p:spPr>
          <a:xfrm>
            <a:off x="1357200" y="59292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дети выполняют определенную работу самостоятельно в повторяющихся ситуац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Стрелка вниз 7"/>
          <p:cNvSpPr/>
          <p:nvPr/>
        </p:nvSpPr>
        <p:spPr>
          <a:xfrm>
            <a:off x="4714920" y="1214280"/>
            <a:ext cx="214200" cy="3574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Стрелка вниз 8"/>
          <p:cNvSpPr/>
          <p:nvPr/>
        </p:nvSpPr>
        <p:spPr>
          <a:xfrm>
            <a:off x="4786200" y="350028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Стрелка вниз 9"/>
          <p:cNvSpPr/>
          <p:nvPr/>
        </p:nvSpPr>
        <p:spPr>
          <a:xfrm>
            <a:off x="4786200" y="5572080"/>
            <a:ext cx="214560" cy="35712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05:16:23Z</dcterms:created>
  <dc:creator>Пользователь</dc:creator>
  <dc:description/>
  <dc:language>en-US</dc:language>
  <cp:lastModifiedBy>user</cp:lastModifiedBy>
  <dcterms:modified xsi:type="dcterms:W3CDTF">2015-02-04T15:20:53Z</dcterms:modified>
  <cp:revision>87</cp:revision>
  <dc:subject/>
  <dc:title>Слайд 1</dc:title>
</cp:coreProperties>
</file>