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camera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dt" idx="25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move the slide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sldNum" idx="26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C3A1C-DC3C-4314-A50D-BC09534AF7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B6641-3236-4C4C-A2AD-A15F6B32A38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84F8F-F5EE-4244-9E72-4782F7C515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95615C-6BA0-4B68-BB44-74DDD24DFE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омер слайда 3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6C8B9-D8C5-47B7-9EA9-335F14CB39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F74F8-7DF7-4601-9CA1-FC080F14F9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9E2F3-2ADB-4B69-A045-6EE48D0D1E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DE0B36-F752-4168-B5B6-92003AF469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52E17-CE67-4FF1-840B-4866F4956B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Номер слайда 3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ACEE0-018F-4B09-AAF9-C054BB5837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E7BCA-3D49-4AEC-9812-C80BC4D018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8E824-B9EC-4168-928F-C4E997CA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BF5DF-1595-4CD6-816B-2799263A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189E8-44E7-4677-BD1F-B88AA2A80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278F0-93D3-4268-9397-06A98174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B5B13-E414-41C5-B4EF-6D325A2B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63298-7DE1-4E19-85FD-C3FFBD13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F63CA-BFAB-49A8-A2AE-D1A5187B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22778-10A3-44BF-B5A6-53BDC977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67C48-E9A6-4061-BD58-EA585C76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ED2F0-EA53-4AC3-B7DC-23AAFE58E0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D03C95-4D16-4E2E-87C6-21D3A8C6F6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43ED-413D-4669-9EDE-9F7F872F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339972-4D07-418A-8932-6D33258B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5C5EEA-618D-4E37-9704-D61180C9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C18539-F09F-475B-A129-98C1039A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ADFD43-8015-4909-82DE-643E0B76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A776F9-8931-492D-BF90-B849F1BA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7B453-A75E-4E5F-B292-F4133B63C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3BDB93-B0B8-4C4F-8918-BCBE4092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39E4FB-406B-4466-977E-8F1786B2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447B10-E4B5-49FB-8397-BAF77CA4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45DA74-4DFB-4A59-8496-09EBEFED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5A3E7-7327-4134-800A-ECA98DA886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85959A-E4CA-4C5F-8179-BB99F397D4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BA8683-E5E3-469D-BF91-2A31EBED0F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9D1B24-E4EE-44E7-9135-1DBE931E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752917-225B-4176-ACCA-292BF2E5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59C165-152B-44E7-A23D-AF2FF921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0D52F2-57EC-4376-BDD9-F7E7FA12A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612DD8-EF7D-4CF2-8E53-A33E0024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EF8D88-06D2-4E55-91F7-03D25FFE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6EC91E-DF3E-4D85-ADA3-E657EF04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9F9C1A5-DB91-43F4-B7B5-E7D7D5D5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C73242-1F3A-47F9-ADD9-BE9C1592AC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59B1F3-B916-4538-B9FC-197DB617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FAB1AE-12D4-4B86-9B59-C9A1349E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713FC6-86E4-448D-87C3-FB4A0F8C1C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1EB1F-89AA-4979-B211-3370B02C81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FF95D-5F29-4201-9768-CB25996C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26711-F807-4F49-A747-FEB82CBA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D9D91-2EE2-47DC-A8B9-65AC9DDA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2F527-D9DE-4CA6-8C44-E6ED881A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5FFB2-8A09-40A0-9127-9F562D2A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E4CE7-9C66-4A5B-905A-902EAC02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697B5A-1283-49E3-B7A0-31FF0EF0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5ED7F0-49A7-4D5A-B9B4-01C6A43B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9FF2D-E419-433F-93C9-CB0F4BB3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707E6-3388-4FE9-AD4F-C61897DF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BD999-D683-40AF-813C-A272121F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B6466-53F3-4887-821C-9A26C0C0D5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FA003-23DC-4CC7-8D26-7E81203B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2DA8D-FB5D-486E-9E1B-50614411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CDE21-20AE-4AAF-AC2E-E7E3F0851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9958C-B0CB-4765-8E7C-DB4A2268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2327D7-04FC-45BF-8A1D-15F5C532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18852-65E5-4AE7-9CAB-F0551713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BCCD9-8000-451E-8C11-048D51C6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C7AFE-7B82-41AB-AF0F-F639FC7F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A53FA-A779-47A9-B5E0-AF5E5991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E6A6D-2473-44F8-8893-7792138C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84D8E-1F3F-4AB3-9007-5E2E68CBFB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8D5E-6CF0-4156-98B1-0C233E4207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B79F-2518-493F-90BD-D52E7522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FAD9-3F72-4787-BF2B-84100EFE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A426-B509-432F-A9A9-63EED795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EE02-7D88-4B71-A39C-1FC59052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DF06B-0E14-40C6-888E-997D733A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7AD6-12C7-496E-93CC-F34D02A0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217F-22B3-46FC-A2C5-6E328B5A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4135-0EBD-4F7E-A5CF-AA322AEC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5217-7A53-4DBC-9CC1-6D29523D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5DD3-9BBF-4A0A-812D-BBF3F330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C559-948C-4759-95E8-DC6860C6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C163-32A2-44E8-9927-8F2201AC46E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187BEE-8044-4FDC-BB2F-40D6F60A26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EE841-8CB4-4931-8796-354200D4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F7B0D-5EA4-4D19-82B8-EBA4868C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48BE4-1E83-4774-B1BE-61D8D57C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6E6AC2-507F-4CB9-8E69-28592E3B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20B075-025E-4F23-B552-DB10EE60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09884-F86C-48FC-B29A-026F59DC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49BF38-4568-426B-B800-1F822664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1912C-1E32-40C7-85F9-5DC8B944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6A77A-77F7-4021-8B4B-AEAEDBAB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2E6A27-F000-4E09-98C9-FA78121B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E3B9C0-87D8-400B-8438-2346D0A9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17173-D9F9-4D83-9C90-5AA51A57E3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D9265B-B79F-4E27-88AC-DC711F1115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C0392-6714-4D0F-AC13-712E2D3A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9A0B69-DE92-4555-9C2F-9AE558FF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6DA91A-8916-4091-A3E0-8D40AA4F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7B0DB5-827A-45BB-99F3-088127F8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9789E1-E6A6-43EB-BB9E-1C309DAF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EA7975-3650-450C-8564-F96FB7807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848748-2BF9-47EC-A697-69FABC63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3B5CA5-8236-4726-9D48-D7F9E1E0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0A1868-C568-4EA8-A580-098D7647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A99C22-1A9F-49E2-942D-B3C915D8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4AE9E2-A923-45AE-B8AF-D69F47C6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18BC4-A353-4452-8D9D-343487D0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3E9AB2-C7E2-44FA-BF1C-3E9A81D362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255F1-F309-4412-8266-898F7E173F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9100F-9BF9-4AC8-A699-1A6CB036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81A02-03DA-41A3-B80E-512AD979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E91B7-7B60-4F24-9FB1-F77304B6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F8C7C-2105-4D9B-8E33-4B8DDC78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03B3D-D5C2-488C-A162-103D5C044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EE093-E594-43F6-9FED-73144F5C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F21C7-0C13-40DA-8732-DF57A248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3C9BC-EF02-40E9-A866-315E4B9B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7A2FC-A6DF-45A3-AD09-23644FFE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BEB12-8DE8-4B5C-87BA-D4AC5112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736D8-AD15-4C93-AAF8-F23E6A3C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DABA8-6392-4C24-B258-9277E14F7F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2E6960-EA19-47BC-AC13-27C30E920F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487133-1219-4419-A122-137ACFE2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0895D-A91B-4148-8EC3-45DAB46F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047B34-3824-4D68-9BD9-195992D8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708BFC-B356-4C9A-9548-2335809A9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5428B5-A85E-4305-9458-1ED5653E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E2B6F6-8830-4E04-B591-441095FD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7B87-A392-4146-B68D-2AB9E747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1BE2B-50E2-45EE-A9EB-061E0AA1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9A7DEF-AA44-48D2-B010-0BC4269A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4ABFD2-65CF-4925-B7DF-E38553211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EA74CB-AAB2-43FA-AA63-7BE4FA7B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149070-31D9-4DCF-A696-1861F5C930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0D2026-219A-430D-BE76-680D0E502F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3E09D5-C895-4A6B-94F2-D0E6165C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534C35-C3C9-4F64-930D-7E667047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26713C-4DDC-4600-B176-3B16BFEE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9A230E-0AB0-47CF-9D22-454058E3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C9EEB-95E2-4224-8530-6BC13941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4920" cy="64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B9872B-D066-4D2D-9558-DD31B79C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8C2DE9-F32E-40A6-A002-C0018DF3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6EBDDE-6D2C-4432-A091-66BA839E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7D7526-A5DE-4BCD-B529-063B56F5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822492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0A4B24-D4BE-4750-A459-04FC323B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1720" y="188244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1720" y="4268160"/>
            <a:ext cx="401364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77420E-4BE1-4C69-B795-347722DD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7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18840" y="188244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7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18840" y="4268160"/>
            <a:ext cx="264816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429B78-D120-4C2A-814C-048E93F0AE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A5A4F-BAF4-4DC6-A341-C0A90452BC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ACC8A-7CF6-4263-952D-C8B82A25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8A95D-8E8C-4840-9CB8-B99B60A8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34B3F4-599E-4A03-99D1-977703126922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9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20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13B122-1DAA-4CED-83AD-70D1F9069597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1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2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0C1260-9109-4C03-B4F0-F502E4321C19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3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sldNum" idx="24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5564B83-DD8D-4C97-B774-4149365986D5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82D59B-F0FD-42D7-A8BD-9CC438B690AD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9EB77A-6F4B-4017-A829-CDE824D7F3BC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8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42EC11-516D-467B-878B-A50F2DD7DB83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9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0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14EB1ED-FF0D-47DC-8E83-0ED250D2EE2D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2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6493B3-ED36-48F1-92E8-76831BA6A11D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3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sldNum" idx="14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7C7653-37FC-4F9B-9C91-494A95E99221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5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16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254B25-3D38-4209-A44A-BA8CE8930567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6ecff"/>
              </a:gs>
              <a:gs pos="100000">
                <a:srgbClr val="d6ecff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6bc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3"/>
          <p:cNvSpPr/>
          <p:nvPr/>
        </p:nvSpPr>
        <p:spPr>
          <a:xfrm flipH="1">
            <a:off x="6463800" y="4948200"/>
            <a:ext cx="2683080" cy="1900440"/>
          </a:xfrm>
          <a:prstGeom prst="line">
            <a:avLst/>
          </a:prstGeom>
          <a:ln w="6120">
            <a:solidFill>
              <a:srgbClr val="bfc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4"/>
          <p:cNvSpPr/>
          <p:nvPr/>
        </p:nvSpPr>
        <p:spPr>
          <a:xfrm rot="16200000">
            <a:off x="7553160" y="525888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a7ff79"/>
              </a:gs>
              <a:gs pos="100000">
                <a:srgbClr val="459205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4920" cy="13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99f166"/>
                </a:solidFill>
                <a:latin typeface="Century Schoolbook"/>
              </a:rPr>
              <a:t>Click to edit the title text format</a:t>
            </a:r>
            <a:endParaRPr b="0" lang="en-US" sz="4200" spc="-1" strike="noStrike">
              <a:solidFill>
                <a:srgbClr val="99f166"/>
              </a:solidFill>
              <a:latin typeface="Century School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492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7"/>
          </p:nvPr>
        </p:nvSpPr>
        <p:spPr>
          <a:xfrm>
            <a:off x="1371240" y="6013080"/>
            <a:ext cx="5786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sldNum" idx="18"/>
          </p:nvPr>
        </p:nvSpPr>
        <p:spPr>
          <a:xfrm>
            <a:off x="8391600" y="5752800"/>
            <a:ext cx="4982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74B2B5-FE36-4B9E-938C-911A5CE4804A}" type="slidenum">
              <a:rPr b="0" lang="ru-RU" sz="13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1"/>
          <p:cNvGrpSpPr/>
          <p:nvPr/>
        </p:nvGrpSpPr>
        <p:grpSpPr>
          <a:xfrm>
            <a:off x="-612720" y="635040"/>
            <a:ext cx="9756720" cy="4279320"/>
            <a:chOff x="-612720" y="635040"/>
            <a:chExt cx="9756720" cy="4279320"/>
          </a:xfrm>
        </p:grpSpPr>
        <p:pic>
          <p:nvPicPr>
            <p:cNvPr id="551" name="Picture 2" descr=""/>
            <p:cNvPicPr/>
            <p:nvPr/>
          </p:nvPicPr>
          <p:blipFill>
            <a:blip r:embed="rId1"/>
            <a:stretch/>
          </p:blipFill>
          <p:spPr>
            <a:xfrm>
              <a:off x="-77040" y="953280"/>
              <a:ext cx="9221040" cy="396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 Box 3"/>
            <p:cNvSpPr/>
            <p:nvPr/>
          </p:nvSpPr>
          <p:spPr>
            <a:xfrm>
              <a:off x="-612720" y="635040"/>
              <a:ext cx="975636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Text Box 4"/>
          <p:cNvSpPr/>
          <p:nvPr/>
        </p:nvSpPr>
        <p:spPr>
          <a:xfrm>
            <a:off x="539640" y="476280"/>
            <a:ext cx="788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одель ученического самоуправл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в начальной школ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Box 1"/>
          <p:cNvSpPr/>
          <p:nvPr/>
        </p:nvSpPr>
        <p:spPr>
          <a:xfrm>
            <a:off x="4643280" y="6021360"/>
            <a:ext cx="43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ила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атель ГПД Налимова М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Прямоугольник 1"/>
          <p:cNvSpPr/>
          <p:nvPr/>
        </p:nvSpPr>
        <p:spPr>
          <a:xfrm>
            <a:off x="324000" y="476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Century Schoolbook"/>
              </a:rPr>
              <a:t>Ученическое самоуправление в младших классах может и должно быть организовано в форме игры (игры-путешествия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77" name="Прямая со стрелкой 3"/>
          <p:cNvCxnSpPr/>
          <p:nvPr/>
        </p:nvCxnSpPr>
        <p:spPr>
          <a:xfrm>
            <a:off x="4214520" y="2000160"/>
            <a:ext cx="1080" cy="130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Прямая со стрелкой 5"/>
          <p:cNvCxnSpPr/>
          <p:nvPr/>
        </p:nvCxnSpPr>
        <p:spPr>
          <a:xfrm flipH="1">
            <a:off x="1499400" y="1643040"/>
            <a:ext cx="1081800" cy="89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Прямая со стрелкой 6"/>
          <p:cNvCxnSpPr/>
          <p:nvPr/>
        </p:nvCxnSpPr>
        <p:spPr>
          <a:xfrm>
            <a:off x="6000480" y="1643040"/>
            <a:ext cx="1184760" cy="90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0" name="Прямоугольник 12"/>
          <p:cNvSpPr/>
          <p:nvPr/>
        </p:nvSpPr>
        <p:spPr>
          <a:xfrm>
            <a:off x="2857320" y="3357720"/>
            <a:ext cx="32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казочное королевств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Прямоугольник 13"/>
          <p:cNvSpPr/>
          <p:nvPr/>
        </p:nvSpPr>
        <p:spPr>
          <a:xfrm>
            <a:off x="520560" y="2643120"/>
            <a:ext cx="32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неземная циви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Прямоугольник 15"/>
          <p:cNvSpPr/>
          <p:nvPr/>
        </p:nvSpPr>
        <p:spPr>
          <a:xfrm>
            <a:off x="4669920" y="264312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утешествие в далёкую стра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3" name="Прямоугольник 9" descr=""/>
          <p:cNvPicPr/>
          <p:nvPr/>
        </p:nvPicPr>
        <p:blipFill>
          <a:blip r:embed="rId1"/>
          <a:stretch/>
        </p:blipFill>
        <p:spPr>
          <a:xfrm>
            <a:off x="0" y="4675320"/>
            <a:ext cx="9070920" cy="1396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915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just">
              <a:buNone/>
              <a:tabLst>
                <a:tab algn="l" pos="0"/>
                <a:tab algn="l" pos="44784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воспитание личности с активной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marL="447840" indent="0" algn="just">
              <a:buNone/>
              <a:tabLst>
                <a:tab algn="l" pos="0"/>
                <a:tab algn="l" pos="44784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жизненной позицией, готовой к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marL="447840" indent="0" algn="just">
              <a:buNone/>
              <a:tabLst>
                <a:tab algn="l" pos="0"/>
                <a:tab algn="l" pos="44784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принятию ответственности за свои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marL="447840" indent="0" algn="just">
              <a:buNone/>
              <a:tabLst>
                <a:tab algn="l" pos="0"/>
                <a:tab algn="l" pos="44784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решения и полученный результат,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marL="447840" indent="0" algn="just">
              <a:buNone/>
              <a:tabLst>
                <a:tab algn="l" pos="0"/>
                <a:tab algn="l" pos="44784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стремящейся к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marL="447840" indent="0" algn="just">
              <a:buNone/>
              <a:tabLst>
                <a:tab algn="l" pos="0"/>
                <a:tab algn="l" pos="44784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самосовершенствованию,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marL="447840" indent="0" algn="just">
              <a:buNone/>
              <a:tabLst>
                <a:tab algn="l" pos="0"/>
                <a:tab algn="l" pos="44784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саморазвитию и 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  <a:p>
            <a:pPr marL="447840" indent="0" algn="just">
              <a:buNone/>
              <a:tabLst>
                <a:tab algn="l" pos="0"/>
                <a:tab algn="l" pos="44784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9088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entury Schoolbook"/>
              </a:rPr>
              <a:t>самовыражению.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8280360" cy="1484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0" y="1557000"/>
            <a:ext cx="9144000" cy="49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0480" indent="0">
              <a:spcBef>
                <a:spcPts val="751"/>
              </a:spcBef>
              <a:buNone/>
              <a:tabLst>
                <a:tab algn="l" pos="0"/>
                <a:tab algn="l" pos="442800"/>
                <a:tab algn="l" pos="547560"/>
                <a:tab algn="l" pos="996840"/>
                <a:tab algn="l" pos="1446120"/>
                <a:tab algn="l" pos="1895400"/>
                <a:tab algn="l" pos="2344680"/>
                <a:tab algn="l" pos="2793960"/>
                <a:tab algn="l" pos="3243240"/>
                <a:tab algn="l" pos="3692520"/>
                <a:tab algn="l" pos="4141800"/>
                <a:tab algn="l" pos="4591080"/>
                <a:tab algn="l" pos="504036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6040"/>
                <a:tab algn="l" pos="8185320"/>
                <a:tab algn="l" pos="8634240"/>
                <a:tab algn="l" pos="9083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- создать условия для развития организаторских способностей каждого, формировать лидерские качества;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- дать возможность самореализации и самоутверждения каждого через конкретные дела;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- создать условия для развития креативности, инициативности, самостоятельности;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- создать благоприятные условия совместной деятельности детей и взрослых (учителей и родителей);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- формировать толерантность, умение общаться.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1"/>
          <a:stretch/>
        </p:blipFill>
        <p:spPr>
          <a:xfrm>
            <a:off x="-181080" y="-243000"/>
            <a:ext cx="9541080" cy="3311640"/>
          </a:xfrm>
          <a:prstGeom prst="rect">
            <a:avLst/>
          </a:prstGeom>
          <a:ln w="0">
            <a:noFill/>
          </a:ln>
        </p:spPr>
      </p:pic>
      <p:sp>
        <p:nvSpPr>
          <p:cNvPr id="588" name="Прямоугольник 3"/>
          <p:cNvSpPr/>
          <p:nvPr/>
        </p:nvSpPr>
        <p:spPr>
          <a:xfrm>
            <a:off x="2286000" y="2967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Прямоугольник 1"/>
          <p:cNvSpPr/>
          <p:nvPr/>
        </p:nvSpPr>
        <p:spPr>
          <a:xfrm>
            <a:off x="250920" y="260280"/>
            <a:ext cx="88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c9f165"/>
                </a:solidFill>
                <a:latin typeface="Corbel"/>
              </a:rPr>
              <a:t>Функции органов самоуправления по видам деятельности: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Прямоугольник 2"/>
          <p:cNvSpPr/>
          <p:nvPr/>
        </p:nvSpPr>
        <p:spPr>
          <a:xfrm>
            <a:off x="0" y="155736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Познавательная </a:t>
            </a: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- организует внеклассные мероприятия по предметам; контролирует успеваемость; отвечает за состояние дневников, тетрадей, учебников; организует консультации по предметам; помогает в проведении предметных олимпиад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Прямоугольник 3"/>
          <p:cNvSpPr/>
          <p:nvPr/>
        </p:nvSpPr>
        <p:spPr>
          <a:xfrm>
            <a:off x="0" y="4292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Трудовая</a:t>
            </a: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 – отвечает за озеленение класса; оформляет классный уголок, портфолио класса; помогает в художественном оформлении праздников, следит за порядком и чистотой, дежурство по классу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Прямоугольник 1"/>
          <p:cNvSpPr/>
          <p:nvPr/>
        </p:nvSpPr>
        <p:spPr>
          <a:xfrm>
            <a:off x="0" y="47628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Культурно-массовая</a:t>
            </a: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 - организует и проводит коллективно-творческие дела, конкурсы; организует посещения выставок, театров, музеев; организует и проводит конкурсы рисунков, газет, плакатов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Спортивная</a:t>
            </a: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 - организует спортивные праздники, соревнования, дни здоровья; определяет лучших спортсменов.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entury Schoolbook"/>
              </a:rPr>
              <a:t>Социальная </a:t>
            </a:r>
            <a:r>
              <a:rPr b="0" lang="ru-RU" sz="2800" spc="-1" strike="noStrike">
                <a:solidFill>
                  <a:srgbClr val="ffffff"/>
                </a:solidFill>
                <a:latin typeface="Century Schoolbook"/>
              </a:rPr>
              <a:t>- следит за выполнением творческих поручений; контролирует посещаемость учебных занятий, дежурство по классу; следит за выполнением правил школьной жизн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AutoShape 2"/>
          <p:cNvSpPr/>
          <p:nvPr/>
        </p:nvSpPr>
        <p:spPr>
          <a:xfrm>
            <a:off x="3348000" y="3132000"/>
            <a:ext cx="2592360" cy="1008360"/>
          </a:xfrm>
          <a:prstGeom prst="pi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a157a"/>
                </a:solidFill>
                <a:latin typeface="Arial"/>
              </a:rPr>
              <a:t>Равнопра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3"/>
          <p:cNvSpPr/>
          <p:nvPr/>
        </p:nvSpPr>
        <p:spPr>
          <a:xfrm>
            <a:off x="360360" y="3924360"/>
            <a:ext cx="2521080" cy="934920"/>
          </a:xfrm>
          <a:prstGeom prst="pi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a157a"/>
                </a:solidFill>
                <a:latin typeface="Arial"/>
              </a:rPr>
              <a:t>Выбор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4"/>
          <p:cNvSpPr/>
          <p:nvPr/>
        </p:nvSpPr>
        <p:spPr>
          <a:xfrm>
            <a:off x="1619280" y="5295960"/>
            <a:ext cx="3040200" cy="1049400"/>
          </a:xfrm>
          <a:prstGeom prst="pi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a157a"/>
                </a:solidFill>
                <a:latin typeface="Arial"/>
              </a:rPr>
              <a:t>Преемстве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5580000" y="2076480"/>
            <a:ext cx="2700360" cy="998640"/>
          </a:xfrm>
          <a:prstGeom prst="pi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a157a"/>
                </a:solidFill>
                <a:latin typeface="Arial"/>
              </a:rPr>
              <a:t>Демократ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AutoShape 6"/>
          <p:cNvSpPr/>
          <p:nvPr/>
        </p:nvSpPr>
        <p:spPr>
          <a:xfrm>
            <a:off x="720720" y="1440000"/>
            <a:ext cx="3060720" cy="1133280"/>
          </a:xfrm>
          <a:prstGeom prst="pie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ea157a"/>
                </a:solidFill>
                <a:latin typeface="Arial"/>
              </a:rPr>
              <a:t>Целесообраз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Box 1"/>
          <p:cNvSpPr/>
          <p:nvPr/>
        </p:nvSpPr>
        <p:spPr>
          <a:xfrm>
            <a:off x="758880" y="147600"/>
            <a:ext cx="794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c9f165"/>
                </a:solidFill>
                <a:latin typeface="Corbel"/>
              </a:rPr>
              <a:t>Принципы  деятельности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c9f165"/>
                </a:solidFill>
                <a:latin typeface="Corbel"/>
              </a:rPr>
              <a:t>ученического самоуправл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Прямоугольник 1"/>
          <p:cNvSpPr/>
          <p:nvPr/>
        </p:nvSpPr>
        <p:spPr>
          <a:xfrm>
            <a:off x="0" y="692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</a:t>
            </a:r>
            <a:r>
              <a:rPr b="0" i="1" lang="ru-RU" sz="4800" spc="-1" strike="noStrike">
                <a:solidFill>
                  <a:srgbClr val="c9f165"/>
                </a:solidFill>
                <a:latin typeface="Corbel"/>
              </a:rPr>
              <a:t> </a:t>
            </a:r>
            <a:r>
              <a:rPr b="0" i="1" lang="ru-RU" sz="4800" spc="-1" strike="noStrike">
                <a:solidFill>
                  <a:srgbClr val="c9f165"/>
                </a:solidFill>
                <a:latin typeface="Corbel"/>
              </a:rPr>
              <a:t>Совместными усилиями  создаем классный уголок и </a:t>
            </a:r>
            <a:r>
              <a:rPr b="1" i="1" lang="ru-RU" sz="4800" spc="-1" strike="noStrike">
                <a:solidFill>
                  <a:srgbClr val="c9f165"/>
                </a:solidFill>
                <a:latin typeface="Corbel"/>
              </a:rPr>
              <a:t>принимаем законы жизн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4800" spc="-1" strike="noStrike">
                <a:solidFill>
                  <a:srgbClr val="c9f165"/>
                </a:solidFill>
                <a:latin typeface="Corbel"/>
              </a:rPr>
              <a:t> </a:t>
            </a:r>
            <a:r>
              <a:rPr b="0" i="1" lang="ru-RU" sz="4800" spc="-1" strike="noStrike">
                <a:solidFill>
                  <a:srgbClr val="c9f165"/>
                </a:solidFill>
                <a:latin typeface="Corbel"/>
              </a:rPr>
              <a:t>класса: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Прямоугольник 1"/>
          <p:cNvSpPr/>
          <p:nvPr/>
        </p:nvSpPr>
        <p:spPr>
          <a:xfrm>
            <a:off x="179280" y="260280"/>
            <a:ext cx="2880000" cy="146556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ЗАКОН ДОБРОТЫ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Доброта - это сила.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Не бойся быть сильным.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Дари людям добро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Прямоугольник 2"/>
          <p:cNvSpPr/>
          <p:nvPr/>
        </p:nvSpPr>
        <p:spPr>
          <a:xfrm>
            <a:off x="5357880" y="3786120"/>
            <a:ext cx="3103560" cy="119124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ЗАКОН ЛЮБВИ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Люби своих родителей,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друзей и всё то,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что тебя окружа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Прямоугольник 3"/>
          <p:cNvSpPr/>
          <p:nvPr/>
        </p:nvSpPr>
        <p:spPr>
          <a:xfrm>
            <a:off x="5286240" y="285840"/>
            <a:ext cx="3143520" cy="119124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ЗАКОН ДИСЦИПЛИНЫ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Дисциплинированному человеку не страшны трудности и препятств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Прямоугольник 4"/>
          <p:cNvSpPr/>
          <p:nvPr/>
        </p:nvSpPr>
        <p:spPr>
          <a:xfrm>
            <a:off x="785880" y="5572080"/>
            <a:ext cx="3058920" cy="91692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ЗАКОН УВАЖЕНИЯ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Уважай людей, и тогда люди будут уважать теб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Прямоугольник 5"/>
          <p:cNvSpPr/>
          <p:nvPr/>
        </p:nvSpPr>
        <p:spPr>
          <a:xfrm>
            <a:off x="357120" y="3643200"/>
            <a:ext cx="3929040" cy="146556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ЗАКОН ДРУЖБЫ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В жизни происходят события, которые тяжело пережить одному.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Тогда на помощь приходит друг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Прямоугольник 6"/>
          <p:cNvSpPr/>
          <p:nvPr/>
        </p:nvSpPr>
        <p:spPr>
          <a:xfrm>
            <a:off x="5072040" y="5286240"/>
            <a:ext cx="3641760" cy="119124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ЗАКОН ХРАБРОСТИ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Будь храбрым и не бойся препятствий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Прямоугольник 7"/>
          <p:cNvSpPr/>
          <p:nvPr/>
        </p:nvSpPr>
        <p:spPr>
          <a:xfrm>
            <a:off x="2643120" y="1785960"/>
            <a:ext cx="3241800" cy="1465560"/>
          </a:xfrm>
          <a:prstGeom prst="rect">
            <a:avLst/>
          </a:prstGeom>
          <a:solidFill>
            <a:srgbClr val="009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ЗАКОН МИЛОСЕРДИЯ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Рядом с тобой может оказаться человек, которому нужна помощь.</a:t>
            </a:r>
            <a:br>
              <a:rPr sz="1800"/>
            </a:b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ПОМОГИ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Прямоугольник 1"/>
          <p:cNvSpPr/>
          <p:nvPr/>
        </p:nvSpPr>
        <p:spPr>
          <a:xfrm>
            <a:off x="19080" y="5493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          </a:t>
            </a: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ru-RU" sz="3200" spc="-1" strike="noStrike">
                <a:solidFill>
                  <a:srgbClr val="c9f165"/>
                </a:solidFill>
                <a:latin typeface="Corbel"/>
              </a:rPr>
              <a:t>На протяжении обучения в начальной школе вырабатываем </a:t>
            </a:r>
            <a:r>
              <a:rPr b="1" i="1" lang="ru-RU" sz="3200" spc="-1" strike="noStrike">
                <a:solidFill>
                  <a:srgbClr val="c9f165"/>
                </a:solidFill>
                <a:latin typeface="Corbel"/>
              </a:rPr>
              <a:t>традиции жизни в класс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Прямоугольник 1"/>
          <p:cNvSpPr/>
          <p:nvPr/>
        </p:nvSpPr>
        <p:spPr>
          <a:xfrm>
            <a:off x="611280" y="1720800"/>
            <a:ext cx="8137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омощь и поддержка тех ребят, которые часто болеют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здравление учащихся класса с днём рождения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осещение детской библиотеки, экскур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написание «тёплых писем» друг другу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оощрение лучших в учёбе, лучших по поведению и самых активных уче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Прямоугольник 1"/>
          <p:cNvSpPr/>
          <p:nvPr/>
        </p:nvSpPr>
        <p:spPr>
          <a:xfrm>
            <a:off x="1928880" y="285840"/>
            <a:ext cx="5643360" cy="4284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606060"/>
                </a:solidFill>
                <a:latin typeface="Century Schoolbook"/>
              </a:rPr>
              <a:t>Структура самоуправления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Овал 2"/>
          <p:cNvSpPr/>
          <p:nvPr/>
        </p:nvSpPr>
        <p:spPr>
          <a:xfrm>
            <a:off x="1785960" y="1214280"/>
            <a:ext cx="5500800" cy="914400"/>
          </a:xfrm>
          <a:prstGeom prst="ellipse">
            <a:avLst/>
          </a:prstGeom>
          <a:solidFill>
            <a:srgbClr val="47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606060"/>
                </a:solidFill>
                <a:latin typeface="Century Schoolbook"/>
              </a:rPr>
              <a:t>Классное собр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Прямоугольник 3"/>
          <p:cNvSpPr/>
          <p:nvPr/>
        </p:nvSpPr>
        <p:spPr>
          <a:xfrm>
            <a:off x="2571840" y="2428920"/>
            <a:ext cx="3929040" cy="785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606060"/>
                </a:solidFill>
                <a:latin typeface="Century Schoolbook"/>
              </a:rPr>
              <a:t>Совет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606060"/>
                </a:solidFill>
                <a:latin typeface="Century Schoolbook"/>
              </a:rPr>
              <a:t>( во главе Педагог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2" name="Прямая со стрелкой 5"/>
          <p:cNvCxnSpPr>
            <a:stCxn id="610" idx="4"/>
            <a:endCxn id="611" idx="0"/>
          </p:cNvCxnSpPr>
          <p:nvPr/>
        </p:nvCxnSpPr>
        <p:spPr>
          <a:xfrm flipH="1">
            <a:off x="4535280" y="2128680"/>
            <a:ext cx="2160" cy="30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3" name="Прямая со стрелкой 11"/>
          <p:cNvCxnSpPr/>
          <p:nvPr/>
        </p:nvCxnSpPr>
        <p:spPr>
          <a:xfrm flipH="1">
            <a:off x="3285360" y="3214800"/>
            <a:ext cx="50076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4" name="Прямая со стрелкой 12"/>
          <p:cNvCxnSpPr/>
          <p:nvPr/>
        </p:nvCxnSpPr>
        <p:spPr>
          <a:xfrm>
            <a:off x="5785200" y="3214440"/>
            <a:ext cx="7866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5" name="Прямая со стрелкой 13"/>
          <p:cNvCxnSpPr/>
          <p:nvPr/>
        </p:nvCxnSpPr>
        <p:spPr>
          <a:xfrm>
            <a:off x="6500520" y="2499840"/>
            <a:ext cx="85788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6" name="Прямая со стрелкой 14"/>
          <p:cNvCxnSpPr/>
          <p:nvPr/>
        </p:nvCxnSpPr>
        <p:spPr>
          <a:xfrm flipH="1">
            <a:off x="1785240" y="2500200"/>
            <a:ext cx="78660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7" name="Прямая со стрелкой 15"/>
          <p:cNvCxnSpPr/>
          <p:nvPr/>
        </p:nvCxnSpPr>
        <p:spPr>
          <a:xfrm flipH="1">
            <a:off x="4785480" y="3214800"/>
            <a:ext cx="2520" cy="20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8" name="Скругленный прямоугольник 20"/>
          <p:cNvSpPr/>
          <p:nvPr/>
        </p:nvSpPr>
        <p:spPr>
          <a:xfrm>
            <a:off x="3857760" y="5214960"/>
            <a:ext cx="2057400" cy="642960"/>
          </a:xfrm>
          <a:prstGeom prst="roundRect">
            <a:avLst>
              <a:gd name="adj" fmla="val 16667"/>
            </a:avLst>
          </a:prstGeom>
          <a:solidFill>
            <a:srgbClr val="8585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Schoolbook"/>
              </a:rPr>
              <a:t>Сектор (мини группа</a:t>
            </a: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262626"/>
                </a:solidFill>
                <a:latin typeface="Century Schoolbook"/>
              </a:rPr>
              <a:t>-3</a:t>
            </a:r>
            <a:r>
              <a:rPr b="0" lang="ru-RU" sz="1800" spc="-1" strike="noStrike">
                <a:solidFill>
                  <a:srgbClr val="26262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Скругленный прямоугольник 22"/>
          <p:cNvSpPr/>
          <p:nvPr/>
        </p:nvSpPr>
        <p:spPr>
          <a:xfrm>
            <a:off x="5700600" y="4083120"/>
            <a:ext cx="2057400" cy="642960"/>
          </a:xfrm>
          <a:prstGeom prst="roundRect">
            <a:avLst>
              <a:gd name="adj" fmla="val 16667"/>
            </a:avLst>
          </a:prstGeom>
          <a:solidFill>
            <a:srgbClr val="8585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Schoolbook"/>
              </a:rPr>
              <a:t>Сектор (мини группа) 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Скругленный прямоугольник 23"/>
          <p:cNvSpPr/>
          <p:nvPr/>
        </p:nvSpPr>
        <p:spPr>
          <a:xfrm>
            <a:off x="1857240" y="4143240"/>
            <a:ext cx="2057400" cy="642960"/>
          </a:xfrm>
          <a:prstGeom prst="roundRect">
            <a:avLst>
              <a:gd name="adj" fmla="val 16667"/>
            </a:avLst>
          </a:prstGeom>
          <a:solidFill>
            <a:srgbClr val="8585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Schoolbook"/>
              </a:rPr>
              <a:t>Сектор (мини группа) -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Скругленный прямоугольник 24"/>
          <p:cNvSpPr/>
          <p:nvPr/>
        </p:nvSpPr>
        <p:spPr>
          <a:xfrm>
            <a:off x="214200" y="3143160"/>
            <a:ext cx="2057400" cy="642960"/>
          </a:xfrm>
          <a:prstGeom prst="roundRect">
            <a:avLst>
              <a:gd name="adj" fmla="val 16667"/>
            </a:avLst>
          </a:prstGeom>
          <a:solidFill>
            <a:srgbClr val="8585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Schoolbook"/>
              </a:rPr>
              <a:t>Сектор (мини группа) -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Скругленный прямоугольник 25"/>
          <p:cNvSpPr/>
          <p:nvPr/>
        </p:nvSpPr>
        <p:spPr>
          <a:xfrm>
            <a:off x="6858000" y="3000240"/>
            <a:ext cx="2057400" cy="642960"/>
          </a:xfrm>
          <a:prstGeom prst="roundRect">
            <a:avLst>
              <a:gd name="adj" fmla="val 16667"/>
            </a:avLst>
          </a:prstGeom>
          <a:solidFill>
            <a:srgbClr val="8585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entury Schoolbook"/>
              </a:rPr>
              <a:t>Сектор (мини группа)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Прямоугольник 1"/>
          <p:cNvSpPr/>
          <p:nvPr/>
        </p:nvSpPr>
        <p:spPr>
          <a:xfrm>
            <a:off x="468360" y="836640"/>
            <a:ext cx="8351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262699"/>
                </a:solidFill>
                <a:latin typeface="Century Schoolbook"/>
              </a:rPr>
              <a:t>Ученическое самоуправление </a:t>
            </a:r>
            <a:r>
              <a:rPr b="0" lang="ru-RU" sz="3200" spc="-1" strike="noStrike">
                <a:solidFill>
                  <a:srgbClr val="262699"/>
                </a:solidFill>
                <a:latin typeface="Century Schoolbook"/>
              </a:rPr>
              <a:t>– форма организации жизнедеятельности коллектив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16165d"/>
                </a:solidFill>
                <a:latin typeface="Century Schoolbook"/>
              </a:rPr>
              <a:t>(Педагогический словарь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i="1" lang="ru-RU" sz="3200" spc="-1" strike="noStrike">
                <a:solidFill>
                  <a:srgbClr val="262699"/>
                </a:solidFill>
                <a:latin typeface="Century Schoolbook"/>
              </a:rPr>
              <a:t>Ученическое самоуправление</a:t>
            </a:r>
            <a:r>
              <a:rPr b="1" i="1" lang="en-US" sz="3200" spc="-1" strike="noStrike">
                <a:solidFill>
                  <a:srgbClr val="262699"/>
                </a:solidFill>
                <a:latin typeface="Century Schoolbook"/>
              </a:rPr>
              <a:t>-</a:t>
            </a:r>
            <a:r>
              <a:rPr b="1" i="1" lang="ru-RU" sz="3200" spc="-1" strike="noStrike">
                <a:solidFill>
                  <a:srgbClr val="262699"/>
                </a:solidFill>
                <a:latin typeface="Century Schoolbook"/>
              </a:rPr>
              <a:t>  </a:t>
            </a:r>
            <a:r>
              <a:rPr b="0" lang="ru-RU" sz="3200" spc="-1" strike="noStrike">
                <a:solidFill>
                  <a:srgbClr val="262699"/>
                </a:solidFill>
                <a:latin typeface="Century Schoolbook"/>
              </a:rPr>
              <a:t>привлечение детей к управлению делами класса, школы</a:t>
            </a:r>
            <a:r>
              <a:rPr b="0" lang="en-US" sz="3200" spc="-1" strike="noStrike">
                <a:solidFill>
                  <a:srgbClr val="262699"/>
                </a:solidFill>
                <a:latin typeface="Century Schoolbook"/>
              </a:rPr>
              <a:t>.</a:t>
            </a:r>
            <a:r>
              <a:rPr b="0" lang="ru-RU" sz="3200" spc="-1" strike="noStrike">
                <a:solidFill>
                  <a:srgbClr val="262699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16165d"/>
                </a:solidFill>
                <a:latin typeface="Century Schoolbook"/>
              </a:rPr>
              <a:t>(Н.К. Крупская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0" indent="-382320">
              <a:lnSpc>
                <a:spcPct val="90000"/>
              </a:lnSpc>
              <a:spcBef>
                <a:spcPts val="7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442800"/>
                <a:tab algn="l" pos="547560"/>
                <a:tab algn="l" pos="996840"/>
                <a:tab algn="l" pos="1446120"/>
                <a:tab algn="l" pos="1895400"/>
                <a:tab algn="l" pos="2344680"/>
                <a:tab algn="l" pos="2793960"/>
                <a:tab algn="l" pos="3243240"/>
                <a:tab algn="l" pos="3692520"/>
                <a:tab algn="l" pos="4141800"/>
                <a:tab algn="l" pos="4591080"/>
                <a:tab algn="l" pos="504036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6040"/>
                <a:tab algn="l" pos="8185320"/>
                <a:tab algn="l" pos="8634240"/>
                <a:tab algn="l" pos="9083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Актуальная жизненная позиция учащихся школы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442800" indent="-382320">
              <a:lnSpc>
                <a:spcPct val="90000"/>
              </a:lnSpc>
              <a:spcBef>
                <a:spcPts val="7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442800"/>
                <a:tab algn="l" pos="547560"/>
                <a:tab algn="l" pos="996840"/>
                <a:tab algn="l" pos="1446120"/>
                <a:tab algn="l" pos="1895400"/>
                <a:tab algn="l" pos="2344680"/>
                <a:tab algn="l" pos="2793960"/>
                <a:tab algn="l" pos="3243240"/>
                <a:tab algn="l" pos="3692520"/>
                <a:tab algn="l" pos="4141800"/>
                <a:tab algn="l" pos="4591080"/>
                <a:tab algn="l" pos="504036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6040"/>
                <a:tab algn="l" pos="8185320"/>
                <a:tab algn="l" pos="8634240"/>
                <a:tab algn="l" pos="9083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Готовность и желание учащихся работать в коллективе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442800" indent="-382320">
              <a:lnSpc>
                <a:spcPct val="90000"/>
              </a:lnSpc>
              <a:spcBef>
                <a:spcPts val="7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442800"/>
                <a:tab algn="l" pos="547560"/>
                <a:tab algn="l" pos="996840"/>
                <a:tab algn="l" pos="1446120"/>
                <a:tab algn="l" pos="1895400"/>
                <a:tab algn="l" pos="2344680"/>
                <a:tab algn="l" pos="2793960"/>
                <a:tab algn="l" pos="3243240"/>
                <a:tab algn="l" pos="3692520"/>
                <a:tab algn="l" pos="4141800"/>
                <a:tab algn="l" pos="4591080"/>
                <a:tab algn="l" pos="504036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6040"/>
                <a:tab algn="l" pos="8185320"/>
                <a:tab algn="l" pos="8634240"/>
                <a:tab algn="l" pos="9083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Усвоение и овладение знаниями и техникой организаторской деятельности 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442800" indent="-382320">
              <a:lnSpc>
                <a:spcPct val="90000"/>
              </a:lnSpc>
              <a:spcBef>
                <a:spcPts val="799"/>
              </a:spcBef>
              <a:buClr>
                <a:srgbClr val="7fd13b"/>
              </a:buClr>
              <a:buSzPct val="80000"/>
              <a:buFont typeface="Wingdings 2" charset="2"/>
              <a:buChar char=""/>
              <a:tabLst>
                <a:tab algn="l" pos="442800"/>
                <a:tab algn="l" pos="547560"/>
                <a:tab algn="l" pos="996840"/>
                <a:tab algn="l" pos="1446120"/>
                <a:tab algn="l" pos="1895400"/>
                <a:tab algn="l" pos="2344680"/>
                <a:tab algn="l" pos="2793960"/>
                <a:tab algn="l" pos="3243240"/>
                <a:tab algn="l" pos="3692520"/>
                <a:tab algn="l" pos="4141800"/>
                <a:tab algn="l" pos="4591080"/>
                <a:tab algn="l" pos="504036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6040"/>
                <a:tab algn="l" pos="8185320"/>
                <a:tab algn="l" pos="8634240"/>
                <a:tab algn="l" pos="9083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Schoolbook"/>
              </a:rPr>
              <a:t>Пакет разработок творческих и социальных проектов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44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2800"/>
                <a:tab algn="l" pos="547560"/>
                <a:tab algn="l" pos="996840"/>
                <a:tab algn="l" pos="1446120"/>
                <a:tab algn="l" pos="1895400"/>
                <a:tab algn="l" pos="2344680"/>
                <a:tab algn="l" pos="2793960"/>
                <a:tab algn="l" pos="3243240"/>
                <a:tab algn="l" pos="3692520"/>
                <a:tab algn="l" pos="4141800"/>
                <a:tab algn="l" pos="4591080"/>
                <a:tab algn="l" pos="5040360"/>
                <a:tab algn="l" pos="5489640"/>
                <a:tab algn="l" pos="5938920"/>
                <a:tab algn="l" pos="6388200"/>
                <a:tab algn="l" pos="6837480"/>
                <a:tab algn="l" pos="7286760"/>
                <a:tab algn="l" pos="7736040"/>
                <a:tab algn="l" pos="8185320"/>
                <a:tab algn="l" pos="8634240"/>
                <a:tab algn="l" pos="9083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02640" cy="1825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Прямоугольник 3"/>
          <p:cNvSpPr/>
          <p:nvPr/>
        </p:nvSpPr>
        <p:spPr>
          <a:xfrm>
            <a:off x="611280" y="260280"/>
            <a:ext cx="79214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entury Schoolbook"/>
              </a:rPr>
              <a:t>Ученическое самоуправление в младших классах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600" spc="-1" strike="noStrike">
                <a:solidFill>
                  <a:srgbClr val="191966"/>
                </a:solidFill>
                <a:latin typeface="Century Schoolbook"/>
              </a:rPr>
              <a:t> – </a:t>
            </a:r>
            <a:r>
              <a:rPr b="0" lang="ru-RU" sz="3600" spc="-1" strike="noStrike">
                <a:solidFill>
                  <a:srgbClr val="191966"/>
                </a:solidFill>
                <a:latin typeface="Century Schoolbook"/>
              </a:rPr>
              <a:t>это фундамент, от качества которого зависит не только социальная инициатива учеников в дальнейшем, но и состояние государственно-общественного управление образовательным учреждении в цело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1" descr=""/>
          <p:cNvPicPr/>
          <p:nvPr/>
        </p:nvPicPr>
        <p:blipFill>
          <a:blip r:embed="rId1"/>
          <a:stretch/>
        </p:blipFill>
        <p:spPr>
          <a:xfrm>
            <a:off x="1916280" y="2349360"/>
            <a:ext cx="5256000" cy="3708720"/>
          </a:xfrm>
          <a:prstGeom prst="rect">
            <a:avLst/>
          </a:prstGeom>
          <a:ln w="0">
            <a:noFill/>
          </a:ln>
        </p:spPr>
      </p:pic>
      <p:sp>
        <p:nvSpPr>
          <p:cNvPr id="627" name="TextBox 1"/>
          <p:cNvSpPr/>
          <p:nvPr/>
        </p:nvSpPr>
        <p:spPr>
          <a:xfrm>
            <a:off x="754560" y="260280"/>
            <a:ext cx="762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c9f165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400" spc="-1" strike="noStrike">
                <a:solidFill>
                  <a:srgbClr val="c9f165"/>
                </a:solidFill>
                <a:latin typeface="Arial"/>
              </a:rPr>
              <a:t>Творческих  Вам  успехов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7fac"/>
            </a:gs>
            <a:gs pos="100000">
              <a:srgbClr val="263c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8532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 u="sng">
                <a:solidFill>
                  <a:srgbClr val="99f166"/>
                </a:solidFill>
                <a:uFillTx/>
                <a:latin typeface="Century Schoolbook"/>
              </a:rPr>
              <a:t>Самоуправление  учащихся </a:t>
            </a:r>
            <a:r>
              <a:rPr b="1" i="1" lang="ru-RU" sz="4000" spc="-1" strike="noStrike">
                <a:solidFill>
                  <a:srgbClr val="99f166"/>
                </a:solidFill>
                <a:latin typeface="Century Schoolbook"/>
              </a:rPr>
              <a:t>–</a:t>
            </a:r>
            <a:br>
              <a:rPr sz="4000"/>
            </a:br>
            <a:r>
              <a:rPr b="1" i="1" lang="ru-RU" sz="4000" spc="-1" strike="noStrike">
                <a:solidFill>
                  <a:srgbClr val="99f166"/>
                </a:solidFill>
                <a:latin typeface="Century Schoolbook"/>
              </a:rPr>
              <a:t>самостоятельность  в проявлении инициативы,</a:t>
            </a:r>
            <a:br>
              <a:rPr sz="4000"/>
            </a:br>
            <a:r>
              <a:rPr b="1" i="1" lang="ru-RU" sz="4000" spc="-1" strike="noStrike">
                <a:solidFill>
                  <a:srgbClr val="99f166"/>
                </a:solidFill>
                <a:latin typeface="Century Schoolbook"/>
              </a:rPr>
              <a:t>принятии  решения  и  его  самореализации в  интересах  своего  коллектива  или </a:t>
            </a:r>
            <a:br>
              <a:rPr sz="4000"/>
            </a:br>
            <a:r>
              <a:rPr b="1" i="1" lang="ru-RU" sz="4000" spc="-1" strike="noStrike">
                <a:solidFill>
                  <a:srgbClr val="99f166"/>
                </a:solidFill>
                <a:latin typeface="Century Schoolbook"/>
              </a:rPr>
              <a:t>организации.</a:t>
            </a:r>
            <a:br>
              <a:rPr sz="4000"/>
            </a:br>
            <a:endParaRPr b="0" lang="en-US" sz="4000" spc="-1" strike="noStrike">
              <a:solidFill>
                <a:srgbClr val="99f166"/>
              </a:solidFill>
              <a:latin typeface="Century Schoolbook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Прямоугольник 3"/>
          <p:cNvSpPr/>
          <p:nvPr/>
        </p:nvSpPr>
        <p:spPr>
          <a:xfrm>
            <a:off x="755640" y="549360"/>
            <a:ext cx="7777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664d"/>
                </a:solidFill>
                <a:latin typeface="Century Schoolbook"/>
              </a:rPr>
              <a:t>Целевые ориентиры ученического самоуправления в младших классах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entury Schoolbook"/>
              </a:rPr>
              <a:t>Содействие развитию ребен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entury Schoolbook"/>
              </a:rPr>
              <a:t>Формирование детского коллектива как команд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3300"/>
                </a:solidFill>
                <a:latin typeface="Century Schoolbook"/>
              </a:rPr>
              <a:t>Формирование у учащихся готовности к выполнению различных поручений, т.е. выполнять систему социальных ро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оугольник 3"/>
          <p:cNvSpPr/>
          <p:nvPr/>
        </p:nvSpPr>
        <p:spPr>
          <a:xfrm>
            <a:off x="250920" y="620640"/>
            <a:ext cx="820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664d"/>
                </a:solidFill>
                <a:latin typeface="Century Schoolbook"/>
              </a:rPr>
              <a:t>Содействие развитию ребенка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Schoolbook"/>
              </a:rPr>
              <a:t>1.</a:t>
            </a: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Развитие творческого потенциала дет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Schoolbook"/>
              </a:rPr>
              <a:t>2.</a:t>
            </a: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Стимулирование саморазвит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Schoolbook"/>
              </a:rPr>
              <a:t>3.</a:t>
            </a: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Планомерное развитие склонностей, способностей и талантов дет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entury Schoolbook"/>
              </a:rPr>
              <a:t>4.</a:t>
            </a: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Развитие инициативы и актив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entury Schoolbook"/>
              </a:rPr>
              <a:t>5.</a:t>
            </a:r>
            <a:r>
              <a:rPr b="0" lang="ru-RU" sz="3200" spc="-1" strike="noStrike">
                <a:solidFill>
                  <a:srgbClr val="ffff00"/>
                </a:solidFill>
                <a:latin typeface="Century Schoolbook"/>
              </a:rPr>
              <a:t>Развитие самостоя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Прямоугольник 1"/>
          <p:cNvSpPr/>
          <p:nvPr/>
        </p:nvSpPr>
        <p:spPr>
          <a:xfrm>
            <a:off x="395280" y="1582560"/>
            <a:ext cx="820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664d"/>
                </a:solidFill>
                <a:latin typeface="Century Schoolbook"/>
              </a:rPr>
              <a:t>Формирование детского коллектива как команд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1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Воспитание уважения к мнению други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2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Формирование основ взаимодейств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3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Обучение навыкам общения и слуш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4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Воспитание чувства ответственности за свои поступки и поступки своих товарищ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5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Приобщение к коллективной творческой дея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6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Побуждение к осознанному применению навыков культуры поведения при взаимодейств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7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Формирование умений побеждать и проигрывать</a:t>
            </a:r>
            <a:r>
              <a:rPr b="0" lang="ru-RU" sz="2400" spc="-1" strike="noStrike">
                <a:solidFill>
                  <a:srgbClr val="ffffff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1"/>
          <p:cNvSpPr/>
          <p:nvPr/>
        </p:nvSpPr>
        <p:spPr>
          <a:xfrm>
            <a:off x="250920" y="1720800"/>
            <a:ext cx="871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664d"/>
                </a:solidFill>
                <a:latin typeface="Century Schoolbook"/>
              </a:rPr>
              <a:t>Формирование у учащихся готовности к выполнению различных поручен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1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Развитие социальной направленности в дея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2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Побуждение к самостоятельному выбору видов и способов дея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3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Побуждение к участию в подготовке де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4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Привлечение к анализу де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5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Развитие стремления к достижению ступеней ро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6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Побуждение к выполнению поручен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entury Schoolbook"/>
              </a:rPr>
              <a:t>7. </a:t>
            </a:r>
            <a:r>
              <a:rPr b="0" lang="ru-RU" sz="2400" spc="-1" strike="noStrike">
                <a:solidFill>
                  <a:srgbClr val="ffff00"/>
                </a:solidFill>
                <a:latin typeface="Century Schoolbook"/>
              </a:rPr>
              <a:t>Развитие адекватной самооценки и приобщение к анализу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Прямоугольник 1"/>
          <p:cNvSpPr/>
          <p:nvPr/>
        </p:nvSpPr>
        <p:spPr>
          <a:xfrm>
            <a:off x="500040" y="285840"/>
            <a:ext cx="813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Схема развития ученического самоуправления в младших класс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Прямоугольник 2"/>
          <p:cNvSpPr/>
          <p:nvPr/>
        </p:nvSpPr>
        <p:spPr>
          <a:xfrm>
            <a:off x="2546280" y="5445000"/>
            <a:ext cx="460872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Этап подраж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(1-2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Прямоугольник 3"/>
          <p:cNvSpPr/>
          <p:nvPr/>
        </p:nvSpPr>
        <p:spPr>
          <a:xfrm>
            <a:off x="2546280" y="4556160"/>
            <a:ext cx="4608720" cy="9144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Этап частичной самосто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(2-3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Прямоугольник 4"/>
          <p:cNvSpPr/>
          <p:nvPr/>
        </p:nvSpPr>
        <p:spPr>
          <a:xfrm>
            <a:off x="2556000" y="3641760"/>
            <a:ext cx="4599000" cy="91440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Этап более полной самосто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(3-4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Равнобедренный треугольник 5"/>
          <p:cNvSpPr/>
          <p:nvPr/>
        </p:nvSpPr>
        <p:spPr>
          <a:xfrm>
            <a:off x="2556000" y="1544760"/>
            <a:ext cx="4603680" cy="2084400"/>
          </a:xfrm>
          <a:prstGeom prst="triangle">
            <a:avLst>
              <a:gd name="adj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Box 6"/>
          <p:cNvSpPr/>
          <p:nvPr/>
        </p:nvSpPr>
        <p:spPr>
          <a:xfrm>
            <a:off x="2843280" y="3213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606060"/>
                </a:solidFill>
                <a:latin typeface="Century Schoolbook"/>
              </a:rPr>
              <a:t>САМОУПРАВЛ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Прямоугольник 1"/>
          <p:cNvSpPr/>
          <p:nvPr/>
        </p:nvSpPr>
        <p:spPr>
          <a:xfrm>
            <a:off x="2571840" y="285840"/>
            <a:ext cx="46083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Этап подраж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(1-2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Прямоугольник 2"/>
          <p:cNvSpPr/>
          <p:nvPr/>
        </p:nvSpPr>
        <p:spPr>
          <a:xfrm>
            <a:off x="2627280" y="2565360"/>
            <a:ext cx="4608720" cy="9144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Этап частичной самосто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(2-3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Прямоугольник 3"/>
          <p:cNvSpPr/>
          <p:nvPr/>
        </p:nvSpPr>
        <p:spPr>
          <a:xfrm>
            <a:off x="2643120" y="4643280"/>
            <a:ext cx="4599000" cy="91440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Этап более полной самосто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262626"/>
                </a:solidFill>
                <a:latin typeface="Arial"/>
              </a:rPr>
              <a:t>(3-4 клас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Прямоугольник 4"/>
          <p:cNvSpPr/>
          <p:nvPr/>
        </p:nvSpPr>
        <p:spPr>
          <a:xfrm>
            <a:off x="1214280" y="15717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ети действуют по готовому образцу с помощью взрослых, копируя их действ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Прямоугольник 5"/>
          <p:cNvSpPr/>
          <p:nvPr/>
        </p:nvSpPr>
        <p:spPr>
          <a:xfrm>
            <a:off x="1285920" y="385776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ети в состоянии выполнить самостоятельно часть работы, могут сами находить некоторые способы их осуществ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Прямоугольник 6"/>
          <p:cNvSpPr/>
          <p:nvPr/>
        </p:nvSpPr>
        <p:spPr>
          <a:xfrm>
            <a:off x="1357200" y="59292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ети выполняют определенную работу самостоятельно в повторяющихся ситуац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Стрелка вниз 7"/>
          <p:cNvSpPr/>
          <p:nvPr/>
        </p:nvSpPr>
        <p:spPr>
          <a:xfrm>
            <a:off x="4714920" y="1214280"/>
            <a:ext cx="214200" cy="3574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Стрелка вниз 8"/>
          <p:cNvSpPr/>
          <p:nvPr/>
        </p:nvSpPr>
        <p:spPr>
          <a:xfrm>
            <a:off x="4786200" y="350028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Стрелка вниз 9"/>
          <p:cNvSpPr/>
          <p:nvPr/>
        </p:nvSpPr>
        <p:spPr>
          <a:xfrm>
            <a:off x="4786200" y="5572080"/>
            <a:ext cx="214560" cy="35712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05:16:23Z</dcterms:created>
  <dc:creator>Пользователь</dc:creator>
  <dc:description/>
  <dc:language>en-US</dc:language>
  <cp:lastModifiedBy>user</cp:lastModifiedBy>
  <dcterms:modified xsi:type="dcterms:W3CDTF">2015-02-04T15:20:53Z</dcterms:modified>
  <cp:revision>87</cp:revision>
  <dc:subject/>
  <dc:title>Слайд 1</dc:title>
</cp:coreProperties>
</file>