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4.gif" ContentType="image/gif"/>
  <Override PartName="/ppt/media/image32.jpeg" ContentType="image/jpeg"/>
  <Override PartName="/ppt/media/image22.gif" ContentType="image/gif"/>
  <Override PartName="/ppt/media/image19.gif" ContentType="image/gif"/>
  <Override PartName="/ppt/media/image21.jpeg" ContentType="image/jpeg"/>
  <Override PartName="/ppt/media/image36.gif" ContentType="image/gif"/>
  <Override PartName="/ppt/media/image12.gif" ContentType="image/gif"/>
  <Override PartName="/ppt/media/image30.jpeg" ContentType="image/jpeg"/>
  <Override PartName="/ppt/media/image3.jpeg" ContentType="image/jpeg"/>
  <Override PartName="/ppt/media/image37.jpeg" ContentType="image/jpeg"/>
  <Override PartName="/ppt/media/image25.gif" ContentType="image/gif"/>
  <Override PartName="/ppt/media/image10.jpeg" ContentType="image/jpeg"/>
  <Override PartName="/ppt/media/image18.gif" ContentType="image/gif"/>
  <Override PartName="/ppt/media/image13.jpeg" ContentType="image/jpeg"/>
  <Override PartName="/ppt/media/image31.wmf" ContentType="image/x-wmf"/>
  <Override PartName="/ppt/media/image6.wmf" ContentType="image/x-wmf"/>
  <Override PartName="/ppt/media/image11.jpeg" ContentType="image/jpeg"/>
  <Override PartName="/ppt/media/image33.gif" ContentType="image/gif"/>
  <Override PartName="/ppt/media/image34.jpeg" ContentType="image/jpeg"/>
  <Override PartName="/ppt/media/image15.gif" ContentType="image/gif"/>
  <Override PartName="/ppt/media/image28.jpeg" ContentType="image/jpeg"/>
  <Override PartName="/ppt/media/image29.jpeg" ContentType="image/jpeg"/>
  <Override PartName="/ppt/media/image7.gif" ContentType="image/gif"/>
  <Override PartName="/ppt/media/image2.jpeg" ContentType="image/jpeg"/>
  <Override PartName="/ppt/media/image23.jpeg" ContentType="image/jpeg"/>
  <Override PartName="/ppt/media/image8.gif" ContentType="image/gif"/>
  <Override PartName="/ppt/media/image4.wmf" ContentType="image/x-wmf"/>
  <Override PartName="/ppt/media/image35.jpeg" ContentType="image/jpeg"/>
  <Override PartName="/ppt/media/image1.jpeg" ContentType="image/jpeg"/>
  <Override PartName="/ppt/media/image14.gif" ContentType="image/gif"/>
  <Override PartName="/ppt/media/image9.gif" ContentType="image/gif"/>
  <Override PartName="/ppt/media/image5.wmf" ContentType="image/x-wmf"/>
  <Override PartName="/ppt/media/image16.jpeg" ContentType="image/jpeg"/>
  <Override PartName="/ppt/media/image27.jpeg" ContentType="image/jpeg"/>
  <Override PartName="/ppt/media/image1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11A-2A02-4249-A8E2-E1E41AA6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60A-8DD6-4584-93F3-696853E8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33B-985D-4311-96B0-4F53EA76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9E3-C2C6-4509-B387-D994DFFA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925-9E7F-49A4-AB31-E8038875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85D-F8E1-4754-BA40-18A41F2C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D7F-5F96-408B-A150-E6EF9654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725-4C69-4BFF-9C3A-36FE5F33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51F-4981-4535-AC85-022F852D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4F7-D17B-432E-B992-FDDB859E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F95-ED3D-47A8-B879-EB416D97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70E-993E-4DD8-BB92-559677CF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54DD-2E34-4712-A01D-BFA20368C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.wmf"/><Relationship Id="rId15" Type="http://schemas.openxmlformats.org/officeDocument/2006/relationships/image" Target="../media/image7.gi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.wmf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1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82080" y="189000"/>
            <a:ext cx="708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42492"/>
                </a:solidFill>
                <a:latin typeface="Arial Black"/>
              </a:rPr>
              <a:t>Правила поведения 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42492"/>
                </a:solidFill>
                <a:latin typeface="Arial Black"/>
              </a:rPr>
              <a:t>           </a:t>
            </a:r>
            <a:r>
              <a:rPr b="1" i="1" lang="ru-RU" sz="5400" spc="-1" strike="noStrike">
                <a:solidFill>
                  <a:srgbClr val="242492"/>
                </a:solidFill>
                <a:latin typeface="Arial Black"/>
              </a:rPr>
              <a:t>в лесу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7" descr="Krotov_Sasha_15let(2)_500"/>
          <p:cNvPicPr/>
          <p:nvPr/>
        </p:nvPicPr>
        <p:blipFill>
          <a:blip r:embed="rId1"/>
          <a:stretch/>
        </p:blipFill>
        <p:spPr>
          <a:xfrm>
            <a:off x="5773680" y="1628640"/>
            <a:ext cx="2830680" cy="4087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Antonova_Polina_12let(500)"/>
          <p:cNvPicPr/>
          <p:nvPr/>
        </p:nvPicPr>
        <p:blipFill>
          <a:blip r:embed="rId2"/>
          <a:stretch/>
        </p:blipFill>
        <p:spPr>
          <a:xfrm>
            <a:off x="324000" y="1628640"/>
            <a:ext cx="2868480" cy="410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9"/>
          <p:cNvGraphicFramePr/>
          <p:nvPr/>
        </p:nvGraphicFramePr>
        <p:xfrm>
          <a:off x="1403280" y="5915160"/>
          <a:ext cx="620640" cy="8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5915160"/>
                    <a:ext cx="620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11"/>
          <p:cNvGraphicFramePr/>
          <p:nvPr/>
        </p:nvGraphicFramePr>
        <p:xfrm>
          <a:off x="2916360" y="5805360"/>
          <a:ext cx="72684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5805360"/>
                    <a:ext cx="72684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12"/>
          <p:cNvGraphicFramePr/>
          <p:nvPr/>
        </p:nvGraphicFramePr>
        <p:xfrm>
          <a:off x="179280" y="5867280"/>
          <a:ext cx="727200" cy="87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5867280"/>
                    <a:ext cx="7272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13"/>
          <p:cNvGraphicFramePr/>
          <p:nvPr/>
        </p:nvGraphicFramePr>
        <p:xfrm>
          <a:off x="5219640" y="5661000"/>
          <a:ext cx="582840" cy="103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5661000"/>
                    <a:ext cx="582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16" descr="4"/>
          <p:cNvPicPr/>
          <p:nvPr/>
        </p:nvPicPr>
        <p:blipFill>
          <a:blip r:embed="rId11"/>
          <a:stretch/>
        </p:blipFill>
        <p:spPr>
          <a:xfrm>
            <a:off x="1973160" y="5622840"/>
            <a:ext cx="943200" cy="119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butterfly52"/>
          <p:cNvPicPr/>
          <p:nvPr/>
        </p:nvPicPr>
        <p:blipFill>
          <a:blip r:embed="rId12"/>
          <a:stretch/>
        </p:blipFill>
        <p:spPr>
          <a:xfrm>
            <a:off x="3780000" y="5334120"/>
            <a:ext cx="15238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18"/>
          <p:cNvGraphicFramePr/>
          <p:nvPr/>
        </p:nvGraphicFramePr>
        <p:xfrm>
          <a:off x="971640" y="5781600"/>
          <a:ext cx="582480" cy="103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5781600"/>
                    <a:ext cx="5824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9" descr="4"/>
          <p:cNvPicPr/>
          <p:nvPr/>
        </p:nvPicPr>
        <p:blipFill>
          <a:blip r:embed="rId15"/>
          <a:stretch/>
        </p:blipFill>
        <p:spPr>
          <a:xfrm>
            <a:off x="6437160" y="5622840"/>
            <a:ext cx="943200" cy="119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Object 20"/>
          <p:cNvGraphicFramePr/>
          <p:nvPr/>
        </p:nvGraphicFramePr>
        <p:xfrm>
          <a:off x="5796000" y="5877000"/>
          <a:ext cx="620640" cy="826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8" name="Object 2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6000" y="5877000"/>
                    <a:ext cx="620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92840" y="3716280"/>
            <a:ext cx="70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разжигай костёр в лесу без взрослы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636560" y="4149720"/>
            <a:ext cx="633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з взрослых с огнём развлекаться опасно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кончиться может забава ужасно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лесу очень сухо бывает порой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остёр обернётся серьёзной бедо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дставьте, что пламя легко разгорит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чнёт полыхать, разбегаться искриться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го потушить невозможно тогд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жары лесные – большая беда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6" descr="9"/>
          <p:cNvPicPr/>
          <p:nvPr/>
        </p:nvPicPr>
        <p:blipFill>
          <a:blip r:embed="rId1"/>
          <a:stretch/>
        </p:blipFill>
        <p:spPr>
          <a:xfrm>
            <a:off x="1619280" y="95400"/>
            <a:ext cx="5473800" cy="3647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248200" y="4292640"/>
            <a:ext cx="42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оставляй мусор в лесу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6360" y="4653000"/>
            <a:ext cx="4324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ы в поход пришли, ребят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тдохнуть, конечно, надо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играть и порезвить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наесться, и напиться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о вокруг остались банк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Целлофан, железки, склянк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321160" y="4653000"/>
            <a:ext cx="386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ставлять их здесь нельзя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поленимся, друзья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усор тут, в лесу, чужой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берём его с собо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7" descr="10"/>
          <p:cNvPicPr/>
          <p:nvPr/>
        </p:nvPicPr>
        <p:blipFill>
          <a:blip r:embed="rId1"/>
          <a:stretch/>
        </p:blipFill>
        <p:spPr>
          <a:xfrm>
            <a:off x="1692360" y="189000"/>
            <a:ext cx="6264360" cy="417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592360" y="479736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бейте стекло в лесу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79280" y="5241960"/>
            <a:ext cx="431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льзя  стекло в лесу кида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льзя бутылки разбивать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сколки острые опасны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 них порежешься ужасно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691880" y="5300640"/>
            <a:ext cx="40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А если вдруг на них свалиться –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больнице можно очутиться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И обитателям лесным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текляшки тоже не нужны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7" descr="11"/>
          <p:cNvPicPr/>
          <p:nvPr/>
        </p:nvPicPr>
        <p:blipFill>
          <a:blip r:embed="rId1"/>
          <a:stretch/>
        </p:blipFill>
        <p:spPr>
          <a:xfrm>
            <a:off x="1116000" y="260280"/>
            <a:ext cx="6840720" cy="4559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33200" y="189000"/>
            <a:ext cx="59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вырезайте надписи на деревья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58400" y="907920"/>
            <a:ext cx="43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тоят деревья – великаны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х не жалеют хулиганы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режут острыми ножами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лова на дереве – «на память!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71720" y="2781360"/>
            <a:ext cx="372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о так жестоко поступа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льзя деревья обижать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ускай они в лесу растут-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обро и красоту несут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7" name="Object 7"/>
          <p:cNvGraphicFramePr/>
          <p:nvPr/>
        </p:nvGraphicFramePr>
        <p:xfrm>
          <a:off x="3203640" y="3429000"/>
          <a:ext cx="189216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429000"/>
                    <a:ext cx="18921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8" descr="12"/>
          <p:cNvPicPr/>
          <p:nvPr/>
        </p:nvPicPr>
        <p:blipFill>
          <a:blip r:embed="rId3"/>
          <a:stretch/>
        </p:blipFill>
        <p:spPr>
          <a:xfrm>
            <a:off x="5292720" y="765000"/>
            <a:ext cx="3519360" cy="5759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820440" y="4797360"/>
            <a:ext cx="60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вырывайте кустарники с корне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18240" y="5300640"/>
            <a:ext cx="398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аз ты собрался по грибы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 собою острый нож бери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м аккуратно гриб срезай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земле грибницу оставля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372560" y="5305320"/>
            <a:ext cx="412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 если встретил землянику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уст брусники иль черники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жно ягодки сорв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 куст – оставь, поберег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11" descr="2l"/>
          <p:cNvPicPr/>
          <p:nvPr/>
        </p:nvPicPr>
        <p:blipFill>
          <a:blip r:embed="rId1"/>
          <a:stretch/>
        </p:blipFill>
        <p:spPr>
          <a:xfrm>
            <a:off x="7740720" y="189000"/>
            <a:ext cx="118908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14"/>
          <p:cNvPicPr/>
          <p:nvPr/>
        </p:nvPicPr>
        <p:blipFill>
          <a:blip r:embed="rId2"/>
          <a:stretch/>
        </p:blipFill>
        <p:spPr>
          <a:xfrm>
            <a:off x="324000" y="189000"/>
            <a:ext cx="6910200" cy="4606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605600" y="4221000"/>
            <a:ext cx="53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портите несъедобные гриб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38600" y="4869000"/>
            <a:ext cx="423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лесу грибов различных много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ы несъедобные не трогай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корзинку их не собирай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о и ногами не сбивай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ужны они лесным зверятам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Лисичкам, ёжикам, зайчатам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696560" y="486900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Их только люди не едят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поганках, мухоморах – яд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о для зверья лесного всё ж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от гриб полезен и хорош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8" name="Picture 10" descr="13"/>
          <p:cNvPicPr/>
          <p:nvPr/>
        </p:nvPicPr>
        <p:blipFill>
          <a:blip r:embed="rId1"/>
          <a:stretch/>
        </p:blipFill>
        <p:spPr>
          <a:xfrm>
            <a:off x="1692360" y="189000"/>
            <a:ext cx="5976720" cy="3984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51200" y="40464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обижай зме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95840" y="1052640"/>
            <a:ext cx="404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ы, змею не обижай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, увидев, палку не хватай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маши руками, не кричи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осто отойди и помолч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45960" y="2781360"/>
            <a:ext cx="37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Хоть опасны змеи, но нужны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Чистоту беречь они должны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анитарам леса и воды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ы не делай зла или беды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7" descr="3d55"/>
          <p:cNvPicPr/>
          <p:nvPr/>
        </p:nvPicPr>
        <p:blipFill>
          <a:blip r:embed="rId1"/>
          <a:stretch/>
        </p:blipFill>
        <p:spPr>
          <a:xfrm>
            <a:off x="468360" y="5734080"/>
            <a:ext cx="844560" cy="84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19"/>
          <p:cNvPicPr/>
          <p:nvPr/>
        </p:nvPicPr>
        <p:blipFill>
          <a:blip r:embed="rId2"/>
          <a:stretch/>
        </p:blipFill>
        <p:spPr>
          <a:xfrm>
            <a:off x="5003640" y="189000"/>
            <a:ext cx="3959280" cy="6478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048560" y="128520"/>
            <a:ext cx="50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242492"/>
                </a:solidFill>
                <a:latin typeface="Tahoma"/>
              </a:rPr>
              <a:t>Не разоряйте птичьи гнёзд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098320" y="1125360"/>
            <a:ext cx="3562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ети запомнить должны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понять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нёзда у птичек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льзя разоря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ли в трав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видали яйц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ли услышали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ики птенцов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приближайтес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лезьте туд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не тревожьт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и птиц, ни гнезд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1" name="Picture 6" descr="3d29"/>
          <p:cNvPicPr/>
          <p:nvPr/>
        </p:nvPicPr>
        <p:blipFill>
          <a:blip r:embed="rId1"/>
          <a:stretch/>
        </p:blipFill>
        <p:spPr>
          <a:xfrm>
            <a:off x="7451640" y="530064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1"/>
          <p:cNvPicPr/>
          <p:nvPr/>
        </p:nvPicPr>
        <p:blipFill>
          <a:blip r:embed="rId2"/>
          <a:stretch/>
        </p:blipFill>
        <p:spPr>
          <a:xfrm>
            <a:off x="324000" y="189000"/>
            <a:ext cx="3958920" cy="6478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750680" y="443700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разоряйте муравейни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49760" y="4941720"/>
            <a:ext cx="415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уравьи – лесные санитары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ак прозвали люди их недаром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Чтобы лес красив был и здоров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Без личинок вредных и жуков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уравьи на страже день и ночь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Гонят разных короедов прочь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497480" y="494172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олько ты им, друг мой, не мешай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уравейники не разоряй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Эти санитары так нужны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ля лесов твоей родной страны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7" descr="2"/>
          <p:cNvPicPr/>
          <p:nvPr/>
        </p:nvPicPr>
        <p:blipFill>
          <a:blip r:embed="rId1"/>
          <a:stretch/>
        </p:blipFill>
        <p:spPr>
          <a:xfrm>
            <a:off x="1187280" y="189000"/>
            <a:ext cx="6480360" cy="4319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08640" y="378936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забирай из леса домой животны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67560" y="4221000"/>
            <a:ext cx="31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ля ёжиков и белок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Лес – это дом родно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ни живут там смел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летом и зимой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042640" y="5373720"/>
            <a:ext cx="327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этому не стоит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х в город забирать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верь: они в невол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будут есть и спать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8" descr="3d16"/>
          <p:cNvPicPr/>
          <p:nvPr/>
        </p:nvPicPr>
        <p:blipFill>
          <a:blip r:embed="rId1"/>
          <a:stretch/>
        </p:blipFill>
        <p:spPr>
          <a:xfrm>
            <a:off x="7740720" y="5518080"/>
            <a:ext cx="1165320" cy="1165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"/>
          <p:cNvSpPr/>
          <p:nvPr/>
        </p:nvSpPr>
        <p:spPr>
          <a:xfrm>
            <a:off x="4284720" y="4292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ходят пропитань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воих детей растят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уходить из лес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исколько не хотят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11" descr="3"/>
          <p:cNvPicPr/>
          <p:nvPr/>
        </p:nvPicPr>
        <p:blipFill>
          <a:blip r:embed="rId2"/>
          <a:stretch/>
        </p:blipFill>
        <p:spPr>
          <a:xfrm>
            <a:off x="1619280" y="47520"/>
            <a:ext cx="5614920" cy="374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088720" y="472428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обижай лесных насекомы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81520" y="5300640"/>
            <a:ext cx="426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лесу летают мотыльк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лзут козявки и жук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ирода мать им жизнь дал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У них у всех свои дел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810320" y="5300640"/>
            <a:ext cx="406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ы их увидишь на пути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обижай, а отойди 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з насекомых лес, друг мой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одинокий, и пустой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Picture 8" descr="butterfly3"/>
          <p:cNvPicPr/>
          <p:nvPr/>
        </p:nvPicPr>
        <p:blipFill>
          <a:blip r:embed="rId1"/>
          <a:stretch/>
        </p:blipFill>
        <p:spPr>
          <a:xfrm>
            <a:off x="7956720" y="429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butterfly12"/>
          <p:cNvPicPr/>
          <p:nvPr/>
        </p:nvPicPr>
        <p:blipFill>
          <a:blip r:embed="rId2"/>
          <a:stretch/>
        </p:blipFill>
        <p:spPr>
          <a:xfrm>
            <a:off x="179280" y="0"/>
            <a:ext cx="952560" cy="961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4"/>
          <p:cNvPicPr/>
          <p:nvPr/>
        </p:nvPicPr>
        <p:blipFill>
          <a:blip r:embed="rId3"/>
          <a:stretch/>
        </p:blipFill>
        <p:spPr>
          <a:xfrm>
            <a:off x="1403280" y="235080"/>
            <a:ext cx="6408720" cy="4271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21000" y="40464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рвите полевые цвет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-34920" y="1125360"/>
            <a:ext cx="5761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Цветы украшают луга и лес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о это не только природы краса-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них пчёлы находят целительный дар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бабочки пьют из них сладкий нектар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надо, друзья, их бессмысленно рва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надо букеты из них составлять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вянут букеты…Погибнут цветы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больше не будет такой красоты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6" descr="f72"/>
          <p:cNvPicPr/>
          <p:nvPr/>
        </p:nvPicPr>
        <p:blipFill>
          <a:blip r:embed="rId1"/>
          <a:stretch/>
        </p:blipFill>
        <p:spPr>
          <a:xfrm>
            <a:off x="2195640" y="5084640"/>
            <a:ext cx="1455480" cy="1382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f111"/>
          <p:cNvPicPr/>
          <p:nvPr/>
        </p:nvPicPr>
        <p:blipFill>
          <a:blip r:embed="rId2"/>
          <a:stretch/>
        </p:blipFill>
        <p:spPr>
          <a:xfrm>
            <a:off x="755640" y="5300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flowers32"/>
          <p:cNvPicPr/>
          <p:nvPr/>
        </p:nvPicPr>
        <p:blipFill>
          <a:blip r:embed="rId3"/>
          <a:stretch/>
        </p:blipFill>
        <p:spPr>
          <a:xfrm>
            <a:off x="1763640" y="5229360"/>
            <a:ext cx="981000" cy="130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5"/>
          <p:cNvPicPr/>
          <p:nvPr/>
        </p:nvPicPr>
        <p:blipFill>
          <a:blip r:embed="rId4"/>
          <a:stretch/>
        </p:blipFill>
        <p:spPr>
          <a:xfrm>
            <a:off x="5651640" y="1557360"/>
            <a:ext cx="3360600" cy="504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butterfly12"/>
          <p:cNvPicPr/>
          <p:nvPr/>
        </p:nvPicPr>
        <p:blipFill>
          <a:blip r:embed="rId5"/>
          <a:stretch/>
        </p:blipFill>
        <p:spPr>
          <a:xfrm>
            <a:off x="4284720" y="4653000"/>
            <a:ext cx="952560" cy="96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390400" y="455616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рвите редкие цвет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0200" y="5300640"/>
            <a:ext cx="372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ть цветочки редкие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лые и нежные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ам кивнут приветлив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Ландыши, подснежник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167000" y="5241960"/>
            <a:ext cx="400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олько рвать не надо их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 ними лес добрей, светл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едь теперь цветов таких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чень мало на земле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7" descr="6"/>
          <p:cNvPicPr/>
          <p:nvPr/>
        </p:nvPicPr>
        <p:blipFill>
          <a:blip r:embed="rId1"/>
          <a:stretch/>
        </p:blipFill>
        <p:spPr>
          <a:xfrm>
            <a:off x="1116000" y="141120"/>
            <a:ext cx="6696000" cy="4464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74840" y="333360"/>
            <a:ext cx="380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ловите бабочек 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                              </a:t>
            </a: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стрекоз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38840" y="1413000"/>
            <a:ext cx="294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абочка цветная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д тобой порхает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трекоза резвит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ляшет, веселится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42080" y="3357720"/>
            <a:ext cx="288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Лету все так рады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х ловить не надо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усть себе летают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емлю украшают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7" descr="butterfly42"/>
          <p:cNvPicPr/>
          <p:nvPr/>
        </p:nvPicPr>
        <p:blipFill>
          <a:blip r:embed="rId1"/>
          <a:stretch/>
        </p:blipFill>
        <p:spPr>
          <a:xfrm>
            <a:off x="7451640" y="5229360"/>
            <a:ext cx="1438200" cy="1180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7"/>
          <p:cNvPicPr/>
          <p:nvPr/>
        </p:nvPicPr>
        <p:blipFill>
          <a:blip r:embed="rId2"/>
          <a:stretch/>
        </p:blipFill>
        <p:spPr>
          <a:xfrm>
            <a:off x="4572000" y="189000"/>
            <a:ext cx="4321080" cy="647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butterfly61"/>
          <p:cNvPicPr/>
          <p:nvPr/>
        </p:nvPicPr>
        <p:blipFill>
          <a:blip r:embed="rId3"/>
          <a:stretch/>
        </p:blipFill>
        <p:spPr>
          <a:xfrm rot="1777800">
            <a:off x="7885080" y="65160"/>
            <a:ext cx="863640" cy="79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butterfly3"/>
          <p:cNvPicPr/>
          <p:nvPr/>
        </p:nvPicPr>
        <p:blipFill>
          <a:blip r:embed="rId4"/>
          <a:stretch/>
        </p:blipFill>
        <p:spPr>
          <a:xfrm>
            <a:off x="4572000" y="1773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butterfly16"/>
          <p:cNvPicPr/>
          <p:nvPr/>
        </p:nvPicPr>
        <p:blipFill>
          <a:blip r:embed="rId5"/>
          <a:stretch/>
        </p:blipFill>
        <p:spPr>
          <a:xfrm rot="1698600">
            <a:off x="2955600" y="5567400"/>
            <a:ext cx="855720" cy="554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009240" y="429264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шумите в лесу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31760" y="4724280"/>
            <a:ext cx="4548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У леса музыка своя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ё послушайте друзья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от птичьи трели раздалис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от белка скачет вверх и вниз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 вот кузнечик затрещал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 ветке дятел застучал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115600" y="5013360"/>
            <a:ext cx="397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ак много звуков тут и там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лесу не нужен шум и гам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льзя шуметь, галде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ричат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громко музыку включа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12" descr="8h"/>
          <p:cNvPicPr/>
          <p:nvPr/>
        </p:nvPicPr>
        <p:blipFill>
          <a:blip r:embed="rId1"/>
          <a:stretch/>
        </p:blipFill>
        <p:spPr>
          <a:xfrm>
            <a:off x="7885080" y="4149720"/>
            <a:ext cx="1104840" cy="806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8"/>
          <p:cNvPicPr/>
          <p:nvPr/>
        </p:nvPicPr>
        <p:blipFill>
          <a:blip r:embed="rId2"/>
          <a:stretch/>
        </p:blipFill>
        <p:spPr>
          <a:xfrm>
            <a:off x="1332000" y="189000"/>
            <a:ext cx="6049800" cy="403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8:34:26Z</dcterms:created>
  <dc:creator>Берюхова</dc:creator>
  <dc:description/>
  <dc:language>en-US</dc:language>
  <cp:lastModifiedBy>User</cp:lastModifiedBy>
  <dcterms:modified xsi:type="dcterms:W3CDTF">2015-02-04T17:17:54Z</dcterms:modified>
  <cp:revision>21</cp:revision>
  <dc:subject/>
  <dc:title>Слайд 1</dc:title>
</cp:coreProperties>
</file>