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2.gif" ContentType="image/gif"/>
  <Override PartName="/ppt/media/image19.gif" ContentType="image/gif"/>
  <Override PartName="/ppt/media/image21.jpeg" ContentType="image/jpeg"/>
  <Override PartName="/ppt/media/image36.gif" ContentType="image/gif"/>
  <Override PartName="/ppt/media/image12.gif" ContentType="image/gif"/>
  <Override PartName="/ppt/media/image30.jpeg" ContentType="image/jpeg"/>
  <Override PartName="/ppt/media/image3.jpeg" ContentType="image/jpeg"/>
  <Override PartName="/ppt/media/image37.jpeg" ContentType="image/jpeg"/>
  <Override PartName="/ppt/media/image25.gif" ContentType="image/gif"/>
  <Override PartName="/ppt/media/image10.jpeg" ContentType="image/jpeg"/>
  <Override PartName="/ppt/media/image18.gif" ContentType="image/gif"/>
  <Override PartName="/ppt/media/image13.jpeg" ContentType="image/jpeg"/>
  <Override PartName="/ppt/media/image31.wmf" ContentType="image/x-wmf"/>
  <Override PartName="/ppt/media/image6.wmf" ContentType="image/x-wmf"/>
  <Override PartName="/ppt/media/image11.jpeg" ContentType="image/jpeg"/>
  <Override PartName="/ppt/media/image33.gif" ContentType="image/gif"/>
  <Override PartName="/ppt/media/image34.jpeg" ContentType="image/jpeg"/>
  <Override PartName="/ppt/media/image15.gif" ContentType="image/gif"/>
  <Override PartName="/ppt/media/image28.jpeg" ContentType="image/jpeg"/>
  <Override PartName="/ppt/media/image29.jpeg" ContentType="image/jpeg"/>
  <Override PartName="/ppt/media/image7.gif" ContentType="image/gif"/>
  <Override PartName="/ppt/media/image2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14.gif" ContentType="image/gif"/>
  <Override PartName="/ppt/media/image9.gif" ContentType="image/gif"/>
  <Override PartName="/ppt/media/image5.wmf" ContentType="image/x-wmf"/>
  <Override PartName="/ppt/media/image16.jpeg" ContentType="image/jpeg"/>
  <Override PartName="/ppt/media/image27.jpeg" ContentType="image/jpeg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3AE-4C8C-43D9-96D2-69AC8477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852-3861-41E0-81C3-B4F5854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861-08F9-4BAA-9166-4B0A3110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56D-B503-4F42-AF5B-DEAE49C1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8CC-0538-4790-B65C-F2D11083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8A9-A7C9-4286-ADA1-A0174C5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10C-B147-4E0B-9FF7-C149DACA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814-48F6-4753-A497-4D339F1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064-26A0-4879-B52D-A85CE56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BDD-359E-4B33-9E48-3960477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A74-57DD-4AD3-AC26-C60F29F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651-2EF5-4466-AA69-F6F5F3F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3D3-5EE4-4D38-A27F-86713C9D8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7.gi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.wmf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82080" y="1890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Правила поведения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           </a:t>
            </a:r>
            <a:r>
              <a:rPr b="1" i="1" lang="ru-RU" sz="5400" spc="-1" strike="noStrike">
                <a:solidFill>
                  <a:srgbClr val="242492"/>
                </a:solidFill>
                <a:latin typeface="Arial Black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7" descr="Krotov_Sasha_15let(2)_500"/>
          <p:cNvPicPr/>
          <p:nvPr/>
        </p:nvPicPr>
        <p:blipFill>
          <a:blip r:embed="rId1"/>
          <a:stretch/>
        </p:blipFill>
        <p:spPr>
          <a:xfrm>
            <a:off x="5773680" y="1628640"/>
            <a:ext cx="2830680" cy="4087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ntonova_Polina_12let(500)"/>
          <p:cNvPicPr/>
          <p:nvPr/>
        </p:nvPicPr>
        <p:blipFill>
          <a:blip r:embed="rId2"/>
          <a:stretch/>
        </p:blipFill>
        <p:spPr>
          <a:xfrm>
            <a:off x="324000" y="1628640"/>
            <a:ext cx="2868480" cy="410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9"/>
          <p:cNvGraphicFramePr/>
          <p:nvPr/>
        </p:nvGraphicFramePr>
        <p:xfrm>
          <a:off x="1403280" y="5915160"/>
          <a:ext cx="620640" cy="8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91516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2916360" y="5805360"/>
          <a:ext cx="72684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805360"/>
                    <a:ext cx="726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2"/>
          <p:cNvGraphicFramePr/>
          <p:nvPr/>
        </p:nvGraphicFramePr>
        <p:xfrm>
          <a:off x="179280" y="5867280"/>
          <a:ext cx="7272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5867280"/>
                    <a:ext cx="727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3"/>
          <p:cNvGraphicFramePr/>
          <p:nvPr/>
        </p:nvGraphicFramePr>
        <p:xfrm>
          <a:off x="5219640" y="5661000"/>
          <a:ext cx="58284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5661000"/>
                    <a:ext cx="58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6" descr="4"/>
          <p:cNvPicPr/>
          <p:nvPr/>
        </p:nvPicPr>
        <p:blipFill>
          <a:blip r:embed="rId11"/>
          <a:stretch/>
        </p:blipFill>
        <p:spPr>
          <a:xfrm>
            <a:off x="1973160" y="562284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butterfly52"/>
          <p:cNvPicPr/>
          <p:nvPr/>
        </p:nvPicPr>
        <p:blipFill>
          <a:blip r:embed="rId12"/>
          <a:stretch/>
        </p:blipFill>
        <p:spPr>
          <a:xfrm>
            <a:off x="3780000" y="53341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8"/>
          <p:cNvGraphicFramePr/>
          <p:nvPr/>
        </p:nvGraphicFramePr>
        <p:xfrm>
          <a:off x="971640" y="5781600"/>
          <a:ext cx="582480" cy="103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5781600"/>
                    <a:ext cx="58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9" descr="4"/>
          <p:cNvPicPr/>
          <p:nvPr/>
        </p:nvPicPr>
        <p:blipFill>
          <a:blip r:embed="rId15"/>
          <a:stretch/>
        </p:blipFill>
        <p:spPr>
          <a:xfrm>
            <a:off x="6437160" y="5622840"/>
            <a:ext cx="94320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20"/>
          <p:cNvGraphicFramePr/>
          <p:nvPr/>
        </p:nvGraphicFramePr>
        <p:xfrm>
          <a:off x="5796000" y="5877000"/>
          <a:ext cx="620640" cy="826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6000" y="587700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9"/>
          <p:cNvPicPr/>
          <p:nvPr/>
        </p:nvPicPr>
        <p:blipFill>
          <a:blip r:embed="rId1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248200" y="429264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ставляй мусор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6360" y="4653000"/>
            <a:ext cx="43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 в поход пришли, ребят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охнуть, конечно, надо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играть и порезв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наесться, и напить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вокруг остались ба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321160" y="465300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тавлять их здесь нельз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ленимся, друзья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берём его с собо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7" descr="10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92360" y="479736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бейте стекло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9280" y="524196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 стекло в лесу кид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бутылки разбивать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сколки острые опасн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 них порежешься ужас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691880" y="5300640"/>
            <a:ext cx="40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А если вдруг на них свалиться –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больнице можно очутиться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 обитателям лесным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текляшки тоже не нужн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11"/>
          <p:cNvPicPr/>
          <p:nvPr/>
        </p:nvPicPr>
        <p:blipFill>
          <a:blip r:embed="rId1"/>
          <a:stretch/>
        </p:blipFill>
        <p:spPr>
          <a:xfrm>
            <a:off x="1116000" y="260280"/>
            <a:ext cx="6840720" cy="455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33200" y="189000"/>
            <a:ext cx="59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езайте надписи на деревья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8400" y="907920"/>
            <a:ext cx="43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оят деревья – велик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не жалеют хулига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режут острыми ножам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лова на дереве – «на память!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1720" y="2781360"/>
            <a:ext cx="37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так жестоко поступ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деревья обиж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кай они в лесу растут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обро и красоту несу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203640" y="3429000"/>
          <a:ext cx="18921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429000"/>
                    <a:ext cx="1892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8" descr="12"/>
          <p:cNvPicPr/>
          <p:nvPr/>
        </p:nvPicPr>
        <p:blipFill>
          <a:blip r:embed="rId3"/>
          <a:stretch/>
        </p:blipFill>
        <p:spPr>
          <a:xfrm>
            <a:off x="5292720" y="765000"/>
            <a:ext cx="3519360" cy="575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20440" y="4797360"/>
            <a:ext cx="60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вырывайте кустарники с корне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18240" y="5300640"/>
            <a:ext cx="398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 ты собрался по гриб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ою острый нож бери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м аккуратно гриб срезай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земле грибницу оставля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372560" y="5305320"/>
            <a:ext cx="412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если встретил землянику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уст брусники иль черник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жно ягодки сорв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куст – оставь, поберег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11" descr="2l"/>
          <p:cNvPicPr/>
          <p:nvPr/>
        </p:nvPicPr>
        <p:blipFill>
          <a:blip r:embed="rId1"/>
          <a:stretch/>
        </p:blipFill>
        <p:spPr>
          <a:xfrm>
            <a:off x="7740720" y="189000"/>
            <a:ext cx="11890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14"/>
          <p:cNvPicPr/>
          <p:nvPr/>
        </p:nvPicPr>
        <p:blipFill>
          <a:blip r:embed="rId2"/>
          <a:stretch/>
        </p:blipFill>
        <p:spPr>
          <a:xfrm>
            <a:off x="324000" y="189000"/>
            <a:ext cx="6910200" cy="4606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605600" y="422100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портите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8600" y="486900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696560" y="486900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10" descr="13"/>
          <p:cNvPicPr/>
          <p:nvPr/>
        </p:nvPicPr>
        <p:blipFill>
          <a:blip r:embed="rId1"/>
          <a:stretch/>
        </p:blipFill>
        <p:spPr>
          <a:xfrm>
            <a:off x="1692360" y="189000"/>
            <a:ext cx="5976720" cy="3984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51200" y="40464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зм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5840" y="1052640"/>
            <a:ext cx="40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, змею не обижа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, увидев, палку не хватай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маши руками, не крич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сто отойди и помолч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45960" y="2781360"/>
            <a:ext cx="37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Хоть опасны змеи, но нужны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истоту беречь они должн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анитарам леса и вод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ы не делай зла или бед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7" descr="3d55"/>
          <p:cNvPicPr/>
          <p:nvPr/>
        </p:nvPicPr>
        <p:blipFill>
          <a:blip r:embed="rId1"/>
          <a:stretch/>
        </p:blipFill>
        <p:spPr>
          <a:xfrm>
            <a:off x="468360" y="573408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9"/>
          <p:cNvPicPr/>
          <p:nvPr/>
        </p:nvPicPr>
        <p:blipFill>
          <a:blip r:embed="rId2"/>
          <a:stretch/>
        </p:blipFill>
        <p:spPr>
          <a:xfrm>
            <a:off x="5003640" y="189000"/>
            <a:ext cx="395928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242492"/>
                </a:solidFill>
                <a:latin typeface="Tahoma"/>
              </a:rPr>
              <a:t>Не разоряйте птичьи гнёзд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98320" y="112536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6" descr="3d29"/>
          <p:cNvPicPr/>
          <p:nvPr/>
        </p:nvPicPr>
        <p:blipFill>
          <a:blip r:embed="rId1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1"/>
          <p:cNvPicPr/>
          <p:nvPr/>
        </p:nvPicPr>
        <p:blipFill>
          <a:blip r:embed="rId2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50680" y="443700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азоряйте муравейни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9760" y="4941720"/>
            <a:ext cx="415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97480" y="49417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ты им, друг мой, не меш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уравейники не разоря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Эти санитары так нужн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ля лесов твоей родной страны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7" descr="2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8640" y="378936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забирай из леса домой животн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560" y="4221000"/>
            <a:ext cx="31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ля ёжиков и бел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с – это дом родно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ни живут там смел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етом и зимой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042640" y="5373720"/>
            <a:ext cx="327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этому не стои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в город за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ерь: они в невол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будут есть и сп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8" descr="3d16"/>
          <p:cNvPicPr/>
          <p:nvPr/>
        </p:nvPicPr>
        <p:blipFill>
          <a:blip r:embed="rId1"/>
          <a:stretch/>
        </p:blipFill>
        <p:spPr>
          <a:xfrm>
            <a:off x="7740720" y="5518080"/>
            <a:ext cx="1165320" cy="1165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4284720" y="4292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ходят пропитань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их детей растя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уходить из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исколько не хотя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11" descr="3"/>
          <p:cNvPicPr/>
          <p:nvPr/>
        </p:nvPicPr>
        <p:blipFill>
          <a:blip r:embed="rId2"/>
          <a:stretch/>
        </p:blipFill>
        <p:spPr>
          <a:xfrm>
            <a:off x="1619280" y="47520"/>
            <a:ext cx="561492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88720" y="4724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обижай лесных насекомы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81520" y="5300640"/>
            <a:ext cx="426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летают мотыль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лзут козявки и жу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рода мать им жизнь да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них у всех свои дел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810320" y="5300640"/>
            <a:ext cx="40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ы их увидишь на пу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обижай, а отойди 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насекомых лес, друг мо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одинокий, и пустой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8" descr="butterfly3"/>
          <p:cNvPicPr/>
          <p:nvPr/>
        </p:nvPicPr>
        <p:blipFill>
          <a:blip r:embed="rId1"/>
          <a:stretch/>
        </p:blipFill>
        <p:spPr>
          <a:xfrm>
            <a:off x="795672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utterfly12"/>
          <p:cNvPicPr/>
          <p:nvPr/>
        </p:nvPicPr>
        <p:blipFill>
          <a:blip r:embed="rId2"/>
          <a:stretch/>
        </p:blipFill>
        <p:spPr>
          <a:xfrm>
            <a:off x="17928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"/>
          <p:cNvPicPr/>
          <p:nvPr/>
        </p:nvPicPr>
        <p:blipFill>
          <a:blip r:embed="rId3"/>
          <a:stretch/>
        </p:blipFill>
        <p:spPr>
          <a:xfrm>
            <a:off x="1403280" y="23508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21000" y="4046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полевы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-34920" y="1125360"/>
            <a:ext cx="576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веты украшают луга и лес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это не только природы краса-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них пчёлы находят целительный дар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абочки пьют из них сладкий нектар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, друзья, их бессмысленно рв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надо букеты из них составля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вянут букеты…Погибнут цветы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больше не будет такой красот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6" descr="f72"/>
          <p:cNvPicPr/>
          <p:nvPr/>
        </p:nvPicPr>
        <p:blipFill>
          <a:blip r:embed="rId1"/>
          <a:stretch/>
        </p:blipFill>
        <p:spPr>
          <a:xfrm>
            <a:off x="2195640" y="5084640"/>
            <a:ext cx="145548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111"/>
          <p:cNvPicPr/>
          <p:nvPr/>
        </p:nvPicPr>
        <p:blipFill>
          <a:blip r:embed="rId2"/>
          <a:stretch/>
        </p:blipFill>
        <p:spPr>
          <a:xfrm>
            <a:off x="75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owers32"/>
          <p:cNvPicPr/>
          <p:nvPr/>
        </p:nvPicPr>
        <p:blipFill>
          <a:blip r:embed="rId3"/>
          <a:stretch/>
        </p:blipFill>
        <p:spPr>
          <a:xfrm>
            <a:off x="1763640" y="5229360"/>
            <a:ext cx="981000" cy="130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5"/>
          <p:cNvPicPr/>
          <p:nvPr/>
        </p:nvPicPr>
        <p:blipFill>
          <a:blip r:embed="rId4"/>
          <a:stretch/>
        </p:blipFill>
        <p:spPr>
          <a:xfrm>
            <a:off x="5651640" y="1557360"/>
            <a:ext cx="3360600" cy="504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butterfly12"/>
          <p:cNvPicPr/>
          <p:nvPr/>
        </p:nvPicPr>
        <p:blipFill>
          <a:blip r:embed="rId5"/>
          <a:stretch/>
        </p:blipFill>
        <p:spPr>
          <a:xfrm>
            <a:off x="4284720" y="4653000"/>
            <a:ext cx="952560" cy="96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6"/>
          <p:cNvPicPr/>
          <p:nvPr/>
        </p:nvPicPr>
        <p:blipFill>
          <a:blip r:embed="rId1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74840" y="33336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ловите бабочек 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                              </a:t>
            </a: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стрекоз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8840" y="1413000"/>
            <a:ext cx="294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абочка цве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д тобой порх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рекоза резв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ляшет, веселитс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42080" y="3357720"/>
            <a:ext cx="288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ету все так рад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х ловить не надо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себе лета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емлю украшаю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butterfly42"/>
          <p:cNvPicPr/>
          <p:nvPr/>
        </p:nvPicPr>
        <p:blipFill>
          <a:blip r:embed="rId1"/>
          <a:stretch/>
        </p:blipFill>
        <p:spPr>
          <a:xfrm>
            <a:off x="7451640" y="5229360"/>
            <a:ext cx="1438200" cy="118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7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647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utterfly61"/>
          <p:cNvPicPr/>
          <p:nvPr/>
        </p:nvPicPr>
        <p:blipFill>
          <a:blip r:embed="rId3"/>
          <a:stretch/>
        </p:blipFill>
        <p:spPr>
          <a:xfrm rot="1777800">
            <a:off x="7885080" y="65160"/>
            <a:ext cx="863640" cy="79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utterfly3"/>
          <p:cNvPicPr/>
          <p:nvPr/>
        </p:nvPicPr>
        <p:blipFill>
          <a:blip r:embed="rId4"/>
          <a:stretch/>
        </p:blipFill>
        <p:spPr>
          <a:xfrm>
            <a:off x="457200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utterfly16"/>
          <p:cNvPicPr/>
          <p:nvPr/>
        </p:nvPicPr>
        <p:blipFill>
          <a:blip r:embed="rId5"/>
          <a:stretch/>
        </p:blipFill>
        <p:spPr>
          <a:xfrm rot="1698600">
            <a:off x="2955600" y="5567400"/>
            <a:ext cx="855720" cy="554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009240" y="429264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2"/>
                </a:solidFill>
                <a:latin typeface="Arial Black"/>
              </a:rPr>
              <a:t>Не шумите в лес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1760" y="4724280"/>
            <a:ext cx="454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леса музыка своя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ё послушайте друзья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птичьи трели раздалис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от белка скачет вверх и вниз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вот кузнечик затреща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 ветке дятел застучал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115600" y="501336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к много звуков тут и там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лесу не нужен шум и гам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льзя шуметь, галде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громко музыку включ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12" descr="8h"/>
          <p:cNvPicPr/>
          <p:nvPr/>
        </p:nvPicPr>
        <p:blipFill>
          <a:blip r:embed="rId1"/>
          <a:stretch/>
        </p:blipFill>
        <p:spPr>
          <a:xfrm>
            <a:off x="7885080" y="4149720"/>
            <a:ext cx="1104840" cy="80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8"/>
          <p:cNvPicPr/>
          <p:nvPr/>
        </p:nvPicPr>
        <p:blipFill>
          <a:blip r:embed="rId2"/>
          <a:stretch/>
        </p:blipFill>
        <p:spPr>
          <a:xfrm>
            <a:off x="1332000" y="189000"/>
            <a:ext cx="6049800" cy="40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User</cp:lastModifiedBy>
  <dcterms:modified xsi:type="dcterms:W3CDTF">2015-02-04T17:17:54Z</dcterms:modified>
  <cp:revision>21</cp:revision>
  <dc:subject/>
  <dc:title>Слайд 1</dc:title>
</cp:coreProperties>
</file>