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9.png" ContentType="image/png"/>
  <Override PartName="/ppt/media/image5.gif" ContentType="image/gif"/>
  <Override PartName="/ppt/media/image8.png" ContentType="image/png"/>
  <Override PartName="/ppt/media/image14.jpeg" ContentType="image/jpeg"/>
  <Override PartName="/ppt/media/image11.jpeg" ContentType="image/jpeg"/>
  <Override PartName="/ppt/media/chimes.wav" ContentType="audio/x-wav"/>
  <Override PartName="/ppt/media/wind.wav" ContentType="audio/x-wav"/>
  <Override PartName="/ppt/media/image17.gif" ContentType="image/gif"/>
  <Override PartName="/ppt/media/image3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3.jpeg" ContentType="image/jpeg"/>
  <Override PartName="/ppt/media/image12.gif" ContentType="image/gif"/>
  <Override PartName="/ppt/media/image6.png" ContentType="image/png"/>
  <Override PartName="/ppt/media/image20.png" ContentType="image/png"/>
  <Override PartName="/ppt/media/image15.gif" ContentType="image/gif"/>
  <Override PartName="/ppt/media/image7.jpeg" ContentType="image/jpeg"/>
  <Override PartName="/ppt/media/image18.png" ContentType="image/png"/>
  <Override PartName="/ppt/media/image4.gif" ContentType="image/gif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8D6F-E212-40B6-860B-64BFC544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3FCD-2A73-4D3E-9726-61C8079B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9E46-A6A5-475E-A630-9E414816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C2F1-E991-41FF-8131-747CE12D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873D-0409-4083-9966-D42822F8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CBAB-DBC4-4915-BB27-F34396B9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9882-1FEB-4D0D-8F81-6D187FC5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103D-A410-4102-909D-B695DC45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70AE-057D-4000-8447-90B2DEF3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2ED4-40BE-45FF-BC03-4FF83013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382D-4598-41C4-A6AF-E8077AFA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89A4-59FF-43D3-AFB3-9E991F42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6530-EFAD-4538-A75A-86A18648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03CD-D20E-45AC-B17A-52E5243E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36DD-DD76-4E0B-B4D3-C892A450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6E00-AB3C-4DF5-AA83-B13E0D08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F891-019A-4B9D-A3B6-93B903F3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29790-58B0-47F2-993E-36487509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D0A42-DA72-40BF-83FE-F6B6370B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88FE7-50DB-4F93-9587-4EA9C8F8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0F75B-B918-4712-A71D-D978CB0D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121BC-9531-45D9-9B89-34D6EC8A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4505-2037-42D6-9A2D-632E064D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5C23C-8C4C-45E3-9302-B36DA9F1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65524-9BFD-4A1E-B92E-DA2439D5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0B333-4211-41E4-9262-1A9D4463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0CA31-B241-47E7-837E-61D76B08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33428-5B3E-4637-BD0E-DF1866FA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67873-6759-44AE-AF0D-90F1ECBC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22B08-61E9-4626-80A6-9FF2D648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3897C-550D-49E1-AC46-D3DBCFFB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46903-2A5F-4EF5-A005-6D5B767A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3CE28-AC8B-4ABA-839C-BA654AFC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A789-65B6-4F61-8E8B-99C0B739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47A71-0FDB-44D8-A72D-FD3873C3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39D2A-C061-482E-B367-21F886F0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5B813-91B7-40DF-8AFC-52C232A1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E64C0-15A0-401E-9666-AEDB3B4C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46E30-D947-420E-B899-05F696E5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DF440-325C-4762-9911-70A9ABF0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E545B-6DFD-4D2F-A18A-058B2D9E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6D582-8D78-4A06-92E5-73231F81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88DCF-F92A-4644-BCFE-ACBE1062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6C301-71F8-46BF-8CA0-4860C916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19C-82BE-48DE-B793-010176CE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78AFE-F3DF-4EF7-8730-A11EB3AE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C2331-AD3C-4DDD-8324-C9800AC5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BE076-50F5-43D4-99A3-1FD07247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8F9F1-839E-4E0A-B886-ED35F8DF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597BA-84B1-4461-844E-C84D7D5A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6FD6F-54F0-4E9A-B262-43BA7E31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FD67B-6413-4785-B618-31F264FF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37C56-ED34-42B9-B01A-9FB0F8D7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2C6ED-B28F-4436-AD64-0A36516B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C0354-80F5-4B83-ADA7-E8FB24D3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8BC8-807F-405F-BA56-BE0DB117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AA8C9-8C97-4B3F-9FFC-77D22785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B481F-F338-48CF-9258-FA1113CC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53BD6-E4F9-4D07-BE5A-4EF1485F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3F93F-BD79-47BD-8615-6CED1C7D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45338-B278-48A9-9E4E-92422922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61D50-BCDB-485D-B220-62BF5507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156A6-6DDA-41CE-9A10-95B0FB93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0F2DF-78C5-424B-9094-226DF9C6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A3A84-6A5E-4E51-B922-DD241771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83B2F-AC58-437D-9060-D59849F6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35A2-13E5-4F94-AC2F-07472A66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F8AD0-AD40-4585-B321-D79322BA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59538-FCC9-4592-9C3B-6AE80F15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04120-9446-4868-9435-6CFEE7C2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30F65-FBB2-4E5E-AAD1-D67AD6F7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92B37-86C9-428A-BF8A-8224A31B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02970-5A35-4D17-A317-8FF9B4DD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08F4C-CCE3-4D56-9C9E-A3A8B240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0E8C3-C307-43A1-B3E6-BED203C6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C8055-83B5-417D-9A2A-4A65318A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F7796-8EB4-4CB0-91A4-0B953B37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4432-004C-462A-BFED-3B617CDE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B4A46-6353-47CA-BB84-48C2755F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4F55A-2E3F-4060-A668-925FF970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33B36-B536-42F6-AEF4-E84C4AE2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8970D-90C7-4C4C-9EC3-43998716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2F466-ED6E-48EF-9A00-BBB4D89B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5562F-3F74-4FF9-B8CE-099FB849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4A31E-AC71-4693-8422-ED072942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654D6-437D-4764-A2CE-4151D40B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86A6F-D09A-413C-A0DA-7D9265E4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F47ED-3ABD-401C-BF00-135B43C4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999-577F-480E-945C-3A477197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9338A-ABB4-47C0-98D2-71B78D2B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1E456-DFC9-42FF-A6C1-D727E862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0470E-96F5-4A25-8498-3A5F7B72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E2C86-012D-49D9-AB30-F6FAEB44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6FB23-383F-43B7-8220-2C6B3C21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ECA12-4190-4AD7-9C93-4B8C0CF2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496B5-E661-474E-B7F7-EB87F2CD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E7FA-380B-45B2-97A4-C96CA369A4D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0FB3-D294-4BDB-9679-50714C11DE7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2755-5065-4A4C-B1CB-C421E04CBC0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9645-101F-42ED-BAE5-84F1537F311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B360-B3BD-4AC3-A71B-C0881D730B2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B510-96AE-4012-8DA0-856B02E02E3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9C1D-C21C-42F3-A7A8-F0DF5B784B7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AEE8-A1F6-40CB-90FE-4F1949AF854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audio" Target="../media/wind.wav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audio" Target="../media/wind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урока "У Сабины и Свена новое расписание уроков"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371600" y="2928600"/>
            <a:ext cx="640080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немецкого язык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4 класс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емецкого языка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кова А.А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кончите предложения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. я научился…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. сегодня я узнал…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. было трудно…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4. было интересно…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флексия уро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Прямоугольник 3" descr=""/>
          <p:cNvPicPr/>
          <p:nvPr/>
        </p:nvPicPr>
        <p:blipFill>
          <a:blip r:embed="rId1"/>
          <a:stretch/>
        </p:blipFill>
        <p:spPr>
          <a:xfrm>
            <a:off x="2773440" y="2975040"/>
            <a:ext cx="45720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оугольник 4"/>
          <p:cNvSpPr/>
          <p:nvPr/>
        </p:nvSpPr>
        <p:spPr>
          <a:xfrm>
            <a:off x="468360" y="1125360"/>
            <a:ext cx="806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Образовательна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изировать употребление Л.Е. по теме «Расписание уро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накомить учащихся с Л.Е. по теме «Расписание уро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ть умения учащихся в чт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оспитательна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овать воспитанию корректных межличностных отношений между учащихся учеб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овать формированию социально-значимых качеств личности (трудолюбия, морально-этических норм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овать формированию у учащихся интереса к предм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Развивающа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ть чувство языковой дога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ть умение выбора из множества - установление смысловых связ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ть психические функции: мышление, память, внимание, восприя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5"/>
          <p:cNvSpPr/>
          <p:nvPr/>
        </p:nvSpPr>
        <p:spPr>
          <a:xfrm>
            <a:off x="2843280" y="29196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WordArt 4"/>
          <p:cNvSpPr txBox="1"/>
          <p:nvPr/>
        </p:nvSpPr>
        <p:spPr>
          <a:xfrm>
            <a:off x="287280" y="-458640"/>
            <a:ext cx="8461440" cy="67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"/>
              </a:rPr>
              <a:t>Sabine und 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"/>
              </a:rPr>
              <a:t>Swen haben auch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"/>
              </a:rPr>
              <a:t>einen neuen 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"/>
              </a:rPr>
              <a:t>Stundenplan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  <p:pic>
        <p:nvPicPr>
          <p:cNvPr id="388" name="Picture 5" descr="interaktiv"/>
          <p:cNvPicPr/>
          <p:nvPr/>
        </p:nvPicPr>
        <p:blipFill>
          <a:blip r:embed="rId10"/>
          <a:stretch/>
        </p:blipFill>
        <p:spPr>
          <a:xfrm>
            <a:off x="826920" y="0"/>
            <a:ext cx="3059280" cy="2379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11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4584d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4"/>
          <p:cNvSpPr/>
          <p:nvPr/>
        </p:nvSpPr>
        <p:spPr>
          <a:xfrm>
            <a:off x="1258920" y="2997360"/>
            <a:ext cx="698508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Berlin Sans FB Demi"/>
              </a:rPr>
              <a:t>Die Schule ist ein lustig Ha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Berlin Sans FB Demi"/>
              </a:rPr>
              <a:t>Drin lernt man viele Sachen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Das ABC, das Einmalei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Es gibt auch viel zu mach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5" descr="J0283542"/>
          <p:cNvPicPr/>
          <p:nvPr/>
        </p:nvPicPr>
        <p:blipFill>
          <a:blip r:embed="rId1"/>
          <a:stretch/>
        </p:blipFill>
        <p:spPr>
          <a:xfrm>
            <a:off x="250920" y="189000"/>
            <a:ext cx="1224000" cy="10983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J0285311"/>
          <p:cNvPicPr/>
          <p:nvPr/>
        </p:nvPicPr>
        <p:blipFill>
          <a:blip r:embed="rId2"/>
          <a:stretch/>
        </p:blipFill>
        <p:spPr>
          <a:xfrm>
            <a:off x="2882880" y="-171360"/>
            <a:ext cx="2798640" cy="3384360"/>
          </a:xfrm>
          <a:prstGeom prst="rect">
            <a:avLst/>
          </a:prstGeom>
          <a:ln w="0">
            <a:noFill/>
          </a:ln>
        </p:spPr>
      </p:pic>
      <p:pic>
        <p:nvPicPr>
          <p:cNvPr id="392" name="Shkolnaya_pora.mp3" descr=""/>
          <p:cNvPicPr/>
          <p:nvPr/>
        </p:nvPicPr>
        <p:blipFill>
          <a:blip r:embed="rId3"/>
          <a:stretch/>
        </p:blipFill>
        <p:spPr>
          <a:xfrm>
            <a:off x="7731000" y="9889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WordArt 4"/>
          <p:cNvSpPr txBox="1"/>
          <p:nvPr/>
        </p:nvSpPr>
        <p:spPr>
          <a:xfrm>
            <a:off x="1042920" y="260280"/>
            <a:ext cx="655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Franklin Gothic Demi"/>
              </a:rPr>
              <a:t>DIE WOCHENTA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Franklin Gothic Demi"/>
              <a:ea typeface="Franklin Gothic Demi"/>
            </a:endParaRPr>
          </a:p>
        </p:txBody>
      </p:sp>
      <p:sp>
        <p:nvSpPr>
          <p:cNvPr id="394" name="WordArt 5"/>
          <p:cNvSpPr txBox="1"/>
          <p:nvPr/>
        </p:nvSpPr>
        <p:spPr>
          <a:xfrm>
            <a:off x="324000" y="1700280"/>
            <a:ext cx="324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Berlin Sans FB Demi"/>
              </a:rPr>
              <a:t>M - nta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Berlin Sans FB Demi"/>
              <a:ea typeface="Berlin Sans FB Demi"/>
            </a:endParaRPr>
          </a:p>
        </p:txBody>
      </p:sp>
      <p:sp>
        <p:nvSpPr>
          <p:cNvPr id="395" name="WordArt 6"/>
          <p:cNvSpPr txBox="1"/>
          <p:nvPr/>
        </p:nvSpPr>
        <p:spPr>
          <a:xfrm>
            <a:off x="4572000" y="1557360"/>
            <a:ext cx="3745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Berlin Sans FB Demi"/>
              </a:rPr>
              <a:t>D - ns - a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Berlin Sans FB Demi"/>
              <a:ea typeface="Berlin Sans FB Demi"/>
            </a:endParaRPr>
          </a:p>
        </p:txBody>
      </p:sp>
      <p:sp>
        <p:nvSpPr>
          <p:cNvPr id="396" name="WordArt 7"/>
          <p:cNvSpPr txBox="1"/>
          <p:nvPr/>
        </p:nvSpPr>
        <p:spPr>
          <a:xfrm>
            <a:off x="395280" y="2781360"/>
            <a:ext cx="3745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lin Sans FB Demi"/>
              </a:rPr>
              <a:t>Mi - - w - 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lin Sans FB Demi"/>
              <a:ea typeface="Berlin Sans FB Demi"/>
            </a:endParaRPr>
          </a:p>
        </p:txBody>
      </p:sp>
      <p:sp>
        <p:nvSpPr>
          <p:cNvPr id="397" name="WordArt 8"/>
          <p:cNvSpPr txBox="1"/>
          <p:nvPr/>
        </p:nvSpPr>
        <p:spPr>
          <a:xfrm>
            <a:off x="4859280" y="2205000"/>
            <a:ext cx="3745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erlin Sans FB Demi"/>
              </a:rPr>
              <a:t>Do - - ers - - 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erlin Sans FB Demi"/>
              <a:ea typeface="Berlin Sans FB Demi"/>
            </a:endParaRPr>
          </a:p>
        </p:txBody>
      </p:sp>
      <p:sp>
        <p:nvSpPr>
          <p:cNvPr id="398" name="WordArt 9"/>
          <p:cNvSpPr txBox="1"/>
          <p:nvPr/>
        </p:nvSpPr>
        <p:spPr>
          <a:xfrm>
            <a:off x="324000" y="4076640"/>
            <a:ext cx="3744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Berlin Sans FB Demi"/>
              </a:rPr>
              <a:t>Fr - - t - 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Berlin Sans FB Demi"/>
              <a:ea typeface="Berlin Sans FB Demi"/>
            </a:endParaRPr>
          </a:p>
        </p:txBody>
      </p:sp>
      <p:sp>
        <p:nvSpPr>
          <p:cNvPr id="399" name="WordArt 10"/>
          <p:cNvSpPr txBox="1"/>
          <p:nvPr/>
        </p:nvSpPr>
        <p:spPr>
          <a:xfrm>
            <a:off x="2627280" y="5346720"/>
            <a:ext cx="3745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Berlin Sans FB Demi"/>
              </a:rPr>
              <a:t>So - - t a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Berlin Sans FB Demi"/>
              <a:ea typeface="Berlin Sans FB Demi"/>
            </a:endParaRPr>
          </a:p>
        </p:txBody>
      </p:sp>
      <p:sp>
        <p:nvSpPr>
          <p:cNvPr id="400" name="WordArt 11"/>
          <p:cNvSpPr txBox="1"/>
          <p:nvPr/>
        </p:nvSpPr>
        <p:spPr>
          <a:xfrm>
            <a:off x="5292720" y="4149720"/>
            <a:ext cx="3745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Berlin Sans FB Demi"/>
              </a:rPr>
              <a:t>S - - st - 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Berlin Sans FB Demi"/>
              <a:ea typeface="Berlin Sans FB Demi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4"/>
          <p:cNvSpPr txBox="1"/>
          <p:nvPr/>
        </p:nvSpPr>
        <p:spPr>
          <a:xfrm>
            <a:off x="250920" y="404640"/>
            <a:ext cx="439236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ranklin Gothic Medium Cond"/>
              </a:rPr>
              <a:t>Der Stundenplan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ranklin Gothic Medium Cond"/>
              <a:ea typeface="Franklin Gothic Medium Cond"/>
            </a:endParaRPr>
          </a:p>
        </p:txBody>
      </p:sp>
      <p:pic>
        <p:nvPicPr>
          <p:cNvPr id="402" name="Picture 5" descr="J0283618"/>
          <p:cNvPicPr/>
          <p:nvPr/>
        </p:nvPicPr>
        <p:blipFill>
          <a:blip r:embed="rId1"/>
          <a:stretch/>
        </p:blipFill>
        <p:spPr>
          <a:xfrm>
            <a:off x="7037280" y="0"/>
            <a:ext cx="2106720" cy="2205000"/>
          </a:xfrm>
          <a:prstGeom prst="rect">
            <a:avLst/>
          </a:prstGeom>
          <a:ln w="0">
            <a:noFill/>
          </a:ln>
        </p:spPr>
      </p:pic>
      <p:sp>
        <p:nvSpPr>
          <p:cNvPr id="403" name="WordArt 6"/>
          <p:cNvSpPr txBox="1"/>
          <p:nvPr/>
        </p:nvSpPr>
        <p:spPr>
          <a:xfrm>
            <a:off x="468360" y="177336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584d3"/>
                </a:solidFill>
                <a:latin typeface="Arial"/>
              </a:rPr>
              <a:t>jeden Ta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584d3"/>
              </a:solidFill>
              <a:latin typeface="Arial"/>
              <a:ea typeface="Arial"/>
            </a:endParaRPr>
          </a:p>
        </p:txBody>
      </p:sp>
      <p:sp>
        <p:nvSpPr>
          <p:cNvPr id="404" name="WordArt 7"/>
          <p:cNvSpPr txBox="1"/>
          <p:nvPr/>
        </p:nvSpPr>
        <p:spPr>
          <a:xfrm>
            <a:off x="4572000" y="2492280"/>
            <a:ext cx="287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das Fach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sp>
        <p:nvSpPr>
          <p:cNvPr id="405" name="WordArt 8"/>
          <p:cNvSpPr txBox="1"/>
          <p:nvPr/>
        </p:nvSpPr>
        <p:spPr>
          <a:xfrm>
            <a:off x="826920" y="3500280"/>
            <a:ext cx="5327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die Muttersprach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06" name="WordArt 9"/>
          <p:cNvSpPr txBox="1"/>
          <p:nvPr/>
        </p:nvSpPr>
        <p:spPr>
          <a:xfrm>
            <a:off x="2700360" y="5013360"/>
            <a:ext cx="559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die Fremdsprach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07" name="Професионал.wav" descr=""/>
          <p:cNvPicPr/>
          <p:nvPr/>
        </p:nvPicPr>
        <p:blipFill>
          <a:blip r:embed="rId4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30746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179280" y="71280"/>
          <a:ext cx="8713800" cy="6735960"/>
        </p:xfrm>
        <a:graphic>
          <a:graphicData uri="http://schemas.openxmlformats.org/drawingml/2006/table">
            <a:tbl>
              <a:tblPr/>
              <a:tblGrid>
                <a:gridCol w="290520"/>
                <a:gridCol w="1293840"/>
                <a:gridCol w="1992240"/>
                <a:gridCol w="1895760"/>
                <a:gridCol w="1677960"/>
                <a:gridCol w="15634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4584d3"/>
                          </a:solidFill>
                          <a:latin typeface="Arial"/>
                          <a:ea typeface="Arial"/>
                        </a:rPr>
                        <a:t>Mon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4584d3"/>
                          </a:solidFill>
                          <a:latin typeface="Arial"/>
                          <a:ea typeface="Arial"/>
                        </a:rPr>
                        <a:t>Dienst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4584d3"/>
                          </a:solidFill>
                          <a:latin typeface="Arial"/>
                          <a:ea typeface="Arial"/>
                        </a:rPr>
                        <a:t>Mittwo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4584d3"/>
                          </a:solidFill>
                          <a:latin typeface="Arial"/>
                          <a:ea typeface="Arial"/>
                        </a:rPr>
                        <a:t>Donners-tag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4584d3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4584d3"/>
                          </a:solidFill>
                          <a:latin typeface="Arial"/>
                          <a:ea typeface="Arial"/>
                        </a:rPr>
                        <a:t>Freit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com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ut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gli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chkun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ut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comic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hema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ut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ut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gli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hema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comic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n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chkun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ut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chkun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chkun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comic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lig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hema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s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n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s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comic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xilarbeit / Werk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gli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chwimme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lig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xilarbeit / Werk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comic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xilarbeit / Werk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n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chwimme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4" descr="3D Smiles (116)"/>
          <p:cNvPicPr/>
          <p:nvPr/>
        </p:nvPicPr>
        <p:blipFill>
          <a:blip r:embed="rId2"/>
          <a:stretch/>
        </p:blipFill>
        <p:spPr>
          <a:xfrm>
            <a:off x="250920" y="260280"/>
            <a:ext cx="2232000" cy="2008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3D Smiles (114)"/>
          <p:cNvPicPr/>
          <p:nvPr/>
        </p:nvPicPr>
        <p:blipFill>
          <a:blip r:embed="rId3"/>
          <a:stretch/>
        </p:blipFill>
        <p:spPr>
          <a:xfrm>
            <a:off x="5508720" y="549360"/>
            <a:ext cx="2232000" cy="21603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3D Smiles (10)"/>
          <p:cNvPicPr/>
          <p:nvPr/>
        </p:nvPicPr>
        <p:blipFill>
          <a:blip r:embed="rId4"/>
          <a:stretch/>
        </p:blipFill>
        <p:spPr>
          <a:xfrm>
            <a:off x="6588000" y="479736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412" name="WordArt 7"/>
          <p:cNvSpPr txBox="1"/>
          <p:nvPr/>
        </p:nvSpPr>
        <p:spPr>
          <a:xfrm>
            <a:off x="1258920" y="2924280"/>
            <a:ext cx="4319640" cy="18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lin Sans FB Demi"/>
              </a:rPr>
              <a:t>Eine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lin Sans FB Demi"/>
              </a:rPr>
              <a:t>Pau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lin Sans FB Demi"/>
              <a:ea typeface="Berlin Sans FB Demi"/>
            </a:endParaRPr>
          </a:p>
        </p:txBody>
      </p:sp>
      <p:pic>
        <p:nvPicPr>
          <p:cNvPr id="413" name="Chao.mp3" descr=""/>
          <p:cNvPicPr/>
          <p:nvPr/>
        </p:nvPicPr>
        <p:blipFill>
          <a:blip r:embed="rId5"/>
          <a:stretch/>
        </p:blipFill>
        <p:spPr>
          <a:xfrm>
            <a:off x="6012000" y="342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90599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WordArt 4"/>
          <p:cNvSpPr txBox="1"/>
          <p:nvPr/>
        </p:nvSpPr>
        <p:spPr>
          <a:xfrm>
            <a:off x="684360" y="333360"/>
            <a:ext cx="72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pperplate Gothic Bold"/>
              </a:rPr>
              <a:t>Die Fäch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pperplate Gothic Bold"/>
              <a:ea typeface="Copperplate Gothic Bold"/>
            </a:endParaRPr>
          </a:p>
        </p:txBody>
      </p:sp>
      <p:sp>
        <p:nvSpPr>
          <p:cNvPr id="415" name="WordArt 5"/>
          <p:cNvSpPr txBox="1"/>
          <p:nvPr/>
        </p:nvSpPr>
        <p:spPr>
          <a:xfrm>
            <a:off x="179280" y="1341360"/>
            <a:ext cx="273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Russisch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sp>
        <p:nvSpPr>
          <p:cNvPr id="416" name="WordArt 6"/>
          <p:cNvSpPr txBox="1"/>
          <p:nvPr/>
        </p:nvSpPr>
        <p:spPr>
          <a:xfrm>
            <a:off x="6516720" y="1197000"/>
            <a:ext cx="2454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das Lesen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417" name="WordArt 7"/>
          <p:cNvSpPr txBox="1"/>
          <p:nvPr/>
        </p:nvSpPr>
        <p:spPr>
          <a:xfrm>
            <a:off x="3635280" y="1413000"/>
            <a:ext cx="183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Mathe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18" name="WordArt 8"/>
          <p:cNvSpPr txBox="1"/>
          <p:nvPr/>
        </p:nvSpPr>
        <p:spPr>
          <a:xfrm>
            <a:off x="6372360" y="2781360"/>
            <a:ext cx="22906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das Malen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419" name="WordArt 9"/>
          <p:cNvSpPr txBox="1"/>
          <p:nvPr/>
        </p:nvSpPr>
        <p:spPr>
          <a:xfrm>
            <a:off x="395280" y="3068640"/>
            <a:ext cx="2881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Sachkunde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20" name="WordArt 10"/>
          <p:cNvSpPr txBox="1"/>
          <p:nvPr/>
        </p:nvSpPr>
        <p:spPr>
          <a:xfrm>
            <a:off x="3851280" y="3141720"/>
            <a:ext cx="181944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Sport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421" name="WordArt 11"/>
          <p:cNvSpPr txBox="1"/>
          <p:nvPr/>
        </p:nvSpPr>
        <p:spPr>
          <a:xfrm>
            <a:off x="250920" y="4869000"/>
            <a:ext cx="201744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5eaeff"/>
                </a:solidFill>
                <a:latin typeface="Arial"/>
              </a:rPr>
              <a:t>Werken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5eaeff"/>
              </a:solidFill>
              <a:latin typeface="Arial"/>
              <a:ea typeface="Arial"/>
            </a:endParaRPr>
          </a:p>
        </p:txBody>
      </p:sp>
      <p:sp>
        <p:nvSpPr>
          <p:cNvPr id="422" name="WordArt 12"/>
          <p:cNvSpPr txBox="1"/>
          <p:nvPr/>
        </p:nvSpPr>
        <p:spPr>
          <a:xfrm>
            <a:off x="3635280" y="4724280"/>
            <a:ext cx="2314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4584d3"/>
                </a:solidFill>
                <a:latin typeface="Arial"/>
              </a:rPr>
              <a:t>Deutsch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4584d3"/>
              </a:solidFill>
              <a:latin typeface="Arial"/>
              <a:ea typeface="Arial"/>
            </a:endParaRPr>
          </a:p>
        </p:txBody>
      </p:sp>
      <p:sp>
        <p:nvSpPr>
          <p:cNvPr id="423" name="WordArt 13"/>
          <p:cNvSpPr txBox="1"/>
          <p:nvPr/>
        </p:nvSpPr>
        <p:spPr>
          <a:xfrm>
            <a:off x="6877080" y="4869000"/>
            <a:ext cx="1942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Musik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pic>
        <p:nvPicPr>
          <p:cNvPr id="424" name="Mama(1).mp3" descr=""/>
          <p:cNvPicPr/>
          <p:nvPr/>
        </p:nvPicPr>
        <p:blipFill>
          <a:blip r:embed="rId6"/>
          <a:stretch/>
        </p:blipFill>
        <p:spPr>
          <a:xfrm>
            <a:off x="4716360" y="422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302926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7:30:22Z</dcterms:created>
  <dc:creator>Елена</dc:creator>
  <dc:description/>
  <dc:language>en-US</dc:language>
  <cp:lastModifiedBy>user</cp:lastModifiedBy>
  <dcterms:modified xsi:type="dcterms:W3CDTF">2015-02-04T13:23:47Z</dcterms:modified>
  <cp:revision>7</cp:revision>
  <dc:subject/>
  <dc:title>Слайд 1</dc:title>
</cp:coreProperties>
</file>