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chimes.wav" ContentType="audio/x-wav"/>
  <Override PartName="/ppt/media/wind.wav" ContentType="audio/x-wav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3.jpeg" ContentType="image/jpeg"/>
  <Override PartName="/ppt/media/image12.gif" ContentType="image/gif"/>
  <Override PartName="/ppt/media/image6.png" ContentType="image/png"/>
  <Override PartName="/ppt/media/image20.png" ContentType="image/png"/>
  <Override PartName="/ppt/media/image15.gif" ContentType="image/gif"/>
  <Override PartName="/ppt/media/image7.jpeg" ContentType="image/jpeg"/>
  <Override PartName="/ppt/media/image18.png" ContentType="image/png"/>
  <Override PartName="/ppt/media/image4.gif" ContentType="image/gif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4EF-1A7F-4592-9E8E-87737BF6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DA9-3245-4B37-9555-5DCC6CE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847-BFC7-471E-88AA-6B23BFE9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617-066E-4608-A858-05361DA6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FE97-77F5-46E6-9E25-C4E4AC10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110-7BF4-4E07-96B3-4B7DF0C6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C390-EBD1-4BB0-82A0-4C41DCA7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1BD8-AEDD-4358-BD93-D5465E9C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C1DA-E90E-4B6A-8259-76D37C0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B998-BD6C-4FAE-9234-480925E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8237-3D48-4835-923A-E5B1450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F51-0F09-41C8-B71E-ADAB3399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AC21-6D54-42C0-8D6E-6691A0B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64F3-DFB2-4CFB-80BE-BBC2AA9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F662-3959-4D77-A635-62FBCCB1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1B50-FE4E-4761-890F-EB12919A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5BEA-8773-4C7D-AA91-98A74B3E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C2A3-A82B-4A54-99CB-6DCD60AF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CCB4-7DEB-4ECB-A813-D35A0C3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289B-20BF-4D42-9A99-C775E63D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663D-023D-4027-8AE0-1B6461EE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7888-12A1-470E-8DD5-D329D27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C99-4529-4AE7-B3B0-DF71436C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A4FD-D6BF-4F76-ADE7-84B85B1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CCB5-A461-4B7B-8039-4F57E5A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D6D0-465C-48C9-9DBF-180AADD7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9174-696A-4A32-B6C7-35FAC22D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10BF-FB04-4D0C-81C0-09A515DD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0022-97B1-49C8-8DA5-127FFEF5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4967-60DE-47B3-862E-ED4BF244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3F5E-6A92-4B8C-A84A-96859704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3941-9A21-43B9-A3A9-12BB80B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8FB1-64CF-4C59-B52F-61CF3AA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09A-457D-44E1-B8F6-0994851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D749-38DC-4ABB-9971-6231853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494D-F3DD-4EE6-94FA-C0555CC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1FC1-7702-42D8-8A2B-051FFC4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BC84-968D-40B7-ADD3-ACE9148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40E5-8C24-4C65-B0CB-52B6BE79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E66B-DA97-4D09-A4AF-62289F9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A967-083E-4AD2-B1A6-9694F41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19A80-D619-470F-8CB6-0410AABB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E525-58A0-4CA4-B8C3-B3FF5471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5F62-B5E8-43AD-9845-1DBC713B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CE1-94C9-40A9-8A44-B628973D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24B31-BDFB-4BFD-AFD0-3A3334C0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96A5-7190-4526-B99A-7FD5EEF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8010-FB1A-4585-9AF8-9F025069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4E9F4-6EC6-4EE6-A797-5DA2BDBE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24D5-E8DC-46F6-9820-0DBC41E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54361-1A28-4CCF-A332-9EAAD77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724C-1146-4CF2-A46E-41826F9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5FA24-31B3-4B05-9C24-939556E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7D0B-313B-4EBF-A076-89092D4E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0323-3052-485D-8BB4-5FA2C7BC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F1E-79BA-4470-A836-29EF1C88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D471-16C7-4D48-A9D1-FA681B21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F074-38E7-4506-9B03-F842A59A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81BF-1CF1-4D7E-BAA1-97CFB04C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00D7-B403-41A8-BEA6-BF175A5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C9CB-E0FE-4F10-A299-C90C559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BD75-42AA-40AB-952E-049C657E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22FF-74A7-4B5B-98FE-B76A157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8082E-38C7-457D-97A6-1E3A2DF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AACF-C254-4EA8-AECF-F33767F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E1E6-65E0-498D-8BA9-E73A784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73E-C45A-4EEB-A069-1949126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A3CD-4D19-47F3-927C-1AEE66C3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6AE5-2A95-4BBB-8E76-CF439034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62F8-89EC-43D4-AD80-AA584FD3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CDF33-A903-48E3-8627-06519E5A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19869-4740-40C1-8BA0-9E890BC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DAB4C-21A5-4EB9-8114-13D3C96B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673FA-E803-4172-9FAD-D872C4DC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F3D9-0719-4A2B-9456-51FDED4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B6E5A-567F-45DE-B4FB-749104D5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F310E-9221-42A1-9508-D542CAC4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C46-353B-4A65-B389-073CED2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476ED-97AC-4ECB-A40C-1CD4415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40CD-417C-4571-940A-9A8C1F4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DAF8-FC77-4EB8-8AF4-55060471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436B1-E010-4991-91B6-3B8005C7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0F91-7B76-4541-9131-0AF80CFC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E2B3-E546-49BE-916A-8D891069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E1F3F-258A-4B73-8EDF-9AC52810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4F05-BF6A-428E-80F0-1396E7A9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3CC1E-B8A1-463F-874D-C5298C7F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1DC29-D483-4529-84A8-9D446B57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315-C8B2-4754-83C6-88BAF87A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A202-5A5D-4E14-8148-8DED4BF6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85D95-B167-46EC-B7FC-F7F1BCDD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61E69-7A20-4655-ABAF-0686E77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18B02-97DE-4EAA-983A-B41F2580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9CDC7-B63C-478A-B326-E9C7DE9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5E251-31DC-419B-B316-6F496943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80A9-3884-4C95-ABDB-E140552A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B6BE-5802-44D0-ABEF-906D8D4D26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C085-6FD3-4FC0-971D-8E37395117B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B621-31B9-4A3B-9339-9229AA923E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2DB9-F8D0-40B7-B848-C5885CD6CF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CC57-9AC9-4134-B67F-A6D9096424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F557-8115-4CB7-87EA-1E6F422CA8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16A5-D727-4441-BAE0-0AE4645511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C14-28AA-48BE-8E0E-F72276BA66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audio" Target="../media/wind.wav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audio" Target="../media/wind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 "У Сабины и Свена новое расписание уроков"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немецкого язы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 класс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емецкого язык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кова А.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кончите предложени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я научился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сегодня я узнал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было трудно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было интересно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 уро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Прямоугольник 3" descr=""/>
          <p:cNvPicPr/>
          <p:nvPr/>
        </p:nvPicPr>
        <p:blipFill>
          <a:blip r:embed="rId1"/>
          <a:stretch/>
        </p:blipFill>
        <p:spPr>
          <a:xfrm>
            <a:off x="2773440" y="2975040"/>
            <a:ext cx="4572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4"/>
          <p:cNvSpPr/>
          <p:nvPr/>
        </p:nvSpPr>
        <p:spPr>
          <a:xfrm>
            <a:off x="468360" y="112536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Образователь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ировать употребление Л.Е. по теме «Расписание уро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учащихся с Л.Е. по теме «Расписание уро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умения учащихся в чт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оспитатель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воспитанию корректных межличностных отношений между учащихся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формированию социально-значимых качеств личности (трудолюбия, морально-этических нор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формированию у учащихся интереса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Развивающ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чувство языковой дога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умение выбора из множества - установление смысловых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психические функции: мышление, память, внимание,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2843280" y="2919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WordArt 4"/>
          <p:cNvSpPr txBox="1"/>
          <p:nvPr/>
        </p:nvSpPr>
        <p:spPr>
          <a:xfrm>
            <a:off x="287280" y="-458640"/>
            <a:ext cx="8461440" cy="67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Sabine und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Swen haben auch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einen neuen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Stundenplan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388" name="Picture 5" descr="interaktiv"/>
          <p:cNvPicPr/>
          <p:nvPr/>
        </p:nvPicPr>
        <p:blipFill>
          <a:blip r:embed="rId10"/>
          <a:stretch/>
        </p:blipFill>
        <p:spPr>
          <a:xfrm>
            <a:off x="826920" y="0"/>
            <a:ext cx="305928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1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4584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1258920" y="2997360"/>
            <a:ext cx="69850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erlin Sans FB Demi"/>
              </a:rPr>
              <a:t>Die Schule ist ein lustig 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Berlin Sans FB Demi"/>
              </a:rPr>
              <a:t>Drin lernt man viele Sachen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Das ABC, das Einmal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Es gibt auch viel zu ma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J0283542"/>
          <p:cNvPicPr/>
          <p:nvPr/>
        </p:nvPicPr>
        <p:blipFill>
          <a:blip r:embed="rId1"/>
          <a:stretch/>
        </p:blipFill>
        <p:spPr>
          <a:xfrm>
            <a:off x="250920" y="189000"/>
            <a:ext cx="1224000" cy="1098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J0285311"/>
          <p:cNvPicPr/>
          <p:nvPr/>
        </p:nvPicPr>
        <p:blipFill>
          <a:blip r:embed="rId2"/>
          <a:stretch/>
        </p:blipFill>
        <p:spPr>
          <a:xfrm>
            <a:off x="2882880" y="-171360"/>
            <a:ext cx="2798640" cy="3384360"/>
          </a:xfrm>
          <a:prstGeom prst="rect">
            <a:avLst/>
          </a:prstGeom>
          <a:ln w="0">
            <a:noFill/>
          </a:ln>
        </p:spPr>
      </p:pic>
      <p:pic>
        <p:nvPicPr>
          <p:cNvPr id="392" name="Shkolnaya_pora.mp3" descr=""/>
          <p:cNvPicPr/>
          <p:nvPr/>
        </p:nvPicPr>
        <p:blipFill>
          <a:blip r:embed="rId3"/>
          <a:stretch/>
        </p:blipFill>
        <p:spPr>
          <a:xfrm>
            <a:off x="7731000" y="988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1042920" y="260280"/>
            <a:ext cx="655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Franklin Gothic Demi"/>
              </a:rPr>
              <a:t>DIE WOCHENT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Franklin Gothic Demi"/>
              <a:ea typeface="Franklin Gothic Demi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324000" y="1700280"/>
            <a:ext cx="324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erlin Sans FB Demi"/>
              </a:rPr>
              <a:t>M - nt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erlin Sans FB Demi"/>
              <a:ea typeface="Berlin Sans FB Demi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4572000" y="1557360"/>
            <a:ext cx="37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erlin Sans FB Demi"/>
              </a:rPr>
              <a:t>D - ns - 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Berlin Sans FB Demi"/>
              <a:ea typeface="Berlin Sans FB Demi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395280" y="2781360"/>
            <a:ext cx="37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Mi - - w - 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4859280" y="2205000"/>
            <a:ext cx="374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erlin Sans FB Demi"/>
              </a:rPr>
              <a:t>Do - - ers - -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erlin Sans FB Demi"/>
              <a:ea typeface="Berlin Sans FB Demi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324000" y="4076640"/>
            <a:ext cx="374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Berlin Sans FB Demi"/>
              </a:rPr>
              <a:t>Fr - - t -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99" name="WordArt 10"/>
          <p:cNvSpPr txBox="1"/>
          <p:nvPr/>
        </p:nvSpPr>
        <p:spPr>
          <a:xfrm>
            <a:off x="2627280" y="5346720"/>
            <a:ext cx="37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Berlin Sans FB Demi"/>
              </a:rPr>
              <a:t>So - - t 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400" name="WordArt 11"/>
          <p:cNvSpPr txBox="1"/>
          <p:nvPr/>
        </p:nvSpPr>
        <p:spPr>
          <a:xfrm>
            <a:off x="5292720" y="4149720"/>
            <a:ext cx="37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Berlin Sans FB Demi"/>
              </a:rPr>
              <a:t>S - - st -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250920" y="404640"/>
            <a:ext cx="439236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Medium Cond"/>
              </a:rPr>
              <a:t>Der Stundenpla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Medium Cond"/>
              <a:ea typeface="Franklin Gothic Medium Cond"/>
            </a:endParaRPr>
          </a:p>
        </p:txBody>
      </p:sp>
      <p:pic>
        <p:nvPicPr>
          <p:cNvPr id="402" name="Picture 5" descr="J0283618"/>
          <p:cNvPicPr/>
          <p:nvPr/>
        </p:nvPicPr>
        <p:blipFill>
          <a:blip r:embed="rId1"/>
          <a:stretch/>
        </p:blipFill>
        <p:spPr>
          <a:xfrm>
            <a:off x="7037280" y="0"/>
            <a:ext cx="2106720" cy="22050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6"/>
          <p:cNvSpPr txBox="1"/>
          <p:nvPr/>
        </p:nvSpPr>
        <p:spPr>
          <a:xfrm>
            <a:off x="468360" y="1773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584d3"/>
                </a:solidFill>
                <a:latin typeface="Arial"/>
              </a:rPr>
              <a:t>jeden Ta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584d3"/>
              </a:solidFill>
              <a:latin typeface="Arial"/>
              <a:ea typeface="Arial"/>
            </a:endParaRPr>
          </a:p>
        </p:txBody>
      </p:sp>
      <p:sp>
        <p:nvSpPr>
          <p:cNvPr id="404" name="WordArt 7"/>
          <p:cNvSpPr txBox="1"/>
          <p:nvPr/>
        </p:nvSpPr>
        <p:spPr>
          <a:xfrm>
            <a:off x="4572000" y="249228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das Fa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405" name="WordArt 8"/>
          <p:cNvSpPr txBox="1"/>
          <p:nvPr/>
        </p:nvSpPr>
        <p:spPr>
          <a:xfrm>
            <a:off x="826920" y="3500280"/>
            <a:ext cx="532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die Muttersprac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06" name="WordArt 9"/>
          <p:cNvSpPr txBox="1"/>
          <p:nvPr/>
        </p:nvSpPr>
        <p:spPr>
          <a:xfrm>
            <a:off x="2700360" y="5013360"/>
            <a:ext cx="559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die Fremdsprac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07" name="Професионал.wav" descr=""/>
          <p:cNvPicPr/>
          <p:nvPr/>
        </p:nvPicPr>
        <p:blipFill>
          <a:blip r:embed="rId4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0746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71280"/>
          <a:ext cx="8713800" cy="6735960"/>
        </p:xfrm>
        <a:graphic>
          <a:graphicData uri="http://schemas.openxmlformats.org/drawingml/2006/table">
            <a:tbl>
              <a:tblPr/>
              <a:tblGrid>
                <a:gridCol w="290520"/>
                <a:gridCol w="1293840"/>
                <a:gridCol w="1992240"/>
                <a:gridCol w="1895760"/>
                <a:gridCol w="1677960"/>
                <a:gridCol w="1563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Mon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Diens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Mittwo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Donners-tag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4584d3"/>
                          </a:solidFill>
                          <a:latin typeface="Arial"/>
                          <a:ea typeface="Arial"/>
                        </a:rPr>
                        <a:t>Frei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chku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i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ilarbeit / Wer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chwimm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i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ilarbeit / Wer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com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xilarbeit / Wer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n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chwimm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3D Smiles (116)"/>
          <p:cNvPicPr/>
          <p:nvPr/>
        </p:nvPicPr>
        <p:blipFill>
          <a:blip r:embed="rId2"/>
          <a:stretch/>
        </p:blipFill>
        <p:spPr>
          <a:xfrm>
            <a:off x="250920" y="260280"/>
            <a:ext cx="2232000" cy="2008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3D Smiles (114)"/>
          <p:cNvPicPr/>
          <p:nvPr/>
        </p:nvPicPr>
        <p:blipFill>
          <a:blip r:embed="rId3"/>
          <a:stretch/>
        </p:blipFill>
        <p:spPr>
          <a:xfrm>
            <a:off x="5508720" y="54936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3D Smiles (10)"/>
          <p:cNvPicPr/>
          <p:nvPr/>
        </p:nvPicPr>
        <p:blipFill>
          <a:blip r:embed="rId4"/>
          <a:stretch/>
        </p:blipFill>
        <p:spPr>
          <a:xfrm>
            <a:off x="6588000" y="4797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412" name="WordArt 7"/>
          <p:cNvSpPr txBox="1"/>
          <p:nvPr/>
        </p:nvSpPr>
        <p:spPr>
          <a:xfrm>
            <a:off x="1258920" y="2924280"/>
            <a:ext cx="431964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Ein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Pa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413" name="Chao.mp3" descr=""/>
          <p:cNvPicPr/>
          <p:nvPr/>
        </p:nvPicPr>
        <p:blipFill>
          <a:blip r:embed="rId5"/>
          <a:stretch/>
        </p:blipFill>
        <p:spPr>
          <a:xfrm>
            <a:off x="6012000" y="342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90599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684360" y="33336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pperplate Gothic Bold"/>
              </a:rPr>
              <a:t>Die Fäch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415" name="WordArt 5"/>
          <p:cNvSpPr txBox="1"/>
          <p:nvPr/>
        </p:nvSpPr>
        <p:spPr>
          <a:xfrm>
            <a:off x="179280" y="1341360"/>
            <a:ext cx="27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Russisch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6516720" y="1197000"/>
            <a:ext cx="2454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das Lesen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17" name="WordArt 7"/>
          <p:cNvSpPr txBox="1"/>
          <p:nvPr/>
        </p:nvSpPr>
        <p:spPr>
          <a:xfrm>
            <a:off x="3635280" y="1413000"/>
            <a:ext cx="18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Mathe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8" name="WordArt 8"/>
          <p:cNvSpPr txBox="1"/>
          <p:nvPr/>
        </p:nvSpPr>
        <p:spPr>
          <a:xfrm>
            <a:off x="6372360" y="2781360"/>
            <a:ext cx="22906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das Malen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419" name="WordArt 9"/>
          <p:cNvSpPr txBox="1"/>
          <p:nvPr/>
        </p:nvSpPr>
        <p:spPr>
          <a:xfrm>
            <a:off x="395280" y="3068640"/>
            <a:ext cx="288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Sachkunde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0" name="WordArt 10"/>
          <p:cNvSpPr txBox="1"/>
          <p:nvPr/>
        </p:nvSpPr>
        <p:spPr>
          <a:xfrm>
            <a:off x="3851280" y="3141720"/>
            <a:ext cx="18194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Sport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21" name="WordArt 11"/>
          <p:cNvSpPr txBox="1"/>
          <p:nvPr/>
        </p:nvSpPr>
        <p:spPr>
          <a:xfrm>
            <a:off x="250920" y="4869000"/>
            <a:ext cx="2017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Werken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422" name="WordArt 12"/>
          <p:cNvSpPr txBox="1"/>
          <p:nvPr/>
        </p:nvSpPr>
        <p:spPr>
          <a:xfrm>
            <a:off x="3635280" y="4724280"/>
            <a:ext cx="2314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4584d3"/>
                </a:solidFill>
                <a:latin typeface="Arial"/>
              </a:rPr>
              <a:t>Deutsch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4584d3"/>
              </a:solidFill>
              <a:latin typeface="Arial"/>
              <a:ea typeface="Arial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6877080" y="4869000"/>
            <a:ext cx="1942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Musik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pic>
        <p:nvPicPr>
          <p:cNvPr id="424" name="Mama(1).mp3" descr=""/>
          <p:cNvPicPr/>
          <p:nvPr/>
        </p:nvPicPr>
        <p:blipFill>
          <a:blip r:embed="rId6"/>
          <a:stretch/>
        </p:blipFill>
        <p:spPr>
          <a:xfrm>
            <a:off x="471636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02926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30:22Z</dcterms:created>
  <dc:creator>Елена</dc:creator>
  <dc:description/>
  <dc:language>en-US</dc:language>
  <cp:lastModifiedBy>user</cp:lastModifiedBy>
  <dcterms:modified xsi:type="dcterms:W3CDTF">2015-02-04T13:23:47Z</dcterms:modified>
  <cp:revision>7</cp:revision>
  <dc:subject/>
  <dc:title>Слайд 1</dc:title>
</cp:coreProperties>
</file>