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0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jpeg" ContentType="image/jpeg"/>
  <Override PartName="/ppt/media/image4.jpeg" ContentType="image/jpeg"/>
  <Override PartName="/ppt/media/image8.png" ContentType="image/png"/>
  <Override PartName="/ppt/media/image28.gif" ContentType="image/gif"/>
  <Override PartName="/ppt/media/image1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media/image25.gif" ContentType="image/gif"/>
  <Override PartName="/ppt/media/image18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29.gif" ContentType="image/gif"/>
  <Override PartName="/ppt/media/image15.jpeg" ContentType="image/jpeg"/>
  <Override PartName="/ppt/media/image16.jpeg" ContentType="image/jpe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arrow.wav" ContentType="audio/x-wav"/>
  <Override PartName="/ppt/media/image31.gif" ContentType="image/gif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C74B-E1E0-4BEF-8ECF-619E9FBEB1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E2A4-12CF-4613-8AE7-2819DC0E94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773A-33F6-42B7-89DA-4878EC2BE0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C15E-AAA2-449C-AB47-1C72FA185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B0D3-1982-45E3-9842-4FAAFD4438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DDB0-3410-46A8-8A22-D72052D1A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D4EC-AD5E-46AF-AD0C-5B0BDCEC27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420D-0387-4F0D-8849-EAE7AB08BD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ртинки настроены тригг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5E5F-8ED4-44B2-942A-52DFDD4A76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6B7E-D255-4220-8EB5-22EC5C0271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FA4B-F2E3-4B35-8D47-FD81A78EC2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875F-C62D-4AD3-AC2D-A255B8DF66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29BE-6881-4DB9-BE3D-7864956181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6947-9053-4EEA-965D-84B4512E59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A4E1-15CF-4B34-B172-6765AF3CDB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C3B5-6412-48CE-B7EC-1008D1D1DD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D2AB-15AF-432A-B1A3-FBF82775BC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1289-1A36-4567-8713-D5ED8743CA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9C72-4C85-4C9A-B473-E9EE0503E1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9601-EB7A-42F3-8B6C-E788A9FA1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1C89-BB39-4EA8-AC04-23219374BF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EEC4-88D3-4213-B8D2-05DBED4F84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F18-6BA7-4551-81B6-32BBE0A9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084-8F4A-470D-9B59-B2E9E42B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4B5-47BF-4982-8A11-9AFEEA44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8E4-D38B-4898-8C26-DF33E865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AC2D-A130-440D-A188-43A35FC4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7B96-18E6-4845-9589-D68E402C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A719-6C0E-44C8-A000-B4FC0D05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42F5-0348-4731-9038-D32724D5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99A1-06AE-4394-8723-4A484DDC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001A-C7F6-4AA0-88AC-7692A986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C87B-AE7F-48AD-878C-84346C61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1DF-5335-4A49-AA06-34B96768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91D0-3808-42EF-B80C-07F47218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AB01-D740-4D75-B6E5-A8F9CE18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06F5-037B-4ADD-9375-509D4136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8027-865A-4917-865B-011627A5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FC6C-E06B-412A-9439-F146DA9D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161-663F-4142-B2F0-F99EA5BC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B05D-5B4F-47BB-917B-C17B5A80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2C5C6-1198-4808-AF67-99EC33E3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CD24C-D0DB-4589-80CD-EA4CF800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708-E651-4A67-8354-EADB7F71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B8746-C64D-4109-AB33-01AC6131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6C6D-7178-4582-88B5-64B99EAE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289BB-1C14-4480-8740-8E5EC862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6F56E-75EC-42DF-A94C-D095D3BC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56B62-6768-4026-8CB4-5EE31C78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FF427-10FA-4570-B60F-9161A973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0C00C-BF88-4F0C-9AEE-3C58406F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449E3-F2D6-4C35-BBCB-1586E542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D177E-0C2D-4E86-AC68-78C905AE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5D3-9F5E-42CC-8EA9-DFD17F32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331-8163-4043-9336-41C05D74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314-BA5F-4848-BA67-93CF4157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9BE-9511-4E83-8810-4134F4EB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F7F-5547-4720-AFBE-E3A7C12B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2DC6-2ADA-4AD3-974F-9A47168E09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6317-53CC-4728-8DF6-59021FB879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mblema shkoli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169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Лазарева Лидия Андреевна,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учитель начальных классов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жская основная школа «ПАРДАУГАВА»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га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009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 e-mail: lazareva@pdps.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61CD-E6EE-4EFC-BDE0-99A1AB12EC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7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School desk - Stock Vectors | Школьная доска"/>
          <p:cNvPicPr/>
          <p:nvPr/>
        </p:nvPicPr>
        <p:blipFill>
          <a:blip r:embed="rId1"/>
          <a:stretch/>
        </p:blipFill>
        <p:spPr>
          <a:xfrm>
            <a:off x="0" y="115920"/>
            <a:ext cx="9161640" cy="6573960"/>
          </a:xfrm>
          <a:prstGeom prst="rect">
            <a:avLst/>
          </a:prstGeom>
          <a:ln w="0">
            <a:noFill/>
          </a:ln>
        </p:spPr>
      </p:pic>
      <p:sp>
        <p:nvSpPr>
          <p:cNvPr id="172" name="WordArt 2"/>
          <p:cNvSpPr txBox="1"/>
          <p:nvPr/>
        </p:nvSpPr>
        <p:spPr>
          <a:xfrm>
            <a:off x="2128680" y="1773360"/>
            <a:ext cx="5040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вёрды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нак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1979640" y="56577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7 г.Ртищево Саратов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интеева Е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1116000" y="333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Какие гласные буквы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обозначают два звука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215" name="Line 3"/>
          <p:cNvSpPr/>
          <p:nvPr/>
        </p:nvSpPr>
        <p:spPr>
          <a:xfrm>
            <a:off x="539640" y="1700280"/>
            <a:ext cx="80647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1258920" y="3213000"/>
            <a:ext cx="2521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ё ю 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WordArt 5"/>
          <p:cNvSpPr txBox="1"/>
          <p:nvPr/>
        </p:nvSpPr>
        <p:spPr>
          <a:xfrm>
            <a:off x="5508720" y="3357720"/>
            <a:ext cx="30956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о у э и 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1116000" y="333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Какие гласные буквы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обозначают два звука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539640" y="1700280"/>
            <a:ext cx="80647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258920" y="3213000"/>
            <a:ext cx="2521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ё ю 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WordArt 5"/>
          <p:cNvSpPr txBox="1"/>
          <p:nvPr/>
        </p:nvSpPr>
        <p:spPr>
          <a:xfrm>
            <a:off x="5508720" y="3357720"/>
            <a:ext cx="30956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о у э и 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Стрелка вправо 5"/>
          <p:cNvSpPr/>
          <p:nvPr/>
        </p:nvSpPr>
        <p:spPr>
          <a:xfrm>
            <a:off x="8072280" y="6072120"/>
            <a:ext cx="357480" cy="357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Улыбающееся лицо 10"/>
          <p:cNvSpPr/>
          <p:nvPr/>
        </p:nvSpPr>
        <p:spPr>
          <a:xfrm>
            <a:off x="1476360" y="4149720"/>
            <a:ext cx="1728720" cy="1643040"/>
          </a:xfrm>
          <a:prstGeom prst="smileyFace">
            <a:avLst>
              <a:gd name="adj" fmla="val 9282"/>
            </a:avLst>
          </a:prstGeom>
          <a:solidFill>
            <a:srgbClr val="666699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539640" y="402480"/>
            <a:ext cx="792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Я мягкий знак не просто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А удивительный – разделительны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ред Е,Ё,И,Ю,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Я всловах стою, друзь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3"/>
          <p:cNvSpPr txBox="1"/>
          <p:nvPr/>
        </p:nvSpPr>
        <p:spPr>
          <a:xfrm>
            <a:off x="755640" y="4292640"/>
            <a:ext cx="252108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48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6" name="Picture 5" descr="sem"/>
          <p:cNvPicPr/>
          <p:nvPr/>
        </p:nvPicPr>
        <p:blipFill>
          <a:blip r:embed="rId3"/>
          <a:stretch/>
        </p:blipFill>
        <p:spPr>
          <a:xfrm>
            <a:off x="4643280" y="4581360"/>
            <a:ext cx="331020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fa376471cffcba3221396347c451a3b2.jpg"/>
          <p:cNvPicPr/>
          <p:nvPr/>
        </p:nvPicPr>
        <p:blipFill>
          <a:blip r:embed="rId1"/>
          <a:stretch/>
        </p:blipFill>
        <p:spPr>
          <a:xfrm>
            <a:off x="5572080" y="500040"/>
            <a:ext cx="2543400" cy="23050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3" descr="4f8880777b9f.png"/>
          <p:cNvPicPr/>
          <p:nvPr/>
        </p:nvPicPr>
        <p:blipFill>
          <a:blip r:embed="rId2"/>
          <a:stretch/>
        </p:blipFill>
        <p:spPr>
          <a:xfrm>
            <a:off x="1000080" y="1071720"/>
            <a:ext cx="3008520" cy="17190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" descr="Рисунок42.jpg"/>
          <p:cNvPicPr/>
          <p:nvPr/>
        </p:nvPicPr>
        <p:blipFill>
          <a:blip r:embed="rId3"/>
          <a:stretch/>
        </p:blipFill>
        <p:spPr>
          <a:xfrm>
            <a:off x="642960" y="3143160"/>
            <a:ext cx="4133880" cy="31003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ButtonCrysBk.png"/>
          <p:cNvPicPr/>
          <p:nvPr/>
        </p:nvPicPr>
        <p:blipFill>
          <a:blip r:embed="rId4"/>
          <a:stretch/>
        </p:blipFill>
        <p:spPr>
          <a:xfrm>
            <a:off x="8001000" y="5643720"/>
            <a:ext cx="770040" cy="769680"/>
          </a:xfrm>
          <a:prstGeom prst="rect">
            <a:avLst/>
          </a:prstGeom>
          <a:ln w="0">
            <a:noFill/>
          </a:ln>
        </p:spPr>
      </p:pic>
      <p:pic>
        <p:nvPicPr>
          <p:cNvPr id="231" name="Записанный звук" descr=""/>
          <p:cNvPicPr/>
          <p:nvPr/>
        </p:nvPicPr>
        <p:blipFill>
          <a:blip r:embed="rId5"/>
          <a:stretch/>
        </p:blipFill>
        <p:spPr>
          <a:xfrm>
            <a:off x="3286080" y="1214280"/>
            <a:ext cx="276120" cy="2764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7" descr="0fca76a4040b.png"/>
          <p:cNvPicPr/>
          <p:nvPr/>
        </p:nvPicPr>
        <p:blipFill>
          <a:blip r:embed="rId6"/>
          <a:stretch/>
        </p:blipFill>
        <p:spPr>
          <a:xfrm>
            <a:off x="5572080" y="3500280"/>
            <a:ext cx="2651040" cy="2000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9000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050920" y="981000"/>
            <a:ext cx="5040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вёрды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нак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234" name="Picture 3" descr="prav31"/>
          <p:cNvPicPr/>
          <p:nvPr/>
        </p:nvPicPr>
        <p:blipFill>
          <a:blip r:embed="rId1"/>
          <a:stretch/>
        </p:blipFill>
        <p:spPr>
          <a:xfrm>
            <a:off x="6877080" y="4437000"/>
            <a:ext cx="1722240" cy="184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0030"/>
          <p:cNvPicPr/>
          <p:nvPr/>
        </p:nvPicPr>
        <p:blipFill>
          <a:blip r:embed="rId1"/>
          <a:stretch/>
        </p:blipFill>
        <p:spPr>
          <a:xfrm>
            <a:off x="395280" y="1484280"/>
            <a:ext cx="3809880" cy="27622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4678200" y="981000"/>
            <a:ext cx="446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ерь сломала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й – яй – я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оток и гвоз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 помог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ёрдый з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елать очень прос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сап"/>
          <p:cNvPicPr/>
          <p:nvPr/>
        </p:nvPicPr>
        <p:blipFill>
          <a:blip r:embed="rId1">
            <a:alphaModFix amt="62000"/>
          </a:blip>
          <a:srcRect l="20571" t="0" r="25714" b="0"/>
          <a:stretch/>
        </p:blipFill>
        <p:spPr>
          <a:xfrm>
            <a:off x="971640" y="1773360"/>
            <a:ext cx="2016000" cy="25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38" name="Text Box 3"/>
          <p:cNvSpPr/>
          <p:nvPr/>
        </p:nvSpPr>
        <p:spPr>
          <a:xfrm>
            <a:off x="3851280" y="1557360"/>
            <a:ext cx="4535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ведра не просто 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 воды напить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жен ковшик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ёрдый зна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не обл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" descr="076f86d41529d457d6eac92e1de39335.jpg"/>
          <p:cNvPicPr/>
          <p:nvPr/>
        </p:nvPicPr>
        <p:blipFill>
          <a:blip r:embed="rId1"/>
          <a:stretch/>
        </p:blipFill>
        <p:spPr>
          <a:xfrm>
            <a:off x="5643720" y="357120"/>
            <a:ext cx="2614320" cy="26146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2" descr="ButtonCrysBk.png"/>
          <p:cNvPicPr/>
          <p:nvPr/>
        </p:nvPicPr>
        <p:blipFill>
          <a:blip r:embed="rId2"/>
          <a:stretch/>
        </p:blipFill>
        <p:spPr>
          <a:xfrm>
            <a:off x="8001000" y="5786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4f8880777b9f.png"/>
          <p:cNvPicPr/>
          <p:nvPr/>
        </p:nvPicPr>
        <p:blipFill>
          <a:blip r:embed="rId3"/>
          <a:stretch/>
        </p:blipFill>
        <p:spPr>
          <a:xfrm>
            <a:off x="1143000" y="785880"/>
            <a:ext cx="2874960" cy="16430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Рисунок38.jpg"/>
          <p:cNvPicPr/>
          <p:nvPr/>
        </p:nvPicPr>
        <p:blipFill>
          <a:blip r:embed="rId4"/>
          <a:stretch/>
        </p:blipFill>
        <p:spPr>
          <a:xfrm>
            <a:off x="571680" y="32148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43" name="Записанный звук" descr=""/>
          <p:cNvPicPr/>
          <p:nvPr/>
        </p:nvPicPr>
        <p:blipFill>
          <a:blip r:embed="rId5"/>
          <a:stretch/>
        </p:blipFill>
        <p:spPr>
          <a:xfrm>
            <a:off x="4214880" y="928800"/>
            <a:ext cx="276120" cy="276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9000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ЕЛ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ЪЕЛ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Group 23"/>
          <p:cNvGrpSpPr/>
          <p:nvPr/>
        </p:nvGrpSpPr>
        <p:grpSpPr>
          <a:xfrm>
            <a:off x="3276720" y="3213000"/>
            <a:ext cx="4605120" cy="2016360"/>
            <a:chOff x="3276720" y="3213000"/>
            <a:chExt cx="4605120" cy="2016360"/>
          </a:xfrm>
        </p:grpSpPr>
        <p:sp>
          <p:nvSpPr>
            <p:cNvPr id="247" name="Прямоугольник 18"/>
            <p:cNvSpPr/>
            <p:nvPr/>
          </p:nvSpPr>
          <p:spPr>
            <a:xfrm>
              <a:off x="6012000" y="3716280"/>
              <a:ext cx="936360" cy="1019160"/>
            </a:xfrm>
            <a:prstGeom prst="rect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оугольник 18"/>
            <p:cNvSpPr/>
            <p:nvPr/>
          </p:nvSpPr>
          <p:spPr>
            <a:xfrm>
              <a:off x="4211640" y="3716280"/>
              <a:ext cx="933480" cy="1019160"/>
            </a:xfrm>
            <a:prstGeom prst="rect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рямоугольник 18"/>
            <p:cNvSpPr/>
            <p:nvPr/>
          </p:nvSpPr>
          <p:spPr>
            <a:xfrm>
              <a:off x="5076720" y="3716280"/>
              <a:ext cx="933480" cy="1019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Прямоугольник 18"/>
            <p:cNvSpPr/>
            <p:nvPr/>
          </p:nvSpPr>
          <p:spPr>
            <a:xfrm>
              <a:off x="3276720" y="3716280"/>
              <a:ext cx="934920" cy="101916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Прямоугольник 18"/>
            <p:cNvSpPr/>
            <p:nvPr/>
          </p:nvSpPr>
          <p:spPr>
            <a:xfrm>
              <a:off x="6948360" y="3716280"/>
              <a:ext cx="933480" cy="1019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1"/>
            <p:cNvSpPr/>
            <p:nvPr/>
          </p:nvSpPr>
          <p:spPr>
            <a:xfrm>
              <a:off x="6010200" y="3462480"/>
              <a:ext cx="0" cy="17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508720" y="3213000"/>
              <a:ext cx="398520" cy="401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22"/>
          <p:cNvGrpSpPr/>
          <p:nvPr/>
        </p:nvGrpSpPr>
        <p:grpSpPr>
          <a:xfrm>
            <a:off x="3708360" y="907920"/>
            <a:ext cx="3682800" cy="2055960"/>
            <a:chOff x="3708360" y="907920"/>
            <a:chExt cx="3682800" cy="2055960"/>
          </a:xfrm>
        </p:grpSpPr>
        <p:sp>
          <p:nvSpPr>
            <p:cNvPr id="255" name="Прямоугольник 18"/>
            <p:cNvSpPr/>
            <p:nvPr/>
          </p:nvSpPr>
          <p:spPr>
            <a:xfrm>
              <a:off x="6454800" y="1452600"/>
              <a:ext cx="936360" cy="1019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Прямоугольник 18"/>
            <p:cNvSpPr/>
            <p:nvPr/>
          </p:nvSpPr>
          <p:spPr>
            <a:xfrm>
              <a:off x="5513400" y="1452600"/>
              <a:ext cx="933480" cy="1019160"/>
            </a:xfrm>
            <a:prstGeom prst="rect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Прямоугольник 18"/>
            <p:cNvSpPr/>
            <p:nvPr/>
          </p:nvSpPr>
          <p:spPr>
            <a:xfrm>
              <a:off x="4589280" y="1452600"/>
              <a:ext cx="933480" cy="1019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Прямоугольник 18"/>
            <p:cNvSpPr/>
            <p:nvPr/>
          </p:nvSpPr>
          <p:spPr>
            <a:xfrm>
              <a:off x="3708360" y="1452600"/>
              <a:ext cx="934920" cy="1019160"/>
            </a:xfrm>
            <a:prstGeom prst="rect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0"/>
            <p:cNvSpPr/>
            <p:nvPr/>
          </p:nvSpPr>
          <p:spPr>
            <a:xfrm>
              <a:off x="5508360" y="1197000"/>
              <a:ext cx="0" cy="17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5"/>
            <p:cNvSpPr/>
            <p:nvPr/>
          </p:nvSpPr>
          <p:spPr>
            <a:xfrm flipV="1">
              <a:off x="5151240" y="907920"/>
              <a:ext cx="398520" cy="401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4211640" y="404640"/>
            <a:ext cx="4681440" cy="61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ёрдый знак сказал с обидо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де ж такое вида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ий знак есть в правил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я сижу, грущ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учить неправильно, я не допущ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 стихи я настроч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 с собой их разу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щи меня после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соглас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я туда постав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особой глас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ых четыре: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х нет в целом мире: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1116000" y="907920"/>
            <a:ext cx="2232000" cy="3822480"/>
            <a:chOff x="1116000" y="907920"/>
            <a:chExt cx="2232000" cy="3822480"/>
          </a:xfrm>
        </p:grpSpPr>
        <p:sp>
          <p:nvSpPr>
            <p:cNvPr id="263" name="WordArt 4"/>
            <p:cNvSpPr txBox="1"/>
            <p:nvPr/>
          </p:nvSpPr>
          <p:spPr>
            <a:xfrm>
              <a:off x="1116000" y="1844640"/>
              <a:ext cx="2232000" cy="25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3399"/>
                      </a:gs>
                      <a:gs pos="100000">
                        <a:srgbClr val="787ade"/>
                      </a:gs>
                    </a:gsLst>
                    <a:lin ang="2700000"/>
                  </a:gradFill>
                  <a:latin typeface="Arial"/>
                </a:rPr>
                <a:t>ъ</a:t>
              </a:r>
              <a:endPara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787ade"/>
                    </a:gs>
                  </a:gsLst>
                  <a:lin ang="2700000"/>
                </a:gradFill>
                <a:latin typeface="Arial"/>
                <a:ea typeface="Arial"/>
              </a:endParaRPr>
            </a:p>
          </p:txBody>
        </p:sp>
        <p:grpSp>
          <p:nvGrpSpPr>
            <p:cNvPr id="264" name="Group 5"/>
            <p:cNvGrpSpPr/>
            <p:nvPr/>
          </p:nvGrpSpPr>
          <p:grpSpPr>
            <a:xfrm>
              <a:off x="1187280" y="907920"/>
              <a:ext cx="914400" cy="914400"/>
              <a:chOff x="1187280" y="907920"/>
              <a:chExt cx="914400" cy="914400"/>
            </a:xfrm>
          </p:grpSpPr>
          <p:sp>
            <p:nvSpPr>
              <p:cNvPr id="265" name="Oval 6"/>
              <p:cNvSpPr/>
              <p:nvPr/>
            </p:nvSpPr>
            <p:spPr>
              <a:xfrm>
                <a:off x="1187280" y="981000"/>
                <a:ext cx="914400" cy="8413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7"/>
              <p:cNvSpPr/>
              <p:nvPr/>
            </p:nvSpPr>
            <p:spPr>
              <a:xfrm>
                <a:off x="1403280" y="1268280"/>
                <a:ext cx="7164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8"/>
              <p:cNvSpPr/>
              <p:nvPr/>
            </p:nvSpPr>
            <p:spPr>
              <a:xfrm>
                <a:off x="1763640" y="1268280"/>
                <a:ext cx="7164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9"/>
              <p:cNvSpPr/>
              <p:nvPr/>
            </p:nvSpPr>
            <p:spPr>
              <a:xfrm>
                <a:off x="1547640" y="1413000"/>
                <a:ext cx="142920" cy="1220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10"/>
              <p:cNvSpPr/>
              <p:nvPr/>
            </p:nvSpPr>
            <p:spPr>
              <a:xfrm rot="5400000">
                <a:off x="1587600" y="1516680"/>
                <a:ext cx="763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11"/>
              <p:cNvSpPr/>
              <p:nvPr/>
            </p:nvSpPr>
            <p:spPr>
              <a:xfrm>
                <a:off x="1332000" y="907920"/>
                <a:ext cx="647640" cy="266760"/>
              </a:xfrm>
              <a:prstGeom prst="irregularSeal1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AutoShape 12"/>
            <p:cNvSpPr/>
            <p:nvPr/>
          </p:nvSpPr>
          <p:spPr>
            <a:xfrm>
              <a:off x="2124000" y="4437000"/>
              <a:ext cx="287280" cy="266760"/>
            </a:xfrm>
            <a:prstGeom prst="rtTriangl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3"/>
            <p:cNvSpPr/>
            <p:nvPr/>
          </p:nvSpPr>
          <p:spPr>
            <a:xfrm rot="16038000">
              <a:off x="1537200" y="4447080"/>
              <a:ext cx="287280" cy="266760"/>
            </a:xfrm>
            <a:prstGeom prst="rtTriangl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4"/>
            <p:cNvSpPr/>
            <p:nvPr/>
          </p:nvSpPr>
          <p:spPr>
            <a:xfrm rot="16200000">
              <a:off x="1177560" y="2501280"/>
              <a:ext cx="1008360" cy="843120"/>
            </a:xfrm>
            <a:custGeom>
              <a:avLst/>
              <a:gdLst>
                <a:gd name="textAreaLeft" fmla="*/ 0 w 1008360"/>
                <a:gd name="textAreaRight" fmla="*/ 1008360 w 1008360"/>
                <a:gd name="textAreaTop" fmla="*/ 0 h 843120"/>
                <a:gd name="textAreaBottom" fmla="*/ 301680 h 8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400"/>
                    <a:pt x="16200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2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9" dur="2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" dur="2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755640" y="476280"/>
            <a:ext cx="77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Что мы произносим и слышим 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714680" y="3143160"/>
            <a:ext cx="1942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вуки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5651640" y="2997360"/>
            <a:ext cx="216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кв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684360" y="1413000"/>
            <a:ext cx="79912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1187280" y="2349360"/>
            <a:ext cx="698508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общ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324000" y="3716280"/>
            <a:ext cx="8532720" cy="12970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звание – разделительные зна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250920" y="5157720"/>
            <a:ext cx="86756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деляют согласную от глас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, Ё, Ю, 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8" descr="ь"/>
          <p:cNvPicPr/>
          <p:nvPr/>
        </p:nvPicPr>
        <p:blipFill>
          <a:blip r:embed="rId1"/>
          <a:stretch/>
        </p:blipFill>
        <p:spPr>
          <a:xfrm>
            <a:off x="2411280" y="692280"/>
            <a:ext cx="1584360" cy="1509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ъ"/>
          <p:cNvPicPr/>
          <p:nvPr/>
        </p:nvPicPr>
        <p:blipFill>
          <a:blip r:embed="rId2"/>
          <a:stretch/>
        </p:blipFill>
        <p:spPr>
          <a:xfrm>
            <a:off x="4859280" y="620640"/>
            <a:ext cx="1486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749520" y="474480"/>
            <a:ext cx="7619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вёрдый зн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м нужен тож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з него сказать не смож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ъезд, съедобный,  объясн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 подъезд, и объяв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3"/>
          <p:cNvSpPr txBox="1"/>
          <p:nvPr/>
        </p:nvSpPr>
        <p:spPr>
          <a:xfrm>
            <a:off x="1908000" y="4365720"/>
            <a:ext cx="252108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Ъ</a:t>
            </a:r>
            <a:endParaRPr b="1" lang="en-US" sz="48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1" name="Picture 5" descr="sel"/>
          <p:cNvPicPr/>
          <p:nvPr/>
        </p:nvPicPr>
        <p:blipFill>
          <a:blip r:embed="rId3"/>
          <a:stretch/>
        </p:blipFill>
        <p:spPr>
          <a:xfrm>
            <a:off x="4643280" y="4437000"/>
            <a:ext cx="3356280" cy="166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21844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9900"/>
                </a:solidFill>
                <a:latin typeface="Times New Roman"/>
              </a:rPr>
              <a:t>Найди картинку, в названии которой на один звук меньше, чем в названии картинки. Кликни кнопкой мыши по выбранной картинк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автобус"/>
          <p:cNvPicPr/>
          <p:nvPr/>
        </p:nvPicPr>
        <p:blipFill>
          <a:blip r:embed="rId1"/>
          <a:stretch/>
        </p:blipFill>
        <p:spPr>
          <a:xfrm>
            <a:off x="5796000" y="1628640"/>
            <a:ext cx="2697120" cy="1865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шкаф"/>
          <p:cNvPicPr/>
          <p:nvPr/>
        </p:nvPicPr>
        <p:blipFill>
          <a:blip r:embed="rId2"/>
          <a:stretch/>
        </p:blipFill>
        <p:spPr>
          <a:xfrm>
            <a:off x="1258920" y="1557360"/>
            <a:ext cx="173520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замок"/>
          <p:cNvPicPr/>
          <p:nvPr/>
        </p:nvPicPr>
        <p:blipFill>
          <a:blip r:embed="rId3"/>
          <a:stretch/>
        </p:blipFill>
        <p:spPr>
          <a:xfrm>
            <a:off x="1258920" y="4508640"/>
            <a:ext cx="1222200" cy="1734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пила"/>
          <p:cNvPicPr/>
          <p:nvPr/>
        </p:nvPicPr>
        <p:blipFill>
          <a:blip r:embed="rId4"/>
          <a:stretch/>
        </p:blipFill>
        <p:spPr>
          <a:xfrm>
            <a:off x="3276720" y="4581360"/>
            <a:ext cx="2643120" cy="1776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a"/>
          <p:cNvPicPr/>
          <p:nvPr/>
        </p:nvPicPr>
        <p:blipFill>
          <a:blip r:embed="rId5"/>
          <a:stretch/>
        </p:blipFill>
        <p:spPr>
          <a:xfrm>
            <a:off x="7164360" y="5084640"/>
            <a:ext cx="990720" cy="101916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8"/>
          <p:cNvSpPr/>
          <p:nvPr/>
        </p:nvSpPr>
        <p:spPr>
          <a:xfrm>
            <a:off x="2268360" y="3573360"/>
            <a:ext cx="4681800" cy="151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ОГО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31214E-006 L -0.33767 -0.3889 E">
                                      <p:cBhvr>
                                        <p:cTn id="17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900"/>
                </a:solidFill>
                <a:latin typeface="Times New Roman"/>
              </a:rPr>
              <a:t>Выбери картинку, в названии которой 5 звуков. Кликни кнопкой мыши по выбранной картин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knizhechka"/>
          <p:cNvPicPr/>
          <p:nvPr/>
        </p:nvPicPr>
        <p:blipFill>
          <a:blip r:embed="rId1"/>
          <a:stretch/>
        </p:blipFill>
        <p:spPr>
          <a:xfrm>
            <a:off x="6227640" y="1773360"/>
            <a:ext cx="1670040" cy="2016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p13"/>
          <p:cNvPicPr/>
          <p:nvPr/>
        </p:nvPicPr>
        <p:blipFill>
          <a:blip r:embed="rId2"/>
          <a:stretch/>
        </p:blipFill>
        <p:spPr>
          <a:xfrm>
            <a:off x="1332000" y="2133720"/>
            <a:ext cx="1428840" cy="1485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8"/>
          <p:cNvPicPr/>
          <p:nvPr/>
        </p:nvPicPr>
        <p:blipFill>
          <a:blip r:embed="rId3"/>
          <a:stretch/>
        </p:blipFill>
        <p:spPr>
          <a:xfrm>
            <a:off x="3635280" y="3429000"/>
            <a:ext cx="1384560" cy="1717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005"/>
          <p:cNvPicPr/>
          <p:nvPr/>
        </p:nvPicPr>
        <p:blipFill>
          <a:blip r:embed="rId4"/>
          <a:stretch/>
        </p:blipFill>
        <p:spPr>
          <a:xfrm>
            <a:off x="5940360" y="4221000"/>
            <a:ext cx="2160720" cy="192420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7"/>
          <p:cNvGrpSpPr/>
          <p:nvPr/>
        </p:nvGrpSpPr>
        <p:grpSpPr>
          <a:xfrm>
            <a:off x="1258920" y="5516640"/>
            <a:ext cx="1922040" cy="476280"/>
            <a:chOff x="1258920" y="5516640"/>
            <a:chExt cx="1922040" cy="476280"/>
          </a:xfrm>
        </p:grpSpPr>
        <p:pic>
          <p:nvPicPr>
            <p:cNvPr id="295" name="Picture 8" descr="161"/>
            <p:cNvPicPr/>
            <p:nvPr/>
          </p:nvPicPr>
          <p:blipFill>
            <a:blip r:embed="rId5"/>
            <a:stretch/>
          </p:blipFill>
          <p:spPr>
            <a:xfrm>
              <a:off x="1258920" y="5516640"/>
              <a:ext cx="91404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9" descr="161_1"/>
            <p:cNvPicPr/>
            <p:nvPr/>
          </p:nvPicPr>
          <p:blipFill>
            <a:blip r:embed="rId6"/>
            <a:stretch/>
          </p:blipFill>
          <p:spPr>
            <a:xfrm>
              <a:off x="2266920" y="5516640"/>
              <a:ext cx="91404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AutoShape 10"/>
          <p:cNvSpPr/>
          <p:nvPr/>
        </p:nvSpPr>
        <p:spPr>
          <a:xfrm>
            <a:off x="684360" y="4508640"/>
            <a:ext cx="3168360" cy="79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ГЛА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1"/>
          <p:cNvSpPr/>
          <p:nvPr/>
        </p:nvSpPr>
        <p:spPr>
          <a:xfrm>
            <a:off x="5292720" y="3933720"/>
            <a:ext cx="3168720" cy="79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КНИ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i.allday.ru/94/4f/75/1312920768_school-desk-4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755640" y="476280"/>
            <a:ext cx="77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Что мы произносим и слышим 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1714680" y="3143160"/>
            <a:ext cx="1942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вуки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5651640" y="2997360"/>
            <a:ext cx="216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кв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684360" y="1413000"/>
            <a:ext cx="79912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Улыбающееся лицо 10"/>
          <p:cNvSpPr/>
          <p:nvPr/>
        </p:nvSpPr>
        <p:spPr>
          <a:xfrm>
            <a:off x="1785960" y="4214880"/>
            <a:ext cx="1728720" cy="1643040"/>
          </a:xfrm>
          <a:prstGeom prst="smileyFace">
            <a:avLst>
              <a:gd name="adj" fmla="val 9282"/>
            </a:avLst>
          </a:prstGeom>
          <a:solidFill>
            <a:srgbClr val="666699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трелка вправо 6"/>
          <p:cNvSpPr/>
          <p:nvPr/>
        </p:nvSpPr>
        <p:spPr>
          <a:xfrm>
            <a:off x="8072280" y="6072120"/>
            <a:ext cx="357480" cy="357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611280" y="333360"/>
            <a:ext cx="820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Какой звук при произношении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встречает преграды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85" name="WordArt 3"/>
          <p:cNvSpPr txBox="1"/>
          <p:nvPr/>
        </p:nvSpPr>
        <p:spPr>
          <a:xfrm>
            <a:off x="826920" y="2924280"/>
            <a:ext cx="30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гласный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5724360" y="2924280"/>
            <a:ext cx="273528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ласный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684360" y="1916280"/>
            <a:ext cx="79912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611280" y="333360"/>
            <a:ext cx="820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Какой звук при произношении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встречает преграды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89" name="WordArt 3"/>
          <p:cNvSpPr txBox="1"/>
          <p:nvPr/>
        </p:nvSpPr>
        <p:spPr>
          <a:xfrm>
            <a:off x="826920" y="2924280"/>
            <a:ext cx="30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гласный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5724360" y="2924280"/>
            <a:ext cx="273528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ласный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684360" y="1916280"/>
            <a:ext cx="79912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трелка вправо 5"/>
          <p:cNvSpPr/>
          <p:nvPr/>
        </p:nvSpPr>
        <p:spPr>
          <a:xfrm>
            <a:off x="8072280" y="6072120"/>
            <a:ext cx="357480" cy="357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Улыбающееся лицо 10"/>
          <p:cNvSpPr/>
          <p:nvPr/>
        </p:nvSpPr>
        <p:spPr>
          <a:xfrm>
            <a:off x="1476360" y="4149720"/>
            <a:ext cx="1728720" cy="1643040"/>
          </a:xfrm>
          <a:prstGeom prst="smileyFace">
            <a:avLst>
              <a:gd name="adj" fmla="val 9282"/>
            </a:avLst>
          </a:prstGeom>
          <a:solidFill>
            <a:srgbClr val="666699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826920" y="404640"/>
            <a:ext cx="784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Сколько гласных звуков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в русском языке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95" name="Line 3"/>
          <p:cNvSpPr/>
          <p:nvPr/>
        </p:nvSpPr>
        <p:spPr>
          <a:xfrm>
            <a:off x="468360" y="1773360"/>
            <a:ext cx="84247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050920" y="3141720"/>
            <a:ext cx="12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6156360" y="321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826920" y="404640"/>
            <a:ext cx="784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Сколько гласных звуков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в русском языке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68360" y="1773360"/>
            <a:ext cx="84247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050920" y="3141720"/>
            <a:ext cx="12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6156360" y="321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Стрелка вправо 5"/>
          <p:cNvSpPr/>
          <p:nvPr/>
        </p:nvSpPr>
        <p:spPr>
          <a:xfrm>
            <a:off x="8072280" y="6072120"/>
            <a:ext cx="357480" cy="357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Улыбающееся лицо 10"/>
          <p:cNvSpPr/>
          <p:nvPr/>
        </p:nvSpPr>
        <p:spPr>
          <a:xfrm>
            <a:off x="5724360" y="4365720"/>
            <a:ext cx="1729080" cy="1643040"/>
          </a:xfrm>
          <a:prstGeom prst="smileyFace">
            <a:avLst>
              <a:gd name="adj" fmla="val 9282"/>
            </a:avLst>
          </a:prstGeom>
          <a:solidFill>
            <a:srgbClr val="666699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395280" y="404640"/>
            <a:ext cx="8305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Как обозначаются звуки на письме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205" name="WordArt 3"/>
          <p:cNvSpPr txBox="1"/>
          <p:nvPr/>
        </p:nvSpPr>
        <p:spPr>
          <a:xfrm>
            <a:off x="1042920" y="2852640"/>
            <a:ext cx="273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ифрами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5651640" y="2852640"/>
            <a:ext cx="24494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квами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95280" y="1341360"/>
            <a:ext cx="82803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2"/>
          <p:cNvSpPr txBox="1"/>
          <p:nvPr/>
        </p:nvSpPr>
        <p:spPr>
          <a:xfrm>
            <a:off x="395280" y="404640"/>
            <a:ext cx="8305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Как обозначаются звуки на письме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209" name="WordArt 3"/>
          <p:cNvSpPr txBox="1"/>
          <p:nvPr/>
        </p:nvSpPr>
        <p:spPr>
          <a:xfrm>
            <a:off x="1042920" y="2852640"/>
            <a:ext cx="273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ифрами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WordArt 4"/>
          <p:cNvSpPr txBox="1"/>
          <p:nvPr/>
        </p:nvSpPr>
        <p:spPr>
          <a:xfrm>
            <a:off x="5651640" y="2852640"/>
            <a:ext cx="24494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квами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395280" y="1341360"/>
            <a:ext cx="82803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трелка вправо 5"/>
          <p:cNvSpPr/>
          <p:nvPr/>
        </p:nvSpPr>
        <p:spPr>
          <a:xfrm>
            <a:off x="8072280" y="6072120"/>
            <a:ext cx="357480" cy="357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Улыбающееся лицо 10"/>
          <p:cNvSpPr/>
          <p:nvPr/>
        </p:nvSpPr>
        <p:spPr>
          <a:xfrm>
            <a:off x="6156360" y="3933720"/>
            <a:ext cx="1728720" cy="1643040"/>
          </a:xfrm>
          <a:prstGeom prst="smileyFace">
            <a:avLst>
              <a:gd name="adj" fmla="val 9282"/>
            </a:avLst>
          </a:prstGeom>
          <a:solidFill>
            <a:srgbClr val="666699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05:59:35Z</dcterms:created>
  <dc:creator>Пользователь</dc:creator>
  <dc:description/>
  <dc:language>en-US</dc:language>
  <cp:lastModifiedBy>Елена</cp:lastModifiedBy>
  <dcterms:modified xsi:type="dcterms:W3CDTF">2014-12-09T16:43:55Z</dcterms:modified>
  <cp:revision>6</cp:revision>
  <dc:subject/>
  <dc:title>Слайд 1</dc:title>
</cp:coreProperties>
</file>