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0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jpeg" ContentType="image/jpeg"/>
  <Override PartName="/ppt/media/image4.jpeg" ContentType="image/jpeg"/>
  <Override PartName="/ppt/media/image8.png" ContentType="image/png"/>
  <Override PartName="/ppt/media/image28.gif" ContentType="image/gif"/>
  <Override PartName="/ppt/media/image1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25.gif" ContentType="image/gif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arrow.wav" ContentType="audio/x-wav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1E7F-959A-4E7C-B8E8-84D38486C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C971-A04A-4C7B-9195-EBA7B05DF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313D-5788-4CEC-8CCB-818AA81C0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C08D-E431-4E5F-896F-3064C8D9B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A05A-DE38-4E11-8E17-244E06611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5FFC-B146-4491-83D7-214DBFF13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9C2C-0383-489E-8D2C-1F3F43CF3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659-85DC-4FE4-8690-8BD27C9E8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ртинки настроены тригг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BAFD-B1E5-4217-8435-A699F9B3A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95C4-2152-4BD0-978D-1E96EF605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10DA-DB92-4B2D-B40C-96125AC37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4C57-D94E-452F-9C0F-E612853A4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97E4-0FF9-4EB6-8B5D-E526011DF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BEB8-28E4-40B1-8310-F1840120F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2DF4-9287-4887-BF2F-C89D02BED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BE02-9132-4B0B-9D20-54D912D4A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F3DD-DFE6-44EA-A346-32A14D7A9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93EE-C940-478D-BE02-43500AC6F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0816-A124-4452-90A2-A7FEE18D0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50E5-744B-4BD9-B0B1-B9F179102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346E-4EBF-4E11-903C-2C578EC6E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0AB9-B10C-4055-BF91-B629507B5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24A-5703-4E66-8D0B-9BB366C6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D65-344A-4120-84BB-ED6789D5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730-AA4D-4C77-B2C3-E00D48C2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5B9-2710-4CED-834C-575DE63A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4FD-B46D-40C4-9324-A0078E86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9093-8306-44B0-A59B-659C3E54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3E5A-AC64-4CB9-A80B-58E6763D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CC7-AE8C-47E9-9BEE-DEC34BF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D5AA-139D-492C-A6EF-9BC7A93F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273-80FB-44D6-BC46-7931B8E8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C359-D672-4E78-8577-4381F9C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CC0-6F8B-4BA3-8197-95ECF9C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0CF-9EEB-42E1-A9C4-3E59092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9BE-1476-46D9-932A-408ADEF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3820-83E5-4974-A77B-6CDBC79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B2FD-1999-4EBC-909B-C26AEEC9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50F5-C25C-4960-972E-D98350AC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F1B-FDDD-4A85-A7B5-11A8B4CC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39F3-17E5-46AC-9675-AF4A04B2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5111-3296-4D88-92E9-45080C39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2339-BF94-488F-8407-497DF9CB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BED-9737-45A1-92FC-B41BB1A2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F6AF-44A4-4E5E-8EE9-6CC43313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9556-C34E-426C-B0DC-DFC022AC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09D1-4D66-44AB-90CD-1808CDAA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C098-6E36-4EF6-926E-3A35BF1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F0B1-7C90-4074-9917-9299C69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E3C2-5D98-4B3E-8EE0-3381783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3664-DF58-48E5-B89D-B2AAB2C6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6A4C-FE58-4DBA-B198-80ECEA62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5A63-6735-46C4-BD36-EC5926A7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D3E-6289-49C9-86D9-F2C239FD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B89-D07F-4F66-A6C8-EC9F76AC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76C-CD4E-410C-AD69-99F07AE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9B0-F91C-4F46-B0E8-659F4B3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512-1229-44FB-BDCF-CFC51152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F75-2C12-46DC-98A9-449BDE98F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E8F-2B2A-46F2-A0EC-A9F83C777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mblema shkoli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 e-mail: lazareva@pdps.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7485-CA93-4E17-A3C3-506A51C80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School desk - Stock Vectors | Школьная доска"/>
          <p:cNvPicPr/>
          <p:nvPr/>
        </p:nvPicPr>
        <p:blipFill>
          <a:blip r:embed="rId1"/>
          <a:stretch/>
        </p:blipFill>
        <p:spPr>
          <a:xfrm>
            <a:off x="0" y="115920"/>
            <a:ext cx="9161640" cy="6573960"/>
          </a:xfrm>
          <a:prstGeom prst="rect">
            <a:avLst/>
          </a:prstGeom>
          <a:ln w="0">
            <a:noFill/>
          </a:ln>
        </p:spPr>
      </p:pic>
      <p:sp>
        <p:nvSpPr>
          <p:cNvPr id="172" name="WordArt 2"/>
          <p:cNvSpPr txBox="1"/>
          <p:nvPr/>
        </p:nvSpPr>
        <p:spPr>
          <a:xfrm>
            <a:off x="2128680" y="1773360"/>
            <a:ext cx="5040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вёрды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на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979640" y="56577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7 г.Ртищево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интеева Е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116000" y="333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ие гласные буквы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обозначают два звук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539640" y="1700280"/>
            <a:ext cx="806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258920" y="3213000"/>
            <a:ext cx="252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ё ю 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5508720" y="3357720"/>
            <a:ext cx="3095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о у э и 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333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ие гласные буквы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обозначают два звук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539640" y="1700280"/>
            <a:ext cx="806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258920" y="3213000"/>
            <a:ext cx="252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ё ю 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5508720" y="3357720"/>
            <a:ext cx="3095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о у э и 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Улыбающееся лицо 10"/>
          <p:cNvSpPr/>
          <p:nvPr/>
        </p:nvSpPr>
        <p:spPr>
          <a:xfrm>
            <a:off x="1476360" y="414972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539640" y="40248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мягкий знак не прост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 удивительный – разделительны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ред Е,Ё,И,Ю,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всловах стою, друзь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755640" y="4292640"/>
            <a:ext cx="252108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6" name="Picture 5" descr="sem"/>
          <p:cNvPicPr/>
          <p:nvPr/>
        </p:nvPicPr>
        <p:blipFill>
          <a:blip r:embed="rId3"/>
          <a:stretch/>
        </p:blipFill>
        <p:spPr>
          <a:xfrm>
            <a:off x="4643280" y="4581360"/>
            <a:ext cx="331020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fa376471cffcba3221396347c451a3b2.jpg"/>
          <p:cNvPicPr/>
          <p:nvPr/>
        </p:nvPicPr>
        <p:blipFill>
          <a:blip r:embed="rId1"/>
          <a:stretch/>
        </p:blipFill>
        <p:spPr>
          <a:xfrm>
            <a:off x="5572080" y="500040"/>
            <a:ext cx="2543400" cy="23050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4f8880777b9f.png"/>
          <p:cNvPicPr/>
          <p:nvPr/>
        </p:nvPicPr>
        <p:blipFill>
          <a:blip r:embed="rId2"/>
          <a:stretch/>
        </p:blipFill>
        <p:spPr>
          <a:xfrm>
            <a:off x="1000080" y="1071720"/>
            <a:ext cx="3008520" cy="1719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Рисунок42.jpg"/>
          <p:cNvPicPr/>
          <p:nvPr/>
        </p:nvPicPr>
        <p:blipFill>
          <a:blip r:embed="rId3"/>
          <a:stretch/>
        </p:blipFill>
        <p:spPr>
          <a:xfrm>
            <a:off x="642960" y="3143160"/>
            <a:ext cx="4133880" cy="3100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ButtonCrysBk.png"/>
          <p:cNvPicPr/>
          <p:nvPr/>
        </p:nvPicPr>
        <p:blipFill>
          <a:blip r:embed="rId4"/>
          <a:stretch/>
        </p:blipFill>
        <p:spPr>
          <a:xfrm>
            <a:off x="8001000" y="5643720"/>
            <a:ext cx="770040" cy="769680"/>
          </a:xfrm>
          <a:prstGeom prst="rect">
            <a:avLst/>
          </a:prstGeom>
          <a:ln w="0">
            <a:noFill/>
          </a:ln>
        </p:spPr>
      </p:pic>
      <p:pic>
        <p:nvPicPr>
          <p:cNvPr id="231" name="Записанный звук" descr=""/>
          <p:cNvPicPr/>
          <p:nvPr/>
        </p:nvPicPr>
        <p:blipFill>
          <a:blip r:embed="rId5"/>
          <a:stretch/>
        </p:blipFill>
        <p:spPr>
          <a:xfrm>
            <a:off x="3286080" y="1214280"/>
            <a:ext cx="276120" cy="2764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7" descr="0fca76a4040b.png"/>
          <p:cNvPicPr/>
          <p:nvPr/>
        </p:nvPicPr>
        <p:blipFill>
          <a:blip r:embed="rId6"/>
          <a:stretch/>
        </p:blipFill>
        <p:spPr>
          <a:xfrm>
            <a:off x="5572080" y="3500280"/>
            <a:ext cx="2651040" cy="20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050920" y="981000"/>
            <a:ext cx="5040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вёрды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нак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234" name="Picture 3" descr="prav31"/>
          <p:cNvPicPr/>
          <p:nvPr/>
        </p:nvPicPr>
        <p:blipFill>
          <a:blip r:embed="rId1"/>
          <a:stretch/>
        </p:blipFill>
        <p:spPr>
          <a:xfrm>
            <a:off x="6877080" y="4437000"/>
            <a:ext cx="1722240" cy="184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0030"/>
          <p:cNvPicPr/>
          <p:nvPr/>
        </p:nvPicPr>
        <p:blipFill>
          <a:blip r:embed="rId1"/>
          <a:stretch/>
        </p:blipFill>
        <p:spPr>
          <a:xfrm>
            <a:off x="395280" y="1484280"/>
            <a:ext cx="3809880" cy="2762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4678200" y="981000"/>
            <a:ext cx="446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рь сломала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й – яй – 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оток и гвоз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помог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ёрд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ать очень прос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сап"/>
          <p:cNvPicPr/>
          <p:nvPr/>
        </p:nvPicPr>
        <p:blipFill>
          <a:blip r:embed="rId1">
            <a:alphaModFix amt="62000"/>
          </a:blip>
          <a:srcRect l="20571" t="0" r="25714" b="0"/>
          <a:stretch/>
        </p:blipFill>
        <p:spPr>
          <a:xfrm>
            <a:off x="971640" y="1773360"/>
            <a:ext cx="20160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8" name="Text Box 3"/>
          <p:cNvSpPr/>
          <p:nvPr/>
        </p:nvSpPr>
        <p:spPr>
          <a:xfrm>
            <a:off x="3851280" y="1557360"/>
            <a:ext cx="4535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едра не просто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воды напи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ен ковши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ёрдый зн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не обл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076f86d41529d457d6eac92e1de39335.jpg"/>
          <p:cNvPicPr/>
          <p:nvPr/>
        </p:nvPicPr>
        <p:blipFill>
          <a:blip r:embed="rId1"/>
          <a:stretch/>
        </p:blipFill>
        <p:spPr>
          <a:xfrm>
            <a:off x="5643720" y="357120"/>
            <a:ext cx="2614320" cy="26146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ButtonCrysBk.png"/>
          <p:cNvPicPr/>
          <p:nvPr/>
        </p:nvPicPr>
        <p:blipFill>
          <a:blip r:embed="rId2"/>
          <a:stretch/>
        </p:blipFill>
        <p:spPr>
          <a:xfrm>
            <a:off x="8001000" y="5786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4f8880777b9f.png"/>
          <p:cNvPicPr/>
          <p:nvPr/>
        </p:nvPicPr>
        <p:blipFill>
          <a:blip r:embed="rId3"/>
          <a:stretch/>
        </p:blipFill>
        <p:spPr>
          <a:xfrm>
            <a:off x="1143000" y="785880"/>
            <a:ext cx="2874960" cy="16430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Рисунок38.jpg"/>
          <p:cNvPicPr/>
          <p:nvPr/>
        </p:nvPicPr>
        <p:blipFill>
          <a:blip r:embed="rId4"/>
          <a:stretch/>
        </p:blipFill>
        <p:spPr>
          <a:xfrm>
            <a:off x="571680" y="32148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3" name="Записанный звук" descr=""/>
          <p:cNvPicPr/>
          <p:nvPr/>
        </p:nvPicPr>
        <p:blipFill>
          <a:blip r:embed="rId5"/>
          <a:stretch/>
        </p:blipFill>
        <p:spPr>
          <a:xfrm>
            <a:off x="4214880" y="928800"/>
            <a:ext cx="276120" cy="27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900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ЕЛ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ЪЕЛ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23"/>
          <p:cNvGrpSpPr/>
          <p:nvPr/>
        </p:nvGrpSpPr>
        <p:grpSpPr>
          <a:xfrm>
            <a:off x="3276720" y="3213000"/>
            <a:ext cx="4605120" cy="2016360"/>
            <a:chOff x="3276720" y="3213000"/>
            <a:chExt cx="4605120" cy="2016360"/>
          </a:xfrm>
        </p:grpSpPr>
        <p:sp>
          <p:nvSpPr>
            <p:cNvPr id="247" name="Прямоугольник 18"/>
            <p:cNvSpPr/>
            <p:nvPr/>
          </p:nvSpPr>
          <p:spPr>
            <a:xfrm>
              <a:off x="6012000" y="3716280"/>
              <a:ext cx="93636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8"/>
            <p:cNvSpPr/>
            <p:nvPr/>
          </p:nvSpPr>
          <p:spPr>
            <a:xfrm>
              <a:off x="4211640" y="3716280"/>
              <a:ext cx="93348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оугольник 18"/>
            <p:cNvSpPr/>
            <p:nvPr/>
          </p:nvSpPr>
          <p:spPr>
            <a:xfrm>
              <a:off x="5076720" y="3716280"/>
              <a:ext cx="93348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оугольник 18"/>
            <p:cNvSpPr/>
            <p:nvPr/>
          </p:nvSpPr>
          <p:spPr>
            <a:xfrm>
              <a:off x="3276720" y="3716280"/>
              <a:ext cx="934920" cy="101916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оугольник 18"/>
            <p:cNvSpPr/>
            <p:nvPr/>
          </p:nvSpPr>
          <p:spPr>
            <a:xfrm>
              <a:off x="6948360" y="3716280"/>
              <a:ext cx="93348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1"/>
            <p:cNvSpPr/>
            <p:nvPr/>
          </p:nvSpPr>
          <p:spPr>
            <a:xfrm>
              <a:off x="6010200" y="3462480"/>
              <a:ext cx="0" cy="17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508720" y="3213000"/>
              <a:ext cx="398520" cy="40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2"/>
          <p:cNvGrpSpPr/>
          <p:nvPr/>
        </p:nvGrpSpPr>
        <p:grpSpPr>
          <a:xfrm>
            <a:off x="3708360" y="907920"/>
            <a:ext cx="3682800" cy="2055960"/>
            <a:chOff x="3708360" y="907920"/>
            <a:chExt cx="3682800" cy="2055960"/>
          </a:xfrm>
        </p:grpSpPr>
        <p:sp>
          <p:nvSpPr>
            <p:cNvPr id="255" name="Прямоугольник 18"/>
            <p:cNvSpPr/>
            <p:nvPr/>
          </p:nvSpPr>
          <p:spPr>
            <a:xfrm>
              <a:off x="6454800" y="1452600"/>
              <a:ext cx="93636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оугольник 18"/>
            <p:cNvSpPr/>
            <p:nvPr/>
          </p:nvSpPr>
          <p:spPr>
            <a:xfrm>
              <a:off x="5513400" y="1452600"/>
              <a:ext cx="93348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Прямоугольник 18"/>
            <p:cNvSpPr/>
            <p:nvPr/>
          </p:nvSpPr>
          <p:spPr>
            <a:xfrm>
              <a:off x="4589280" y="1452600"/>
              <a:ext cx="933480" cy="1019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рямоугольник 18"/>
            <p:cNvSpPr/>
            <p:nvPr/>
          </p:nvSpPr>
          <p:spPr>
            <a:xfrm>
              <a:off x="3708360" y="1452600"/>
              <a:ext cx="934920" cy="101916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>
              <a:off x="5508360" y="1197000"/>
              <a:ext cx="0" cy="17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5"/>
            <p:cNvSpPr/>
            <p:nvPr/>
          </p:nvSpPr>
          <p:spPr>
            <a:xfrm flipV="1">
              <a:off x="5151240" y="907920"/>
              <a:ext cx="398520" cy="401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4211640" y="404640"/>
            <a:ext cx="468144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ёрдый знак сказал с обид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де ж такое вида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й знак есть в правил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я сижу, гру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учить неправильно, я не допу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 стихи я настроч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 с собой их разу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щи меня после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огла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 туда постав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особой гла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ых четыре: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х нет в целом мире: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116000" y="907920"/>
            <a:ext cx="2232000" cy="3822480"/>
            <a:chOff x="1116000" y="907920"/>
            <a:chExt cx="2232000" cy="3822480"/>
          </a:xfrm>
        </p:grpSpPr>
        <p:sp>
          <p:nvSpPr>
            <p:cNvPr id="263" name="WordArt 4"/>
            <p:cNvSpPr txBox="1"/>
            <p:nvPr/>
          </p:nvSpPr>
          <p:spPr>
            <a:xfrm>
              <a:off x="1116000" y="1844640"/>
              <a:ext cx="2232000" cy="25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3399"/>
                      </a:gs>
                      <a:gs pos="100000">
                        <a:srgbClr val="787ade"/>
                      </a:gs>
                    </a:gsLst>
                    <a:lin ang="2700000"/>
                  </a:gradFill>
                  <a:latin typeface="Arial"/>
                </a:rPr>
                <a:t>ъ</a:t>
              </a:r>
              <a:endPara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787ade"/>
                    </a:gs>
                  </a:gsLst>
                  <a:lin ang="2700000"/>
                </a:gradFill>
                <a:latin typeface="Arial"/>
                <a:ea typeface="Arial"/>
              </a:endParaRPr>
            </a:p>
          </p:txBody>
        </p:sp>
        <p:grpSp>
          <p:nvGrpSpPr>
            <p:cNvPr id="264" name="Group 5"/>
            <p:cNvGrpSpPr/>
            <p:nvPr/>
          </p:nvGrpSpPr>
          <p:grpSpPr>
            <a:xfrm>
              <a:off x="1187280" y="907920"/>
              <a:ext cx="914400" cy="914400"/>
              <a:chOff x="1187280" y="907920"/>
              <a:chExt cx="914400" cy="914400"/>
            </a:xfrm>
          </p:grpSpPr>
          <p:sp>
            <p:nvSpPr>
              <p:cNvPr id="265" name="Oval 6"/>
              <p:cNvSpPr/>
              <p:nvPr/>
            </p:nvSpPr>
            <p:spPr>
              <a:xfrm>
                <a:off x="1187280" y="981000"/>
                <a:ext cx="914400" cy="8413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7"/>
              <p:cNvSpPr/>
              <p:nvPr/>
            </p:nvSpPr>
            <p:spPr>
              <a:xfrm>
                <a:off x="1403280" y="1268280"/>
                <a:ext cx="716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8"/>
              <p:cNvSpPr/>
              <p:nvPr/>
            </p:nvSpPr>
            <p:spPr>
              <a:xfrm>
                <a:off x="1763640" y="1268280"/>
                <a:ext cx="7164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9"/>
              <p:cNvSpPr/>
              <p:nvPr/>
            </p:nvSpPr>
            <p:spPr>
              <a:xfrm>
                <a:off x="1547640" y="1413000"/>
                <a:ext cx="142920" cy="122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10"/>
              <p:cNvSpPr/>
              <p:nvPr/>
            </p:nvSpPr>
            <p:spPr>
              <a:xfrm rot="5400000">
                <a:off x="1587600" y="1516680"/>
                <a:ext cx="763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11"/>
              <p:cNvSpPr/>
              <p:nvPr/>
            </p:nvSpPr>
            <p:spPr>
              <a:xfrm>
                <a:off x="1332000" y="907920"/>
                <a:ext cx="647640" cy="266760"/>
              </a:xfrm>
              <a:prstGeom prst="irregularSeal1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AutoShape 12"/>
            <p:cNvSpPr/>
            <p:nvPr/>
          </p:nvSpPr>
          <p:spPr>
            <a:xfrm>
              <a:off x="2124000" y="4437000"/>
              <a:ext cx="287280" cy="266760"/>
            </a:xfrm>
            <a:prstGeom prst="rtTriangl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 rot="16038000">
              <a:off x="1537200" y="4447080"/>
              <a:ext cx="287280" cy="266760"/>
            </a:xfrm>
            <a:prstGeom prst="rtTriangl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4"/>
            <p:cNvSpPr/>
            <p:nvPr/>
          </p:nvSpPr>
          <p:spPr>
            <a:xfrm rot="16200000">
              <a:off x="1177560" y="2501280"/>
              <a:ext cx="1008360" cy="843120"/>
            </a:xfrm>
            <a:custGeom>
              <a:avLst/>
              <a:gdLst>
                <a:gd name="textAreaLeft" fmla="*/ 0 w 1008360"/>
                <a:gd name="textAreaRight" fmla="*/ 1008360 w 1008360"/>
                <a:gd name="textAreaTop" fmla="*/ 0 h 843120"/>
                <a:gd name="textAreaBottom" fmla="*/ 301680 h 8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2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755640" y="47628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Что мы произносим и слышим 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714680" y="3143160"/>
            <a:ext cx="1942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вук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5651640" y="2997360"/>
            <a:ext cx="216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684360" y="141300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1187280" y="2349360"/>
            <a:ext cx="69850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бщ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324000" y="3716280"/>
            <a:ext cx="8532720" cy="1297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вание – разделительные зна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250920" y="5157720"/>
            <a:ext cx="86756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деляют согласную от глас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, Ё, Ю, 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ь"/>
          <p:cNvPicPr/>
          <p:nvPr/>
        </p:nvPicPr>
        <p:blipFill>
          <a:blip r:embed="rId1"/>
          <a:stretch/>
        </p:blipFill>
        <p:spPr>
          <a:xfrm>
            <a:off x="2411280" y="692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ъ"/>
          <p:cNvPicPr/>
          <p:nvPr/>
        </p:nvPicPr>
        <p:blipFill>
          <a:blip r:embed="rId2"/>
          <a:stretch/>
        </p:blipFill>
        <p:spPr>
          <a:xfrm>
            <a:off x="4859280" y="620640"/>
            <a:ext cx="1486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749520" y="474480"/>
            <a:ext cx="7619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вёрдый зн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м нужен тож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з него сказать не смож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ъезд, съедобный,  объясн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 подъезд, и объяв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3"/>
          <p:cNvSpPr txBox="1"/>
          <p:nvPr/>
        </p:nvSpPr>
        <p:spPr>
          <a:xfrm>
            <a:off x="1908000" y="4365720"/>
            <a:ext cx="252108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Ъ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sel"/>
          <p:cNvPicPr/>
          <p:nvPr/>
        </p:nvPicPr>
        <p:blipFill>
          <a:blip r:embed="rId3"/>
          <a:stretch/>
        </p:blipFill>
        <p:spPr>
          <a:xfrm>
            <a:off x="4643280" y="4437000"/>
            <a:ext cx="3356280" cy="166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1844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9900"/>
                </a:solidFill>
                <a:latin typeface="Times New Roman"/>
              </a:rPr>
              <a:t>Найди картинку, в названии которой на один звук меньше, чем в названии картинки. Кликни кнопкой мыши по выбранной картин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автобус"/>
          <p:cNvPicPr/>
          <p:nvPr/>
        </p:nvPicPr>
        <p:blipFill>
          <a:blip r:embed="rId1"/>
          <a:stretch/>
        </p:blipFill>
        <p:spPr>
          <a:xfrm>
            <a:off x="5796000" y="1628640"/>
            <a:ext cx="2697120" cy="1865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шкаф"/>
          <p:cNvPicPr/>
          <p:nvPr/>
        </p:nvPicPr>
        <p:blipFill>
          <a:blip r:embed="rId2"/>
          <a:stretch/>
        </p:blipFill>
        <p:spPr>
          <a:xfrm>
            <a:off x="1258920" y="155736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замок"/>
          <p:cNvPicPr/>
          <p:nvPr/>
        </p:nvPicPr>
        <p:blipFill>
          <a:blip r:embed="rId3"/>
          <a:stretch/>
        </p:blipFill>
        <p:spPr>
          <a:xfrm>
            <a:off x="1258920" y="4508640"/>
            <a:ext cx="1222200" cy="1734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пила"/>
          <p:cNvPicPr/>
          <p:nvPr/>
        </p:nvPicPr>
        <p:blipFill>
          <a:blip r:embed="rId4"/>
          <a:stretch/>
        </p:blipFill>
        <p:spPr>
          <a:xfrm>
            <a:off x="3276720" y="4581360"/>
            <a:ext cx="2643120" cy="1776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a"/>
          <p:cNvPicPr/>
          <p:nvPr/>
        </p:nvPicPr>
        <p:blipFill>
          <a:blip r:embed="rId5"/>
          <a:stretch/>
        </p:blipFill>
        <p:spPr>
          <a:xfrm>
            <a:off x="7164360" y="5084640"/>
            <a:ext cx="990720" cy="101916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8"/>
          <p:cNvSpPr/>
          <p:nvPr/>
        </p:nvSpPr>
        <p:spPr>
          <a:xfrm>
            <a:off x="2268360" y="3573360"/>
            <a:ext cx="4681800" cy="151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ОГО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31214E-006 L -0.33767 -0.3889 E">
                                      <p:cBhvr>
                                        <p:cTn id="17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</a:rPr>
              <a:t>Выбери картинку, в названии которой 5 звуков. Кликни кнопкой мыши по выбранной картин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knizhechka"/>
          <p:cNvPicPr/>
          <p:nvPr/>
        </p:nvPicPr>
        <p:blipFill>
          <a:blip r:embed="rId1"/>
          <a:stretch/>
        </p:blipFill>
        <p:spPr>
          <a:xfrm>
            <a:off x="6227640" y="1773360"/>
            <a:ext cx="1670040" cy="2016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p13"/>
          <p:cNvPicPr/>
          <p:nvPr/>
        </p:nvPicPr>
        <p:blipFill>
          <a:blip r:embed="rId2"/>
          <a:stretch/>
        </p:blipFill>
        <p:spPr>
          <a:xfrm>
            <a:off x="1332000" y="2133720"/>
            <a:ext cx="1428840" cy="1485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8"/>
          <p:cNvPicPr/>
          <p:nvPr/>
        </p:nvPicPr>
        <p:blipFill>
          <a:blip r:embed="rId3"/>
          <a:stretch/>
        </p:blipFill>
        <p:spPr>
          <a:xfrm>
            <a:off x="3635280" y="3429000"/>
            <a:ext cx="1384560" cy="1717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005"/>
          <p:cNvPicPr/>
          <p:nvPr/>
        </p:nvPicPr>
        <p:blipFill>
          <a:blip r:embed="rId4"/>
          <a:stretch/>
        </p:blipFill>
        <p:spPr>
          <a:xfrm>
            <a:off x="5940360" y="4221000"/>
            <a:ext cx="2160720" cy="19242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7"/>
          <p:cNvGrpSpPr/>
          <p:nvPr/>
        </p:nvGrpSpPr>
        <p:grpSpPr>
          <a:xfrm>
            <a:off x="1258920" y="5516640"/>
            <a:ext cx="1922040" cy="476280"/>
            <a:chOff x="1258920" y="5516640"/>
            <a:chExt cx="1922040" cy="476280"/>
          </a:xfrm>
        </p:grpSpPr>
        <p:pic>
          <p:nvPicPr>
            <p:cNvPr id="295" name="Picture 8" descr="161"/>
            <p:cNvPicPr/>
            <p:nvPr/>
          </p:nvPicPr>
          <p:blipFill>
            <a:blip r:embed="rId5"/>
            <a:stretch/>
          </p:blipFill>
          <p:spPr>
            <a:xfrm>
              <a:off x="1258920" y="5516640"/>
              <a:ext cx="9140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9" descr="161_1"/>
            <p:cNvPicPr/>
            <p:nvPr/>
          </p:nvPicPr>
          <p:blipFill>
            <a:blip r:embed="rId6"/>
            <a:stretch/>
          </p:blipFill>
          <p:spPr>
            <a:xfrm>
              <a:off x="2266920" y="5516640"/>
              <a:ext cx="9140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AutoShape 10"/>
          <p:cNvSpPr/>
          <p:nvPr/>
        </p:nvSpPr>
        <p:spPr>
          <a:xfrm>
            <a:off x="684360" y="4508640"/>
            <a:ext cx="3168360" cy="79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ГЛА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5292720" y="3933720"/>
            <a:ext cx="3168720" cy="792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КН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.allday.ru/94/4f/75/1312920768_school-desk-4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755640" y="47628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Что мы произносим и слышим 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714680" y="3143160"/>
            <a:ext cx="1942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вук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5651640" y="2997360"/>
            <a:ext cx="216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684360" y="141300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лыбающееся лицо 10"/>
          <p:cNvSpPr/>
          <p:nvPr/>
        </p:nvSpPr>
        <p:spPr>
          <a:xfrm>
            <a:off x="1785960" y="421488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трелка вправо 6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11280" y="333360"/>
            <a:ext cx="82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ой звук при произношени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стречает преграды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85" name="WordArt 3"/>
          <p:cNvSpPr txBox="1"/>
          <p:nvPr/>
        </p:nvSpPr>
        <p:spPr>
          <a:xfrm>
            <a:off x="826920" y="292428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5724360" y="2924280"/>
            <a:ext cx="273528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684360" y="191628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611280" y="333360"/>
            <a:ext cx="82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ой звук при произношени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стречает преграды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89" name="WordArt 3"/>
          <p:cNvSpPr txBox="1"/>
          <p:nvPr/>
        </p:nvSpPr>
        <p:spPr>
          <a:xfrm>
            <a:off x="826920" y="292428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5724360" y="2924280"/>
            <a:ext cx="273528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сный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684360" y="1916280"/>
            <a:ext cx="799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Улыбающееся лицо 10"/>
          <p:cNvSpPr/>
          <p:nvPr/>
        </p:nvSpPr>
        <p:spPr>
          <a:xfrm>
            <a:off x="1476360" y="414972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826920" y="40464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Сколько гласных звуков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 русском язык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95" name="Line 3"/>
          <p:cNvSpPr/>
          <p:nvPr/>
        </p:nvSpPr>
        <p:spPr>
          <a:xfrm>
            <a:off x="468360" y="1773360"/>
            <a:ext cx="842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050920" y="3141720"/>
            <a:ext cx="12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615636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826920" y="40464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Сколько гласных звуков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в русском язык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68360" y="1773360"/>
            <a:ext cx="84247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050920" y="3141720"/>
            <a:ext cx="12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615636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лыбающееся лицо 10"/>
          <p:cNvSpPr/>
          <p:nvPr/>
        </p:nvSpPr>
        <p:spPr>
          <a:xfrm>
            <a:off x="5724360" y="4365720"/>
            <a:ext cx="172908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395280" y="404640"/>
            <a:ext cx="8305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 обозначаются звуки на письм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05" name="WordArt 3"/>
          <p:cNvSpPr txBox="1"/>
          <p:nvPr/>
        </p:nvSpPr>
        <p:spPr>
          <a:xfrm>
            <a:off x="1042920" y="2852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фр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5651640" y="2852640"/>
            <a:ext cx="24494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95280" y="1341360"/>
            <a:ext cx="828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395280" y="404640"/>
            <a:ext cx="8305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Как обозначаются звуки на письме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1042920" y="2852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фр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5651640" y="2852640"/>
            <a:ext cx="24494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квам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395280" y="1341360"/>
            <a:ext cx="828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право 5"/>
          <p:cNvSpPr/>
          <p:nvPr/>
        </p:nvSpPr>
        <p:spPr>
          <a:xfrm>
            <a:off x="8072280" y="607212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лыбающееся лицо 10"/>
          <p:cNvSpPr/>
          <p:nvPr/>
        </p:nvSpPr>
        <p:spPr>
          <a:xfrm>
            <a:off x="6156360" y="3933720"/>
            <a:ext cx="1728720" cy="164304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5:59:35Z</dcterms:created>
  <dc:creator>Пользователь</dc:creator>
  <dc:description/>
  <dc:language>en-US</dc:language>
  <cp:lastModifiedBy>Елена</cp:lastModifiedBy>
  <dcterms:modified xsi:type="dcterms:W3CDTF">2014-12-09T16:43:55Z</dcterms:modified>
  <cp:revision>6</cp:revision>
  <dc:subject/>
  <dc:title>Слайд 1</dc:title>
</cp:coreProperties>
</file>